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5.png" ContentType="image/png"/>
  <Override PartName="/ppt/media/image11.gif" ContentType="image/gif"/>
  <Override PartName="/ppt/media/image14.png" ContentType="image/png"/>
  <Override PartName="/ppt/media/image6.png" ContentType="image/png"/>
  <Override PartName="/ppt/media/image3.gif" ContentType="image/gif"/>
  <Override PartName="/ppt/media/image10.png" ContentType="image/png"/>
  <Override PartName="/ppt/media/image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7.png" ContentType="image/png"/>
  <Override PartName="/ppt/media/image17.jpeg" ContentType="image/jpeg"/>
  <Override PartName="/ppt/media/image16.png" ContentType="image/png"/>
  <Override PartName="/ppt/media/image15.png" ContentType="image/png"/>
  <Override PartName="/ppt/media/image2.png" ContentType="image/png"/>
  <Override PartName="/ppt/media/image9.jpeg" ContentType="image/jpeg"/>
  <Override PartName="/ppt/media/image12.png" ContentType="image/png"/>
  <Override PartName="/ppt/media/image2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BB7F-BDA7-4EDF-9E44-81EA31DDC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E181-364B-4D81-A61C-A2563F74E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A90B-5079-4D88-9AC1-D399BD9B4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A6D2-D088-40F0-82E9-EE95A76AE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CD8C-54EF-41A3-B707-4511A2DC3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7805-B55A-4B25-A9D1-A806C45AC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9CBB-0426-409D-B3EF-74D63C127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AFDC-559E-4746-980F-57DB24796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580A-E6F5-4471-9F78-BB2C51DA0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1861-F5C5-4089-9FB5-E9DC32EF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9CCF-6E7A-47FE-90A4-9462A0F9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ABA9-373B-489C-ACBB-E65EC0A08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2A7AC-1FA3-417D-844B-D9FBFBA5B5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image" Target="../media/image11.gif"/><Relationship Id="rId4" Type="http://schemas.openxmlformats.org/officeDocument/2006/relationships/image" Target="../media/image12.png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79280" y="260280"/>
            <a:ext cx="1513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 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2075760" y="111960"/>
            <a:ext cx="44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Знакомство с бук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40360" y="4289760"/>
            <a:ext cx="4654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усь купил себе гитару и с гусынею на па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гогочут, и пою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пать соседям не да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алки, голуби, гр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 смогли уснуть в но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5800" y="673200"/>
            <a:ext cx="41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риб стоит среди дорожки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олова на тонкой нож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130" descr="66арп"/>
          <p:cNvPicPr/>
          <p:nvPr/>
        </p:nvPicPr>
        <p:blipFill>
          <a:blip r:embed="rId2"/>
          <a:stretch/>
        </p:blipFill>
        <p:spPr>
          <a:xfrm>
            <a:off x="5219640" y="2060640"/>
            <a:ext cx="1973160" cy="18320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 flipH="1">
            <a:off x="2195280" y="3411360"/>
            <a:ext cx="2376360" cy="3113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826920" y="4005360"/>
            <a:ext cx="1300320" cy="2565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7093080" y="333360"/>
            <a:ext cx="1512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 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9" name="Рисунок 130" descr="66арп"/>
          <p:cNvPicPr/>
          <p:nvPr/>
        </p:nvPicPr>
        <p:blipFill>
          <a:blip r:embed="rId5"/>
          <a:stretch/>
        </p:blipFill>
        <p:spPr>
          <a:xfrm>
            <a:off x="6804000" y="2133720"/>
            <a:ext cx="1973160" cy="183168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130" descr="66арп"/>
          <p:cNvPicPr/>
          <p:nvPr/>
        </p:nvPicPr>
        <p:blipFill>
          <a:blip r:embed="rId6"/>
          <a:stretch/>
        </p:blipFill>
        <p:spPr>
          <a:xfrm>
            <a:off x="3492360" y="2060640"/>
            <a:ext cx="1973520" cy="183204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755640" y="376920"/>
            <a:ext cx="1972080" cy="3555360"/>
            <a:chOff x="755640" y="376920"/>
            <a:chExt cx="1972080" cy="3555360"/>
          </a:xfrm>
        </p:grpSpPr>
        <p:pic>
          <p:nvPicPr>
            <p:cNvPr id="52" name="" descr=""/>
            <p:cNvPicPr/>
            <p:nvPr/>
          </p:nvPicPr>
          <p:blipFill>
            <a:blip r:embed="rId7"/>
            <a:stretch/>
          </p:blipFill>
          <p:spPr>
            <a:xfrm>
              <a:off x="755640" y="1268280"/>
              <a:ext cx="1538280" cy="266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8"/>
            <a:stretch/>
          </p:blipFill>
          <p:spPr>
            <a:xfrm rot="12681000">
              <a:off x="1115640" y="667800"/>
              <a:ext cx="1428840" cy="1105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-78840" y="158040"/>
            <a:ext cx="436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На что похожа бук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258920" y="1484280"/>
            <a:ext cx="1512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 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" name=""/>
          <p:cNvSpPr/>
          <p:nvPr/>
        </p:nvSpPr>
        <p:spPr>
          <a:xfrm>
            <a:off x="2268360" y="210168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уква «Г» вот красот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«Б» - без жив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908000" y="3139920"/>
            <a:ext cx="1513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 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059280" y="4292640"/>
            <a:ext cx="1512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 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932360" y="4292640"/>
            <a:ext cx="1512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 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443640" y="3284640"/>
            <a:ext cx="1513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 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7020000" y="1557360"/>
            <a:ext cx="1512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 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371320" y="-30960"/>
            <a:ext cx="43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Доскажите словеч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7812000" y="5589720"/>
            <a:ext cx="10796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 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90792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сех перелетных птиц черне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истит пашню от черве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елый день по пашне вскач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зовется птица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95640" y="386064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ихаил играл в футб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забил в ворота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508720" y="692280"/>
            <a:ext cx="2873160" cy="20905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rcRect l="0" t="0" r="0" b="7275"/>
          <a:stretch/>
        </p:blipFill>
        <p:spPr>
          <a:xfrm>
            <a:off x="395280" y="3141720"/>
            <a:ext cx="2987640" cy="20876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924360" y="234936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гра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76720" y="472428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г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371320" y="-30960"/>
            <a:ext cx="43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Доскажите словеч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69920" y="1598760"/>
            <a:ext cx="5270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7812000" y="5589720"/>
            <a:ext cx="10796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 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" name=""/>
          <p:cNvSpPr/>
          <p:nvPr/>
        </p:nvSpPr>
        <p:spPr>
          <a:xfrm>
            <a:off x="2012040" y="4940280"/>
            <a:ext cx="360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чень, очень я горжус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то не утка я, а 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9280" y="83664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жарком солнышке подсо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рвется из стручков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0" y="335772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одки по морю плыву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юди веслами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651640" y="620640"/>
            <a:ext cx="2592360" cy="25844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5508720" y="4581360"/>
            <a:ext cx="2170080" cy="1548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-396720" y="4292640"/>
            <a:ext cx="3240000" cy="23526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324000" y="2276640"/>
            <a:ext cx="3311280" cy="19857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067280" y="1773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горо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6360" y="3716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греб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258920" y="6021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гу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20800" y="-30960"/>
            <a:ext cx="17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Загад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50920" y="5084640"/>
            <a:ext cx="151272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 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" name=""/>
          <p:cNvSpPr/>
          <p:nvPr/>
        </p:nvSpPr>
        <p:spPr>
          <a:xfrm>
            <a:off x="0" y="76500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ст бумаги по утра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квартиру носят н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одном таком лис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ного разных нов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3280" y="4508640"/>
            <a:ext cx="309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Ящик на коленях пляш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о поет, то горько плач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211640" y="29973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ьют Ермилку по затылк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н не плач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лько носик пряч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1" descr=""/>
          <p:cNvPicPr/>
          <p:nvPr/>
        </p:nvPicPr>
        <p:blipFill>
          <a:blip r:embed="rId2"/>
          <a:stretch/>
        </p:blipFill>
        <p:spPr>
          <a:xfrm>
            <a:off x="6156360" y="836640"/>
            <a:ext cx="2435040" cy="1674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755640" y="2492280"/>
            <a:ext cx="1636560" cy="20890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5940360" y="4149720"/>
            <a:ext cx="3203640" cy="27082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284720" y="220500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газ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40000" y="357336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гвоз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95640" y="587700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гармо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520800" y="-30960"/>
            <a:ext cx="17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Загад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50920" y="5157720"/>
            <a:ext cx="1512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 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" name=""/>
          <p:cNvSpPr/>
          <p:nvPr/>
        </p:nvSpPr>
        <p:spPr>
          <a:xfrm>
            <a:off x="179280" y="836640"/>
            <a:ext cx="56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ва братца через дорогу живу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 друг друга не видя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627280" y="2637000"/>
            <a:ext cx="36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з рук, без топорё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троена избе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9280" y="501336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оят в один ря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трые пальчики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ап-царап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бирай охап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372360" y="620640"/>
            <a:ext cx="2520720" cy="12765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250920" y="1773360"/>
            <a:ext cx="2257200" cy="3024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5867280" y="3587760"/>
            <a:ext cx="2808360" cy="19573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500720" y="1628640"/>
            <a:ext cx="172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гла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364500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гнезд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940360" y="580536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граб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682800" y="13320"/>
            <a:ext cx="17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Загад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028000" y="5229360"/>
            <a:ext cx="1512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 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617360"/>
            <a:ext cx="471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лосата, зеле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листьях прячется 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оть и много ноже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егать все равно не мож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76500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дворе переполо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 неба сыплется горо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ъела шесть горошин Ни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 неё теперь анг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16360" y="278136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Я под мышкой посиж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 что делать укаж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ли разрешу гуля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ли уложу в кров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96000" y="404640"/>
            <a:ext cx="3095640" cy="2332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536400" y="2421000"/>
            <a:ext cx="1947960" cy="2305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4815000" y="4448160"/>
            <a:ext cx="3070080" cy="22208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067280" y="2046240"/>
            <a:ext cx="172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гр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197080" y="328464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градус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771640" y="609300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гусен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70560" y="-720"/>
            <a:ext cx="263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Физмину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11280" y="4724280"/>
            <a:ext cx="151272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 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804000" y="476280"/>
            <a:ext cx="1513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9" name=""/>
          <p:cNvSpPr/>
          <p:nvPr/>
        </p:nvSpPr>
        <p:spPr>
          <a:xfrm>
            <a:off x="179280" y="761760"/>
            <a:ext cx="4680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тром встал гусак на лап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готовился к заряд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смотрел он вправо, влев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вороты сделал сме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щипал немного пух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 с разбегу в воду плюх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643280" y="2536920"/>
            <a:ext cx="4211640" cy="39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10:08:35Z</dcterms:created>
  <dc:creator>.</dc:creator>
  <dc:description/>
  <dc:language>en-US</dc:language>
  <cp:lastModifiedBy>.</cp:lastModifiedBy>
  <dcterms:modified xsi:type="dcterms:W3CDTF">2010-11-24T11:40:00Z</dcterms:modified>
  <cp:revision>13</cp:revision>
  <dc:subject/>
  <dc:title>Слайд 1</dc:title>
</cp:coreProperties>
</file>