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11.gif" ContentType="image/gif"/>
  <Override PartName="/ppt/media/image14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2.png" ContentType="image/png"/>
  <Override PartName="/ppt/media/image9.jpeg" ContentType="image/jpeg"/>
  <Override PartName="/ppt/media/image12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AD1-E3A1-4F47-936B-B330FE05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764-5B82-443A-A85D-3D6F7D20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D7C-CACC-4845-83EB-4C23CEFF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2C5-F1B9-420E-BC91-22137113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168-AB9D-4E3D-9277-0B383380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74C-B87A-43DC-BCAF-161A6C83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B6C-2051-48BA-87FF-E707BAB0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222-891B-46F0-86B1-894A42AB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54E-ED19-4391-936E-A61E84CA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AB7-4609-4759-A887-455F1FD5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7A1-775E-49FB-913E-6BA6DBDF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1CC-5EC2-497F-AE4E-D4DC4CCE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4327-32C5-4428-A699-4DC33B98F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260280"/>
            <a:ext cx="151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075760" y="111960"/>
            <a:ext cx="44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накомство с бук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0360" y="4289760"/>
            <a:ext cx="465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сь купил себе гитару и с гусынею на п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гогочут, и по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ать соседям не д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алки, голуби, гр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смогли уснуть в н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5800" y="673200"/>
            <a:ext cx="41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иб стоит среди дорож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ова на тонкой нож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30" descr="66арп"/>
          <p:cNvPicPr/>
          <p:nvPr/>
        </p:nvPicPr>
        <p:blipFill>
          <a:blip r:embed="rId2"/>
          <a:stretch/>
        </p:blipFill>
        <p:spPr>
          <a:xfrm>
            <a:off x="5219640" y="2060640"/>
            <a:ext cx="1973160" cy="1832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flipH="1">
            <a:off x="2195280" y="3411360"/>
            <a:ext cx="2376360" cy="3113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26920" y="4005360"/>
            <a:ext cx="1300320" cy="256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093080" y="33336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Рисунок 130" descr="66арп"/>
          <p:cNvPicPr/>
          <p:nvPr/>
        </p:nvPicPr>
        <p:blipFill>
          <a:blip r:embed="rId5"/>
          <a:stretch/>
        </p:blipFill>
        <p:spPr>
          <a:xfrm>
            <a:off x="6804000" y="2133720"/>
            <a:ext cx="1973160" cy="18316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30" descr="66арп"/>
          <p:cNvPicPr/>
          <p:nvPr/>
        </p:nvPicPr>
        <p:blipFill>
          <a:blip r:embed="rId6"/>
          <a:stretch/>
        </p:blipFill>
        <p:spPr>
          <a:xfrm>
            <a:off x="3492360" y="2060640"/>
            <a:ext cx="1973520" cy="183204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755640" y="376920"/>
            <a:ext cx="1972080" cy="3555360"/>
            <a:chOff x="755640" y="376920"/>
            <a:chExt cx="1972080" cy="3555360"/>
          </a:xfrm>
        </p:grpSpPr>
        <p:pic>
          <p:nvPicPr>
            <p:cNvPr id="52" name="" descr=""/>
            <p:cNvPicPr/>
            <p:nvPr/>
          </p:nvPicPr>
          <p:blipFill>
            <a:blip r:embed="rId7"/>
            <a:stretch/>
          </p:blipFill>
          <p:spPr>
            <a:xfrm>
              <a:off x="755640" y="1268280"/>
              <a:ext cx="1538280" cy="266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8"/>
            <a:stretch/>
          </p:blipFill>
          <p:spPr>
            <a:xfrm rot="12681000">
              <a:off x="1115640" y="667800"/>
              <a:ext cx="1428840" cy="110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78840" y="158040"/>
            <a:ext cx="43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На что похожа бу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58920" y="148428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2101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ква «Г» вот красо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«Б» - без жи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08000" y="3139920"/>
            <a:ext cx="1513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59280" y="429264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32360" y="429264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3640" y="3284640"/>
            <a:ext cx="151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020000" y="155736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71320" y="-30960"/>
            <a:ext cx="43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Доскажите словеч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812000" y="5589720"/>
            <a:ext cx="10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907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х перелетных птиц чер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тит пашню от черв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ый день по пашне вска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зовется птица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3860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хаил играл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забил в ворота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08720" y="692280"/>
            <a:ext cx="2873160" cy="2090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rcRect l="0" t="0" r="0" b="7275"/>
          <a:stretch/>
        </p:blipFill>
        <p:spPr>
          <a:xfrm>
            <a:off x="395280" y="3141720"/>
            <a:ext cx="2987640" cy="2087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24360" y="2349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р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7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71320" y="-30960"/>
            <a:ext cx="43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Доскажите словеч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69920" y="1598760"/>
            <a:ext cx="527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812000" y="5589720"/>
            <a:ext cx="10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/>
          <p:nvPr/>
        </p:nvSpPr>
        <p:spPr>
          <a:xfrm>
            <a:off x="2012040" y="4940280"/>
            <a:ext cx="360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, очень я горжу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не утка я, а 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836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жарком солнышке подс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рвется из стручков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3357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дки по морю плыв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ди веслами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651640" y="620640"/>
            <a:ext cx="2592360" cy="2584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508720" y="4581360"/>
            <a:ext cx="2170080" cy="154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-396720" y="4292640"/>
            <a:ext cx="3240000" cy="2352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24000" y="2276640"/>
            <a:ext cx="3311280" cy="1985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067280" y="177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ор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6360" y="3716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реб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58920" y="6021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у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20800" y="-3096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5084640"/>
            <a:ext cx="1512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5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 бумаги по утр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квартиру носят 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одном таком ли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о разных нов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4508640"/>
            <a:ext cx="30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щик на коленях пляш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 поет, то горько пла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11640" y="299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ьют Ермилку по затыл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не плач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носик пря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1" descr=""/>
          <p:cNvPicPr/>
          <p:nvPr/>
        </p:nvPicPr>
        <p:blipFill>
          <a:blip r:embed="rId2"/>
          <a:stretch/>
        </p:blipFill>
        <p:spPr>
          <a:xfrm>
            <a:off x="6156360" y="836640"/>
            <a:ext cx="2435040" cy="167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5640" y="2492280"/>
            <a:ext cx="1636560" cy="208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940360" y="4149720"/>
            <a:ext cx="3203640" cy="2708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84720" y="2205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аз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3573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воз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5877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арм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520800" y="-3096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515772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83664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а братца через дорогу жив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друг друга не вид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2637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рук, без топор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ена из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5013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ят в один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ые пальчи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ап-царап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бирай оха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2520720" cy="1276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0920" y="1773360"/>
            <a:ext cx="2257200" cy="3024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867280" y="3587760"/>
            <a:ext cx="2808360" cy="1957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0720" y="162864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л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645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нез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5805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раб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82800" y="1332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028000" y="5229360"/>
            <a:ext cx="151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17360"/>
            <a:ext cx="47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лосата, зеле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листьях прячется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ь и много нож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гать все равно не мо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765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воре переполо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неба сыплется гор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ъела шесть горошин Н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неё теперь анг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6360" y="2781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под мышкой поси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что делать укаж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ли разрешу гуля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ли уложу в к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6000" y="40464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6400" y="2421000"/>
            <a:ext cx="1947960" cy="2305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815000" y="4448160"/>
            <a:ext cx="3070080" cy="2220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67280" y="204624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7080" y="3284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радус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71640" y="6093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гус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0560" y="-720"/>
            <a:ext cx="26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Физ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11280" y="4724280"/>
            <a:ext cx="1512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04000" y="476280"/>
            <a:ext cx="151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761760"/>
            <a:ext cx="468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ром встал гусак на лап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готовился к за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мотрел он вправо, вле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ороты сделал см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щипал немного пух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с разбегу в воду плю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2536920"/>
            <a:ext cx="421164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0:08:35Z</dcterms:created>
  <dc:creator>.</dc:creator>
  <dc:description/>
  <dc:language>en-US</dc:language>
  <cp:lastModifiedBy>.</cp:lastModifiedBy>
  <dcterms:modified xsi:type="dcterms:W3CDTF">2010-11-24T11:40:00Z</dcterms:modified>
  <cp:revision>13</cp:revision>
  <dc:subject/>
  <dc:title>Слайд 1</dc:title>
</cp:coreProperties>
</file>