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jpeg" ContentType="image/jpeg"/>
  <Override PartName="/ppt/media/image15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1.png" ContentType="image/pn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AE9-AD04-4A16-AA97-4F8A9599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D1A-7E15-47B8-A0A0-6C69ED1A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BF3-6F90-4E08-918B-7CFEDEAB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3AD-C366-4CB7-9819-92BEAC3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58C-19F7-4ADE-B7DC-DADD137F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C9D-185E-47C6-87E9-719A0B2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7E9-0E2A-4BC8-A577-8378D50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ED6-67BF-4579-A73A-96FD52FE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B9E-A4CD-48E4-AE6C-657534A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250-3678-401D-B4E8-21803536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D64-8DA3-4CCC-B7F8-C6FEB3C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318-08E5-4D86-A23B-1935240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C36C-49DC-4F83-8E76-010EB0A7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930920" y="3819600"/>
            <a:ext cx="3889080" cy="2849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85920" y="927360"/>
            <a:ext cx="386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лик Ося на оп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рял сво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же обруч, где са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ерялись и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ень ослик огор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нашел игрушек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24000" y="189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7164360" y="18900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3719520"/>
            <a:ext cx="280512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1942920" cy="165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268360" y="3429000"/>
            <a:ext cx="2111400" cy="14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50920" y="4508640"/>
            <a:ext cx="1873080" cy="18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1657080" cy="172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627280" y="5229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148428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ква «О», смотри, дружо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маленький кру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й букве нет уг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того она кр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того она круг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атиться бы мо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11280" y="14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684360" y="32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979640" y="472428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780000" y="407664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5435640" y="479736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6227640" y="313992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6659640" y="141300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2665440" cy="2008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692280"/>
            <a:ext cx="405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том в огород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е, зе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зимою в бочк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лтые, со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гадайте, молод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зовут н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357336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лотой и мол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еделю стал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денёчка через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ысела 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ячу-ка в карм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вши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79280" y="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5222880" y="27813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520" y="515772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2293920" cy="2263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79280" y="3002040"/>
            <a:ext cx="25923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9720" y="2849760"/>
            <a:ext cx="43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ь он совсем не хруп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спрятался в скорлуп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лянешь в серед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ишь сердцев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плодов он тверж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92280"/>
            <a:ext cx="426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йный, быст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га ветвис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ется весь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 же эт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7451640" y="508464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79600" y="119700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2520" y="5229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2293920" cy="183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4000" y="2276640"/>
            <a:ext cx="259704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258920" y="3068640"/>
            <a:ext cx="25970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176220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крыльев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ног бе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паруса плы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925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горам, по д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дит шуба да каф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73720" y="2924280"/>
            <a:ext cx="456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еленой хрупк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ос шарик у до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очек прошу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звеял этот 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50920" y="5084640"/>
            <a:ext cx="151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3853440" y="1268280"/>
            <a:ext cx="14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600" y="5789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2880" y="393372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6000" y="4508640"/>
            <a:ext cx="2840040" cy="191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3012840" cy="2409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24000" y="2060640"/>
            <a:ext cx="230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63360" y="522756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моторы, а шум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пилоты, а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змеи, а жал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69228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, но не вол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ноух, да не зая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опытами, да не лош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6536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еред 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иделка на н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7451640" y="189000"/>
            <a:ext cx="15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990160" y="17733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0160" y="58770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4572000" y="2133720"/>
            <a:ext cx="4248000" cy="2504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8354" r="0" b="8354"/>
          <a:stretch/>
        </p:blipFill>
        <p:spPr>
          <a:xfrm>
            <a:off x="250920" y="333360"/>
            <a:ext cx="2736720" cy="171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rot="3040800">
            <a:off x="2292120" y="43416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 rot="707400">
            <a:off x="250560" y="4292640"/>
            <a:ext cx="2305080" cy="218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1240" y="36450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3"/>
          <p:cNvSpPr/>
          <p:nvPr/>
        </p:nvSpPr>
        <p:spPr>
          <a:xfrm>
            <a:off x="133920" y="4356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5760" y="550080"/>
            <a:ext cx="548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егодня обезья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-английски – просто м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ивляемся немнож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хлопаем в ладо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ой кивнем друг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пять бежим по кру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ядем, встанем – и пры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манки, мой дру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76280"/>
            <a:ext cx="4248360" cy="280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492360" y="3029040"/>
            <a:ext cx="568800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179280" y="5229360"/>
            <a:ext cx="122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2-17T07:32:16Z</dcterms:modified>
  <cp:revision>22</cp:revision>
  <dc:subject/>
  <dc:title>Слайд 1</dc:title>
</cp:coreProperties>
</file>