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0.jpeg" ContentType="image/jpeg"/>
  <Override PartName="/ppt/media/image15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21.png" ContentType="image/png"/>
  <Override PartName="/ppt/media/image24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A2F-EB93-4220-9DE1-B1EDC9E5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167-60D3-4358-9772-C643DD30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B4C-5717-431A-B546-2AD3C0CC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37F-D6B5-4CA1-9B3F-E9213613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C63-F963-49DF-85DD-C77AD30E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E49-57E5-427B-B94E-E4F7212E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8D4-1930-4EE5-935C-1B180263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655-AE9E-4532-B1F7-2D4B5503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233-DDD8-42BE-B7FB-F5A168CD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377-19A7-464D-99D7-C6E92C04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A98-22FF-46C0-9902-B113CE45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7C9-F569-4391-8B51-F09EF0DC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A38E-950D-4BF4-9D55-4A51C3A8D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930920" y="3819600"/>
            <a:ext cx="3889080" cy="2849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075760" y="111960"/>
            <a:ext cx="44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накомство с бук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85920" y="927360"/>
            <a:ext cx="386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лик Ося на опу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терял свои игр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же обруч, где сач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терялись и 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чень ослик огорч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нашел игрушек 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324000" y="189000"/>
            <a:ext cx="151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7164360" y="189000"/>
            <a:ext cx="151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12000" y="3719520"/>
            <a:ext cx="2805120" cy="28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50920" y="2060640"/>
            <a:ext cx="1942920" cy="1657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268360" y="3429000"/>
            <a:ext cx="2111400" cy="1403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50920" y="4508640"/>
            <a:ext cx="1873080" cy="183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6372360" y="1844640"/>
            <a:ext cx="1657080" cy="1727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2627280" y="5229360"/>
            <a:ext cx="18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-78840" y="158040"/>
            <a:ext cx="43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На что похожа бу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1484280"/>
            <a:ext cx="456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ква «О», смотри, дружо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маленький кру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этой букве нет уг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того она кр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 того она круг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атиться бы мо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611280" y="1413000"/>
            <a:ext cx="151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684360" y="3213000"/>
            <a:ext cx="151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1979640" y="4724280"/>
            <a:ext cx="151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3780000" y="4076640"/>
            <a:ext cx="151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5435640" y="4797360"/>
            <a:ext cx="151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6227640" y="3139920"/>
            <a:ext cx="151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6659640" y="1413000"/>
            <a:ext cx="151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11280" y="4437000"/>
            <a:ext cx="2665440" cy="2008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2371320" y="-30960"/>
            <a:ext cx="43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Доскажите словеч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692280"/>
            <a:ext cx="405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том в огород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ежие, зеле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зимою в бочк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елтые, соле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гадайте, молодц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зовут на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62440" y="3573360"/>
            <a:ext cx="456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олотой и мол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неделю стал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денёчка через 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ысела го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ячу-ка в карман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вший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179280" y="0"/>
            <a:ext cx="151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5222880" y="27813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гур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520" y="5157720"/>
            <a:ext cx="205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дув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12000" y="620640"/>
            <a:ext cx="2293920" cy="2263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79280" y="3002040"/>
            <a:ext cx="259236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371320" y="-30960"/>
            <a:ext cx="43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Доскажите словеч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969920" y="1598760"/>
            <a:ext cx="527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9720" y="2849760"/>
            <a:ext cx="43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ь он совсем не хруп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спрятался в скорлуп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глянешь в серед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идишь сердцеви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плодов он тверже вс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ыв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692280"/>
            <a:ext cx="426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ойный, быстр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га ветвис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сется весь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то же эт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7451640" y="5084640"/>
            <a:ext cx="151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6879600" y="1197000"/>
            <a:ext cx="12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22520" y="522936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р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284720" y="692280"/>
            <a:ext cx="2293920" cy="183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24000" y="2276640"/>
            <a:ext cx="2597040" cy="2452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258920" y="3068640"/>
            <a:ext cx="259704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843280" y="2060640"/>
            <a:ext cx="1762200" cy="2376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0"/>
          <p:cNvSpPr/>
          <p:nvPr/>
        </p:nvSpPr>
        <p:spPr>
          <a:xfrm>
            <a:off x="3520800" y="-3096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0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 крыльев лет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 ног бег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 паруса плыв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8000" y="49258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горам, по до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дит шуба да каф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73720" y="2924280"/>
            <a:ext cx="456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зеленой хрупкой нож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ос шарик у дор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терочек прошурш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развеял этот ш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50920" y="5084640"/>
            <a:ext cx="151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3853440" y="1268280"/>
            <a:ext cx="14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бл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600" y="57895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2880" y="3933720"/>
            <a:ext cx="205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дув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796000" y="4508640"/>
            <a:ext cx="2840040" cy="1912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508720" y="333360"/>
            <a:ext cx="3012840" cy="2409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24000" y="2060640"/>
            <a:ext cx="2305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520800" y="-3096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63360" y="5227560"/>
            <a:ext cx="33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моторы, а шум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пилоты, а лет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змеи, а жал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62440" y="692280"/>
            <a:ext cx="456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, но не вол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инноух, да не зая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копытами, да не лош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565360"/>
            <a:ext cx="42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перед 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е оглобли за уш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глазах по кол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сиделка на но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7451640" y="189000"/>
            <a:ext cx="151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2990160" y="177336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90160" y="587700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flipH="1">
            <a:off x="4572000" y="2133720"/>
            <a:ext cx="4248000" cy="2504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8354" r="0" b="8354"/>
          <a:stretch/>
        </p:blipFill>
        <p:spPr>
          <a:xfrm>
            <a:off x="250920" y="333360"/>
            <a:ext cx="2736720" cy="1717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 rot="3040800">
            <a:off x="2292120" y="4341600"/>
            <a:ext cx="2448000" cy="1631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 rot="707400">
            <a:off x="250560" y="4292640"/>
            <a:ext cx="2305080" cy="2187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11240" y="364500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3"/>
          <p:cNvSpPr/>
          <p:nvPr/>
        </p:nvSpPr>
        <p:spPr>
          <a:xfrm>
            <a:off x="133920" y="43560"/>
            <a:ext cx="26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Физ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5760" y="550080"/>
            <a:ext cx="5488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егодня обезьян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-английски – просто м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ивляемся немнож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охлопаем в ладо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овой кивнем друг др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пять бежим по кру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ядем, встанем – и прыж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же манки, мой друж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64000" y="476280"/>
            <a:ext cx="4248360" cy="2803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492360" y="3029040"/>
            <a:ext cx="5688000" cy="38289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179280" y="5229360"/>
            <a:ext cx="1224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0:08:35Z</dcterms:created>
  <dc:creator>.</dc:creator>
  <dc:description/>
  <dc:language>en-US</dc:language>
  <cp:lastModifiedBy>.</cp:lastModifiedBy>
  <dcterms:modified xsi:type="dcterms:W3CDTF">2010-12-17T07:32:16Z</dcterms:modified>
  <cp:revision>22</cp:revision>
  <dc:subject/>
  <dc:title>Слайд 1</dc:title>
</cp:coreProperties>
</file>