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AA0-7247-49A4-9FD3-B90E9A70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B01-82D7-4948-91A9-5EFC25F0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DBA-7585-45E1-B780-1DD254A4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E52-3417-4FB3-8C60-2FBF28CA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7B8-0D0E-4D38-9519-F1773200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4FF-9666-4A2F-A010-566AA9E3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6C1-A173-4599-94F2-1917EB56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93C-F4CD-4B31-89F1-E040A008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AE7-5797-4646-A2BD-26CCB3B4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F7C-8B89-43BC-A582-B883BE55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201-25D1-44C3-961D-EE81EDEE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D7E-27C0-40A2-A192-9B02EC39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6ECB-5E7A-4D7C-9E44-F8A8E025F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260280"/>
            <a:ext cx="15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075760" y="111960"/>
            <a:ext cx="44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накомство с бук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328104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летев на дерева верху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рона кушала ватр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тер веточки кач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блюд ворону повстреч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ит он ей: «Сестр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 ли здесь воды напитьс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 сказала: «Без труда Вы дойдете до п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Вами я не полечу, быть голодной не хо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робей воришка украдет ковриж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7632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буква В видна вдали - красивая, ви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будто крендель испекли приезжих поджид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http://www.lenagold.ru/fon/clipart/v/verbl/verbl16.jpg"/>
          <p:cNvPicPr/>
          <p:nvPr/>
        </p:nvPicPr>
        <p:blipFill>
          <a:blip r:embed="rId2"/>
          <a:stretch/>
        </p:blipFill>
        <p:spPr>
          <a:xfrm>
            <a:off x="6948360" y="3336840"/>
            <a:ext cx="2195640" cy="1974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8" descr="ворона"/>
          <p:cNvPicPr/>
          <p:nvPr/>
        </p:nvPicPr>
        <p:blipFill>
          <a:blip r:embed="rId3"/>
          <a:stretch/>
        </p:blipFill>
        <p:spPr>
          <a:xfrm>
            <a:off x="179280" y="3311640"/>
            <a:ext cx="2087640" cy="1485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Photo 042.gif"/>
          <p:cNvPicPr/>
          <p:nvPr/>
        </p:nvPicPr>
        <p:blipFill>
          <a:blip r:embed="rId4"/>
          <a:stretch/>
        </p:blipFill>
        <p:spPr>
          <a:xfrm>
            <a:off x="0" y="4365720"/>
            <a:ext cx="2268360" cy="201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rcRect l="0" t="0" r="0" b="43350"/>
          <a:stretch/>
        </p:blipFill>
        <p:spPr>
          <a:xfrm>
            <a:off x="1547640" y="4452840"/>
            <a:ext cx="648000" cy="488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940360" y="1716120"/>
            <a:ext cx="2148120" cy="146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476360" y="1773360"/>
            <a:ext cx="208908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78840" y="158040"/>
            <a:ext cx="43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На что похожа бу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1800" y="1767960"/>
            <a:ext cx="458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ква В совсем толст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 подушкою – под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26920" y="1268280"/>
            <a:ext cx="1513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236000" y="1268280"/>
            <a:ext cx="151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58920" y="285264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56000" y="393372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51280" y="479736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219640" y="3933720"/>
            <a:ext cx="15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372360" y="299736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71320" y="-30960"/>
            <a:ext cx="43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оскажите слове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960" y="1004400"/>
            <a:ext cx="40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зовут меня, ска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 прячусь я во р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омный полевой цве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еглазый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321048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раской – серов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адкой – воров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икунья хриплов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естная перс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казниц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812000" y="5589720"/>
            <a:ext cx="10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160720" cy="1623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95640" y="242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аси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558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33116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71320" y="-30960"/>
            <a:ext cx="43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оскажите слове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69920" y="1598760"/>
            <a:ext cx="527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3354840"/>
            <a:ext cx="48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весь день ловлю жуч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летаю червя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еплый край не улета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есь под крышей обит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к-чирик! Не роб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бывалый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812000" y="5589720"/>
            <a:ext cx="10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907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 разгона ввысь взлет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екозу напомин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правляется в п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ш российский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2232000" cy="1666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3311640" cy="2095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43280" y="2565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ерт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522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20800" y="-309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8760" y="689760"/>
            <a:ext cx="474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лете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сестре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овечьей пряжи то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гулять, так наде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не мерзли пять, да пят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4941720"/>
            <a:ext cx="1513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3141720"/>
            <a:ext cx="50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гоножка хвал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Я ли не красав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сего-то ко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красненькая кофточк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15772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аздевалке я слу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весу пальто держу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1942920" cy="149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76720" y="549360"/>
            <a:ext cx="1789200" cy="23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012000" y="4869000"/>
            <a:ext cx="2246040" cy="1627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20000" y="1557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аре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4508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609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еш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520800" y="-309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4941720"/>
            <a:ext cx="1513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206640" y="906480"/>
            <a:ext cx="45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ляет в поле, да не к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ает на воле, да не птиц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888000" cy="2078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191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ью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45403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зашел в зеленый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едолго пробыл в 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ался этот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стро в городе друг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3120" y="3227400"/>
            <a:ext cx="4987080" cy="1474920"/>
            <a:chOff x="393120" y="3227400"/>
            <a:chExt cx="4987080" cy="1474920"/>
          </a:xfrm>
        </p:grpSpPr>
        <p:grpSp>
          <p:nvGrpSpPr>
            <p:cNvPr id="95" name=""/>
            <p:cNvGrpSpPr/>
            <p:nvPr/>
          </p:nvGrpSpPr>
          <p:grpSpPr>
            <a:xfrm>
              <a:off x="1485360" y="3227400"/>
              <a:ext cx="3894840" cy="1408680"/>
              <a:chOff x="1485360" y="3227400"/>
              <a:chExt cx="3894840" cy="14086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393360" y="3227400"/>
                <a:ext cx="1986840" cy="1295280"/>
                <a:chOff x="3393360" y="3227400"/>
                <a:chExt cx="1986840" cy="129528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3393360" y="3927240"/>
                  <a:ext cx="99000" cy="297720"/>
                  <a:chOff x="3393360" y="3927240"/>
                  <a:chExt cx="99000" cy="2977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436560" y="3927240"/>
                    <a:ext cx="17280" cy="297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H="1" rot="21396000">
                    <a:off x="3394080" y="4026960"/>
                    <a:ext cx="9612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4303800" y="3871800"/>
                  <a:ext cx="143640" cy="297720"/>
                  <a:chOff x="4303800" y="3871800"/>
                  <a:chExt cx="143640" cy="29772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4370040" y="3871800"/>
                    <a:ext cx="16560" cy="297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H="1" rot="21396000">
                    <a:off x="4304880" y="3971880"/>
                    <a:ext cx="14076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4377960" y="3227400"/>
                  <a:ext cx="980280" cy="1239840"/>
                  <a:chOff x="4377960" y="3227400"/>
                  <a:chExt cx="980280" cy="123984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4983120" y="4024080"/>
                    <a:ext cx="201600" cy="412920"/>
                    <a:chOff x="4983120" y="4024080"/>
                    <a:chExt cx="201600" cy="412920"/>
                  </a:xfrm>
                </p:grpSpPr>
                <p:grpSp>
                  <p:nvGrpSpPr>
                    <p:cNvPr id="105" name=""/>
                    <p:cNvGrpSpPr/>
                    <p:nvPr/>
                  </p:nvGrpSpPr>
                  <p:grpSpPr>
                    <a:xfrm>
                      <a:off x="4983120" y="4024080"/>
                      <a:ext cx="201600" cy="412920"/>
                      <a:chOff x="4983120" y="4024080"/>
                      <a:chExt cx="201600" cy="412920"/>
                    </a:xfrm>
                  </p:grpSpPr>
                  <p:grpSp>
                    <p:nvGrpSpPr>
                      <p:cNvPr id="106" name=""/>
                      <p:cNvGrpSpPr/>
                      <p:nvPr/>
                    </p:nvGrpSpPr>
                    <p:grpSpPr>
                      <a:xfrm>
                        <a:off x="4983120" y="4024080"/>
                        <a:ext cx="201600" cy="412920"/>
                        <a:chOff x="4983120" y="4024080"/>
                        <a:chExt cx="201600" cy="412920"/>
                      </a:xfrm>
                    </p:grpSpPr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 flipH="1" rot="21396000">
                          <a:off x="4994640" y="4028760"/>
                          <a:ext cx="17820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"/>
                        <p:cNvSpPr/>
                        <p:nvPr/>
                      </p:nvSpPr>
                      <p:spPr>
                        <a:xfrm flipH="1" rot="21396000">
                          <a:off x="4994640" y="4028760"/>
                          <a:ext cx="17820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5001120" y="4059360"/>
                        <a:ext cx="167400" cy="342720"/>
                        <a:chOff x="5001120" y="4059360"/>
                        <a:chExt cx="167400" cy="34272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H="1" rot="21396000">
                          <a:off x="5010480" y="4063320"/>
                          <a:ext cx="147960" cy="334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H="1" rot="21396000">
                          <a:off x="5010480" y="4063320"/>
                          <a:ext cx="147960" cy="3348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5001120" y="4059360"/>
                      <a:ext cx="167400" cy="343080"/>
                      <a:chOff x="5001120" y="4059360"/>
                      <a:chExt cx="167400" cy="343080"/>
                    </a:xfrm>
                  </p:grpSpPr>
                  <p:sp>
                    <p:nvSpPr>
                      <p:cNvPr id="113" name=""/>
                      <p:cNvSpPr/>
                      <p:nvPr/>
                    </p:nvSpPr>
                    <p:spPr>
                      <a:xfrm flipH="1" rot="21396000">
                        <a:off x="5010480" y="406332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 flipH="1" rot="21396000">
                        <a:off x="5010480" y="406332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4488480" y="4053240"/>
                    <a:ext cx="203760" cy="413280"/>
                    <a:chOff x="4488480" y="4053240"/>
                    <a:chExt cx="203760" cy="413280"/>
                  </a:xfrm>
                </p:grpSpPr>
                <p:grpSp>
                  <p:nvGrpSpPr>
                    <p:cNvPr id="116" name=""/>
                    <p:cNvGrpSpPr/>
                    <p:nvPr/>
                  </p:nvGrpSpPr>
                  <p:grpSpPr>
                    <a:xfrm>
                      <a:off x="4488480" y="4053240"/>
                      <a:ext cx="203760" cy="413280"/>
                      <a:chOff x="4488480" y="4053240"/>
                      <a:chExt cx="203760" cy="413280"/>
                    </a:xfrm>
                  </p:grpSpPr>
                  <p:grpSp>
                    <p:nvGrpSpPr>
                      <p:cNvPr id="117" name=""/>
                      <p:cNvGrpSpPr/>
                      <p:nvPr/>
                    </p:nvGrpSpPr>
                    <p:grpSpPr>
                      <a:xfrm>
                        <a:off x="4488480" y="4053240"/>
                        <a:ext cx="203760" cy="413280"/>
                        <a:chOff x="4488480" y="4053240"/>
                        <a:chExt cx="203760" cy="413280"/>
                      </a:xfrm>
                    </p:grpSpPr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 flipH="1" rot="21396000">
                          <a:off x="4500000" y="4057920"/>
                          <a:ext cx="18000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 flipH="1" rot="21396000">
                          <a:off x="4500000" y="4057920"/>
                          <a:ext cx="18000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0" name=""/>
                      <p:cNvGrpSpPr/>
                      <p:nvPr/>
                    </p:nvGrpSpPr>
                    <p:grpSpPr>
                      <a:xfrm>
                        <a:off x="4506840" y="4088520"/>
                        <a:ext cx="169200" cy="342720"/>
                        <a:chOff x="4506840" y="4088520"/>
                        <a:chExt cx="169200" cy="342720"/>
                      </a:xfrm>
                    </p:grpSpPr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 flipH="1" rot="21396000">
                          <a:off x="4516560" y="4092480"/>
                          <a:ext cx="149400" cy="3344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 flipH="1" rot="21396000">
                          <a:off x="4516560" y="4092480"/>
                          <a:ext cx="149400" cy="3344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3" name=""/>
                    <p:cNvGrpSpPr/>
                    <p:nvPr/>
                  </p:nvGrpSpPr>
                  <p:grpSpPr>
                    <a:xfrm>
                      <a:off x="4506840" y="4088520"/>
                      <a:ext cx="169200" cy="343080"/>
                      <a:chOff x="4506840" y="4088520"/>
                      <a:chExt cx="169200" cy="343080"/>
                    </a:xfrm>
                  </p:grpSpPr>
                  <p:sp>
                    <p:nvSpPr>
                      <p:cNvPr id="124" name=""/>
                      <p:cNvSpPr/>
                      <p:nvPr/>
                    </p:nvSpPr>
                    <p:spPr>
                      <a:xfrm flipH="1" rot="21396000">
                        <a:off x="4516560" y="4092480"/>
                        <a:ext cx="14940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 flipH="1" rot="21396000">
                        <a:off x="4516560" y="4092480"/>
                        <a:ext cx="14940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4983120" y="4024080"/>
                    <a:ext cx="201600" cy="413280"/>
                    <a:chOff x="4983120" y="4024080"/>
                    <a:chExt cx="201600" cy="413280"/>
                  </a:xfrm>
                </p:grpSpPr>
                <p:grpSp>
                  <p:nvGrpSpPr>
                    <p:cNvPr id="127" name=""/>
                    <p:cNvGrpSpPr/>
                    <p:nvPr/>
                  </p:nvGrpSpPr>
                  <p:grpSpPr>
                    <a:xfrm>
                      <a:off x="4983120" y="4024080"/>
                      <a:ext cx="201600" cy="413280"/>
                      <a:chOff x="4983120" y="4024080"/>
                      <a:chExt cx="201600" cy="413280"/>
                    </a:xfrm>
                  </p:grpSpPr>
                  <p:sp>
                    <p:nvSpPr>
                      <p:cNvPr id="128" name=""/>
                      <p:cNvSpPr/>
                      <p:nvPr/>
                    </p:nvSpPr>
                    <p:spPr>
                      <a:xfrm flipH="1" rot="21396000">
                        <a:off x="4994640" y="4028760"/>
                        <a:ext cx="17820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 flipH="1" rot="21396000">
                        <a:off x="4994640" y="4028760"/>
                        <a:ext cx="17820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" name=""/>
                    <p:cNvGrpSpPr/>
                    <p:nvPr/>
                  </p:nvGrpSpPr>
                  <p:grpSpPr>
                    <a:xfrm>
                      <a:off x="5001120" y="4059360"/>
                      <a:ext cx="167400" cy="343080"/>
                      <a:chOff x="5001120" y="4059360"/>
                      <a:chExt cx="167400" cy="343080"/>
                    </a:xfrm>
                  </p:grpSpPr>
                  <p:sp>
                    <p:nvSpPr>
                      <p:cNvPr id="131" name=""/>
                      <p:cNvSpPr/>
                      <p:nvPr/>
                    </p:nvSpPr>
                    <p:spPr>
                      <a:xfrm flipH="1" rot="21396000">
                        <a:off x="5010480" y="4063320"/>
                        <a:ext cx="147960" cy="335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 flipH="1" rot="21396000">
                        <a:off x="5010480" y="4063320"/>
                        <a:ext cx="147960" cy="3351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5001120" y="4060440"/>
                    <a:ext cx="167040" cy="341280"/>
                    <a:chOff x="5001120" y="4060440"/>
                    <a:chExt cx="167040" cy="3412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4983120" y="4024080"/>
                    <a:ext cx="201600" cy="413640"/>
                    <a:chOff x="4983120" y="4024080"/>
                    <a:chExt cx="201600" cy="4136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 flipH="1" rot="21396000">
                      <a:off x="4994640" y="402876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 flipH="1" rot="21396000">
                      <a:off x="4994640" y="402876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5001120" y="4060440"/>
                    <a:ext cx="167040" cy="341280"/>
                    <a:chOff x="5001120" y="4060440"/>
                    <a:chExt cx="167040" cy="34128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4983120" y="4024080"/>
                    <a:ext cx="201600" cy="413640"/>
                    <a:chOff x="4983120" y="4024080"/>
                    <a:chExt cx="201600" cy="41364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 flipH="1" rot="21396000">
                      <a:off x="4994640" y="402876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 flipH="1" rot="21396000">
                      <a:off x="4994640" y="402876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5001120" y="4060440"/>
                    <a:ext cx="167040" cy="341280"/>
                    <a:chOff x="5001120" y="4060440"/>
                    <a:chExt cx="167040" cy="34128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5001120" y="4060440"/>
                    <a:ext cx="167040" cy="341280"/>
                    <a:chOff x="5001120" y="4060440"/>
                    <a:chExt cx="167040" cy="34128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4488480" y="4053240"/>
                    <a:ext cx="203760" cy="413640"/>
                    <a:chOff x="4488480" y="4053240"/>
                    <a:chExt cx="203760" cy="41364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4488480" y="4053240"/>
                      <a:ext cx="203760" cy="413640"/>
                      <a:chOff x="4488480" y="4053240"/>
                      <a:chExt cx="203760" cy="413640"/>
                    </a:xfrm>
                  </p:grpSpPr>
                  <p:sp>
                    <p:nvSpPr>
                      <p:cNvPr id="153" name=""/>
                      <p:cNvSpPr/>
                      <p:nvPr/>
                    </p:nvSpPr>
                    <p:spPr>
                      <a:xfrm flipH="1" rot="21396000">
                        <a:off x="4500000" y="4057920"/>
                        <a:ext cx="18000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 flipH="1" rot="21396000">
                        <a:off x="4500000" y="4057920"/>
                        <a:ext cx="18000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5" name=""/>
                    <p:cNvGrpSpPr/>
                    <p:nvPr/>
                  </p:nvGrpSpPr>
                  <p:grpSpPr>
                    <a:xfrm>
                      <a:off x="4506840" y="4088520"/>
                      <a:ext cx="169200" cy="343080"/>
                      <a:chOff x="4506840" y="4088520"/>
                      <a:chExt cx="169200" cy="343080"/>
                    </a:xfrm>
                  </p:grpSpPr>
                  <p:sp>
                    <p:nvSpPr>
                      <p:cNvPr id="156" name=""/>
                      <p:cNvSpPr/>
                      <p:nvPr/>
                    </p:nvSpPr>
                    <p:spPr>
                      <a:xfrm flipH="1" rot="21396000">
                        <a:off x="4516560" y="4092480"/>
                        <a:ext cx="149400" cy="334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 flipH="1" rot="21396000">
                        <a:off x="4516560" y="4092480"/>
                        <a:ext cx="149400" cy="3348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4506840" y="4089600"/>
                    <a:ext cx="169200" cy="341280"/>
                    <a:chOff x="4506840" y="4089600"/>
                    <a:chExt cx="169200" cy="34128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4488480" y="4053240"/>
                    <a:ext cx="203760" cy="414000"/>
                    <a:chOff x="4488480" y="4053240"/>
                    <a:chExt cx="203760" cy="41400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 flipH="1" rot="21396000">
                      <a:off x="4500000" y="4057920"/>
                      <a:ext cx="1800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 flipH="1" rot="21396000">
                      <a:off x="4500000" y="4057920"/>
                      <a:ext cx="1800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4506840" y="4089600"/>
                    <a:ext cx="169200" cy="341280"/>
                    <a:chOff x="4506840" y="4089600"/>
                    <a:chExt cx="169200" cy="34128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4488480" y="4053240"/>
                    <a:ext cx="203760" cy="414000"/>
                    <a:chOff x="4488480" y="4053240"/>
                    <a:chExt cx="203760" cy="41400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 flipH="1" rot="21396000">
                      <a:off x="4500000" y="4057920"/>
                      <a:ext cx="1800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 flipH="1" rot="21396000">
                      <a:off x="4500000" y="4057920"/>
                      <a:ext cx="1800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4506840" y="4089600"/>
                    <a:ext cx="169200" cy="341280"/>
                    <a:chOff x="4506840" y="4089600"/>
                    <a:chExt cx="169200" cy="34128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4506840" y="4089600"/>
                    <a:ext cx="169200" cy="341280"/>
                    <a:chOff x="4506840" y="4089600"/>
                    <a:chExt cx="169200" cy="34128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6" name=""/>
                  <p:cNvSpPr/>
                  <p:nvPr/>
                </p:nvSpPr>
                <p:spPr>
                  <a:xfrm flipH="1" rot="21396000">
                    <a:off x="5279040" y="3817440"/>
                    <a:ext cx="144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32">
                        <a:moveTo>
                          <a:pt x="0" y="0"/>
                        </a:moveTo>
                        <a:lnTo>
                          <a:pt x="4" y="232"/>
                        </a:lnTo>
                      </a:path>
                    </a:pathLst>
                  </a:cu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5214600" y="3817440"/>
                    <a:ext cx="143640" cy="298080"/>
                    <a:chOff x="5214600" y="3817440"/>
                    <a:chExt cx="143640" cy="29808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5280480" y="3817440"/>
                      <a:ext cx="16920" cy="298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flipH="1" rot="21396000">
                      <a:off x="5215680" y="3917520"/>
                      <a:ext cx="1407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0" name=""/>
                  <p:cNvSpPr/>
                  <p:nvPr/>
                </p:nvSpPr>
                <p:spPr>
                  <a:xfrm flipH="1" rot="21396000">
                    <a:off x="4401360" y="3367080"/>
                    <a:ext cx="825840" cy="82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2" h="792">
                        <a:moveTo>
                          <a:pt x="0" y="127"/>
                        </a:moveTo>
                        <a:lnTo>
                          <a:pt x="105" y="0"/>
                        </a:lnTo>
                        <a:lnTo>
                          <a:pt x="1585" y="0"/>
                        </a:lnTo>
                        <a:lnTo>
                          <a:pt x="1782" y="88"/>
                        </a:lnTo>
                        <a:lnTo>
                          <a:pt x="1782" y="660"/>
                        </a:lnTo>
                        <a:lnTo>
                          <a:pt x="1683" y="792"/>
                        </a:lnTo>
                        <a:lnTo>
                          <a:pt x="105" y="792"/>
                        </a:lnTo>
                        <a:lnTo>
                          <a:pt x="6" y="704"/>
                        </a:lnTo>
                        <a:lnTo>
                          <a:pt x="8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d200"/>
                      </a:gs>
                      <a:gs pos="50000">
                        <a:srgbClr val="008000"/>
                      </a:gs>
                      <a:gs pos="100000">
                        <a:srgbClr val="00d200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07932" dir="18900000" blurRad="0" rotWithShape="0">
                      <a:srgbClr val="0048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4417920" y="3597120"/>
                    <a:ext cx="768960" cy="289440"/>
                    <a:chOff x="4417920" y="3597120"/>
                    <a:chExt cx="768960" cy="28944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 flipH="1" rot="21396000">
                      <a:off x="5097960" y="359892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H="1" rot="21396000">
                      <a:off x="5002560" y="360468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flipH="1" rot="21396000">
                      <a:off x="4907520" y="361008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 rot="21396000">
                      <a:off x="4809240" y="361620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H="1" rot="21396000">
                      <a:off x="4710600" y="362196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flipH="1" rot="21396000">
                      <a:off x="4615200" y="362772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flipH="1" rot="21396000">
                      <a:off x="4424760" y="363888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flipH="1" rot="21396000">
                      <a:off x="4519800" y="363312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4950720" y="3227400"/>
                    <a:ext cx="91440" cy="182520"/>
                    <a:chOff x="4950720" y="3227400"/>
                    <a:chExt cx="91440" cy="18252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flipH="1" rot="21396000">
                      <a:off x="4951800" y="3229920"/>
                      <a:ext cx="8856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flipH="1" rot="21396000">
                      <a:off x="4977360" y="322992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 flipH="1" rot="21396000">
                    <a:off x="4422960" y="4096440"/>
                    <a:ext cx="8006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1">
                        <a:moveTo>
                          <a:pt x="0" y="0"/>
                        </a:moveTo>
                        <a:cubicBezTo>
                          <a:pt x="0" y="0"/>
                          <a:pt x="864" y="0"/>
                          <a:pt x="172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1396000">
                    <a:off x="4387320" y="3492360"/>
                    <a:ext cx="8164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2" h="1">
                        <a:moveTo>
                          <a:pt x="0" y="0"/>
                        </a:moveTo>
                        <a:cubicBezTo>
                          <a:pt x="293" y="0"/>
                          <a:pt x="1395" y="0"/>
                          <a:pt x="176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4528440" y="3252600"/>
                    <a:ext cx="91800" cy="182160"/>
                    <a:chOff x="4528440" y="3252600"/>
                    <a:chExt cx="91800" cy="1821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flipH="1" rot="21396000">
                      <a:off x="4529160" y="3255120"/>
                      <a:ext cx="8892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1396000">
                      <a:off x="4555080" y="325476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"/>
                  <p:cNvSpPr/>
                  <p:nvPr/>
                </p:nvSpPr>
                <p:spPr>
                  <a:xfrm flipH="1" rot="21396000">
                    <a:off x="5115600" y="3877200"/>
                    <a:ext cx="72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1">
                        <a:moveTo>
                          <a:pt x="0" y="31"/>
                        </a:moveTo>
                        <a:cubicBezTo>
                          <a:pt x="5" y="21"/>
                          <a:pt x="16" y="0"/>
                          <a:pt x="16" y="0"/>
                        </a:cubicBezTo>
                        <a:cubicBezTo>
                          <a:pt x="16" y="0"/>
                          <a:pt x="5" y="21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396000">
                    <a:off x="5095440" y="3523680"/>
                    <a:ext cx="99000" cy="55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528">
                        <a:moveTo>
                          <a:pt x="214" y="528"/>
                        </a:moveTo>
                        <a:lnTo>
                          <a:pt x="214" y="0"/>
                        </a:lnTo>
                        <a:lnTo>
                          <a:pt x="0" y="2"/>
                        </a:lnTo>
                        <a:lnTo>
                          <a:pt x="0" y="527"/>
                        </a:lnTo>
                        <a:lnTo>
                          <a:pt x="214" y="52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3445200" y="3282840"/>
                  <a:ext cx="979920" cy="1239840"/>
                  <a:chOff x="3445200" y="3282840"/>
                  <a:chExt cx="979920" cy="123984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4050000" y="4079520"/>
                    <a:ext cx="201600" cy="412920"/>
                    <a:chOff x="4050000" y="4079520"/>
                    <a:chExt cx="201600" cy="412920"/>
                  </a:xfrm>
                </p:grpSpPr>
                <p:grpSp>
                  <p:nvGrpSpPr>
                    <p:cNvPr id="202" name=""/>
                    <p:cNvGrpSpPr/>
                    <p:nvPr/>
                  </p:nvGrpSpPr>
                  <p:grpSpPr>
                    <a:xfrm>
                      <a:off x="4050000" y="4079520"/>
                      <a:ext cx="201600" cy="412920"/>
                      <a:chOff x="4050000" y="4079520"/>
                      <a:chExt cx="201600" cy="412920"/>
                    </a:xfrm>
                  </p:grpSpPr>
                  <p:grpSp>
                    <p:nvGrpSpPr>
                      <p:cNvPr id="203" name=""/>
                      <p:cNvGrpSpPr/>
                      <p:nvPr/>
                    </p:nvGrpSpPr>
                    <p:grpSpPr>
                      <a:xfrm>
                        <a:off x="4050000" y="4079520"/>
                        <a:ext cx="201600" cy="412920"/>
                        <a:chOff x="4050000" y="4079520"/>
                        <a:chExt cx="201600" cy="412920"/>
                      </a:xfrm>
                    </p:grpSpPr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 flipH="1" rot="21396000">
                          <a:off x="4061520" y="4084200"/>
                          <a:ext cx="17820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 flipH="1" rot="21396000">
                          <a:off x="4061520" y="4084200"/>
                          <a:ext cx="17820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6" name=""/>
                      <p:cNvGrpSpPr/>
                      <p:nvPr/>
                    </p:nvGrpSpPr>
                    <p:grpSpPr>
                      <a:xfrm>
                        <a:off x="4068000" y="4114800"/>
                        <a:ext cx="167400" cy="342720"/>
                        <a:chOff x="4068000" y="4114800"/>
                        <a:chExt cx="167400" cy="342720"/>
                      </a:xfrm>
                    </p:grpSpPr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 flipH="1" rot="21396000">
                          <a:off x="4077360" y="4118760"/>
                          <a:ext cx="147960" cy="334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 flipH="1" rot="21396000">
                          <a:off x="4077360" y="4118760"/>
                          <a:ext cx="147960" cy="3348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9" name=""/>
                    <p:cNvGrpSpPr/>
                    <p:nvPr/>
                  </p:nvGrpSpPr>
                  <p:grpSpPr>
                    <a:xfrm>
                      <a:off x="4068000" y="4114800"/>
                      <a:ext cx="167400" cy="343080"/>
                      <a:chOff x="4068000" y="4114800"/>
                      <a:chExt cx="167400" cy="343080"/>
                    </a:xfrm>
                  </p:grpSpPr>
                  <p:sp>
                    <p:nvSpPr>
                      <p:cNvPr id="210" name=""/>
                      <p:cNvSpPr/>
                      <p:nvPr/>
                    </p:nvSpPr>
                    <p:spPr>
                      <a:xfrm flipH="1" rot="21396000">
                        <a:off x="4077360" y="411876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 flipH="1" rot="21396000">
                        <a:off x="4077360" y="411876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555720" y="4108680"/>
                    <a:ext cx="203760" cy="413280"/>
                    <a:chOff x="3555720" y="4108680"/>
                    <a:chExt cx="203760" cy="413280"/>
                  </a:xfrm>
                </p:grpSpPr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3555720" y="4108680"/>
                      <a:ext cx="203760" cy="413280"/>
                      <a:chOff x="3555720" y="4108680"/>
                      <a:chExt cx="203760" cy="413280"/>
                    </a:xfrm>
                  </p:grpSpPr>
                  <p:grpSp>
                    <p:nvGrpSpPr>
                      <p:cNvPr id="214" name=""/>
                      <p:cNvGrpSpPr/>
                      <p:nvPr/>
                    </p:nvGrpSpPr>
                    <p:grpSpPr>
                      <a:xfrm>
                        <a:off x="3555720" y="4108680"/>
                        <a:ext cx="203760" cy="413280"/>
                        <a:chOff x="3555720" y="4108680"/>
                        <a:chExt cx="203760" cy="413280"/>
                      </a:xfrm>
                    </p:grpSpPr>
                    <p:sp>
                      <p:nvSpPr>
                        <p:cNvPr id="215" name=""/>
                        <p:cNvSpPr/>
                        <p:nvPr/>
                      </p:nvSpPr>
                      <p:spPr>
                        <a:xfrm flipH="1" rot="21396000">
                          <a:off x="3567240" y="4113360"/>
                          <a:ext cx="18000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" name=""/>
                        <p:cNvSpPr/>
                        <p:nvPr/>
                      </p:nvSpPr>
                      <p:spPr>
                        <a:xfrm flipH="1" rot="21396000">
                          <a:off x="3567240" y="4113360"/>
                          <a:ext cx="18000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17" name=""/>
                      <p:cNvGrpSpPr/>
                      <p:nvPr/>
                    </p:nvGrpSpPr>
                    <p:grpSpPr>
                      <a:xfrm>
                        <a:off x="3574080" y="4143960"/>
                        <a:ext cx="169200" cy="342720"/>
                        <a:chOff x="3574080" y="4143960"/>
                        <a:chExt cx="169200" cy="342720"/>
                      </a:xfrm>
                    </p:grpSpPr>
                    <p:sp>
                      <p:nvSpPr>
                        <p:cNvPr id="218" name=""/>
                        <p:cNvSpPr/>
                        <p:nvPr/>
                      </p:nvSpPr>
                      <p:spPr>
                        <a:xfrm flipH="1" rot="21396000">
                          <a:off x="3583800" y="4147920"/>
                          <a:ext cx="149400" cy="3344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" name=""/>
                        <p:cNvSpPr/>
                        <p:nvPr/>
                      </p:nvSpPr>
                      <p:spPr>
                        <a:xfrm flipH="1" rot="21396000">
                          <a:off x="3583800" y="4147920"/>
                          <a:ext cx="149400" cy="3344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3574080" y="4143960"/>
                      <a:ext cx="169200" cy="343080"/>
                      <a:chOff x="3574080" y="4143960"/>
                      <a:chExt cx="169200" cy="34308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 flipH="1" rot="21396000">
                        <a:off x="3583800" y="4147920"/>
                        <a:ext cx="14940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 flipH="1" rot="21396000">
                        <a:off x="3583800" y="4147920"/>
                        <a:ext cx="14940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4050000" y="4079520"/>
                    <a:ext cx="201600" cy="413280"/>
                    <a:chOff x="4050000" y="4079520"/>
                    <a:chExt cx="201600" cy="413280"/>
                  </a:xfrm>
                </p:grpSpPr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4050000" y="4079520"/>
                      <a:ext cx="201600" cy="413280"/>
                      <a:chOff x="4050000" y="4079520"/>
                      <a:chExt cx="201600" cy="413280"/>
                    </a:xfrm>
                  </p:grpSpPr>
                  <p:sp>
                    <p:nvSpPr>
                      <p:cNvPr id="225" name=""/>
                      <p:cNvSpPr/>
                      <p:nvPr/>
                    </p:nvSpPr>
                    <p:spPr>
                      <a:xfrm flipH="1" rot="21396000">
                        <a:off x="4061520" y="4084200"/>
                        <a:ext cx="17820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"/>
                      <p:cNvSpPr/>
                      <p:nvPr/>
                    </p:nvSpPr>
                    <p:spPr>
                      <a:xfrm flipH="1" rot="21396000">
                        <a:off x="4061520" y="4084200"/>
                        <a:ext cx="17820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7" name=""/>
                    <p:cNvGrpSpPr/>
                    <p:nvPr/>
                  </p:nvGrpSpPr>
                  <p:grpSpPr>
                    <a:xfrm>
                      <a:off x="4068000" y="4114800"/>
                      <a:ext cx="167400" cy="343080"/>
                      <a:chOff x="4068000" y="4114800"/>
                      <a:chExt cx="167400" cy="343080"/>
                    </a:xfrm>
                  </p:grpSpPr>
                  <p:sp>
                    <p:nvSpPr>
                      <p:cNvPr id="228" name=""/>
                      <p:cNvSpPr/>
                      <p:nvPr/>
                    </p:nvSpPr>
                    <p:spPr>
                      <a:xfrm flipH="1" rot="21396000">
                        <a:off x="4077360" y="4118760"/>
                        <a:ext cx="147960" cy="335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9" name=""/>
                      <p:cNvSpPr/>
                      <p:nvPr/>
                    </p:nvSpPr>
                    <p:spPr>
                      <a:xfrm flipH="1" rot="21396000">
                        <a:off x="4077360" y="4118760"/>
                        <a:ext cx="147960" cy="3351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4068000" y="4115880"/>
                    <a:ext cx="167040" cy="341280"/>
                    <a:chOff x="4068000" y="4115880"/>
                    <a:chExt cx="167040" cy="34128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4050000" y="4079520"/>
                    <a:ext cx="201600" cy="413640"/>
                    <a:chOff x="4050000" y="4079520"/>
                    <a:chExt cx="201600" cy="41364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flipH="1" rot="21396000">
                      <a:off x="4061520" y="408420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flipH="1" rot="21396000">
                      <a:off x="4061520" y="408420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4068000" y="4115880"/>
                    <a:ext cx="167040" cy="341280"/>
                    <a:chOff x="4068000" y="4115880"/>
                    <a:chExt cx="167040" cy="34128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4050000" y="4079520"/>
                    <a:ext cx="201600" cy="413640"/>
                    <a:chOff x="4050000" y="4079520"/>
                    <a:chExt cx="201600" cy="41364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flipH="1" rot="21396000">
                      <a:off x="4061520" y="408420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 rot="21396000">
                      <a:off x="4061520" y="408420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4068000" y="4115880"/>
                    <a:ext cx="167040" cy="341280"/>
                    <a:chOff x="4068000" y="4115880"/>
                    <a:chExt cx="167040" cy="34128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4068000" y="4115880"/>
                    <a:ext cx="167040" cy="341280"/>
                    <a:chOff x="4068000" y="4115880"/>
                    <a:chExt cx="167040" cy="34128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3555720" y="4108680"/>
                    <a:ext cx="203760" cy="413640"/>
                    <a:chOff x="3555720" y="4108680"/>
                    <a:chExt cx="203760" cy="41364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3555720" y="4108680"/>
                      <a:ext cx="203760" cy="413640"/>
                      <a:chOff x="3555720" y="4108680"/>
                      <a:chExt cx="203760" cy="41364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 flipH="1" rot="21396000">
                        <a:off x="3567240" y="4113360"/>
                        <a:ext cx="18000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flipH="1" rot="21396000">
                        <a:off x="3567240" y="4113360"/>
                        <a:ext cx="18000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2" name=""/>
                    <p:cNvGrpSpPr/>
                    <p:nvPr/>
                  </p:nvGrpSpPr>
                  <p:grpSpPr>
                    <a:xfrm>
                      <a:off x="3574080" y="4143960"/>
                      <a:ext cx="169200" cy="343080"/>
                      <a:chOff x="3574080" y="4143960"/>
                      <a:chExt cx="169200" cy="343080"/>
                    </a:xfrm>
                  </p:grpSpPr>
                  <p:sp>
                    <p:nvSpPr>
                      <p:cNvPr id="253" name=""/>
                      <p:cNvSpPr/>
                      <p:nvPr/>
                    </p:nvSpPr>
                    <p:spPr>
                      <a:xfrm flipH="1" rot="21396000">
                        <a:off x="3583800" y="4147920"/>
                        <a:ext cx="149400" cy="334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flipH="1" rot="21396000">
                        <a:off x="3583800" y="4147920"/>
                        <a:ext cx="149400" cy="3348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3574080" y="4145040"/>
                    <a:ext cx="169200" cy="341280"/>
                    <a:chOff x="3574080" y="4145040"/>
                    <a:chExt cx="169200" cy="34128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3555720" y="4108680"/>
                    <a:ext cx="203760" cy="414000"/>
                    <a:chOff x="3555720" y="4108680"/>
                    <a:chExt cx="203760" cy="41400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 flipH="1" rot="21396000">
                      <a:off x="3567240" y="4113360"/>
                      <a:ext cx="1800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flipH="1" rot="21396000">
                      <a:off x="3567240" y="4113360"/>
                      <a:ext cx="1800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3574080" y="4145040"/>
                    <a:ext cx="169200" cy="341280"/>
                    <a:chOff x="3574080" y="4145040"/>
                    <a:chExt cx="169200" cy="3412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555720" y="4108680"/>
                    <a:ext cx="203760" cy="414000"/>
                    <a:chOff x="3555720" y="4108680"/>
                    <a:chExt cx="203760" cy="4140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H="1" rot="21396000">
                      <a:off x="3567240" y="4113360"/>
                      <a:ext cx="1800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flipH="1" rot="21396000">
                      <a:off x="3567240" y="4113360"/>
                      <a:ext cx="1800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3574080" y="4145040"/>
                    <a:ext cx="169200" cy="341280"/>
                    <a:chOff x="3574080" y="4145040"/>
                    <a:chExt cx="169200" cy="3412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3574080" y="4145040"/>
                    <a:ext cx="169200" cy="341280"/>
                    <a:chOff x="3574080" y="4145040"/>
                    <a:chExt cx="169200" cy="34128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 flipH="1" rot="21396000">
                    <a:off x="4346280" y="3872880"/>
                    <a:ext cx="144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32">
                        <a:moveTo>
                          <a:pt x="0" y="0"/>
                        </a:moveTo>
                        <a:lnTo>
                          <a:pt x="4" y="232"/>
                        </a:lnTo>
                      </a:path>
                    </a:pathLst>
                  </a:cu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4281480" y="3872880"/>
                    <a:ext cx="143640" cy="298080"/>
                    <a:chOff x="4281480" y="3872880"/>
                    <a:chExt cx="143640" cy="29808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347720" y="3872880"/>
                      <a:ext cx="16560" cy="298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H="1" rot="21396000">
                      <a:off x="4282560" y="3972960"/>
                      <a:ext cx="1407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"/>
                  <p:cNvSpPr/>
                  <p:nvPr/>
                </p:nvSpPr>
                <p:spPr>
                  <a:xfrm flipH="1" rot="21396000">
                    <a:off x="3468600" y="3422520"/>
                    <a:ext cx="825840" cy="82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2" h="792">
                        <a:moveTo>
                          <a:pt x="0" y="127"/>
                        </a:moveTo>
                        <a:lnTo>
                          <a:pt x="105" y="0"/>
                        </a:lnTo>
                        <a:lnTo>
                          <a:pt x="1585" y="0"/>
                        </a:lnTo>
                        <a:lnTo>
                          <a:pt x="1782" y="88"/>
                        </a:lnTo>
                        <a:lnTo>
                          <a:pt x="1782" y="660"/>
                        </a:lnTo>
                        <a:lnTo>
                          <a:pt x="1683" y="792"/>
                        </a:lnTo>
                        <a:lnTo>
                          <a:pt x="105" y="792"/>
                        </a:lnTo>
                        <a:lnTo>
                          <a:pt x="6" y="704"/>
                        </a:lnTo>
                        <a:lnTo>
                          <a:pt x="8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d200"/>
                      </a:gs>
                      <a:gs pos="50000">
                        <a:srgbClr val="008000"/>
                      </a:gs>
                      <a:gs pos="100000">
                        <a:srgbClr val="00d200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07932" dir="18900000" blurRad="0" rotWithShape="0">
                      <a:srgbClr val="0048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3484800" y="3652560"/>
                    <a:ext cx="768960" cy="289440"/>
                    <a:chOff x="3484800" y="3652560"/>
                    <a:chExt cx="768960" cy="28944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21396000">
                      <a:off x="4164840" y="365436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21396000">
                      <a:off x="4069800" y="366012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H="1" rot="21396000">
                      <a:off x="3974400" y="366552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H="1" rot="21396000">
                      <a:off x="3876480" y="367164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21396000">
                      <a:off x="3777480" y="367740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flipH="1" rot="21396000">
                      <a:off x="3682440" y="368316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H="1" rot="21396000">
                      <a:off x="3491640" y="369432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flipH="1" rot="21396000">
                      <a:off x="3587040" y="368856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4017960" y="3282840"/>
                    <a:ext cx="91440" cy="182520"/>
                    <a:chOff x="4017960" y="3282840"/>
                    <a:chExt cx="91440" cy="1825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flipH="1" rot="21396000">
                      <a:off x="4019040" y="3285360"/>
                      <a:ext cx="8856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flipH="1" rot="21396000">
                      <a:off x="4044600" y="328536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21396000">
                    <a:off x="3490200" y="4151880"/>
                    <a:ext cx="8006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1">
                        <a:moveTo>
                          <a:pt x="0" y="0"/>
                        </a:moveTo>
                        <a:cubicBezTo>
                          <a:pt x="0" y="0"/>
                          <a:pt x="864" y="0"/>
                          <a:pt x="172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21396000">
                    <a:off x="3454200" y="3547800"/>
                    <a:ext cx="8164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2" h="1">
                        <a:moveTo>
                          <a:pt x="0" y="0"/>
                        </a:moveTo>
                        <a:cubicBezTo>
                          <a:pt x="293" y="0"/>
                          <a:pt x="1395" y="0"/>
                          <a:pt x="176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3595680" y="3308040"/>
                    <a:ext cx="91800" cy="182160"/>
                    <a:chOff x="3595680" y="3308040"/>
                    <a:chExt cx="91800" cy="182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21396000">
                      <a:off x="3596400" y="3310560"/>
                      <a:ext cx="8892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21396000">
                      <a:off x="3622320" y="331020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5" name=""/>
                  <p:cNvSpPr/>
                  <p:nvPr/>
                </p:nvSpPr>
                <p:spPr>
                  <a:xfrm flipH="1" rot="21396000">
                    <a:off x="4182840" y="3932640"/>
                    <a:ext cx="72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1">
                        <a:moveTo>
                          <a:pt x="0" y="31"/>
                        </a:moveTo>
                        <a:cubicBezTo>
                          <a:pt x="5" y="21"/>
                          <a:pt x="16" y="0"/>
                          <a:pt x="16" y="0"/>
                        </a:cubicBezTo>
                        <a:cubicBezTo>
                          <a:pt x="16" y="0"/>
                          <a:pt x="5" y="21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rot="21396000">
                    <a:off x="4162680" y="3579120"/>
                    <a:ext cx="99000" cy="55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528">
                        <a:moveTo>
                          <a:pt x="214" y="528"/>
                        </a:moveTo>
                        <a:lnTo>
                          <a:pt x="214" y="0"/>
                        </a:lnTo>
                        <a:lnTo>
                          <a:pt x="0" y="2"/>
                        </a:lnTo>
                        <a:lnTo>
                          <a:pt x="0" y="527"/>
                        </a:lnTo>
                        <a:lnTo>
                          <a:pt x="214" y="52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5236560" y="3816360"/>
                  <a:ext cx="143640" cy="297720"/>
                  <a:chOff x="5236560" y="3816360"/>
                  <a:chExt cx="143640" cy="29772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5302440" y="3816360"/>
                    <a:ext cx="16920" cy="297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21396000">
                    <a:off x="5237640" y="3916440"/>
                    <a:ext cx="14076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1485360" y="3340800"/>
                <a:ext cx="1987200" cy="1295280"/>
                <a:chOff x="1485360" y="3340800"/>
                <a:chExt cx="1987200" cy="129528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1485360" y="4040280"/>
                  <a:ext cx="99000" cy="298080"/>
                  <a:chOff x="1485360" y="4040280"/>
                  <a:chExt cx="99000" cy="29808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1528920" y="4040280"/>
                    <a:ext cx="16920" cy="298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rot="21396000">
                    <a:off x="1486080" y="4140360"/>
                    <a:ext cx="9612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2395800" y="3984840"/>
                  <a:ext cx="143640" cy="298080"/>
                  <a:chOff x="2395800" y="3984840"/>
                  <a:chExt cx="143640" cy="29808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2462040" y="3984840"/>
                    <a:ext cx="16560" cy="298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rot="21396000">
                    <a:off x="2396880" y="4085280"/>
                    <a:ext cx="14076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2470320" y="3340800"/>
                  <a:ext cx="980280" cy="1239840"/>
                  <a:chOff x="2470320" y="3340800"/>
                  <a:chExt cx="980280" cy="1239840"/>
                </a:xfrm>
              </p:grpSpPr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3075480" y="4137480"/>
                    <a:ext cx="201600" cy="412920"/>
                    <a:chOff x="3075480" y="4137480"/>
                    <a:chExt cx="201600" cy="412920"/>
                  </a:xfrm>
                </p:grpSpPr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3075480" y="4137480"/>
                      <a:ext cx="201600" cy="412920"/>
                      <a:chOff x="3075480" y="4137480"/>
                      <a:chExt cx="201600" cy="412920"/>
                    </a:xfrm>
                  </p:grpSpPr>
                  <p:grpSp>
                    <p:nvGrpSpPr>
                      <p:cNvPr id="310" name=""/>
                      <p:cNvGrpSpPr/>
                      <p:nvPr/>
                    </p:nvGrpSpPr>
                    <p:grpSpPr>
                      <a:xfrm>
                        <a:off x="3075480" y="4137480"/>
                        <a:ext cx="201600" cy="412920"/>
                        <a:chOff x="3075480" y="4137480"/>
                        <a:chExt cx="201600" cy="412920"/>
                      </a:xfrm>
                    </p:grpSpPr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 flipH="1" rot="21396000">
                          <a:off x="3087000" y="4142160"/>
                          <a:ext cx="17820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 flipH="1" rot="21396000">
                          <a:off x="3087000" y="4142160"/>
                          <a:ext cx="17820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3" name=""/>
                      <p:cNvGrpSpPr/>
                      <p:nvPr/>
                    </p:nvGrpSpPr>
                    <p:grpSpPr>
                      <a:xfrm>
                        <a:off x="3093480" y="4172760"/>
                        <a:ext cx="167400" cy="342720"/>
                        <a:chOff x="3093480" y="4172760"/>
                        <a:chExt cx="167400" cy="342720"/>
                      </a:xfrm>
                    </p:grpSpPr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 flipH="1" rot="21396000">
                          <a:off x="3102840" y="4176720"/>
                          <a:ext cx="147960" cy="334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 flipH="1" rot="21396000">
                          <a:off x="3102840" y="4176720"/>
                          <a:ext cx="147960" cy="3348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6" name=""/>
                    <p:cNvGrpSpPr/>
                    <p:nvPr/>
                  </p:nvGrpSpPr>
                  <p:grpSpPr>
                    <a:xfrm>
                      <a:off x="3093480" y="4172760"/>
                      <a:ext cx="167400" cy="343080"/>
                      <a:chOff x="3093480" y="4172760"/>
                      <a:chExt cx="167400" cy="343080"/>
                    </a:xfrm>
                  </p:grpSpPr>
                  <p:sp>
                    <p:nvSpPr>
                      <p:cNvPr id="317" name=""/>
                      <p:cNvSpPr/>
                      <p:nvPr/>
                    </p:nvSpPr>
                    <p:spPr>
                      <a:xfrm flipH="1" rot="21396000">
                        <a:off x="3102840" y="417672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 flipH="1" rot="21396000">
                        <a:off x="3102840" y="417672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2580840" y="4166640"/>
                    <a:ext cx="204120" cy="413280"/>
                    <a:chOff x="2580840" y="4166640"/>
                    <a:chExt cx="204120" cy="413280"/>
                  </a:xfrm>
                </p:grpSpPr>
                <p:grpSp>
                  <p:nvGrpSpPr>
                    <p:cNvPr id="320" name=""/>
                    <p:cNvGrpSpPr/>
                    <p:nvPr/>
                  </p:nvGrpSpPr>
                  <p:grpSpPr>
                    <a:xfrm>
                      <a:off x="2580840" y="4166640"/>
                      <a:ext cx="204120" cy="413280"/>
                      <a:chOff x="2580840" y="4166640"/>
                      <a:chExt cx="204120" cy="413280"/>
                    </a:xfrm>
                  </p:grpSpPr>
                  <p:grpSp>
                    <p:nvGrpSpPr>
                      <p:cNvPr id="321" name=""/>
                      <p:cNvGrpSpPr/>
                      <p:nvPr/>
                    </p:nvGrpSpPr>
                    <p:grpSpPr>
                      <a:xfrm>
                        <a:off x="2580840" y="4166640"/>
                        <a:ext cx="204120" cy="413280"/>
                        <a:chOff x="2580840" y="4166640"/>
                        <a:chExt cx="204120" cy="413280"/>
                      </a:xfrm>
                    </p:grpSpPr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 flipH="1" rot="21396000">
                          <a:off x="2592360" y="4171320"/>
                          <a:ext cx="18036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 flipH="1" rot="21396000">
                          <a:off x="2592360" y="4171320"/>
                          <a:ext cx="18036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4" name=""/>
                      <p:cNvGrpSpPr/>
                      <p:nvPr/>
                    </p:nvGrpSpPr>
                    <p:grpSpPr>
                      <a:xfrm>
                        <a:off x="2598840" y="4201920"/>
                        <a:ext cx="169560" cy="342720"/>
                        <a:chOff x="2598840" y="4201920"/>
                        <a:chExt cx="169560" cy="342720"/>
                      </a:xfrm>
                    </p:grpSpPr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H="1" rot="21396000">
                          <a:off x="2608200" y="4205880"/>
                          <a:ext cx="149760" cy="3344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H="1" rot="21396000">
                          <a:off x="2608200" y="4205880"/>
                          <a:ext cx="149760" cy="3344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27" name=""/>
                    <p:cNvGrpSpPr/>
                    <p:nvPr/>
                  </p:nvGrpSpPr>
                  <p:grpSpPr>
                    <a:xfrm>
                      <a:off x="2598840" y="4201920"/>
                      <a:ext cx="169560" cy="343080"/>
                      <a:chOff x="2598840" y="4201920"/>
                      <a:chExt cx="169560" cy="343080"/>
                    </a:xfrm>
                  </p:grpSpPr>
                  <p:sp>
                    <p:nvSpPr>
                      <p:cNvPr id="328" name=""/>
                      <p:cNvSpPr/>
                      <p:nvPr/>
                    </p:nvSpPr>
                    <p:spPr>
                      <a:xfrm flipH="1" rot="21396000">
                        <a:off x="2608200" y="4205880"/>
                        <a:ext cx="14976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 flipH="1" rot="21396000">
                        <a:off x="2608200" y="4205880"/>
                        <a:ext cx="14976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3075480" y="4137480"/>
                    <a:ext cx="201600" cy="413280"/>
                    <a:chOff x="3075480" y="4137480"/>
                    <a:chExt cx="201600" cy="413280"/>
                  </a:xfrm>
                </p:grpSpPr>
                <p:grpSp>
                  <p:nvGrpSpPr>
                    <p:cNvPr id="331" name=""/>
                    <p:cNvGrpSpPr/>
                    <p:nvPr/>
                  </p:nvGrpSpPr>
                  <p:grpSpPr>
                    <a:xfrm>
                      <a:off x="3075480" y="4137480"/>
                      <a:ext cx="201600" cy="413280"/>
                      <a:chOff x="3075480" y="4137480"/>
                      <a:chExt cx="201600" cy="413280"/>
                    </a:xfrm>
                  </p:grpSpPr>
                  <p:sp>
                    <p:nvSpPr>
                      <p:cNvPr id="332" name=""/>
                      <p:cNvSpPr/>
                      <p:nvPr/>
                    </p:nvSpPr>
                    <p:spPr>
                      <a:xfrm flipH="1" rot="21396000">
                        <a:off x="3087000" y="4142160"/>
                        <a:ext cx="17820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 flipH="1" rot="21396000">
                        <a:off x="3087000" y="4142160"/>
                        <a:ext cx="17820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093480" y="4172760"/>
                      <a:ext cx="167400" cy="343080"/>
                      <a:chOff x="3093480" y="4172760"/>
                      <a:chExt cx="167400" cy="343080"/>
                    </a:xfrm>
                  </p:grpSpPr>
                  <p:sp>
                    <p:nvSpPr>
                      <p:cNvPr id="335" name=""/>
                      <p:cNvSpPr/>
                      <p:nvPr/>
                    </p:nvSpPr>
                    <p:spPr>
                      <a:xfrm flipH="1" rot="21396000">
                        <a:off x="3102840" y="4176720"/>
                        <a:ext cx="147960" cy="335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 flipH="1" rot="21396000">
                        <a:off x="3102840" y="4176720"/>
                        <a:ext cx="147960" cy="3351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3093120" y="4173840"/>
                    <a:ext cx="167400" cy="341280"/>
                    <a:chOff x="3093120" y="4173840"/>
                    <a:chExt cx="167400" cy="34128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3075480" y="4137480"/>
                    <a:ext cx="201600" cy="413640"/>
                    <a:chOff x="3075480" y="4137480"/>
                    <a:chExt cx="201600" cy="4136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1396000">
                      <a:off x="3087000" y="414216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1396000">
                      <a:off x="3087000" y="414216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3093120" y="4173840"/>
                    <a:ext cx="167400" cy="341280"/>
                    <a:chOff x="3093120" y="4173840"/>
                    <a:chExt cx="167400" cy="34128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3075480" y="4137480"/>
                    <a:ext cx="201600" cy="413640"/>
                    <a:chOff x="3075480" y="4137480"/>
                    <a:chExt cx="201600" cy="41364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21396000">
                      <a:off x="3087000" y="414216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21396000">
                      <a:off x="3087000" y="414216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3093120" y="4173840"/>
                    <a:ext cx="167400" cy="341280"/>
                    <a:chOff x="3093120" y="4173840"/>
                    <a:chExt cx="167400" cy="34128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093120" y="4173840"/>
                    <a:ext cx="167400" cy="341280"/>
                    <a:chOff x="3093120" y="4173840"/>
                    <a:chExt cx="167400" cy="34128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2580840" y="4166640"/>
                    <a:ext cx="204120" cy="413640"/>
                    <a:chOff x="2580840" y="4166640"/>
                    <a:chExt cx="204120" cy="413640"/>
                  </a:xfrm>
                </p:grpSpPr>
                <p:grpSp>
                  <p:nvGrpSpPr>
                    <p:cNvPr id="356" name=""/>
                    <p:cNvGrpSpPr/>
                    <p:nvPr/>
                  </p:nvGrpSpPr>
                  <p:grpSpPr>
                    <a:xfrm>
                      <a:off x="2580840" y="4166640"/>
                      <a:ext cx="204120" cy="413640"/>
                      <a:chOff x="2580840" y="4166640"/>
                      <a:chExt cx="204120" cy="413640"/>
                    </a:xfrm>
                  </p:grpSpPr>
                  <p:sp>
                    <p:nvSpPr>
                      <p:cNvPr id="357" name=""/>
                      <p:cNvSpPr/>
                      <p:nvPr/>
                    </p:nvSpPr>
                    <p:spPr>
                      <a:xfrm flipH="1" rot="21396000">
                        <a:off x="2592360" y="4171320"/>
                        <a:ext cx="18036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 flipH="1" rot="21396000">
                        <a:off x="2592360" y="4171320"/>
                        <a:ext cx="18036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9" name=""/>
                    <p:cNvGrpSpPr/>
                    <p:nvPr/>
                  </p:nvGrpSpPr>
                  <p:grpSpPr>
                    <a:xfrm>
                      <a:off x="2598840" y="4201920"/>
                      <a:ext cx="169560" cy="343080"/>
                      <a:chOff x="2598840" y="4201920"/>
                      <a:chExt cx="169560" cy="343080"/>
                    </a:xfrm>
                  </p:grpSpPr>
                  <p:sp>
                    <p:nvSpPr>
                      <p:cNvPr id="360" name=""/>
                      <p:cNvSpPr/>
                      <p:nvPr/>
                    </p:nvSpPr>
                    <p:spPr>
                      <a:xfrm flipH="1" rot="21396000">
                        <a:off x="2608200" y="4205880"/>
                        <a:ext cx="149760" cy="334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1" name=""/>
                      <p:cNvSpPr/>
                      <p:nvPr/>
                    </p:nvSpPr>
                    <p:spPr>
                      <a:xfrm flipH="1" rot="21396000">
                        <a:off x="2608200" y="4205880"/>
                        <a:ext cx="149760" cy="3348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2599560" y="4203000"/>
                    <a:ext cx="169200" cy="341280"/>
                    <a:chOff x="2599560" y="4203000"/>
                    <a:chExt cx="169200" cy="34128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2580840" y="4166640"/>
                    <a:ext cx="204120" cy="414000"/>
                    <a:chOff x="2580840" y="4166640"/>
                    <a:chExt cx="204120" cy="41400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21396000">
                      <a:off x="2592000" y="4171320"/>
                      <a:ext cx="18036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21396000">
                      <a:off x="2592000" y="4171320"/>
                      <a:ext cx="18036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2599560" y="4203000"/>
                    <a:ext cx="169200" cy="341280"/>
                    <a:chOff x="2599560" y="4203000"/>
                    <a:chExt cx="169200" cy="34128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2580840" y="4166640"/>
                    <a:ext cx="204120" cy="414000"/>
                    <a:chOff x="2580840" y="4166640"/>
                    <a:chExt cx="204120" cy="41400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flipH="1" rot="21396000">
                      <a:off x="2592000" y="4171320"/>
                      <a:ext cx="18036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flipH="1" rot="21396000">
                      <a:off x="2592000" y="4171320"/>
                      <a:ext cx="18036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599560" y="4203000"/>
                    <a:ext cx="169200" cy="341280"/>
                    <a:chOff x="2599560" y="4203000"/>
                    <a:chExt cx="169200" cy="34128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2599560" y="4203000"/>
                    <a:ext cx="169200" cy="341280"/>
                    <a:chOff x="2599560" y="4203000"/>
                    <a:chExt cx="169200" cy="34128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0" name=""/>
                  <p:cNvSpPr/>
                  <p:nvPr/>
                </p:nvSpPr>
                <p:spPr>
                  <a:xfrm flipH="1" rot="21396000">
                    <a:off x="3371760" y="3930840"/>
                    <a:ext cx="144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32">
                        <a:moveTo>
                          <a:pt x="0" y="0"/>
                        </a:moveTo>
                        <a:lnTo>
                          <a:pt x="4" y="232"/>
                        </a:lnTo>
                      </a:path>
                    </a:pathLst>
                  </a:cu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3306960" y="3930840"/>
                    <a:ext cx="143640" cy="298080"/>
                    <a:chOff x="3306960" y="3930840"/>
                    <a:chExt cx="143640" cy="2980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3373200" y="3930840"/>
                      <a:ext cx="16560" cy="298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rot="21396000">
                      <a:off x="3308040" y="4030920"/>
                      <a:ext cx="1407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"/>
                  <p:cNvSpPr/>
                  <p:nvPr/>
                </p:nvSpPr>
                <p:spPr>
                  <a:xfrm flipH="1" rot="21396000">
                    <a:off x="2493720" y="3480480"/>
                    <a:ext cx="825840" cy="82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2" h="792">
                        <a:moveTo>
                          <a:pt x="0" y="127"/>
                        </a:moveTo>
                        <a:lnTo>
                          <a:pt x="105" y="0"/>
                        </a:lnTo>
                        <a:lnTo>
                          <a:pt x="1585" y="0"/>
                        </a:lnTo>
                        <a:lnTo>
                          <a:pt x="1782" y="88"/>
                        </a:lnTo>
                        <a:lnTo>
                          <a:pt x="1782" y="660"/>
                        </a:lnTo>
                        <a:lnTo>
                          <a:pt x="1683" y="792"/>
                        </a:lnTo>
                        <a:lnTo>
                          <a:pt x="105" y="792"/>
                        </a:lnTo>
                        <a:lnTo>
                          <a:pt x="6" y="704"/>
                        </a:lnTo>
                        <a:lnTo>
                          <a:pt x="8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d200"/>
                      </a:gs>
                      <a:gs pos="50000">
                        <a:srgbClr val="008000"/>
                      </a:gs>
                      <a:gs pos="100000">
                        <a:srgbClr val="00d200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07932" dir="18900000" blurRad="0" rotWithShape="0">
                      <a:srgbClr val="0048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2510280" y="3710520"/>
                    <a:ext cx="768960" cy="289440"/>
                    <a:chOff x="2510280" y="3710520"/>
                    <a:chExt cx="768960" cy="28944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21396000">
                      <a:off x="3190320" y="371232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21396000">
                      <a:off x="3094920" y="371772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21396000">
                      <a:off x="2999880" y="372348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21396000">
                      <a:off x="2901600" y="372924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21396000">
                      <a:off x="2802960" y="373536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21396000">
                      <a:off x="2707560" y="374076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flipH="1" rot="21396000">
                      <a:off x="2517120" y="375228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21396000">
                      <a:off x="2612520" y="374652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3042720" y="3340800"/>
                    <a:ext cx="91800" cy="182520"/>
                    <a:chOff x="3042720" y="3340800"/>
                    <a:chExt cx="91800" cy="18252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flipH="1" rot="21396000">
                      <a:off x="3043440" y="3343320"/>
                      <a:ext cx="8892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flipH="1" rot="21396000">
                      <a:off x="3069720" y="334332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7" name=""/>
                  <p:cNvSpPr/>
                  <p:nvPr/>
                </p:nvSpPr>
                <p:spPr>
                  <a:xfrm flipH="1" rot="21396000">
                    <a:off x="2514960" y="4209840"/>
                    <a:ext cx="80100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1">
                        <a:moveTo>
                          <a:pt x="0" y="0"/>
                        </a:moveTo>
                        <a:cubicBezTo>
                          <a:pt x="0" y="0"/>
                          <a:pt x="864" y="0"/>
                          <a:pt x="172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rot="21396000">
                    <a:off x="2478960" y="3605760"/>
                    <a:ext cx="8168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2" h="1">
                        <a:moveTo>
                          <a:pt x="0" y="0"/>
                        </a:moveTo>
                        <a:cubicBezTo>
                          <a:pt x="293" y="0"/>
                          <a:pt x="1395" y="0"/>
                          <a:pt x="176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2620800" y="3366000"/>
                    <a:ext cx="91800" cy="182160"/>
                    <a:chOff x="2620800" y="3366000"/>
                    <a:chExt cx="91800" cy="182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flipH="1" rot="21396000">
                      <a:off x="2621520" y="3368520"/>
                      <a:ext cx="8892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flipH="1" rot="21396000">
                      <a:off x="2647800" y="336816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"/>
                  <p:cNvSpPr/>
                  <p:nvPr/>
                </p:nvSpPr>
                <p:spPr>
                  <a:xfrm flipH="1" rot="21396000">
                    <a:off x="3208320" y="3990240"/>
                    <a:ext cx="72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1">
                        <a:moveTo>
                          <a:pt x="0" y="31"/>
                        </a:moveTo>
                        <a:cubicBezTo>
                          <a:pt x="5" y="21"/>
                          <a:pt x="16" y="0"/>
                          <a:pt x="16" y="0"/>
                        </a:cubicBezTo>
                        <a:cubicBezTo>
                          <a:pt x="16" y="0"/>
                          <a:pt x="5" y="21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21396000">
                    <a:off x="3188160" y="3636720"/>
                    <a:ext cx="99000" cy="55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528">
                        <a:moveTo>
                          <a:pt x="214" y="528"/>
                        </a:moveTo>
                        <a:lnTo>
                          <a:pt x="214" y="0"/>
                        </a:lnTo>
                        <a:lnTo>
                          <a:pt x="0" y="2"/>
                        </a:lnTo>
                        <a:lnTo>
                          <a:pt x="0" y="527"/>
                        </a:lnTo>
                        <a:lnTo>
                          <a:pt x="214" y="52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1537560" y="3396240"/>
                  <a:ext cx="980280" cy="1239840"/>
                  <a:chOff x="1537560" y="3396240"/>
                  <a:chExt cx="980280" cy="1239840"/>
                </a:xfrm>
              </p:grpSpPr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2142720" y="4192920"/>
                    <a:ext cx="201600" cy="412920"/>
                    <a:chOff x="2142720" y="4192920"/>
                    <a:chExt cx="201600" cy="412920"/>
                  </a:xfrm>
                </p:grpSpPr>
                <p:grpSp>
                  <p:nvGrpSpPr>
                    <p:cNvPr id="406" name=""/>
                    <p:cNvGrpSpPr/>
                    <p:nvPr/>
                  </p:nvGrpSpPr>
                  <p:grpSpPr>
                    <a:xfrm>
                      <a:off x="2142720" y="4192920"/>
                      <a:ext cx="201600" cy="412920"/>
                      <a:chOff x="2142720" y="4192920"/>
                      <a:chExt cx="201600" cy="412920"/>
                    </a:xfrm>
                  </p:grpSpPr>
                  <p:grpSp>
                    <p:nvGrpSpPr>
                      <p:cNvPr id="407" name=""/>
                      <p:cNvGrpSpPr/>
                      <p:nvPr/>
                    </p:nvGrpSpPr>
                    <p:grpSpPr>
                      <a:xfrm>
                        <a:off x="2142720" y="4192920"/>
                        <a:ext cx="201600" cy="412920"/>
                        <a:chOff x="2142720" y="4192920"/>
                        <a:chExt cx="201600" cy="412920"/>
                      </a:xfrm>
                    </p:grpSpPr>
                    <p:sp>
                      <p:nvSpPr>
                        <p:cNvPr id="408" name=""/>
                        <p:cNvSpPr/>
                        <p:nvPr/>
                      </p:nvSpPr>
                      <p:spPr>
                        <a:xfrm flipH="1" rot="21396000">
                          <a:off x="2154240" y="4197600"/>
                          <a:ext cx="17820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9" name=""/>
                        <p:cNvSpPr/>
                        <p:nvPr/>
                      </p:nvSpPr>
                      <p:spPr>
                        <a:xfrm flipH="1" rot="21396000">
                          <a:off x="2154240" y="4197600"/>
                          <a:ext cx="17820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0" name=""/>
                      <p:cNvGrpSpPr/>
                      <p:nvPr/>
                    </p:nvGrpSpPr>
                    <p:grpSpPr>
                      <a:xfrm>
                        <a:off x="2160720" y="4228200"/>
                        <a:ext cx="167400" cy="342720"/>
                        <a:chOff x="2160720" y="4228200"/>
                        <a:chExt cx="167400" cy="342720"/>
                      </a:xfrm>
                    </p:grpSpPr>
                    <p:sp>
                      <p:nvSpPr>
                        <p:cNvPr id="411" name=""/>
                        <p:cNvSpPr/>
                        <p:nvPr/>
                      </p:nvSpPr>
                      <p:spPr>
                        <a:xfrm flipH="1" rot="21396000">
                          <a:off x="2170080" y="4232160"/>
                          <a:ext cx="147960" cy="334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2" name=""/>
                        <p:cNvSpPr/>
                        <p:nvPr/>
                      </p:nvSpPr>
                      <p:spPr>
                        <a:xfrm flipH="1" rot="21396000">
                          <a:off x="2170080" y="4232160"/>
                          <a:ext cx="147960" cy="3348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3" name=""/>
                    <p:cNvGrpSpPr/>
                    <p:nvPr/>
                  </p:nvGrpSpPr>
                  <p:grpSpPr>
                    <a:xfrm>
                      <a:off x="2160720" y="4228200"/>
                      <a:ext cx="167400" cy="343080"/>
                      <a:chOff x="2160720" y="4228200"/>
                      <a:chExt cx="167400" cy="343080"/>
                    </a:xfrm>
                  </p:grpSpPr>
                  <p:sp>
                    <p:nvSpPr>
                      <p:cNvPr id="414" name=""/>
                      <p:cNvSpPr/>
                      <p:nvPr/>
                    </p:nvSpPr>
                    <p:spPr>
                      <a:xfrm flipH="1" rot="21396000">
                        <a:off x="2170080" y="423216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"/>
                      <p:cNvSpPr/>
                      <p:nvPr/>
                    </p:nvSpPr>
                    <p:spPr>
                      <a:xfrm flipH="1" rot="21396000">
                        <a:off x="2170080" y="423216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1647720" y="4222080"/>
                    <a:ext cx="204120" cy="413280"/>
                    <a:chOff x="1647720" y="4222080"/>
                    <a:chExt cx="204120" cy="413280"/>
                  </a:xfrm>
                </p:grpSpPr>
                <p:grpSp>
                  <p:nvGrpSpPr>
                    <p:cNvPr id="417" name=""/>
                    <p:cNvGrpSpPr/>
                    <p:nvPr/>
                  </p:nvGrpSpPr>
                  <p:grpSpPr>
                    <a:xfrm>
                      <a:off x="1647720" y="4222080"/>
                      <a:ext cx="204120" cy="413280"/>
                      <a:chOff x="1647720" y="4222080"/>
                      <a:chExt cx="204120" cy="413280"/>
                    </a:xfrm>
                  </p:grpSpPr>
                  <p:grpSp>
                    <p:nvGrpSpPr>
                      <p:cNvPr id="418" name=""/>
                      <p:cNvGrpSpPr/>
                      <p:nvPr/>
                    </p:nvGrpSpPr>
                    <p:grpSpPr>
                      <a:xfrm>
                        <a:off x="1647720" y="4222080"/>
                        <a:ext cx="204120" cy="413280"/>
                        <a:chOff x="1647720" y="4222080"/>
                        <a:chExt cx="204120" cy="413280"/>
                      </a:xfrm>
                    </p:grpSpPr>
                    <p:sp>
                      <p:nvSpPr>
                        <p:cNvPr id="419" name=""/>
                        <p:cNvSpPr/>
                        <p:nvPr/>
                      </p:nvSpPr>
                      <p:spPr>
                        <a:xfrm flipH="1" rot="21396000">
                          <a:off x="1659240" y="4226760"/>
                          <a:ext cx="18036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 flipH="1" rot="21396000">
                          <a:off x="1659240" y="4226760"/>
                          <a:ext cx="18036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1666080" y="4257360"/>
                        <a:ext cx="169560" cy="342720"/>
                        <a:chOff x="1666080" y="4257360"/>
                        <a:chExt cx="169560" cy="342720"/>
                      </a:xfrm>
                    </p:grpSpPr>
                    <p:sp>
                      <p:nvSpPr>
                        <p:cNvPr id="422" name=""/>
                        <p:cNvSpPr/>
                        <p:nvPr/>
                      </p:nvSpPr>
                      <p:spPr>
                        <a:xfrm flipH="1" rot="21396000">
                          <a:off x="1675440" y="4261320"/>
                          <a:ext cx="149760" cy="3344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 flipH="1" rot="21396000">
                          <a:off x="1675440" y="4261320"/>
                          <a:ext cx="149760" cy="3344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4" name=""/>
                    <p:cNvGrpSpPr/>
                    <p:nvPr/>
                  </p:nvGrpSpPr>
                  <p:grpSpPr>
                    <a:xfrm>
                      <a:off x="1666080" y="4257360"/>
                      <a:ext cx="169560" cy="343080"/>
                      <a:chOff x="1666080" y="4257360"/>
                      <a:chExt cx="169560" cy="343080"/>
                    </a:xfrm>
                  </p:grpSpPr>
                  <p:sp>
                    <p:nvSpPr>
                      <p:cNvPr id="425" name=""/>
                      <p:cNvSpPr/>
                      <p:nvPr/>
                    </p:nvSpPr>
                    <p:spPr>
                      <a:xfrm flipH="1" rot="21396000">
                        <a:off x="1675440" y="4261320"/>
                        <a:ext cx="14976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 flipH="1" rot="21396000">
                        <a:off x="1675440" y="4261320"/>
                        <a:ext cx="14976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142720" y="4192920"/>
                    <a:ext cx="201600" cy="413280"/>
                    <a:chOff x="2142720" y="4192920"/>
                    <a:chExt cx="201600" cy="413280"/>
                  </a:xfrm>
                </p:grpSpPr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2142720" y="4192920"/>
                      <a:ext cx="201600" cy="413280"/>
                      <a:chOff x="2142720" y="4192920"/>
                      <a:chExt cx="201600" cy="413280"/>
                    </a:xfrm>
                  </p:grpSpPr>
                  <p:sp>
                    <p:nvSpPr>
                      <p:cNvPr id="429" name=""/>
                      <p:cNvSpPr/>
                      <p:nvPr/>
                    </p:nvSpPr>
                    <p:spPr>
                      <a:xfrm flipH="1" rot="21396000">
                        <a:off x="2154240" y="4197600"/>
                        <a:ext cx="17820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 flipH="1" rot="21396000">
                        <a:off x="2154240" y="4197600"/>
                        <a:ext cx="17820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1" name=""/>
                    <p:cNvGrpSpPr/>
                    <p:nvPr/>
                  </p:nvGrpSpPr>
                  <p:grpSpPr>
                    <a:xfrm>
                      <a:off x="2160720" y="4228200"/>
                      <a:ext cx="167400" cy="343080"/>
                      <a:chOff x="2160720" y="4228200"/>
                      <a:chExt cx="167400" cy="343080"/>
                    </a:xfrm>
                  </p:grpSpPr>
                  <p:sp>
                    <p:nvSpPr>
                      <p:cNvPr id="432" name=""/>
                      <p:cNvSpPr/>
                      <p:nvPr/>
                    </p:nvSpPr>
                    <p:spPr>
                      <a:xfrm flipH="1" rot="21396000">
                        <a:off x="2170080" y="4232160"/>
                        <a:ext cx="147960" cy="335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" name=""/>
                      <p:cNvSpPr/>
                      <p:nvPr/>
                    </p:nvSpPr>
                    <p:spPr>
                      <a:xfrm flipH="1" rot="21396000">
                        <a:off x="2170080" y="4232160"/>
                        <a:ext cx="147960" cy="3351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2160360" y="4229280"/>
                    <a:ext cx="167400" cy="341280"/>
                    <a:chOff x="2160360" y="4229280"/>
                    <a:chExt cx="167400" cy="34128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2142720" y="4192920"/>
                    <a:ext cx="201600" cy="413640"/>
                    <a:chOff x="2142720" y="4192920"/>
                    <a:chExt cx="201600" cy="41364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 flipH="1" rot="21396000">
                      <a:off x="2154240" y="419760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flipH="1" rot="21396000">
                      <a:off x="2154240" y="419760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2160360" y="4229280"/>
                    <a:ext cx="167400" cy="341280"/>
                    <a:chOff x="2160360" y="4229280"/>
                    <a:chExt cx="167400" cy="34128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2142720" y="4192920"/>
                    <a:ext cx="201600" cy="413640"/>
                    <a:chOff x="2142720" y="4192920"/>
                    <a:chExt cx="201600" cy="41364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flipH="1" rot="21396000">
                      <a:off x="2154240" y="419760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flipH="1" rot="21396000">
                      <a:off x="2154240" y="419760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2160360" y="4229280"/>
                    <a:ext cx="167400" cy="341280"/>
                    <a:chOff x="2160360" y="4229280"/>
                    <a:chExt cx="167400" cy="34128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2160360" y="4229280"/>
                    <a:ext cx="167400" cy="341280"/>
                    <a:chOff x="2160360" y="4229280"/>
                    <a:chExt cx="167400" cy="34128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1647720" y="4222080"/>
                    <a:ext cx="204120" cy="413640"/>
                    <a:chOff x="1647720" y="4222080"/>
                    <a:chExt cx="204120" cy="413640"/>
                  </a:xfrm>
                </p:grpSpPr>
                <p:grpSp>
                  <p:nvGrpSpPr>
                    <p:cNvPr id="453" name=""/>
                    <p:cNvGrpSpPr/>
                    <p:nvPr/>
                  </p:nvGrpSpPr>
                  <p:grpSpPr>
                    <a:xfrm>
                      <a:off x="1647720" y="4222080"/>
                      <a:ext cx="204120" cy="413640"/>
                      <a:chOff x="1647720" y="4222080"/>
                      <a:chExt cx="204120" cy="413640"/>
                    </a:xfrm>
                  </p:grpSpPr>
                  <p:sp>
                    <p:nvSpPr>
                      <p:cNvPr id="454" name=""/>
                      <p:cNvSpPr/>
                      <p:nvPr/>
                    </p:nvSpPr>
                    <p:spPr>
                      <a:xfrm flipH="1" rot="21396000">
                        <a:off x="1659240" y="4226760"/>
                        <a:ext cx="18036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 flipH="1" rot="21396000">
                        <a:off x="1659240" y="4226760"/>
                        <a:ext cx="18036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6" name=""/>
                    <p:cNvGrpSpPr/>
                    <p:nvPr/>
                  </p:nvGrpSpPr>
                  <p:grpSpPr>
                    <a:xfrm>
                      <a:off x="1666080" y="4257360"/>
                      <a:ext cx="169560" cy="343080"/>
                      <a:chOff x="1666080" y="4257360"/>
                      <a:chExt cx="169560" cy="343080"/>
                    </a:xfrm>
                  </p:grpSpPr>
                  <p:sp>
                    <p:nvSpPr>
                      <p:cNvPr id="457" name=""/>
                      <p:cNvSpPr/>
                      <p:nvPr/>
                    </p:nvSpPr>
                    <p:spPr>
                      <a:xfrm flipH="1" rot="21396000">
                        <a:off x="1675440" y="4261320"/>
                        <a:ext cx="149760" cy="334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 flipH="1" rot="21396000">
                        <a:off x="1675440" y="4261320"/>
                        <a:ext cx="149760" cy="3348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1666440" y="4258440"/>
                    <a:ext cx="169200" cy="341280"/>
                    <a:chOff x="1666440" y="4258440"/>
                    <a:chExt cx="169200" cy="34128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1647720" y="4222080"/>
                    <a:ext cx="204120" cy="414000"/>
                    <a:chOff x="1647720" y="4222080"/>
                    <a:chExt cx="204120" cy="41400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flipH="1" rot="21396000">
                      <a:off x="1658880" y="4226760"/>
                      <a:ext cx="18036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H="1" rot="21396000">
                      <a:off x="1658880" y="4226760"/>
                      <a:ext cx="18036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1666440" y="4258440"/>
                    <a:ext cx="169200" cy="341280"/>
                    <a:chOff x="1666440" y="4258440"/>
                    <a:chExt cx="169200" cy="34128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1647720" y="4222080"/>
                    <a:ext cx="204120" cy="414000"/>
                    <a:chOff x="1647720" y="4222080"/>
                    <a:chExt cx="204120" cy="41400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flipH="1" rot="21396000">
                      <a:off x="1658880" y="4226760"/>
                      <a:ext cx="18036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H="1" rot="21396000">
                      <a:off x="1658880" y="4226760"/>
                      <a:ext cx="18036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1666440" y="4258440"/>
                    <a:ext cx="169200" cy="341280"/>
                    <a:chOff x="1666440" y="4258440"/>
                    <a:chExt cx="169200" cy="3412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1666440" y="4258440"/>
                    <a:ext cx="169200" cy="341280"/>
                    <a:chOff x="1666440" y="4258440"/>
                    <a:chExt cx="169200" cy="34128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7" name=""/>
                  <p:cNvSpPr/>
                  <p:nvPr/>
                </p:nvSpPr>
                <p:spPr>
                  <a:xfrm flipH="1" rot="21396000">
                    <a:off x="2438640" y="3986280"/>
                    <a:ext cx="144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32">
                        <a:moveTo>
                          <a:pt x="0" y="0"/>
                        </a:moveTo>
                        <a:lnTo>
                          <a:pt x="4" y="232"/>
                        </a:lnTo>
                      </a:path>
                    </a:pathLst>
                  </a:cu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2374200" y="3986280"/>
                    <a:ext cx="143640" cy="298080"/>
                    <a:chOff x="2374200" y="3986280"/>
                    <a:chExt cx="143640" cy="29808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2440080" y="3986280"/>
                      <a:ext cx="16920" cy="298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H="1" rot="21396000">
                      <a:off x="2375280" y="4086360"/>
                      <a:ext cx="1407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 flipH="1" rot="21396000">
                    <a:off x="1560960" y="3535920"/>
                    <a:ext cx="825840" cy="82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2" h="792">
                        <a:moveTo>
                          <a:pt x="0" y="127"/>
                        </a:moveTo>
                        <a:lnTo>
                          <a:pt x="105" y="0"/>
                        </a:lnTo>
                        <a:lnTo>
                          <a:pt x="1585" y="0"/>
                        </a:lnTo>
                        <a:lnTo>
                          <a:pt x="1782" y="88"/>
                        </a:lnTo>
                        <a:lnTo>
                          <a:pt x="1782" y="660"/>
                        </a:lnTo>
                        <a:lnTo>
                          <a:pt x="1683" y="792"/>
                        </a:lnTo>
                        <a:lnTo>
                          <a:pt x="105" y="792"/>
                        </a:lnTo>
                        <a:lnTo>
                          <a:pt x="6" y="704"/>
                        </a:lnTo>
                        <a:lnTo>
                          <a:pt x="8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d200"/>
                      </a:gs>
                      <a:gs pos="50000">
                        <a:srgbClr val="008000"/>
                      </a:gs>
                      <a:gs pos="100000">
                        <a:srgbClr val="00d200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07932" dir="18900000" blurRad="0" rotWithShape="0">
                      <a:srgbClr val="0048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1577520" y="3765960"/>
                    <a:ext cx="768960" cy="289440"/>
                    <a:chOff x="1577520" y="3765960"/>
                    <a:chExt cx="768960" cy="28944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flipH="1" rot="21396000">
                      <a:off x="2257560" y="376776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H="1" rot="21396000">
                      <a:off x="2162160" y="377316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H="1" rot="21396000">
                      <a:off x="2066760" y="377892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H="1" rot="21396000">
                      <a:off x="1968840" y="378468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H="1" rot="21396000">
                      <a:off x="1869840" y="379080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H="1" rot="21396000">
                      <a:off x="1774800" y="379620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H="1" rot="21396000">
                      <a:off x="1584360" y="380772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H="1" rot="21396000">
                      <a:off x="1679400" y="380196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2109960" y="3396240"/>
                    <a:ext cx="91800" cy="182520"/>
                    <a:chOff x="2109960" y="3396240"/>
                    <a:chExt cx="91800" cy="18252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flipH="1" rot="21396000">
                      <a:off x="2110680" y="3398760"/>
                      <a:ext cx="8892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H="1" rot="21396000">
                      <a:off x="2136600" y="339876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4" name=""/>
                  <p:cNvSpPr/>
                  <p:nvPr/>
                </p:nvSpPr>
                <p:spPr>
                  <a:xfrm flipH="1" rot="21396000">
                    <a:off x="1581840" y="4265280"/>
                    <a:ext cx="80100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1">
                        <a:moveTo>
                          <a:pt x="0" y="0"/>
                        </a:moveTo>
                        <a:cubicBezTo>
                          <a:pt x="0" y="0"/>
                          <a:pt x="864" y="0"/>
                          <a:pt x="172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21396000">
                    <a:off x="1545840" y="3661200"/>
                    <a:ext cx="8168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2" h="1">
                        <a:moveTo>
                          <a:pt x="0" y="0"/>
                        </a:moveTo>
                        <a:cubicBezTo>
                          <a:pt x="293" y="0"/>
                          <a:pt x="1395" y="0"/>
                          <a:pt x="176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1688040" y="3421080"/>
                    <a:ext cx="91800" cy="182520"/>
                    <a:chOff x="1688040" y="3421080"/>
                    <a:chExt cx="91800" cy="18252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flipH="1" rot="21396000">
                      <a:off x="1688760" y="3423600"/>
                      <a:ext cx="8892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H="1" rot="21396000">
                      <a:off x="1714680" y="342360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9" name=""/>
                  <p:cNvSpPr/>
                  <p:nvPr/>
                </p:nvSpPr>
                <p:spPr>
                  <a:xfrm flipH="1" rot="21396000">
                    <a:off x="2275200" y="4045680"/>
                    <a:ext cx="72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1">
                        <a:moveTo>
                          <a:pt x="0" y="31"/>
                        </a:moveTo>
                        <a:cubicBezTo>
                          <a:pt x="5" y="21"/>
                          <a:pt x="16" y="0"/>
                          <a:pt x="16" y="0"/>
                        </a:cubicBezTo>
                        <a:cubicBezTo>
                          <a:pt x="16" y="0"/>
                          <a:pt x="5" y="21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 rot="21396000">
                    <a:off x="2255040" y="3692160"/>
                    <a:ext cx="99000" cy="55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528">
                        <a:moveTo>
                          <a:pt x="214" y="528"/>
                        </a:moveTo>
                        <a:lnTo>
                          <a:pt x="214" y="0"/>
                        </a:lnTo>
                        <a:lnTo>
                          <a:pt x="0" y="2"/>
                        </a:lnTo>
                        <a:lnTo>
                          <a:pt x="0" y="527"/>
                        </a:lnTo>
                        <a:lnTo>
                          <a:pt x="214" y="52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3328920" y="3929400"/>
                  <a:ext cx="143640" cy="298080"/>
                  <a:chOff x="3328920" y="3929400"/>
                  <a:chExt cx="143640" cy="29808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3395160" y="3929400"/>
                    <a:ext cx="16560" cy="298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 rot="21396000">
                    <a:off x="3330000" y="4029840"/>
                    <a:ext cx="14076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04" name=""/>
            <p:cNvGrpSpPr/>
            <p:nvPr/>
          </p:nvGrpSpPr>
          <p:grpSpPr>
            <a:xfrm>
              <a:off x="393120" y="3309120"/>
              <a:ext cx="1131480" cy="1393200"/>
              <a:chOff x="393120" y="3309120"/>
              <a:chExt cx="1131480" cy="139320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707400" y="4254120"/>
                <a:ext cx="214200" cy="438480"/>
                <a:chOff x="707400" y="4254120"/>
                <a:chExt cx="214200" cy="43848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707400" y="4254120"/>
                  <a:ext cx="214200" cy="437760"/>
                  <a:chOff x="707400" y="4254120"/>
                  <a:chExt cx="214200" cy="437760"/>
                </a:xfrm>
              </p:grpSpPr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707400" y="4254120"/>
                    <a:ext cx="214200" cy="437760"/>
                    <a:chOff x="707400" y="4254120"/>
                    <a:chExt cx="214200" cy="437760"/>
                  </a:xfrm>
                </p:grpSpPr>
                <p:grpSp>
                  <p:nvGrpSpPr>
                    <p:cNvPr id="508" name=""/>
                    <p:cNvGrpSpPr/>
                    <p:nvPr/>
                  </p:nvGrpSpPr>
                  <p:grpSpPr>
                    <a:xfrm>
                      <a:off x="707400" y="4254120"/>
                      <a:ext cx="214200" cy="437760"/>
                      <a:chOff x="707400" y="4254120"/>
                      <a:chExt cx="214200" cy="437760"/>
                    </a:xfrm>
                  </p:grpSpPr>
                  <p:sp>
                    <p:nvSpPr>
                      <p:cNvPr id="509" name=""/>
                      <p:cNvSpPr/>
                      <p:nvPr/>
                    </p:nvSpPr>
                    <p:spPr>
                      <a:xfrm flipH="1" rot="21396000">
                        <a:off x="719280" y="4259160"/>
                        <a:ext cx="189360" cy="427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 flipH="1" rot="21396000">
                        <a:off x="719280" y="4259160"/>
                        <a:ext cx="189360" cy="427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26840" y="4291200"/>
                      <a:ext cx="177840" cy="363240"/>
                      <a:chOff x="726840" y="4291200"/>
                      <a:chExt cx="177840" cy="363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 flipH="1" rot="21396000">
                        <a:off x="737280" y="4295520"/>
                        <a:ext cx="156960" cy="354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 flipH="1" rot="21396000">
                        <a:off x="737280" y="4295520"/>
                        <a:ext cx="156960" cy="3546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726840" y="4291200"/>
                    <a:ext cx="177840" cy="363600"/>
                    <a:chOff x="726840" y="4291200"/>
                    <a:chExt cx="177840" cy="36360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flipH="1" rot="21396000">
                      <a:off x="737280" y="4295520"/>
                      <a:ext cx="15696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H="1" rot="21396000">
                      <a:off x="737280" y="4295520"/>
                      <a:ext cx="15696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07400" y="4254120"/>
                  <a:ext cx="214200" cy="438120"/>
                  <a:chOff x="707400" y="4254120"/>
                  <a:chExt cx="214200" cy="438120"/>
                </a:xfrm>
              </p:grpSpPr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707400" y="4254120"/>
                    <a:ext cx="214200" cy="438120"/>
                    <a:chOff x="707400" y="4254120"/>
                    <a:chExt cx="214200" cy="43812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flipH="1" rot="21396000">
                      <a:off x="719280" y="4259160"/>
                      <a:ext cx="189360" cy="4276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 rot="21396000">
                      <a:off x="719280" y="4259160"/>
                      <a:ext cx="189360" cy="4276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726840" y="4291200"/>
                    <a:ext cx="177840" cy="363600"/>
                    <a:chOff x="726840" y="4291200"/>
                    <a:chExt cx="177840" cy="36360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flipH="1" rot="21396000">
                      <a:off x="737280" y="4295520"/>
                      <a:ext cx="156960" cy="354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 rot="21396000">
                      <a:off x="737280" y="4295520"/>
                      <a:ext cx="156960" cy="3549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726840" y="4291920"/>
                  <a:ext cx="178200" cy="361800"/>
                  <a:chOff x="726840" y="4291920"/>
                  <a:chExt cx="178200" cy="3618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707400" y="4254120"/>
                  <a:ext cx="214200" cy="438480"/>
                  <a:chOff x="707400" y="4254120"/>
                  <a:chExt cx="214200" cy="43848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flipH="1" rot="21396000">
                    <a:off x="719280" y="4259160"/>
                    <a:ext cx="189360" cy="428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 rot="21396000">
                    <a:off x="719280" y="4259160"/>
                    <a:ext cx="189360" cy="428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26840" y="4291920"/>
                  <a:ext cx="178200" cy="361800"/>
                  <a:chOff x="726840" y="4291920"/>
                  <a:chExt cx="178200" cy="36180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707400" y="4254120"/>
                  <a:ext cx="214200" cy="438480"/>
                  <a:chOff x="707400" y="4254120"/>
                  <a:chExt cx="214200" cy="4384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flipH="1" rot="21396000">
                    <a:off x="719280" y="4259160"/>
                    <a:ext cx="189360" cy="428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 rot="21396000">
                    <a:off x="719280" y="4259160"/>
                    <a:ext cx="189360" cy="428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726840" y="4291920"/>
                  <a:ext cx="178200" cy="361800"/>
                  <a:chOff x="726840" y="4291920"/>
                  <a:chExt cx="178200" cy="36180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726840" y="4291920"/>
                  <a:ext cx="178200" cy="361800"/>
                  <a:chOff x="726840" y="4291920"/>
                  <a:chExt cx="178200" cy="36180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2" name=""/>
              <p:cNvGrpSpPr/>
              <p:nvPr/>
            </p:nvGrpSpPr>
            <p:grpSpPr>
              <a:xfrm>
                <a:off x="974160" y="4238280"/>
                <a:ext cx="214200" cy="438480"/>
                <a:chOff x="974160" y="4238280"/>
                <a:chExt cx="214200" cy="43848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974160" y="4238280"/>
                  <a:ext cx="214200" cy="437760"/>
                  <a:chOff x="974160" y="4238280"/>
                  <a:chExt cx="214200" cy="437760"/>
                </a:xfrm>
              </p:grpSpPr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974160" y="4238280"/>
                    <a:ext cx="214200" cy="437760"/>
                    <a:chOff x="974160" y="4238280"/>
                    <a:chExt cx="214200" cy="437760"/>
                  </a:xfrm>
                </p:grpSpPr>
                <p:grpSp>
                  <p:nvGrpSpPr>
                    <p:cNvPr id="545" name=""/>
                    <p:cNvGrpSpPr/>
                    <p:nvPr/>
                  </p:nvGrpSpPr>
                  <p:grpSpPr>
                    <a:xfrm>
                      <a:off x="974160" y="4238280"/>
                      <a:ext cx="214200" cy="437760"/>
                      <a:chOff x="974160" y="4238280"/>
                      <a:chExt cx="214200" cy="437760"/>
                    </a:xfrm>
                  </p:grpSpPr>
                  <p:sp>
                    <p:nvSpPr>
                      <p:cNvPr id="546" name=""/>
                      <p:cNvSpPr/>
                      <p:nvPr/>
                    </p:nvSpPr>
                    <p:spPr>
                      <a:xfrm flipH="1" rot="21396000">
                        <a:off x="986040" y="4243320"/>
                        <a:ext cx="189360" cy="427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flipH="1" rot="21396000">
                        <a:off x="986040" y="4243320"/>
                        <a:ext cx="189360" cy="427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8" name=""/>
                    <p:cNvGrpSpPr/>
                    <p:nvPr/>
                  </p:nvGrpSpPr>
                  <p:grpSpPr>
                    <a:xfrm>
                      <a:off x="993600" y="4275360"/>
                      <a:ext cx="177840" cy="363240"/>
                      <a:chOff x="993600" y="4275360"/>
                      <a:chExt cx="177840" cy="363240"/>
                    </a:xfrm>
                  </p:grpSpPr>
                  <p:sp>
                    <p:nvSpPr>
                      <p:cNvPr id="549" name=""/>
                      <p:cNvSpPr/>
                      <p:nvPr/>
                    </p:nvSpPr>
                    <p:spPr>
                      <a:xfrm flipH="1" rot="21396000">
                        <a:off x="1004040" y="4279680"/>
                        <a:ext cx="156960" cy="354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 flipH="1" rot="21396000">
                        <a:off x="1004040" y="4279680"/>
                        <a:ext cx="156960" cy="3546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993600" y="4275360"/>
                    <a:ext cx="177840" cy="363600"/>
                    <a:chOff x="993600" y="4275360"/>
                    <a:chExt cx="177840" cy="3636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21396000">
                      <a:off x="1004040" y="4279680"/>
                      <a:ext cx="15696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21396000">
                      <a:off x="1004040" y="4279680"/>
                      <a:ext cx="15696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974160" y="4238280"/>
                  <a:ext cx="214200" cy="438120"/>
                  <a:chOff x="974160" y="4238280"/>
                  <a:chExt cx="214200" cy="438120"/>
                </a:xfrm>
              </p:grpSpPr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974160" y="4238280"/>
                    <a:ext cx="214200" cy="438120"/>
                    <a:chOff x="974160" y="4238280"/>
                    <a:chExt cx="214200" cy="43812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flipH="1" rot="21396000">
                      <a:off x="986040" y="4243320"/>
                      <a:ext cx="189360" cy="4276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flipH="1" rot="21396000">
                      <a:off x="986040" y="4243320"/>
                      <a:ext cx="189360" cy="4276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993600" y="4275360"/>
                    <a:ext cx="177840" cy="363600"/>
                    <a:chOff x="993600" y="4275360"/>
                    <a:chExt cx="177840" cy="36360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flipH="1" rot="21396000">
                      <a:off x="1004040" y="4279680"/>
                      <a:ext cx="156960" cy="354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flipH="1" rot="21396000">
                      <a:off x="1004040" y="4279680"/>
                      <a:ext cx="156960" cy="3549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993600" y="4276080"/>
                  <a:ext cx="178200" cy="361800"/>
                  <a:chOff x="993600" y="4276080"/>
                  <a:chExt cx="178200" cy="36180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974160" y="4238280"/>
                  <a:ext cx="214200" cy="438480"/>
                  <a:chOff x="974160" y="4238280"/>
                  <a:chExt cx="214200" cy="43848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H="1" rot="21396000">
                    <a:off x="986040" y="4243320"/>
                    <a:ext cx="189360" cy="428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rot="21396000">
                    <a:off x="986040" y="4243320"/>
                    <a:ext cx="189360" cy="428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993600" y="4276080"/>
                  <a:ext cx="178200" cy="361800"/>
                  <a:chOff x="993600" y="4276080"/>
                  <a:chExt cx="178200" cy="3618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974160" y="4238280"/>
                  <a:ext cx="214200" cy="438480"/>
                  <a:chOff x="974160" y="4238280"/>
                  <a:chExt cx="214200" cy="438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flipH="1" rot="21396000">
                    <a:off x="986040" y="4243320"/>
                    <a:ext cx="189360" cy="428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rot="21396000">
                    <a:off x="986040" y="4243320"/>
                    <a:ext cx="189360" cy="428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993600" y="4276080"/>
                  <a:ext cx="178200" cy="361800"/>
                  <a:chOff x="993600" y="4276080"/>
                  <a:chExt cx="178200" cy="36180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993600" y="4276080"/>
                  <a:ext cx="178200" cy="361800"/>
                  <a:chOff x="993600" y="4276080"/>
                  <a:chExt cx="178200" cy="36180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9" name=""/>
              <p:cNvGrpSpPr/>
              <p:nvPr/>
            </p:nvGrpSpPr>
            <p:grpSpPr>
              <a:xfrm>
                <a:off x="415440" y="4064760"/>
                <a:ext cx="151200" cy="316080"/>
                <a:chOff x="415440" y="4064760"/>
                <a:chExt cx="151200" cy="3160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485280" y="4064760"/>
                  <a:ext cx="17280" cy="316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 rot="21396000">
                  <a:off x="416880" y="4170960"/>
                  <a:ext cx="148320" cy="5328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186200" y="4223880"/>
                <a:ext cx="212760" cy="438120"/>
                <a:chOff x="1186200" y="4223880"/>
                <a:chExt cx="212760" cy="438120"/>
              </a:xfrm>
            </p:grpSpPr>
            <p:grpSp>
              <p:nvGrpSpPr>
                <p:cNvPr id="583" name=""/>
                <p:cNvGrpSpPr/>
                <p:nvPr/>
              </p:nvGrpSpPr>
              <p:grpSpPr>
                <a:xfrm>
                  <a:off x="1186200" y="4223880"/>
                  <a:ext cx="212760" cy="437400"/>
                  <a:chOff x="1186200" y="4223880"/>
                  <a:chExt cx="212760" cy="437400"/>
                </a:xfrm>
              </p:grpSpPr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1186200" y="4223880"/>
                    <a:ext cx="212760" cy="437400"/>
                    <a:chOff x="1186200" y="4223880"/>
                    <a:chExt cx="212760" cy="437400"/>
                  </a:xfrm>
                </p:grpSpPr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1186200" y="4223880"/>
                      <a:ext cx="212760" cy="437400"/>
                      <a:chOff x="1186200" y="4223880"/>
                      <a:chExt cx="212760" cy="43740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 flipH="1" rot="21396000">
                        <a:off x="1198440" y="4228920"/>
                        <a:ext cx="187560" cy="4269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 flipH="1" rot="21396000">
                        <a:off x="1198440" y="4228920"/>
                        <a:ext cx="187560" cy="4269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"/>
                    <p:cNvGrpSpPr/>
                    <p:nvPr/>
                  </p:nvGrpSpPr>
                  <p:grpSpPr>
                    <a:xfrm>
                      <a:off x="1204920" y="4260960"/>
                      <a:ext cx="176760" cy="362880"/>
                      <a:chOff x="1204920" y="4260960"/>
                      <a:chExt cx="176760" cy="362880"/>
                    </a:xfrm>
                  </p:grpSpPr>
                  <p:sp>
                    <p:nvSpPr>
                      <p:cNvPr id="589" name=""/>
                      <p:cNvSpPr/>
                      <p:nvPr/>
                    </p:nvSpPr>
                    <p:spPr>
                      <a:xfrm flipH="1" rot="21396000">
                        <a:off x="1215000" y="4265280"/>
                        <a:ext cx="155880" cy="354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 flipH="1" rot="21396000">
                        <a:off x="1215000" y="4265280"/>
                        <a:ext cx="155880" cy="3542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1204920" y="4260960"/>
                    <a:ext cx="176760" cy="363240"/>
                    <a:chOff x="1204920" y="4260960"/>
                    <a:chExt cx="176760" cy="36324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flipH="1" rot="21396000">
                      <a:off x="1215000" y="4265280"/>
                      <a:ext cx="155880" cy="35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flipH="1" rot="21396000">
                      <a:off x="1215000" y="4265280"/>
                      <a:ext cx="155880" cy="35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1186200" y="4223880"/>
                  <a:ext cx="212760" cy="437760"/>
                  <a:chOff x="1186200" y="4223880"/>
                  <a:chExt cx="212760" cy="437760"/>
                </a:xfrm>
              </p:grpSpPr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1186200" y="4223880"/>
                    <a:ext cx="212760" cy="437760"/>
                    <a:chOff x="1186200" y="4223880"/>
                    <a:chExt cx="212760" cy="43776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flipH="1" rot="21396000">
                      <a:off x="1198440" y="4228920"/>
                      <a:ext cx="187560" cy="427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flipH="1" rot="21396000">
                      <a:off x="1198440" y="4228920"/>
                      <a:ext cx="187560" cy="427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1204920" y="4260960"/>
                    <a:ext cx="176760" cy="363240"/>
                    <a:chOff x="1204920" y="4260960"/>
                    <a:chExt cx="176760" cy="36324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H="1" rot="21396000">
                      <a:off x="1215000" y="4265280"/>
                      <a:ext cx="155880" cy="354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flipH="1" rot="21396000">
                      <a:off x="1215000" y="4265280"/>
                      <a:ext cx="155880" cy="3546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1" name=""/>
                <p:cNvGrpSpPr/>
                <p:nvPr/>
              </p:nvGrpSpPr>
              <p:grpSpPr>
                <a:xfrm>
                  <a:off x="1204560" y="4261680"/>
                  <a:ext cx="177120" cy="361440"/>
                  <a:chOff x="1204560" y="4261680"/>
                  <a:chExt cx="177120" cy="36144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" name=""/>
                <p:cNvGrpSpPr/>
                <p:nvPr/>
              </p:nvGrpSpPr>
              <p:grpSpPr>
                <a:xfrm>
                  <a:off x="1186200" y="4223880"/>
                  <a:ext cx="212760" cy="438120"/>
                  <a:chOff x="1186200" y="4223880"/>
                  <a:chExt cx="212760" cy="4381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flipH="1" rot="21396000">
                    <a:off x="1198440" y="4228920"/>
                    <a:ext cx="187560" cy="427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 rot="21396000">
                    <a:off x="1198440" y="4228920"/>
                    <a:ext cx="187560" cy="427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1204560" y="4261680"/>
                  <a:ext cx="177120" cy="361440"/>
                  <a:chOff x="1204560" y="4261680"/>
                  <a:chExt cx="177120" cy="36144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1186200" y="4223880"/>
                  <a:ext cx="212760" cy="438120"/>
                  <a:chOff x="1186200" y="4223880"/>
                  <a:chExt cx="212760" cy="43812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 flipH="1" rot="21396000">
                    <a:off x="1198440" y="4228920"/>
                    <a:ext cx="187560" cy="427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 rot="21396000">
                    <a:off x="1198440" y="4228920"/>
                    <a:ext cx="187560" cy="427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3" name=""/>
                <p:cNvGrpSpPr/>
                <p:nvPr/>
              </p:nvGrpSpPr>
              <p:grpSpPr>
                <a:xfrm>
                  <a:off x="1204560" y="4261680"/>
                  <a:ext cx="177120" cy="361440"/>
                  <a:chOff x="1204560" y="4261680"/>
                  <a:chExt cx="177120" cy="36144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1204560" y="4261680"/>
                  <a:ext cx="177120" cy="361440"/>
                  <a:chOff x="1204560" y="4261680"/>
                  <a:chExt cx="177120" cy="36144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9" name=""/>
              <p:cNvGrpSpPr/>
              <p:nvPr/>
            </p:nvGrpSpPr>
            <p:grpSpPr>
              <a:xfrm>
                <a:off x="507600" y="4264200"/>
                <a:ext cx="214200" cy="438120"/>
                <a:chOff x="507600" y="4264200"/>
                <a:chExt cx="214200" cy="43812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507600" y="4264200"/>
                  <a:ext cx="214200" cy="437400"/>
                  <a:chOff x="507600" y="4264200"/>
                  <a:chExt cx="214200" cy="437400"/>
                </a:xfrm>
              </p:grpSpPr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507600" y="4264200"/>
                    <a:ext cx="214200" cy="437400"/>
                    <a:chOff x="507600" y="4264200"/>
                    <a:chExt cx="214200" cy="437400"/>
                  </a:xfrm>
                </p:grpSpPr>
                <p:grpSp>
                  <p:nvGrpSpPr>
                    <p:cNvPr id="622" name=""/>
                    <p:cNvGrpSpPr/>
                    <p:nvPr/>
                  </p:nvGrpSpPr>
                  <p:grpSpPr>
                    <a:xfrm>
                      <a:off x="507600" y="4264200"/>
                      <a:ext cx="214200" cy="437400"/>
                      <a:chOff x="507600" y="4264200"/>
                      <a:chExt cx="214200" cy="437400"/>
                    </a:xfrm>
                  </p:grpSpPr>
                  <p:sp>
                    <p:nvSpPr>
                      <p:cNvPr id="623" name=""/>
                      <p:cNvSpPr/>
                      <p:nvPr/>
                    </p:nvSpPr>
                    <p:spPr>
                      <a:xfrm flipH="1" rot="21396000">
                        <a:off x="519480" y="4269240"/>
                        <a:ext cx="189360" cy="4269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"/>
                      <p:cNvSpPr/>
                      <p:nvPr/>
                    </p:nvSpPr>
                    <p:spPr>
                      <a:xfrm flipH="1" rot="21396000">
                        <a:off x="519480" y="4269240"/>
                        <a:ext cx="189360" cy="4269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5" name=""/>
                    <p:cNvGrpSpPr/>
                    <p:nvPr/>
                  </p:nvGrpSpPr>
                  <p:grpSpPr>
                    <a:xfrm>
                      <a:off x="527040" y="4301280"/>
                      <a:ext cx="177840" cy="362880"/>
                      <a:chOff x="527040" y="4301280"/>
                      <a:chExt cx="177840" cy="362880"/>
                    </a:xfrm>
                  </p:grpSpPr>
                  <p:sp>
                    <p:nvSpPr>
                      <p:cNvPr id="626" name=""/>
                      <p:cNvSpPr/>
                      <p:nvPr/>
                    </p:nvSpPr>
                    <p:spPr>
                      <a:xfrm flipH="1" rot="21396000">
                        <a:off x="537480" y="4305600"/>
                        <a:ext cx="156960" cy="354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"/>
                      <p:cNvSpPr/>
                      <p:nvPr/>
                    </p:nvSpPr>
                    <p:spPr>
                      <a:xfrm flipH="1" rot="21396000">
                        <a:off x="537480" y="4305600"/>
                        <a:ext cx="156960" cy="3542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527040" y="4301280"/>
                    <a:ext cx="177840" cy="363240"/>
                    <a:chOff x="527040" y="4301280"/>
                    <a:chExt cx="177840" cy="363240"/>
                  </a:xfrm>
                </p:grpSpPr>
                <p:sp>
                  <p:nvSpPr>
                    <p:cNvPr id="629" name=""/>
                    <p:cNvSpPr/>
                    <p:nvPr/>
                  </p:nvSpPr>
                  <p:spPr>
                    <a:xfrm flipH="1" rot="21396000">
                      <a:off x="537480" y="4305600"/>
                      <a:ext cx="156960" cy="35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 flipH="1" rot="21396000">
                      <a:off x="537480" y="4305600"/>
                      <a:ext cx="156960" cy="35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507600" y="4264200"/>
                  <a:ext cx="214200" cy="437760"/>
                  <a:chOff x="507600" y="4264200"/>
                  <a:chExt cx="214200" cy="437760"/>
                </a:xfrm>
              </p:grpSpPr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07600" y="4264200"/>
                    <a:ext cx="214200" cy="437760"/>
                    <a:chOff x="507600" y="4264200"/>
                    <a:chExt cx="214200" cy="43776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21396000">
                      <a:off x="519480" y="4269240"/>
                      <a:ext cx="189360" cy="427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21396000">
                      <a:off x="519480" y="4269240"/>
                      <a:ext cx="189360" cy="427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527040" y="4301280"/>
                    <a:ext cx="177840" cy="363240"/>
                    <a:chOff x="527040" y="4301280"/>
                    <a:chExt cx="177840" cy="36324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21396000">
                      <a:off x="537480" y="4305600"/>
                      <a:ext cx="156960" cy="354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21396000">
                      <a:off x="537480" y="4305600"/>
                      <a:ext cx="156960" cy="3546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527040" y="4302000"/>
                  <a:ext cx="178200" cy="361440"/>
                  <a:chOff x="527040" y="4302000"/>
                  <a:chExt cx="178200" cy="36144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507600" y="4264200"/>
                  <a:ext cx="214200" cy="438120"/>
                  <a:chOff x="507600" y="4264200"/>
                  <a:chExt cx="214200" cy="43812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 flipH="1" rot="21396000">
                    <a:off x="519480" y="4269240"/>
                    <a:ext cx="189360" cy="427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 rot="21396000">
                    <a:off x="519480" y="4269240"/>
                    <a:ext cx="189360" cy="427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527040" y="4302000"/>
                  <a:ext cx="178200" cy="361440"/>
                  <a:chOff x="527040" y="4302000"/>
                  <a:chExt cx="178200" cy="36144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507600" y="4264200"/>
                  <a:ext cx="214200" cy="438120"/>
                  <a:chOff x="507600" y="4264200"/>
                  <a:chExt cx="214200" cy="43812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 flipH="1" rot="21396000">
                    <a:off x="519480" y="4269240"/>
                    <a:ext cx="189360" cy="427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 rot="21396000">
                    <a:off x="519480" y="4269240"/>
                    <a:ext cx="189360" cy="427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527040" y="4302000"/>
                  <a:ext cx="178200" cy="361440"/>
                  <a:chOff x="527040" y="4302000"/>
                  <a:chExt cx="178200" cy="3614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527040" y="4302000"/>
                  <a:ext cx="178200" cy="361440"/>
                  <a:chOff x="527040" y="4302000"/>
                  <a:chExt cx="178200" cy="36144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6" name=""/>
              <p:cNvSpPr/>
              <p:nvPr/>
            </p:nvSpPr>
            <p:spPr>
              <a:xfrm flipH="1" rot="21396000">
                <a:off x="1441080" y="4007880"/>
                <a:ext cx="1800" cy="257040"/>
              </a:xfrm>
              <a:custGeom>
                <a:avLst/>
                <a:gdLst/>
                <a:ahLst/>
                <a:rect l="l" t="t" r="r" b="b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1373400" y="4007880"/>
                <a:ext cx="151200" cy="316080"/>
                <a:chOff x="1373400" y="4007880"/>
                <a:chExt cx="151200" cy="31608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1443240" y="4007880"/>
                  <a:ext cx="17280" cy="316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 rot="21396000">
                  <a:off x="1374840" y="4114080"/>
                  <a:ext cx="148320" cy="5328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"/>
              <p:cNvSpPr/>
              <p:nvPr/>
            </p:nvSpPr>
            <p:spPr>
              <a:xfrm flipH="1" rot="21396000">
                <a:off x="419400" y="3533040"/>
                <a:ext cx="968040" cy="879480"/>
              </a:xfrm>
              <a:custGeom>
                <a:avLst/>
                <a:gdLst/>
                <a:ahLst/>
                <a:rect l="l" t="t" r="r" b="b"/>
                <a:pathLst>
                  <a:path w="2088" h="891">
                    <a:moveTo>
                      <a:pt x="0" y="143"/>
                    </a:moveTo>
                    <a:lnTo>
                      <a:pt x="110" y="0"/>
                    </a:lnTo>
                    <a:lnTo>
                      <a:pt x="1668" y="0"/>
                    </a:lnTo>
                    <a:lnTo>
                      <a:pt x="1875" y="99"/>
                    </a:lnTo>
                    <a:lnTo>
                      <a:pt x="2088" y="513"/>
                    </a:lnTo>
                    <a:lnTo>
                      <a:pt x="2072" y="881"/>
                    </a:lnTo>
                    <a:lnTo>
                      <a:pt x="1771" y="891"/>
                    </a:lnTo>
                    <a:lnTo>
                      <a:pt x="110" y="891"/>
                    </a:lnTo>
                    <a:lnTo>
                      <a:pt x="6" y="792"/>
                    </a:lnTo>
                    <a:lnTo>
                      <a:pt x="8" y="131"/>
                    </a:lnTo>
                  </a:path>
                </a:pathLst>
              </a:cu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rot="21396000">
                <a:off x="1250640" y="3776400"/>
                <a:ext cx="86040" cy="2602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rot="21396000">
                <a:off x="1050120" y="3788280"/>
                <a:ext cx="86040" cy="2602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 rot="21396000">
                <a:off x="623520" y="3813120"/>
                <a:ext cx="107280" cy="3106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1095480" y="3382200"/>
                <a:ext cx="96480" cy="193320"/>
                <a:chOff x="1095480" y="3382200"/>
                <a:chExt cx="96480" cy="193320"/>
              </a:xfrm>
            </p:grpSpPr>
            <p:sp>
              <p:nvSpPr>
                <p:cNvPr id="665" name=""/>
                <p:cNvSpPr/>
                <p:nvPr/>
              </p:nvSpPr>
              <p:spPr>
                <a:xfrm flipH="1" rot="21396000">
                  <a:off x="1096560" y="3384720"/>
                  <a:ext cx="93600" cy="5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 rot="21396000">
                  <a:off x="1124280" y="3384720"/>
                  <a:ext cx="46800" cy="189360"/>
                </a:xfrm>
                <a:custGeom>
                  <a:avLst/>
                  <a:gdLst/>
                  <a:ahLst/>
                  <a:rect l="l" t="t" r="r" b="b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 flipH="1" rot="21396000">
                <a:off x="540000" y="4303440"/>
                <a:ext cx="842760" cy="1080"/>
              </a:xfrm>
              <a:custGeom>
                <a:avLst/>
                <a:gdLst/>
                <a:ahLst/>
                <a:rect l="l" t="t" r="r" b="b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rot="21396000">
                <a:off x="502200" y="3663720"/>
                <a:ext cx="859680" cy="720"/>
              </a:xfrm>
              <a:custGeom>
                <a:avLst/>
                <a:gdLst/>
                <a:ahLst/>
                <a:rect l="l" t="t" r="r" b="b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651600" y="3408480"/>
                <a:ext cx="96480" cy="193320"/>
                <a:chOff x="651600" y="3408480"/>
                <a:chExt cx="96480" cy="193320"/>
              </a:xfrm>
            </p:grpSpPr>
            <p:sp>
              <p:nvSpPr>
                <p:cNvPr id="670" name=""/>
                <p:cNvSpPr/>
                <p:nvPr/>
              </p:nvSpPr>
              <p:spPr>
                <a:xfrm flipH="1" rot="21396000">
                  <a:off x="652680" y="3411000"/>
                  <a:ext cx="93600" cy="5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H="1" rot="21396000">
                  <a:off x="680400" y="3411000"/>
                  <a:ext cx="46800" cy="189360"/>
                </a:xfrm>
                <a:custGeom>
                  <a:avLst/>
                  <a:gdLst/>
                  <a:ahLst/>
                  <a:rect l="l" t="t" r="r" b="b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"/>
              <p:cNvSpPr/>
              <p:nvPr/>
            </p:nvSpPr>
            <p:spPr>
              <a:xfrm flipH="1" rot="21396000">
                <a:off x="1270080" y="4071240"/>
                <a:ext cx="7560" cy="3420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bbe0e3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rot="21396000">
                <a:off x="1248480" y="3696120"/>
                <a:ext cx="104040" cy="586080"/>
              </a:xfrm>
              <a:custGeom>
                <a:avLst/>
                <a:gdLst/>
                <a:ahLst/>
                <a:rect l="l" t="t" r="r" b="b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rot="21396000">
                <a:off x="407520" y="3660480"/>
                <a:ext cx="200160" cy="512640"/>
              </a:xfrm>
              <a:custGeom>
                <a:avLst/>
                <a:gdLst/>
                <a:ahLst/>
                <a:rect l="l" t="t" r="r" b="b"/>
                <a:pathLst>
                  <a:path w="432" h="520">
                    <a:moveTo>
                      <a:pt x="216" y="0"/>
                    </a:moveTo>
                    <a:lnTo>
                      <a:pt x="0" y="136"/>
                    </a:lnTo>
                    <a:lnTo>
                      <a:pt x="64" y="520"/>
                    </a:lnTo>
                    <a:lnTo>
                      <a:pt x="400" y="520"/>
                    </a:lnTo>
                    <a:lnTo>
                      <a:pt x="432" y="42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21396000">
                <a:off x="756720" y="3805200"/>
                <a:ext cx="107280" cy="3106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21396000">
                <a:off x="605520" y="3319560"/>
                <a:ext cx="363240" cy="323640"/>
              </a:xfrm>
              <a:custGeom>
                <a:avLst/>
                <a:gdLst/>
                <a:ahLst/>
                <a:rect l="l" t="t" r="r" b="b"/>
                <a:pathLst>
                  <a:path w="784" h="328">
                    <a:moveTo>
                      <a:pt x="328" y="280"/>
                    </a:moveTo>
                    <a:lnTo>
                      <a:pt x="0" y="0"/>
                    </a:lnTo>
                    <a:lnTo>
                      <a:pt x="784" y="0"/>
                    </a:lnTo>
                    <a:lnTo>
                      <a:pt x="232" y="3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21396000">
                <a:off x="893880" y="3797280"/>
                <a:ext cx="107280" cy="3106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"/>
          <p:cNvSpPr/>
          <p:nvPr/>
        </p:nvSpPr>
        <p:spPr>
          <a:xfrm>
            <a:off x="2340000" y="51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аг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3682800" y="1332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7883640" y="5084640"/>
            <a:ext cx="151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83664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чь. Но если захоч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елкну раз – и день включу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4000" y="429264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верь я горба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нравлюсь ребятам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43280" y="2276640"/>
            <a:ext cx="42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ещет теплая во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ерега из чуг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гадайте, вспомн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за море в комнате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3" descr="http://www.lenagold.ru/fon/clipart/v/verbl/verbl16.jpg"/>
          <p:cNvPicPr/>
          <p:nvPr/>
        </p:nvPicPr>
        <p:blipFill>
          <a:blip r:embed="rId2"/>
          <a:stretch/>
        </p:blipFill>
        <p:spPr>
          <a:xfrm>
            <a:off x="4716360" y="3951360"/>
            <a:ext cx="2735280" cy="24606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250920" y="1700280"/>
            <a:ext cx="2590560" cy="210348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4"/>
          <a:stretch/>
        </p:blipFill>
        <p:spPr>
          <a:xfrm>
            <a:off x="6743880" y="-100080"/>
            <a:ext cx="1788840" cy="23050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4284720" y="155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43280" y="3213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а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195640" y="5373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ерблю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539640" y="104832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робьишка потя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ямился, встрепену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вой кивнул три р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мигнул нам черным глаз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пки в стороны разв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 жердочке пош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улялся и прис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ю песенку зап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к-чирик-чирик-чири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2920" y="187920"/>
            <a:ext cx="26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95280" y="522936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804000" y="476280"/>
            <a:ext cx="15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422928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0:08:35Z</dcterms:created>
  <dc:creator>.</dc:creator>
  <dc:description/>
  <dc:language>en-US</dc:language>
  <cp:lastModifiedBy>.</cp:lastModifiedBy>
  <dcterms:modified xsi:type="dcterms:W3CDTF">2010-11-24T11:39:00Z</dcterms:modified>
  <cp:revision>11</cp:revision>
  <dc:subject/>
  <dc:title>Слайд 1</dc:title>
</cp:coreProperties>
</file>