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9.gif" ContentType="image/gif"/>
  <Override PartName="/ppt/media/image2.png" ContentType="image/png"/>
  <Override PartName="/ppt/media/image4.jpeg" ContentType="image/jpeg"/>
  <Override PartName="/ppt/media/image10.gif" ContentType="image/gif"/>
  <Override PartName="/ppt/media/image6.jpeg" ContentType="image/jpeg"/>
  <Override PartName="/ppt/media/image5.gif" ContentType="image/gif"/>
  <Override PartName="/ppt/media/image8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2.gif" ContentType="image/gif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531-A7B5-429B-A14F-7E6CB929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A1B-C8AB-4D6F-BC5C-D315927C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368-61E7-4D3D-8E70-7E520CC8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086-C045-4CDE-9D58-047B004D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6D5-B40A-4C26-B788-7E1C6A67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A73-13B9-4145-948F-2CD4C6E5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4D5-A03B-40CA-B3C6-E25CD958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55F-B46A-40CC-9CF1-61705E5A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58F-56B1-4D44-9E10-529EB313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1A9-56EE-48CF-A0C0-CD0E3083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C8B-BBE7-4E9E-A5BF-03D8AA4C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E3D-819D-479B-BDC9-15E964BE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E55E-F18F-4924-AEC9-9D8191DEC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user\Мои документы\для презентаций\для презентаций\фоны для школы\63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user\Мои документы\для презентаций\школа\752da394a1a8t.jpg"/>
          <p:cNvPicPr/>
          <p:nvPr/>
        </p:nvPicPr>
        <p:blipFill>
          <a:blip r:embed="rId2"/>
          <a:stretch/>
        </p:blipFill>
        <p:spPr>
          <a:xfrm>
            <a:off x="517680" y="371520"/>
            <a:ext cx="3981240" cy="20541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7" descr=""/>
          <p:cNvPicPr/>
          <p:nvPr/>
        </p:nvPicPr>
        <p:blipFill>
          <a:blip r:embed="rId3"/>
          <a:stretch/>
        </p:blipFill>
        <p:spPr>
          <a:xfrm>
            <a:off x="281160" y="1378080"/>
            <a:ext cx="857088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2"/>
          <p:cNvSpPr/>
          <p:nvPr/>
        </p:nvSpPr>
        <p:spPr>
          <a:xfrm>
            <a:off x="2000160" y="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Задача для самостоятельного ре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000160" y="57168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В семье четверо детей , им 5, 8, 13 и 15 лет. Их зовут Аня, Боря, Вера и Галя. Сколько лет каждому ребёнку, если одна девочка ходит в детский сад, Аня старше Бори и сумма лет Ани и Веры делится на т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1" descr="anim09"/>
          <p:cNvPicPr/>
          <p:nvPr/>
        </p:nvPicPr>
        <p:blipFill>
          <a:blip r:embed="rId2"/>
          <a:stretch/>
        </p:blipFill>
        <p:spPr>
          <a:xfrm>
            <a:off x="571680" y="0"/>
            <a:ext cx="1500120" cy="1419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5"/>
          <p:cNvSpPr/>
          <p:nvPr/>
        </p:nvSpPr>
        <p:spPr>
          <a:xfrm>
            <a:off x="714240" y="20718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1680" y="2571840"/>
          <a:ext cx="8358120" cy="2895480"/>
        </p:xfrm>
        <a:graphic>
          <a:graphicData uri="http://schemas.openxmlformats.org/drawingml/2006/table">
            <a:tbl>
              <a:tblPr/>
              <a:tblGrid>
                <a:gridCol w="1671480"/>
                <a:gridCol w="1671480"/>
                <a:gridCol w="1671840"/>
                <a:gridCol w="1671480"/>
                <a:gridCol w="1671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н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ор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е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а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247" name="TextBox 7"/>
          <p:cNvSpPr/>
          <p:nvPr/>
        </p:nvSpPr>
        <p:spPr>
          <a:xfrm>
            <a:off x="642960" y="57150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ня – 13 лет, Боре – 8 лет, Вере – 5 лет, Гале – 15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6" dur="indefinite" restart="never" nodeType="tmRoot">
          <p:childTnLst>
            <p:seq>
              <p:cTn id="2547" dur="indefinite" nodeType="mainSeq">
                <p:childTnLst>
                  <p:par>
                    <p:cTn id="2548" fill="hold">
                      <p:stCondLst>
                        <p:cond delay="0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1643040" y="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Задача для самостоятельного ре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1857240" y="428760"/>
            <a:ext cx="692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Коля, Боря, Вова и Юра заняли первые четыре места в соревновании, причём никакие два мальчика не делили между собой какие-нибудь места. На вопрос, кто какое место занял, Коля ответил:  «Ни первое, ни четвёртое»; Борис сказал : «Второе», а Вова заметил, что он был не последним. Какое место занял каждый из мальчи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j0434411[1]"/>
          <p:cNvPicPr/>
          <p:nvPr/>
        </p:nvPicPr>
        <p:blipFill>
          <a:blip r:embed="rId2"/>
          <a:stretch/>
        </p:blipFill>
        <p:spPr>
          <a:xfrm>
            <a:off x="214200" y="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642960" y="25002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85880" y="3071880"/>
          <a:ext cx="8215200" cy="221436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Ю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р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то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ре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сл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54" name="TextBox 8"/>
          <p:cNvSpPr/>
          <p:nvPr/>
        </p:nvSpPr>
        <p:spPr>
          <a:xfrm>
            <a:off x="642960" y="571500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ля – третий, Борис – второй, Вова – первый, Юра - послед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1" dur="indefinite" restart="never" nodeType="tmRoot">
          <p:childTnLst>
            <p:seq>
              <p:cTn id="2582" dur="indefinite" nodeType="mainSeq">
                <p:childTnLst>
                  <p:par>
                    <p:cTn id="2583" fill="hold">
                      <p:stCondLst>
                        <p:cond delay="0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>
            <a:off x="1500120" y="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Задача для самостоятельного ре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1928880" y="500040"/>
            <a:ext cx="700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На школьной дискотеке Валентин, Николай, Владимир и Алексей, все из разных классов, танцевали с девочками, но каждый танцевал не со своей одноклассницей. Лена танцевала с Валентином, Аня – с одноклассником Наташи, Николай – с одноклассницей Владимира, а Владимир – с Олей. Кто с кем танцевал, и кто с кем уч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6" descr="KIDS01"/>
          <p:cNvPicPr/>
          <p:nvPr/>
        </p:nvPicPr>
        <p:blipFill>
          <a:blip r:embed="rId2"/>
          <a:stretch/>
        </p:blipFill>
        <p:spPr>
          <a:xfrm>
            <a:off x="142920" y="357120"/>
            <a:ext cx="2030400" cy="1285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571680" y="25002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71680" y="3000240"/>
          <a:ext cx="8572320" cy="152424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  <a:gridCol w="1714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ален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икол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71680" y="4857840"/>
          <a:ext cx="8572320" cy="176832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  <a:gridCol w="1714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днокласс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ален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икол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лекс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т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C:\Documents and Settings\user\Мои документы\для презентаций\для презентаций\фоны для школы\63-3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C:\Documents and Settings\user\Мои документы\для презентаций\Анимация\Рисунок54.gif"/>
          <p:cNvPicPr/>
          <p:nvPr/>
        </p:nvPicPr>
        <p:blipFill>
          <a:blip r:embed="rId2"/>
          <a:stretch/>
        </p:blipFill>
        <p:spPr>
          <a:xfrm>
            <a:off x="0" y="142920"/>
            <a:ext cx="2643120" cy="25700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3" descr=""/>
          <p:cNvPicPr/>
          <p:nvPr/>
        </p:nvPicPr>
        <p:blipFill>
          <a:blip r:embed="rId3"/>
          <a:stretch/>
        </p:blipFill>
        <p:spPr>
          <a:xfrm>
            <a:off x="-573120" y="414360"/>
            <a:ext cx="97236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5" dur="indefinite" restart="never" nodeType="tmRoot">
          <p:childTnLst>
            <p:seq>
              <p:cTn id="2646" dur="indefinite" nodeType="mainSeq">
                <p:childTnLst>
                  <p:par>
                    <p:cTn id="2647" fill="hold">
                      <p:stCondLst>
                        <p:cond delay="0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-23760" y="-14292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571760" y="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user\Мои документы\для презентаций\Анимация\Рисунок53.gif"/>
          <p:cNvPicPr/>
          <p:nvPr/>
        </p:nvPicPr>
        <p:blipFill>
          <a:blip r:embed="rId2"/>
          <a:stretch/>
        </p:blipFill>
        <p:spPr>
          <a:xfrm>
            <a:off x="7808760" y="0"/>
            <a:ext cx="1335240" cy="1714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1714680" y="642960"/>
            <a:ext cx="628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Беседуют трое: Белокуров, Чернов и Рыжов. Брюнет сказал Белокурову: «Любопытно, что один из нас русый, другой – брюнет, а третий – рыжий, но ни у кого цвет волос не соответствует фамилии». Какой цвет волос имеет каждый из беседующ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500040" y="24289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642960" y="292896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ставим таблицу : отметим в ней каждое утверждение знаком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14240" y="3357720"/>
          <a:ext cx="8143920" cy="1785960"/>
        </p:xfrm>
        <a:graphic>
          <a:graphicData uri="http://schemas.openxmlformats.org/drawingml/2006/table">
            <a:tbl>
              <a:tblPr/>
              <a:tblGrid>
                <a:gridCol w="2036880"/>
                <a:gridCol w="2035080"/>
                <a:gridCol w="2036880"/>
                <a:gridCol w="203508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51" name="TextBox 9"/>
          <p:cNvSpPr/>
          <p:nvPr/>
        </p:nvSpPr>
        <p:spPr>
          <a:xfrm>
            <a:off x="3000240" y="34290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елоку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50007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707220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ыж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928800" y="378612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елоку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1000080" y="4286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рю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1000080" y="4714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ыж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357720" y="41432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3357720" y="3714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557208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7500960" y="4572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3357720" y="46432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5572080" y="4572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5572080" y="3714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7500960" y="36432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7500960" y="41432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4"/>
          <p:cNvSpPr/>
          <p:nvPr/>
        </p:nvSpPr>
        <p:spPr>
          <a:xfrm>
            <a:off x="500040" y="557208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елокуров - рыжий, Чернов - белокурый, Рыжов - брю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428920" y="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214720" y="571680"/>
            <a:ext cx="678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Александр, Борис, Виктор и Григорий – друзья. Один из них – врач, другой – журналист, третий – спортсмен, а четвёртый – строитель. Журналист написал статьи об Александре и Григории. Спортсмен и журналист вместе с Борисом ходили в поход. Александр и Борис были на приёме у врача. У кого какая фамил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user\Мои документы\для презентаций\Анимация\Рисунок49.gif"/>
          <p:cNvPicPr/>
          <p:nvPr/>
        </p:nvPicPr>
        <p:blipFill>
          <a:blip r:embed="rId2"/>
          <a:stretch/>
        </p:blipFill>
        <p:spPr>
          <a:xfrm>
            <a:off x="571680" y="142920"/>
            <a:ext cx="1515960" cy="1785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500040" y="24289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0040" y="292896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ставим таблицу : отметим в ней каждое утверждение знаком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Таблица 8" descr=""/>
          <p:cNvPicPr/>
          <p:nvPr/>
        </p:nvPicPr>
        <p:blipFill>
          <a:blip r:embed="rId3"/>
          <a:stretch/>
        </p:blipFill>
        <p:spPr>
          <a:xfrm>
            <a:off x="566640" y="3286080"/>
            <a:ext cx="8510760" cy="2505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2357280" y="34290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421488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о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929200" y="34290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и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735804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риг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714240" y="39290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642960" y="4286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журна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714240" y="48578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портс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714240" y="52149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ро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857680" y="421488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7858080" y="42148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4643280" y="471492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4643280" y="42148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2928960" y="378612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4643280" y="378612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28668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357960" y="371484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357960" y="471492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357960" y="51436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785808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7858080" y="471492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7858080" y="51436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2928960" y="47149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3000240" y="51436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2"/>
          <p:cNvSpPr/>
          <p:nvPr/>
        </p:nvSpPr>
        <p:spPr>
          <a:xfrm>
            <a:off x="4643280" y="51436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3"/>
          <p:cNvSpPr/>
          <p:nvPr/>
        </p:nvSpPr>
        <p:spPr>
          <a:xfrm>
            <a:off x="285840" y="578628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лександр - спортсмен, Борис - строитель, Виктор – журналист, Григорий – журнал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1500120" y="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643040" y="428760"/>
            <a:ext cx="7500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В кругу сидят Иванов, Петров, Марков и Карпов. Их имена: Андрей, Сергей, Тимофей и Алексей. Известно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Иванов не Алексей и не Андр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Сергей сидит между Марковым и Тимофе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Карпов не Сергей и не Алекс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Петров сидит между Карповым и Андре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Назовите имя и фамилию кажд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71680" y="24289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642960" y="292896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ставим таблицу : отметим в ней каждое утверждение знаком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14240" y="3357720"/>
          <a:ext cx="8143920" cy="2643120"/>
        </p:xfrm>
        <a:graphic>
          <a:graphicData uri="http://schemas.openxmlformats.org/drawingml/2006/table">
            <a:tbl>
              <a:tblPr/>
              <a:tblGrid>
                <a:gridCol w="1629000"/>
                <a:gridCol w="1628640"/>
                <a:gridCol w="1629000"/>
                <a:gridCol w="1628640"/>
                <a:gridCol w="16286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9"/>
          <p:cNvSpPr/>
          <p:nvPr/>
        </p:nvSpPr>
        <p:spPr>
          <a:xfrm>
            <a:off x="24289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4143240" y="34290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ерг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643720" y="3429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имоф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7429680" y="342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лек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928800" y="39290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в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928800" y="45007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857160" y="50007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р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928800" y="55008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ар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785808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278604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9"/>
          <p:cNvSpPr/>
          <p:nvPr/>
        </p:nvSpPr>
        <p:spPr>
          <a:xfrm>
            <a:off x="4572000" y="4857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0"/>
          <p:cNvSpPr/>
          <p:nvPr/>
        </p:nvSpPr>
        <p:spPr>
          <a:xfrm>
            <a:off x="6215040" y="4857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278604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2"/>
          <p:cNvSpPr/>
          <p:nvPr/>
        </p:nvSpPr>
        <p:spPr>
          <a:xfrm>
            <a:off x="4500720" y="5500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7929720" y="5500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2857680" y="542916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5"/>
          <p:cNvSpPr/>
          <p:nvPr/>
        </p:nvSpPr>
        <p:spPr>
          <a:xfrm>
            <a:off x="2786040" y="4857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7858080" y="4857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7"/>
          <p:cNvSpPr/>
          <p:nvPr/>
        </p:nvSpPr>
        <p:spPr>
          <a:xfrm>
            <a:off x="6215040" y="5500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7858080" y="4357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457200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4643280" y="428616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1"/>
          <p:cNvSpPr/>
          <p:nvPr/>
        </p:nvSpPr>
        <p:spPr>
          <a:xfrm>
            <a:off x="6357960" y="42148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2"/>
          <p:cNvSpPr/>
          <p:nvPr/>
        </p:nvSpPr>
        <p:spPr>
          <a:xfrm>
            <a:off x="628668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3"/>
          <p:cNvSpPr/>
          <p:nvPr/>
        </p:nvSpPr>
        <p:spPr>
          <a:xfrm>
            <a:off x="642960" y="611964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ндрей Марков, Сергей Иванов, Тимофей Карпов, Алексей П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0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1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3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4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5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7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500120" y="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1714680" y="42876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На улице, став в кружок, беседуют четыре девочки: Ася, Катя, Галя и Нина. Девочка в зелёном платье(не Ася и не Катя) стоит между девочкой в голубом платье и Ниной. Девочка в белом платье стоит между девочкой в розовом платье и Катей. Какого цвета платье было надето на каждой из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42960" y="22147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71680" y="26431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ставим таблицу : отметим в ней каждое утверждение знаком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00040" y="3143160"/>
          <a:ext cx="8429760" cy="31752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6240"/>
                <a:gridCol w="16858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а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елёное плат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лубое плат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елое плат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зовое плат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7"/>
          <p:cNvSpPr/>
          <p:nvPr/>
        </p:nvSpPr>
        <p:spPr>
          <a:xfrm>
            <a:off x="2786040" y="3714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4429080" y="37148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792972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7929720" y="4429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6286680" y="37861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4500720" y="5000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4500720" y="56437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4500720" y="4429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6357960" y="4429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6"/>
          <p:cNvSpPr/>
          <p:nvPr/>
        </p:nvSpPr>
        <p:spPr>
          <a:xfrm>
            <a:off x="6357960" y="5072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7"/>
          <p:cNvSpPr/>
          <p:nvPr/>
        </p:nvSpPr>
        <p:spPr>
          <a:xfrm>
            <a:off x="6357960" y="5715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2571840" y="44290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2643120" y="5072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2"/>
          <p:cNvSpPr/>
          <p:nvPr/>
        </p:nvSpPr>
        <p:spPr>
          <a:xfrm>
            <a:off x="8001000" y="514368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3"/>
          <p:cNvSpPr/>
          <p:nvPr/>
        </p:nvSpPr>
        <p:spPr>
          <a:xfrm>
            <a:off x="2786040" y="5715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4"/>
          <p:cNvSpPr/>
          <p:nvPr/>
        </p:nvSpPr>
        <p:spPr>
          <a:xfrm>
            <a:off x="8001000" y="5715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5"/>
          <p:cNvSpPr/>
          <p:nvPr/>
        </p:nvSpPr>
        <p:spPr>
          <a:xfrm>
            <a:off x="428760" y="611964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аля – в зелёном, Катя – в голубом, Ася – в белом, Нина – в розо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1500120" y="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643040" y="42876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Учащиеся школы решили организовать инструментальный ансамбль. Михаил играет на саксофоне. Пианист учится в 9 классе. Ударника зовут не Валерием, а ученика 10 класса зовут не Леонидом. Михаил учится не в 11 классе. Андрей – не пианист и не ученик 8 класса. Валерий учится не в 9 классе, ударник  - не в 11. Леонид играет не на контрабасе. На каком инструменте играет Валерий и в каком классе он уч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642960" y="2714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571680" y="307188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ставим таблицу : отметим в ней каждое утверждение знаком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00040" y="3571920"/>
          <a:ext cx="8643960" cy="221436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9080"/>
                <a:gridCol w="1728720"/>
                <a:gridCol w="172872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Миха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ал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Леон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нд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7"/>
          <p:cNvSpPr/>
          <p:nvPr/>
        </p:nvSpPr>
        <p:spPr>
          <a:xfrm>
            <a:off x="571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акс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642960" y="4500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иан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642960" y="49291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71680" y="54291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нтраб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4500720" y="3929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2786040" y="39290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 flipH="1">
            <a:off x="6285960" y="392904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7929720" y="385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2857680" y="4357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2857680" y="47862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857680" y="5214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4500720" y="47149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7929720" y="4357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 flipH="1">
            <a:off x="6215040" y="435780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1"/>
          <p:cNvSpPr/>
          <p:nvPr/>
        </p:nvSpPr>
        <p:spPr>
          <a:xfrm>
            <a:off x="6286680" y="47862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6286680" y="5214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3"/>
          <p:cNvSpPr/>
          <p:nvPr/>
        </p:nvSpPr>
        <p:spPr>
          <a:xfrm>
            <a:off x="450072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4"/>
          <p:cNvSpPr/>
          <p:nvPr/>
        </p:nvSpPr>
        <p:spPr>
          <a:xfrm flipH="1">
            <a:off x="4500720" y="514368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5"/>
          <p:cNvSpPr/>
          <p:nvPr/>
        </p:nvSpPr>
        <p:spPr>
          <a:xfrm>
            <a:off x="8001000" y="52862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7929720" y="478620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571680" y="60008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алерий играет на контрабасе. Для того, чтобы определить в каком он классе составим ещё одну табл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0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785880" y="2071800"/>
          <a:ext cx="7715160" cy="3828960"/>
        </p:xfrm>
        <a:graphic>
          <a:graphicData uri="http://schemas.openxmlformats.org/drawingml/2006/table">
            <a:tbl>
              <a:tblPr/>
              <a:tblGrid>
                <a:gridCol w="4000320"/>
                <a:gridCol w="857520"/>
                <a:gridCol w="928440"/>
                <a:gridCol w="928800"/>
                <a:gridCol w="10000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хаил- играет на саксофо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алерий - играет на контраба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дрей – играет на удар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онид – играет на пиани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1500120" y="14292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Пианист учится в 9 классе.  Ученика 10 класса зовут не Леонидом. Михаил учится не в 11 классе. Андрей –не ученик 8 класса. Валерий учится не в 9 классе, ударник  - не в 11. В каком классе учится Валер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 flipH="1">
            <a:off x="5857920" y="52149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 flipH="1">
            <a:off x="4928400" y="51436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6786720" y="52149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7858080" y="52862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7715160" y="2714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5072040" y="43578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5929200" y="342900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771516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 flipH="1">
            <a:off x="7715160" y="342900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7"/>
          <p:cNvSpPr/>
          <p:nvPr/>
        </p:nvSpPr>
        <p:spPr>
          <a:xfrm>
            <a:off x="428760" y="600084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алерий играет на контрабасе и учится в 11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0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1785960" y="642960"/>
            <a:ext cx="721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В одном дворе живут четыре друга. Вадим и шофёр старше Сергея; Николай и слесарь занимаются боксом; электрик – младший из друзей; по вечерам Антон и токарь играют в домино против Сергея и электрика. Определите профессию каждого из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714240" y="221472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71680" y="2786040"/>
          <a:ext cx="8429400" cy="31035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ад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г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икол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Шоф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лес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ок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Box 8"/>
          <p:cNvSpPr/>
          <p:nvPr/>
        </p:nvSpPr>
        <p:spPr>
          <a:xfrm>
            <a:off x="428760" y="600084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адим – токарь, Сергей – слесарь, Николай – электрик, Антон - шофё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1692360" y="1890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32523"/>
                </a:solidFill>
                <a:latin typeface="Century Schoolbook"/>
              </a:rPr>
              <a:t>Задача №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2987640" y="3284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 flipH="1">
            <a:off x="7885080" y="335772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4716360" y="3284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6372360" y="33577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6372360" y="4581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5"/>
          <p:cNvSpPr/>
          <p:nvPr/>
        </p:nvSpPr>
        <p:spPr>
          <a:xfrm>
            <a:off x="4716360" y="5229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8028000" y="5229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8028000" y="4581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8"/>
          <p:cNvSpPr/>
          <p:nvPr/>
        </p:nvSpPr>
        <p:spPr>
          <a:xfrm>
            <a:off x="2987640" y="5229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6372360" y="39337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0"/>
          <p:cNvSpPr/>
          <p:nvPr/>
        </p:nvSpPr>
        <p:spPr>
          <a:xfrm flipH="1">
            <a:off x="4642560" y="3933720"/>
            <a:ext cx="4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1"/>
          <p:cNvSpPr/>
          <p:nvPr/>
        </p:nvSpPr>
        <p:spPr>
          <a:xfrm flipH="1">
            <a:off x="2987640" y="45813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2"/>
          <p:cNvSpPr/>
          <p:nvPr/>
        </p:nvSpPr>
        <p:spPr>
          <a:xfrm flipH="1">
            <a:off x="6300720" y="52293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3"/>
          <p:cNvSpPr/>
          <p:nvPr/>
        </p:nvSpPr>
        <p:spPr>
          <a:xfrm>
            <a:off x="2987640" y="39337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4"/>
          <p:cNvSpPr/>
          <p:nvPr/>
        </p:nvSpPr>
        <p:spPr>
          <a:xfrm>
            <a:off x="8028000" y="39337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5"/>
          <p:cNvSpPr/>
          <p:nvPr/>
        </p:nvSpPr>
        <p:spPr>
          <a:xfrm>
            <a:off x="4716360" y="4581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4" dur="indefinite" restart="never" nodeType="tmRoot">
          <p:childTnLst>
            <p:seq>
              <p:cTn id="1865" dur="indefinite" nodeType="mainSeq">
                <p:childTnLst>
                  <p:par>
                    <p:cTn id="1866" fill="hold">
                      <p:stCondLst>
                        <p:cond delay="0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user\Мои документы\для презентаций\для презентаций\фоны для школы\93-4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1500120" y="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Задача для самостоятельного ре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1571760" y="500040"/>
            <a:ext cx="61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Клоуны Бим, Бам и Бом вышли на арену в красной, синей и зелёной рубашках(все в разных). Их туфли были тех же цветов (у каждого клоуна свой). Туфли и рубашка Бима были одного цвета. На Боме не было ничего красного. Туфли Бама были зелёные, а рубашка нет. Каких цветов были туфли и рубашка у Бома и Би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ap3"/>
          <p:cNvPicPr/>
          <p:nvPr/>
        </p:nvPicPr>
        <p:blipFill>
          <a:blip r:embed="rId2"/>
          <a:stretch/>
        </p:blipFill>
        <p:spPr>
          <a:xfrm>
            <a:off x="6643800" y="285840"/>
            <a:ext cx="2500200" cy="17478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571680" y="27860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00040" y="4857840"/>
          <a:ext cx="8429760" cy="1547640"/>
        </p:xfrm>
        <a:graphic>
          <a:graphicData uri="http://schemas.openxmlformats.org/drawingml/2006/table">
            <a:tbl>
              <a:tblPr/>
              <a:tblGrid>
                <a:gridCol w="2108160"/>
                <a:gridCol w="2106720"/>
                <a:gridCol w="2108160"/>
                <a:gridCol w="210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уба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00040" y="3214800"/>
          <a:ext cx="8429760" cy="1547640"/>
        </p:xfrm>
        <a:graphic>
          <a:graphicData uri="http://schemas.openxmlformats.org/drawingml/2006/table">
            <a:tbl>
              <a:tblPr/>
              <a:tblGrid>
                <a:gridCol w="2108160"/>
                <a:gridCol w="2106720"/>
                <a:gridCol w="2108160"/>
                <a:gridCol w="210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туф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22" name="TextBox 8"/>
          <p:cNvSpPr/>
          <p:nvPr/>
        </p:nvSpPr>
        <p:spPr>
          <a:xfrm>
            <a:off x="357120" y="6119640"/>
            <a:ext cx="850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entury Schoolbook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Бом – в синих туфлях и зелёной рубашке, Бим – во всём крас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7667640" y="3429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 flipH="1">
            <a:off x="5580000" y="422100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7740720" y="5013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5651640" y="3860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5651640" y="3429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 flipH="1">
            <a:off x="3419640" y="342900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5651640" y="58053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3492360" y="378936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3492360" y="422100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8"/>
          <p:cNvSpPr/>
          <p:nvPr/>
        </p:nvSpPr>
        <p:spPr>
          <a:xfrm>
            <a:off x="7667640" y="4292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9"/>
          <p:cNvSpPr/>
          <p:nvPr/>
        </p:nvSpPr>
        <p:spPr>
          <a:xfrm flipH="1">
            <a:off x="7667640" y="386064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0"/>
          <p:cNvSpPr/>
          <p:nvPr/>
        </p:nvSpPr>
        <p:spPr>
          <a:xfrm flipH="1">
            <a:off x="3419640" y="50133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1"/>
          <p:cNvSpPr/>
          <p:nvPr/>
        </p:nvSpPr>
        <p:spPr>
          <a:xfrm>
            <a:off x="5580000" y="5084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3419640" y="5445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3492360" y="580536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4"/>
          <p:cNvSpPr/>
          <p:nvPr/>
        </p:nvSpPr>
        <p:spPr>
          <a:xfrm flipH="1">
            <a:off x="7667640" y="58053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5"/>
          <p:cNvSpPr/>
          <p:nvPr/>
        </p:nvSpPr>
        <p:spPr>
          <a:xfrm flipH="1">
            <a:off x="5580000" y="551664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6"/>
          <p:cNvSpPr/>
          <p:nvPr/>
        </p:nvSpPr>
        <p:spPr>
          <a:xfrm>
            <a:off x="7812000" y="551664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0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9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0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2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3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4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6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3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4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6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7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8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0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10:12:19Z</dcterms:created>
  <dc:creator>user</dc:creator>
  <dc:description/>
  <dc:language>en-US</dc:language>
  <cp:lastModifiedBy>111</cp:lastModifiedBy>
  <dcterms:modified xsi:type="dcterms:W3CDTF">2019-10-08T19:42:26Z</dcterms:modified>
  <cp:revision>28</cp:revision>
  <dc:subject/>
  <dc:title>Слайд 1</dc:title>
</cp:coreProperties>
</file>