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17473F-CA5D-4837-B80C-94076CA77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10615D-99B5-4EE7-BFCA-F5AA8F55ED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4311-9123-4B7A-94DA-76E35C920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5FF7-3535-4699-BDE5-184568D3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17EE-06B2-40BF-B478-EB9B1CCBB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EFD2-EE3B-4837-9622-276FF047B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C31C-5050-44A0-B279-71F02A7AA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7A92-ECDA-4ED2-ADCC-8736BC69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1485-698F-4C75-B0F0-A8CDB42A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CA15-4FA7-4E42-8017-D9AF5855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0351-70AD-4D88-B45D-B5F2073F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71D4-6407-4F06-8BA1-05A52F6A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DE4B-E1A2-4A6F-8121-4B8A0C71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F950-AC83-43B9-A5FE-3E025ABC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8427-99CF-4930-803D-9869812C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A1F6-1F5A-45E0-94B1-FAB694BE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B564-A654-4554-B611-9E1F9CE9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2EE2-A1EE-4B06-B504-D73CA5A44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5055-CF84-4BA3-9984-65B1E398A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A6E9-A0C2-431E-95E4-EC777CBE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220D-6B64-4C76-9A5B-00A08511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23CF-D5E6-482E-BA4E-786E60F5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5496-2152-4724-AF71-5674E2B4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1F80-9FBE-4E26-A607-FAED7538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67B7-51CE-4193-9FBD-13979A2C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B2D5-A788-44D7-8A1C-00EB4B53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4B2692-B1EC-4D5A-A134-B3247D861A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BE50AE-CB60-4154-B5B5-D98B89DD6D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D:\SHKOLA\UCHEBA\SCHKOLA\PowerPoint\шаблоны\My_Sbornik_fon_1\57.jpg"/>
          <p:cNvPicPr/>
          <p:nvPr/>
        </p:nvPicPr>
        <p:blipFill>
          <a:blip r:embed="rId1"/>
          <a:stretch/>
        </p:blipFill>
        <p:spPr>
          <a:xfrm>
            <a:off x="0" y="-25560"/>
            <a:ext cx="9143640" cy="6856200"/>
          </a:xfrm>
          <a:prstGeom prst="rect">
            <a:avLst/>
          </a:prstGeom>
          <a:ln w="9525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7280" y="549360"/>
            <a:ext cx="8029080" cy="4103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50000"/>
              </a:lnSpc>
              <a:buNone/>
            </a:pPr>
            <a:r>
              <a:rPr b="1" lang="ru-RU" sz="6000" spc="-1" strike="noStrike">
                <a:solidFill>
                  <a:srgbClr val="006666"/>
                </a:solidFill>
                <a:latin typeface="Arial"/>
              </a:rPr>
              <a:t>Решение</a:t>
            </a:r>
            <a:br>
              <a:rPr sz="6000"/>
            </a:br>
            <a:r>
              <a:rPr b="1" lang="ru-RU" sz="6000" spc="-1" strike="noStrike">
                <a:solidFill>
                  <a:srgbClr val="006666"/>
                </a:solidFill>
                <a:latin typeface="Arial"/>
              </a:rPr>
              <a:t>логических задач</a:t>
            </a:r>
            <a:br>
              <a:rPr sz="6000"/>
            </a:br>
            <a:endParaRPr b="0" lang="ru-RU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-1440" y="0"/>
            <a:ext cx="9134280" cy="6857640"/>
          </a:xfrm>
          <a:prstGeom prst="rect">
            <a:avLst/>
          </a:prstGeom>
          <a:ln w="9525">
            <a:noFill/>
          </a:ln>
        </p:spPr>
      </p:pic>
      <p:sp>
        <p:nvSpPr>
          <p:cNvPr id="115" name="Прямоугольник 1"/>
          <p:cNvSpPr/>
          <p:nvPr/>
        </p:nvSpPr>
        <p:spPr>
          <a:xfrm>
            <a:off x="324000" y="189000"/>
            <a:ext cx="8569080" cy="2755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2999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бутылке, стакане, кувшине и банке находятся молоко, лимонад, квас и вода.  Известно, ч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да и молоко не в бутыл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суд с лимонадом стоит между кувшином и сосудом с квас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банке не лимонад и не во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кан стоит около банки и сосуда с молоком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уда налита каждая жидкос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Таблица 2"/>
          <p:cNvGraphicFramePr/>
          <p:nvPr/>
        </p:nvGraphicFramePr>
        <p:xfrm>
          <a:off x="395280" y="2973240"/>
          <a:ext cx="8280720" cy="3438360"/>
        </p:xfrm>
        <a:graphic>
          <a:graphicData uri="http://schemas.openxmlformats.org/drawingml/2006/table">
            <a:tbl>
              <a:tblPr/>
              <a:tblGrid>
                <a:gridCol w="1656000"/>
                <a:gridCol w="1728000"/>
                <a:gridCol w="1584000"/>
                <a:gridCol w="1717560"/>
                <a:gridCol w="1594440"/>
              </a:tblGrid>
              <a:tr h="504000">
                <a:tc rowSpan="2">
                  <a:txBody>
                    <a:bodyPr lIns="25200" rIns="25200" tIns="0" bIns="0" anchor="t">
                      <a:noAutofit/>
                    </a:bodyPr>
                    <a:p>
                      <a:pPr marL="48240">
                        <a:lnSpc>
                          <a:spcPct val="115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8240">
                        <a:lnSpc>
                          <a:spcPct val="115000"/>
                        </a:lnSpc>
                      </a:pPr>
                      <a:r>
                        <a:rPr b="1" lang="ru-RU" sz="2000" spc="9" strike="noStrike">
                          <a:solidFill>
                            <a:schemeClr val="dk1"/>
                          </a:solidFill>
                          <a:latin typeface="Arial"/>
                        </a:rPr>
                        <a:t>Жидк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 gridSpan="4">
                  <a:txBody>
                    <a:bodyPr lIns="25200" rIns="25200" tIns="0" bIns="0" anchor="t">
                      <a:noAutofit/>
                    </a:bodyPr>
                    <a:p>
                      <a:pPr marL="1063080">
                        <a:lnSpc>
                          <a:spcPct val="115000"/>
                        </a:lnSpc>
                      </a:pPr>
                      <a:r>
                        <a:rPr b="1" lang="ru-RU" sz="2000" spc="-46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              </a:t>
                      </a:r>
                      <a:r>
                        <a:rPr b="1" lang="ru-RU" sz="2000" spc="-46" strike="noStrike">
                          <a:solidFill>
                            <a:schemeClr val="dk1"/>
                          </a:solidFill>
                          <a:latin typeface="Arial"/>
                        </a:rPr>
                        <a:t>Сос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marL="9000" algn="ctr">
                        <a:lnSpc>
                          <a:spcPct val="115000"/>
                        </a:lnSpc>
                      </a:pPr>
                      <a:r>
                        <a:rPr b="1" lang="ru-RU" sz="2000" spc="4" strike="noStrike">
                          <a:solidFill>
                            <a:srgbClr val="ff0000"/>
                          </a:solidFill>
                          <a:latin typeface="Arial"/>
                        </a:rPr>
                        <a:t>Бутыл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marL="57240" algn="ctr">
                        <a:lnSpc>
                          <a:spcPct val="115000"/>
                        </a:lnSpc>
                      </a:pPr>
                      <a:r>
                        <a:rPr b="1" lang="ru-RU" sz="2000" spc="-12" strike="noStrike">
                          <a:solidFill>
                            <a:srgbClr val="ff0000"/>
                          </a:solidFill>
                          <a:latin typeface="Arial"/>
                        </a:rPr>
                        <a:t>Стак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marL="31680" algn="ctr">
                        <a:lnSpc>
                          <a:spcPct val="115000"/>
                        </a:lnSpc>
                      </a:pPr>
                      <a:r>
                        <a:rPr b="1" lang="ru-RU" sz="2000" spc="-21" strike="noStrike">
                          <a:solidFill>
                            <a:srgbClr val="ff0000"/>
                          </a:solidFill>
                          <a:latin typeface="Arial"/>
                        </a:rPr>
                        <a:t>Кувш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marL="87120" algn="ctr">
                        <a:lnSpc>
                          <a:spcPct val="115000"/>
                        </a:lnSpc>
                      </a:pPr>
                      <a:r>
                        <a:rPr b="1" lang="ru-RU" sz="2000" spc="9" strike="noStrike">
                          <a:solidFill>
                            <a:srgbClr val="ff0000"/>
                          </a:solidFill>
                          <a:latin typeface="Arial"/>
                        </a:rPr>
                        <a:t>Бан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91480">
                <a:tc>
                  <a:txBody>
                    <a:bodyPr lIns="25200" rIns="25200" tIns="0" bIns="0" anchor="t">
                      <a:noAutofit/>
                    </a:bodyPr>
                    <a:p>
                      <a:pPr marL="38880">
                        <a:lnSpc>
                          <a:spcPct val="115000"/>
                        </a:lnSpc>
                      </a:pPr>
                      <a:r>
                        <a:rPr b="1" lang="ru-RU" sz="2400" spc="-41" strike="noStrike">
                          <a:solidFill>
                            <a:srgbClr val="006666"/>
                          </a:solidFill>
                          <a:latin typeface="Arial"/>
                        </a:rPr>
                        <a:t>Молок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91480">
                <a:tc>
                  <a:txBody>
                    <a:bodyPr lIns="25200" rIns="25200" tIns="0" bIns="0" anchor="t">
                      <a:noAutofit/>
                    </a:bodyPr>
                    <a:p>
                      <a:pPr marL="38880">
                        <a:lnSpc>
                          <a:spcPct val="115000"/>
                        </a:lnSpc>
                      </a:pPr>
                      <a:r>
                        <a:rPr b="1" lang="ru-RU" sz="2400" spc="-32" strike="noStrike">
                          <a:solidFill>
                            <a:srgbClr val="006666"/>
                          </a:solidFill>
                          <a:latin typeface="Arial"/>
                        </a:rPr>
                        <a:t>Ква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91480">
                <a:tc>
                  <a:txBody>
                    <a:bodyPr lIns="25200" rIns="25200" tIns="0" bIns="0" anchor="t">
                      <a:noAutofit/>
                    </a:bodyPr>
                    <a:p>
                      <a:pPr marL="38880">
                        <a:lnSpc>
                          <a:spcPct val="115000"/>
                        </a:lnSpc>
                      </a:pPr>
                      <a:r>
                        <a:rPr b="1" lang="ru-RU" sz="2400" spc="-21" strike="noStrike">
                          <a:solidFill>
                            <a:srgbClr val="006666"/>
                          </a:solidFill>
                          <a:latin typeface="Arial"/>
                        </a:rPr>
                        <a:t>Лимона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04000">
                <a:tc>
                  <a:txBody>
                    <a:bodyPr lIns="25200" rIns="25200" tIns="0" bIns="0" anchor="t">
                      <a:noAutofit/>
                    </a:bodyPr>
                    <a:p>
                      <a:pPr marL="41400">
                        <a:lnSpc>
                          <a:spcPct val="115000"/>
                        </a:lnSpc>
                      </a:pPr>
                      <a:r>
                        <a:rPr b="1" lang="ru-RU" sz="2400" spc="-41" strike="noStrike">
                          <a:solidFill>
                            <a:srgbClr val="006666"/>
                          </a:solidFill>
                          <a:latin typeface="Arial"/>
                        </a:rPr>
                        <a:t>В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0" y="-100080"/>
            <a:ext cx="9134280" cy="6857640"/>
          </a:xfrm>
          <a:prstGeom prst="rect">
            <a:avLst/>
          </a:prstGeom>
          <a:ln w="9525">
            <a:noFill/>
          </a:ln>
        </p:spPr>
      </p:pic>
      <p:sp>
        <p:nvSpPr>
          <p:cNvPr id="118" name="Прямоугольник 1"/>
          <p:cNvSpPr/>
          <p:nvPr/>
        </p:nvSpPr>
        <p:spPr>
          <a:xfrm>
            <a:off x="318960" y="115920"/>
            <a:ext cx="8496000" cy="2400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2599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ня, Петя, Саша и Коля носят фамилии, начинающие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букв В, П, С, и К. Известно, 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Ваня и  С. - отличн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Петя и  В. - троечн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) Коля и  В. ростом ниже П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) Саша и  Петя имеют одинаковый ро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какой буквы начинается фамилия каждого мальч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Таблица 2"/>
          <p:cNvGraphicFramePr/>
          <p:nvPr/>
        </p:nvGraphicFramePr>
        <p:xfrm>
          <a:off x="517680" y="2639880"/>
          <a:ext cx="8298720" cy="3600000"/>
        </p:xfrm>
        <a:graphic>
          <a:graphicData uri="http://schemas.openxmlformats.org/drawingml/2006/table">
            <a:tbl>
              <a:tblPr/>
              <a:tblGrid>
                <a:gridCol w="2014920"/>
                <a:gridCol w="1463760"/>
                <a:gridCol w="1584000"/>
                <a:gridCol w="1512000"/>
                <a:gridCol w="1723320"/>
              </a:tblGrid>
              <a:tr h="72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ет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а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о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72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Фамилия на 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72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Фамилия на 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72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Фамилия на 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72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Фамилия на 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4680" y="0"/>
            <a:ext cx="9134280" cy="6857640"/>
          </a:xfrm>
          <a:prstGeom prst="rect">
            <a:avLst/>
          </a:prstGeom>
          <a:ln w="9525">
            <a:noFill/>
          </a:ln>
        </p:spPr>
      </p:pic>
      <p:sp>
        <p:nvSpPr>
          <p:cNvPr id="121" name="Прямоугольник 1"/>
          <p:cNvSpPr/>
          <p:nvPr/>
        </p:nvSpPr>
        <p:spPr>
          <a:xfrm>
            <a:off x="395280" y="189000"/>
            <a:ext cx="842436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32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ионерский лагерь приехали три друга: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иша, Володя и  Пет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Известно, что каждый из них имеет одну из фамили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ванов, Семенов, Герасим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ша не Герасимов,  отец  Володи  инжене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лодя  учится в 6 классе.  Герасимов учится в 5 класс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ец Иванова слесарь.  Назовите фамилии мальч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Таблица 2"/>
          <p:cNvGraphicFramePr/>
          <p:nvPr/>
        </p:nvGraphicFramePr>
        <p:xfrm>
          <a:off x="395280" y="2852640"/>
          <a:ext cx="8424720" cy="3528000"/>
        </p:xfrm>
        <a:graphic>
          <a:graphicData uri="http://schemas.openxmlformats.org/drawingml/2006/table">
            <a:tbl>
              <a:tblPr/>
              <a:tblGrid>
                <a:gridCol w="2160000"/>
                <a:gridCol w="1991880"/>
                <a:gridCol w="2234520"/>
                <a:gridCol w="2037600"/>
              </a:tblGrid>
              <a:tr h="59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и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олод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ет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933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Иван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943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емен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1059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ерасим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4680" y="0"/>
            <a:ext cx="913428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-100080"/>
            <a:ext cx="9134280" cy="6857640"/>
          </a:xfrm>
          <a:prstGeom prst="rect">
            <a:avLst/>
          </a:prstGeom>
          <a:ln w="9525">
            <a:noFill/>
          </a:ln>
        </p:spPr>
      </p:pic>
      <p:sp>
        <p:nvSpPr>
          <p:cNvPr id="91" name="Прямоугольник 1"/>
          <p:cNvSpPr/>
          <p:nvPr/>
        </p:nvSpPr>
        <p:spPr>
          <a:xfrm>
            <a:off x="318960" y="115920"/>
            <a:ext cx="8496000" cy="212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32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Оли, Тани и Маши мама купила ленты красного, зеленого, и голубого  цве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ля не любит красный цвет и не хочет зеленую лен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ша не хочет красну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ого цвета ленту возьмет каждая девоч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Таблица 2"/>
          <p:cNvGraphicFramePr/>
          <p:nvPr/>
        </p:nvGraphicFramePr>
        <p:xfrm>
          <a:off x="1290600" y="2421000"/>
          <a:ext cx="6552360" cy="3600000"/>
        </p:xfrm>
        <a:graphic>
          <a:graphicData uri="http://schemas.openxmlformats.org/drawingml/2006/table">
            <a:tbl>
              <a:tblPr/>
              <a:tblGrid>
                <a:gridCol w="1684800"/>
                <a:gridCol w="1440720"/>
                <a:gridCol w="1857600"/>
                <a:gridCol w="1569240"/>
              </a:tblGrid>
              <a:tr h="72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а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93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Красная лен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93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Зеленая лен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100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олуб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лен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0" y="-100080"/>
            <a:ext cx="9134280" cy="6857640"/>
          </a:xfrm>
          <a:prstGeom prst="rect">
            <a:avLst/>
          </a:prstGeom>
          <a:ln w="9525">
            <a:noFill/>
          </a:ln>
        </p:spPr>
      </p:pic>
      <p:sp>
        <p:nvSpPr>
          <p:cNvPr id="94" name="Прямоугольник 1"/>
          <p:cNvSpPr/>
          <p:nvPr/>
        </p:nvSpPr>
        <p:spPr>
          <a:xfrm>
            <a:off x="318960" y="115920"/>
            <a:ext cx="8496000" cy="2247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3399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дика, Колю и Васю угостили печеньем 3-х сорто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вареньем, с орехами и глазур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я не любит орехи, Эдик не ест варенья, а Коля очень любит глазурь. Каждый ел печенье только одного сор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то ел печенье с варенье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Таблица 2"/>
          <p:cNvGraphicFramePr/>
          <p:nvPr/>
        </p:nvGraphicFramePr>
        <p:xfrm>
          <a:off x="714240" y="2430360"/>
          <a:ext cx="7704360" cy="3600000"/>
        </p:xfrm>
        <a:graphic>
          <a:graphicData uri="http://schemas.openxmlformats.org/drawingml/2006/table">
            <a:tbl>
              <a:tblPr/>
              <a:tblGrid>
                <a:gridCol w="2091960"/>
                <a:gridCol w="1582920"/>
                <a:gridCol w="2184120"/>
                <a:gridCol w="1845000"/>
              </a:tblGrid>
              <a:tr h="72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Эд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о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а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93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 варень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93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 ореха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100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 глазурь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0" y="-100080"/>
            <a:ext cx="9134280" cy="6857640"/>
          </a:xfrm>
          <a:prstGeom prst="rect">
            <a:avLst/>
          </a:prstGeom>
          <a:ln w="9525">
            <a:noFill/>
          </a:ln>
        </p:spPr>
      </p:pic>
      <p:sp>
        <p:nvSpPr>
          <p:cNvPr id="97" name="Прямоугольник 1"/>
          <p:cNvSpPr/>
          <p:nvPr/>
        </p:nvSpPr>
        <p:spPr>
          <a:xfrm>
            <a:off x="318960" y="115920"/>
            <a:ext cx="849600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3399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оуны Ам,  Бам и Там вышли на арену со своими собаками, которых звали Ум,  Бум и Гу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я каждой собаки   не начиналось на первую букву имени хозяина.   Ам – хозяин Гума.  Кто вышел с собакой У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Таблица 2"/>
          <p:cNvGraphicFramePr/>
          <p:nvPr/>
        </p:nvGraphicFramePr>
        <p:xfrm>
          <a:off x="622440" y="2276640"/>
          <a:ext cx="7889400" cy="3825000"/>
        </p:xfrm>
        <a:graphic>
          <a:graphicData uri="http://schemas.openxmlformats.org/drawingml/2006/table">
            <a:tbl>
              <a:tblPr/>
              <a:tblGrid>
                <a:gridCol w="2142000"/>
                <a:gridCol w="1807200"/>
                <a:gridCol w="2050200"/>
                <a:gridCol w="1889280"/>
              </a:tblGrid>
              <a:tr h="72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лоун 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лоун Б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лоун Т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93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обака У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93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обака Бу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100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обака Гу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0" y="-100080"/>
            <a:ext cx="9134280" cy="6857640"/>
          </a:xfrm>
          <a:prstGeom prst="rect">
            <a:avLst/>
          </a:prstGeom>
          <a:ln w="9525">
            <a:noFill/>
          </a:ln>
        </p:spPr>
      </p:pic>
      <p:sp>
        <p:nvSpPr>
          <p:cNvPr id="100" name="Прямоугольник 1"/>
          <p:cNvSpPr/>
          <p:nvPr/>
        </p:nvSpPr>
        <p:spPr>
          <a:xfrm>
            <a:off x="318960" y="115920"/>
            <a:ext cx="8496000" cy="2375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36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или-были две фигуры: круг и квадрат. На их улице было 3 дома: один дом был с окном и трубой, другой - с окном, но без трубы, а третий - с трубой, но без окна. Каждая фигура жила в своем доме. Круг и Квадрат жили в домах с окнами. Квадрат любил тепло и часто топил печку. Кто в каком доме жи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Таблица 2"/>
          <p:cNvGraphicFramePr/>
          <p:nvPr/>
        </p:nvGraphicFramePr>
        <p:xfrm>
          <a:off x="622440" y="2637000"/>
          <a:ext cx="7889400" cy="3312000"/>
        </p:xfrm>
        <a:graphic>
          <a:graphicData uri="http://schemas.openxmlformats.org/drawingml/2006/table">
            <a:tbl>
              <a:tblPr/>
              <a:tblGrid>
                <a:gridCol w="2142000"/>
                <a:gridCol w="1807200"/>
                <a:gridCol w="2050200"/>
                <a:gridCol w="1889280"/>
              </a:tblGrid>
              <a:tr h="125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м с окном и труб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м с окном и без труб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м с трубой и без ок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981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Кру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959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Квадр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0" y="-100080"/>
            <a:ext cx="9134280" cy="6857640"/>
          </a:xfrm>
          <a:prstGeom prst="rect">
            <a:avLst/>
          </a:prstGeom>
          <a:ln w="9525">
            <a:noFill/>
          </a:ln>
        </p:spPr>
      </p:pic>
      <p:sp>
        <p:nvSpPr>
          <p:cNvPr id="103" name="Прямоугольник 1"/>
          <p:cNvSpPr/>
          <p:nvPr/>
        </p:nvSpPr>
        <p:spPr>
          <a:xfrm>
            <a:off x="318960" y="115920"/>
            <a:ext cx="8645040" cy="2934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32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третились три подруги - Белова, Краснова и Черно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одной из них было черное платье, на другой - красно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третьей - бело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вочка в белом платье сказала Черново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Нам троим надо поменяться платьями, а то цвета наших платьев не соответствуют нашим фамилиям».   Кто в каком платье бы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Таблица 2"/>
          <p:cNvGraphicFramePr/>
          <p:nvPr/>
        </p:nvGraphicFramePr>
        <p:xfrm>
          <a:off x="622440" y="2781360"/>
          <a:ext cx="7909560" cy="3412800"/>
        </p:xfrm>
        <a:graphic>
          <a:graphicData uri="http://schemas.openxmlformats.org/drawingml/2006/table">
            <a:tbl>
              <a:tblPr/>
              <a:tblGrid>
                <a:gridCol w="1933200"/>
                <a:gridCol w="2016000"/>
                <a:gridCol w="2050200"/>
                <a:gridCol w="1909800"/>
              </a:tblGrid>
              <a:tr h="64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ел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расн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Черн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8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Белое плать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8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Красное плать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967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Черное плать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23760" y="-100080"/>
            <a:ext cx="9134280" cy="685764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106" name="Таблица 2"/>
          <p:cNvGraphicFramePr/>
          <p:nvPr/>
        </p:nvGraphicFramePr>
        <p:xfrm>
          <a:off x="484200" y="2260440"/>
          <a:ext cx="8166600" cy="3993480"/>
        </p:xfrm>
        <a:graphic>
          <a:graphicData uri="http://schemas.openxmlformats.org/drawingml/2006/table">
            <a:tbl>
              <a:tblPr/>
              <a:tblGrid>
                <a:gridCol w="1495800"/>
                <a:gridCol w="1728000"/>
                <a:gridCol w="1735200"/>
                <a:gridCol w="1582200"/>
                <a:gridCol w="1624680"/>
              </a:tblGrid>
              <a:tr h="519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мар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 м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июл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 мар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82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Кат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829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Со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930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Га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89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Тама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  <p:sp>
        <p:nvSpPr>
          <p:cNvPr id="107" name="Прямоугольник 3"/>
          <p:cNvSpPr/>
          <p:nvPr/>
        </p:nvSpPr>
        <p:spPr>
          <a:xfrm>
            <a:off x="468360" y="115920"/>
            <a:ext cx="8496000" cy="212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32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я, Соня, Галя и Тамара родилис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марта, 17 мая, 2 июля и 20 мар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ня и Галя родились в одном месяце, а у Гали и Кати дни рождения обозначаются одинаковыми числ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то какого числа и какого месяца родился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0" y="-100080"/>
            <a:ext cx="9134280" cy="6857640"/>
          </a:xfrm>
          <a:prstGeom prst="rect">
            <a:avLst/>
          </a:prstGeom>
          <a:ln w="9525">
            <a:noFill/>
          </a:ln>
        </p:spPr>
      </p:pic>
      <p:sp>
        <p:nvSpPr>
          <p:cNvPr id="109" name="Прямоугольник 1"/>
          <p:cNvSpPr/>
          <p:nvPr/>
        </p:nvSpPr>
        <p:spPr>
          <a:xfrm>
            <a:off x="318960" y="115920"/>
            <a:ext cx="8496000" cy="252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32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я, Боря, Вова и Юра заняли первые четыре места в спортивном соревнова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вопрос, ка­кие места они заняли, они ответили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я не занял ни  1, ни  4  мест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ря занял   2  место.       Вова не был последни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ое место занял каждый из мальчик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Таблица 2"/>
          <p:cNvGraphicFramePr/>
          <p:nvPr/>
        </p:nvGraphicFramePr>
        <p:xfrm>
          <a:off x="517680" y="2639880"/>
          <a:ext cx="8100360" cy="3600000"/>
        </p:xfrm>
        <a:graphic>
          <a:graphicData uri="http://schemas.openxmlformats.org/drawingml/2006/table">
            <a:tbl>
              <a:tblPr/>
              <a:tblGrid>
                <a:gridCol w="1632600"/>
                <a:gridCol w="1396080"/>
                <a:gridCol w="1800000"/>
                <a:gridCol w="1520640"/>
                <a:gridCol w="1750680"/>
              </a:tblGrid>
              <a:tr h="72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о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ор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Ю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72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1 мес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72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2 мес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72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 мес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72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4 мес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0" y="-100080"/>
            <a:ext cx="9134280" cy="6857640"/>
          </a:xfrm>
          <a:prstGeom prst="rect">
            <a:avLst/>
          </a:prstGeom>
          <a:ln w="9525">
            <a:noFill/>
          </a:ln>
        </p:spPr>
      </p:pic>
      <p:sp>
        <p:nvSpPr>
          <p:cNvPr id="112" name="Прямоугольник 1"/>
          <p:cNvSpPr/>
          <p:nvPr/>
        </p:nvSpPr>
        <p:spPr>
          <a:xfrm>
            <a:off x="318960" y="115920"/>
            <a:ext cx="8496000" cy="252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32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ша, Даша, Катя и Оля учатся в одной школе, но в разных классах:  7 «А»,  7 «Б»,  8 «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я и Оля – одноклассниц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ша и Катя учились в классах с одинаковой  букв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ша и Даша были ученицами второго клас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то в каком классе учил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Таблица 2"/>
          <p:cNvGraphicFramePr/>
          <p:nvPr/>
        </p:nvGraphicFramePr>
        <p:xfrm>
          <a:off x="517680" y="2639880"/>
          <a:ext cx="8100360" cy="3600000"/>
        </p:xfrm>
        <a:graphic>
          <a:graphicData uri="http://schemas.openxmlformats.org/drawingml/2006/table">
            <a:tbl>
              <a:tblPr/>
              <a:tblGrid>
                <a:gridCol w="1632600"/>
                <a:gridCol w="1396080"/>
                <a:gridCol w="1800000"/>
                <a:gridCol w="1520640"/>
                <a:gridCol w="1750680"/>
              </a:tblGrid>
              <a:tr h="72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а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ат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72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А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72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7Б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72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8А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72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2400" spc="-1" strike="noStrike">
                        <a:solidFill>
                          <a:srgbClr val="0066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  <Words>687</Words>
  <Paragraphs>143</Paragraphs>
  <Company>Дом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07:24:05Z</dcterms:created>
  <dc:creator>Нина</dc:creator>
  <dc:description/>
  <dc:language>en-US</dc:language>
  <cp:lastModifiedBy>111</cp:lastModifiedBy>
  <dcterms:modified xsi:type="dcterms:W3CDTF">2019-10-08T17:35:02Z</dcterms:modified>
  <cp:revision>119</cp:revision>
  <dc:subject/>
  <dc:title>Логические задач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3</vt:r8>
  </property>
</Properties>
</file>