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21268-11A9-48AC-BFEC-F250B221B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7E958-CE5A-4ADD-8F63-DA68F2CBD6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075-726A-456B-8F47-4F0078D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0FA-E325-41FC-BF9F-99FD1E9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597-4D2C-4AC3-B31D-EF7DA68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B66-141D-4054-982A-D1DB7CD5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9F2A-5F55-45E4-B5DC-42C9DB80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E879-8519-4F22-8B4D-8FF0CAE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73B-0BD4-4B56-A797-4F3FE93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7F97-9344-4711-A30A-F45A136F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316-9768-45AA-AD20-280B0503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39D1-E17C-4D71-A534-660EA4A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3B6-4686-47F3-B505-0E3CB79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310-4319-4747-BE18-A2956DF7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5E66-9FB2-4A0E-B59E-3A43F8F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108-DE1B-463C-B2A3-65714DA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A596-4383-4924-BC90-200EC292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C46-E873-4916-80CB-706D77CC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6D5A-2638-41FD-86B2-1B71D5FE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F21-5672-4F6F-BAB7-58F5DF4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600-BFE6-41B0-A591-2CA4A9DE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CF3-C4DC-41BE-893F-C85F7DC7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6E5-EC88-44F2-A4EF-7EAB6DB2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472-159B-4615-83EE-287835A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EE8-0519-4FFA-9A0C-F2FD8F2B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5E3-5610-4010-9881-73D62F1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36988-9EB1-4BD0-BEFC-947D2D71D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1DFF22-DE92-40A7-B5E7-49074406A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SHKOLA\UCHEBA\SCHKOLA\PowerPoint\шаблоны\My_Sbornik_fon_1\57.jpg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6200"/>
          </a:xfrm>
          <a:prstGeom prst="rect">
            <a:avLst/>
          </a:prstGeom>
          <a:ln w="9525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7280" y="549360"/>
            <a:ext cx="8029080" cy="41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Решение</a:t>
            </a:r>
            <a:br>
              <a:rPr sz="6000"/>
            </a:b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логических задач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324000" y="189000"/>
            <a:ext cx="8569080" cy="275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утылке, стакане, кувшине и банке находятся молоко, лимонад, квас и вода.  Извест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 и молоко не в бутыл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уд с лимонадом стоит между кувшином и сосудом с квас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нке не лимонад и не 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кан стоит около банки и сосуда с молок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да налита каждая жидк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Таблица 2"/>
          <p:cNvGraphicFramePr/>
          <p:nvPr/>
        </p:nvGraphicFramePr>
        <p:xfrm>
          <a:off x="395280" y="2973240"/>
          <a:ext cx="8280720" cy="3438360"/>
        </p:xfrm>
        <a:graphic>
          <a:graphicData uri="http://schemas.openxmlformats.org/drawingml/2006/table">
            <a:tbl>
              <a:tblPr/>
              <a:tblGrid>
                <a:gridCol w="1656000"/>
                <a:gridCol w="1728000"/>
                <a:gridCol w="1584000"/>
                <a:gridCol w="1717560"/>
                <a:gridCol w="1594440"/>
              </a:tblGrid>
              <a:tr h="504000">
                <a:tc rowSpan="2">
                  <a:txBody>
                    <a:bodyPr lIns="25200" rIns="25200" tIns="0" bIns="0" anchor="t">
                      <a:noAutofit/>
                    </a:bodyPr>
                    <a:p>
                      <a:pPr marL="48240">
                        <a:lnSpc>
                          <a:spcPct val="115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8240">
                        <a:lnSpc>
                          <a:spcPct val="115000"/>
                        </a:lnSpc>
                      </a:pPr>
                      <a:r>
                        <a:rPr b="1" lang="ru-RU" sz="2000" spc="9" strike="noStrike">
                          <a:solidFill>
                            <a:schemeClr val="dk1"/>
                          </a:solidFill>
                          <a:latin typeface="Arial"/>
                        </a:rPr>
                        <a:t>Жид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25200" rIns="25200" tIns="0" bIns="0" anchor="t">
                      <a:noAutofit/>
                    </a:bodyPr>
                    <a:p>
                      <a:pPr marL="1063080">
                        <a:lnSpc>
                          <a:spcPct val="115000"/>
                        </a:lnSpc>
                      </a:pPr>
                      <a:r>
                        <a:rPr b="1" lang="ru-RU" sz="2000" spc="-46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u-RU" sz="2000" spc="-46" strike="noStrike">
                          <a:solidFill>
                            <a:schemeClr val="dk1"/>
                          </a:solidFill>
                          <a:latin typeface="Arial"/>
                        </a:rPr>
                        <a:t>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9000" algn="ctr">
                        <a:lnSpc>
                          <a:spcPct val="115000"/>
                        </a:lnSpc>
                      </a:pPr>
                      <a:r>
                        <a:rPr b="1" lang="ru-RU" sz="2000" spc="4" strike="noStrike">
                          <a:solidFill>
                            <a:srgbClr val="ff0000"/>
                          </a:solidFill>
                          <a:latin typeface="Arial"/>
                        </a:rPr>
                        <a:t>Бутыл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57240" algn="ctr">
                        <a:lnSpc>
                          <a:spcPct val="115000"/>
                        </a:lnSpc>
                      </a:pPr>
                      <a:r>
                        <a:rPr b="1" lang="ru-RU" sz="2000" spc="-12" strike="noStrike">
                          <a:solidFill>
                            <a:srgbClr val="ff0000"/>
                          </a:solidFill>
                          <a:latin typeface="Arial"/>
                        </a:rPr>
                        <a:t>Ста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31680" algn="ctr">
                        <a:lnSpc>
                          <a:spcPct val="115000"/>
                        </a:lnSpc>
                      </a:pPr>
                      <a:r>
                        <a:rPr b="1" lang="ru-RU" sz="2000" spc="-21" strike="noStrike">
                          <a:solidFill>
                            <a:srgbClr val="ff0000"/>
                          </a:solidFill>
                          <a:latin typeface="Arial"/>
                        </a:rPr>
                        <a:t>Кув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87120" algn="ctr">
                        <a:lnSpc>
                          <a:spcPct val="115000"/>
                        </a:lnSpc>
                      </a:pPr>
                      <a:r>
                        <a:rPr b="1" lang="ru-RU" sz="2000" spc="9" strike="noStrike">
                          <a:solidFill>
                            <a:srgbClr val="ff0000"/>
                          </a:solidFill>
                          <a:latin typeface="Arial"/>
                        </a:rPr>
                        <a:t>Ба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41" strike="noStrike">
                          <a:solidFill>
                            <a:srgbClr val="006666"/>
                          </a:solidFill>
                          <a:latin typeface="Arial"/>
                        </a:rPr>
                        <a:t>Мол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32" strike="noStrike">
                          <a:solidFill>
                            <a:srgbClr val="006666"/>
                          </a:solidFill>
                          <a:latin typeface="Arial"/>
                        </a:rPr>
                        <a:t>Кв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21" strike="noStrike">
                          <a:solidFill>
                            <a:srgbClr val="006666"/>
                          </a:solidFill>
                          <a:latin typeface="Arial"/>
                        </a:rPr>
                        <a:t>Лимон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04000">
                <a:tc>
                  <a:txBody>
                    <a:bodyPr lIns="25200" rIns="2520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</a:pPr>
                      <a:r>
                        <a:rPr b="1" lang="ru-RU" sz="2400" spc="-41" strike="noStrike">
                          <a:solidFill>
                            <a:srgbClr val="006666"/>
                          </a:solidFill>
                          <a:latin typeface="Arial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318960" y="115920"/>
            <a:ext cx="8496000" cy="240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ня, Петя, Саша и Коля носят фамилии, начинаю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букв В, П, С, и К. Известн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аня и  С. - отлич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етя и  В. - троеч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Коля и  В. ростом ниже 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аша и  Петя имеют одинаковый р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какой буквы начинается фамилия каждого мальч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Таблица 2"/>
          <p:cNvGraphicFramePr/>
          <p:nvPr/>
        </p:nvGraphicFramePr>
        <p:xfrm>
          <a:off x="517680" y="2639880"/>
          <a:ext cx="8298720" cy="3600000"/>
        </p:xfrm>
        <a:graphic>
          <a:graphicData uri="http://schemas.openxmlformats.org/drawingml/2006/table">
            <a:tbl>
              <a:tblPr/>
              <a:tblGrid>
                <a:gridCol w="2014920"/>
                <a:gridCol w="1463760"/>
                <a:gridCol w="1584000"/>
                <a:gridCol w="1512000"/>
                <a:gridCol w="172332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95280" y="189000"/>
            <a:ext cx="84243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ионерский лагерь приехали три друг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ша, Володя и  Пет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Известно, что каждый из них имеет одну из фамил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ов, Семенов, Гераси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ша не Герасимов,  отец  Володи  инжен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дя  учится в 6 классе.  Герасимов учится в 5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Иванова слесарь.  Назовите фамилии маль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Таблица 2"/>
          <p:cNvGraphicFramePr/>
          <p:nvPr/>
        </p:nvGraphicFramePr>
        <p:xfrm>
          <a:off x="395280" y="2852640"/>
          <a:ext cx="8424720" cy="3528000"/>
        </p:xfrm>
        <a:graphic>
          <a:graphicData uri="http://schemas.openxmlformats.org/drawingml/2006/table">
            <a:tbl>
              <a:tblPr/>
              <a:tblGrid>
                <a:gridCol w="2160000"/>
                <a:gridCol w="1991880"/>
                <a:gridCol w="2234520"/>
                <a:gridCol w="2037600"/>
              </a:tblGrid>
              <a:tr h="59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лод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в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4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ем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5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ераси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28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18960" y="115920"/>
            <a:ext cx="8496000" cy="212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Оли, Тани и Маши мама купила ленты красного, зеленого, и голубого  цв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я не любит красный цвет и не хочет зеленую ле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не хочет крас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го цвета ленту возьмет каждая девоч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Таблица 2"/>
          <p:cNvGraphicFramePr/>
          <p:nvPr/>
        </p:nvGraphicFramePr>
        <p:xfrm>
          <a:off x="1290600" y="2421000"/>
          <a:ext cx="6552360" cy="3600000"/>
        </p:xfrm>
        <a:graphic>
          <a:graphicData uri="http://schemas.openxmlformats.org/drawingml/2006/table">
            <a:tbl>
              <a:tblPr/>
              <a:tblGrid>
                <a:gridCol w="1684800"/>
                <a:gridCol w="1440720"/>
                <a:gridCol w="1857600"/>
                <a:gridCol w="156924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ая 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ая 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луб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318960" y="115920"/>
            <a:ext cx="8496000" cy="224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дика, Колю и Васю угостили печеньем 3-х сор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ареньем, с орехами и глазур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не любит орехи, Эдик не ест варенья, а Коля очень любит глазурь. Каждый ел печенье только одного с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ел печенье с варень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Таблица 2"/>
          <p:cNvGraphicFramePr/>
          <p:nvPr/>
        </p:nvGraphicFramePr>
        <p:xfrm>
          <a:off x="714240" y="2430360"/>
          <a:ext cx="7704360" cy="3600000"/>
        </p:xfrm>
        <a:graphic>
          <a:graphicData uri="http://schemas.openxmlformats.org/drawingml/2006/table">
            <a:tbl>
              <a:tblPr/>
              <a:tblGrid>
                <a:gridCol w="2091960"/>
                <a:gridCol w="1582920"/>
                <a:gridCol w="2184120"/>
                <a:gridCol w="184500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д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варень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орех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глазур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318960" y="115920"/>
            <a:ext cx="84960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оуны Ам,  Бам и Там вышли на арену со своими собаками, которых звали Ум,  Бум и Гу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каждой собаки   не начиналось на первую букву имени хозяина.   Ам – хозяин Гума.  Кто вышел с собакой 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Таблица 2"/>
          <p:cNvGraphicFramePr/>
          <p:nvPr/>
        </p:nvGraphicFramePr>
        <p:xfrm>
          <a:off x="622440" y="2276640"/>
          <a:ext cx="7889400" cy="3825000"/>
        </p:xfrm>
        <a:graphic>
          <a:graphicData uri="http://schemas.openxmlformats.org/drawingml/2006/table">
            <a:tbl>
              <a:tblPr/>
              <a:tblGrid>
                <a:gridCol w="2142000"/>
                <a:gridCol w="1807200"/>
                <a:gridCol w="2050200"/>
                <a:gridCol w="18892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Б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Т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Б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Г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318960" y="115920"/>
            <a:ext cx="8496000" cy="237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6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ли-были две фигуры: круг и квадрат. На их улице было 3 дома: один дом был с окном и трубой, другой - с окном, но без трубы, а третий - с трубой, но без окна. Каждая фигура жила в своем доме. Круг и Квадрат жили в домах с окнами. Квадрат любил тепло и часто топил печку. Кто в каком доме жи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Таблица 2"/>
          <p:cNvGraphicFramePr/>
          <p:nvPr/>
        </p:nvGraphicFramePr>
        <p:xfrm>
          <a:off x="622440" y="2637000"/>
          <a:ext cx="7889400" cy="3312000"/>
        </p:xfrm>
        <a:graphic>
          <a:graphicData uri="http://schemas.openxmlformats.org/drawingml/2006/table">
            <a:tbl>
              <a:tblPr/>
              <a:tblGrid>
                <a:gridCol w="2142000"/>
                <a:gridCol w="1807200"/>
                <a:gridCol w="2050200"/>
                <a:gridCol w="1889280"/>
              </a:tblGrid>
              <a:tr h="125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окном и тру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окном и без труб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трубой и без ок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8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5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вад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318960" y="115920"/>
            <a:ext cx="8645040" cy="293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третились три подруги - Белова, Краснова и Чер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одной из них было черное платье, на другой - кра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ретьей - б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вочка в белом платье сказала Чернов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м троим надо поменяться платьями, а то цвета наших платьев не соответствуют нашим фамилиям».   Кто в каком платье бы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Таблица 2"/>
          <p:cNvGraphicFramePr/>
          <p:nvPr/>
        </p:nvGraphicFramePr>
        <p:xfrm>
          <a:off x="622440" y="2781360"/>
          <a:ext cx="7909560" cy="3412800"/>
        </p:xfrm>
        <a:graphic>
          <a:graphicData uri="http://schemas.openxmlformats.org/drawingml/2006/table">
            <a:tbl>
              <a:tblPr/>
              <a:tblGrid>
                <a:gridCol w="1933200"/>
                <a:gridCol w="2016000"/>
                <a:gridCol w="2050200"/>
                <a:gridCol w="19098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н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ел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3760" y="-100080"/>
            <a:ext cx="9134280" cy="6857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6" name="Таблица 2"/>
          <p:cNvGraphicFramePr/>
          <p:nvPr/>
        </p:nvGraphicFramePr>
        <p:xfrm>
          <a:off x="484200" y="2260440"/>
          <a:ext cx="8166600" cy="3993480"/>
        </p:xfrm>
        <a:graphic>
          <a:graphicData uri="http://schemas.openxmlformats.org/drawingml/2006/table">
            <a:tbl>
              <a:tblPr/>
              <a:tblGrid>
                <a:gridCol w="1495800"/>
                <a:gridCol w="1728000"/>
                <a:gridCol w="1735200"/>
                <a:gridCol w="1582200"/>
                <a:gridCol w="1624680"/>
              </a:tblGrid>
              <a:tr h="51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м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ию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2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Там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3"/>
          <p:cNvSpPr/>
          <p:nvPr/>
        </p:nvSpPr>
        <p:spPr>
          <a:xfrm>
            <a:off x="468360" y="115920"/>
            <a:ext cx="8496000" cy="212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я, Соня, Галя и Тамара род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марта, 17 мая, 2 июля и 20 м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ня и Галя родились в одном месяце, а у Гали и Кати дни рождения обозначаются одинаковыми чис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какого числа и какого месяца родилс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318960" y="115920"/>
            <a:ext cx="8496000" cy="252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, Боря, Вова и Юра заняли первые четыре места в спортивном соревн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опрос, ка­кие места они заняли, они ответил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не занял ни  1, ни  4 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я занял   2  место.       Вова не был последн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место занял каждый из мальч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Таблица 2"/>
          <p:cNvGraphicFramePr/>
          <p:nvPr/>
        </p:nvGraphicFramePr>
        <p:xfrm>
          <a:off x="517680" y="2639880"/>
          <a:ext cx="8100360" cy="3600000"/>
        </p:xfrm>
        <a:graphic>
          <a:graphicData uri="http://schemas.openxmlformats.org/drawingml/2006/table">
            <a:tbl>
              <a:tblPr/>
              <a:tblGrid>
                <a:gridCol w="1632600"/>
                <a:gridCol w="1396080"/>
                <a:gridCol w="1800000"/>
                <a:gridCol w="1520640"/>
                <a:gridCol w="17506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318960" y="115920"/>
            <a:ext cx="8496000" cy="252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, Даша, Катя и Оля учатся в одной школе, но в разных классах:  7 «А»,  7 «Б»,  8 «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я и Оля – однокласс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и Катя учились в классах с одинаковой  бук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и Даша были ученицами второ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в каком классе учи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Таблица 2"/>
          <p:cNvGraphicFramePr/>
          <p:nvPr/>
        </p:nvGraphicFramePr>
        <p:xfrm>
          <a:off x="517680" y="2639880"/>
          <a:ext cx="8100360" cy="3600000"/>
        </p:xfrm>
        <a:graphic>
          <a:graphicData uri="http://schemas.openxmlformats.org/drawingml/2006/table">
            <a:tbl>
              <a:tblPr/>
              <a:tblGrid>
                <a:gridCol w="1632600"/>
                <a:gridCol w="1396080"/>
                <a:gridCol w="1800000"/>
                <a:gridCol w="1520640"/>
                <a:gridCol w="17506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А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Б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А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  <Words>687</Words>
  <Paragraphs>143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7:24:05Z</dcterms:created>
  <dc:creator>Нина</dc:creator>
  <dc:description/>
  <dc:language>en-US</dc:language>
  <cp:lastModifiedBy>111</cp:lastModifiedBy>
  <dcterms:modified xsi:type="dcterms:W3CDTF">2019-10-08T17:35:02Z</dcterms:modified>
  <cp:revision>119</cp:revision>
  <dc:subject/>
  <dc:title>Логические за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