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8EE75-044D-4BEE-846E-A32560FCF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2DD4C-12CB-452D-8392-7DA26732D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F7CF0-2BB4-4805-A61E-0AD5B409D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71DB3-C6CF-4D78-B04E-3B59C4E06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9416A-498D-460C-B7D5-62332B830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CB8E9-24E2-4373-91E7-01C87ACF7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6B80A-C2A7-4CE5-A00B-01A7921E8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EF68D-09FF-4EA2-B4D5-54C8923AB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EE5CA-85AB-4BEA-A35B-ECE2D0E56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90FD1-E04A-4C76-8A9E-6FE17C949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B2371-F102-43E5-BB66-F235445CD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9DCD9-567C-4E20-827A-E6DB2467C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F66A0-0434-4F1E-8610-3AF9B2220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826A1-4A7A-496F-A024-A752448E3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D78AA-298D-44FB-A77F-4CDD621FE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75387-9E7F-49D6-A577-3E41501B7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57C29-D41E-4C76-9C76-007AB1453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B30FD-A9B0-4028-BDAA-91BD6F789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B63B6-A4BD-4408-AFBF-5428BCEDE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D5B82-65AF-46AA-B5CF-97F33ACA8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1FEE3-BF56-4B3A-A290-4AAE34C10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D8B0B-B526-48D9-8DB8-0854C9920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2CC12-F004-41F8-A47B-9AE7E0E1D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A51F4-7E63-4115-BBC9-4B7255304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3333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3333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60E64-4D3D-4D28-A84C-E0755F99F0A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3333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3333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39EB2-C459-426F-944E-6C6DD18BDAA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3667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0" lang="ru-RU" sz="3600" spc="-1" strike="noStrike">
                <a:solidFill>
                  <a:srgbClr val="333366"/>
                </a:solidFill>
                <a:latin typeface="Arial"/>
              </a:rPr>
              <a:t>Духовно-нравственное воспитание младших школьников - основа их успешности и сохранения здоровья.</a:t>
            </a: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402920" y="342900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Морозова С..В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История 3. Дети строили город. Оля не хотела играть, она стояла рядом и смотрела, как играют другие. К детям подошла воспитательница и сказала: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Мы сейчас будем ужинать. Пора складывать кубики в коробку. Попросите Олю помочь вам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». 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Тогда Оля ответила…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История 4. Петя и Вова играли вместе и сломали красивую, дорогую игрушку. Пришел папа и спросил: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Кто сломал игрушку?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» 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Тогда Петя ответил…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66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333366"/>
                </a:solidFill>
                <a:latin typeface="Arial"/>
              </a:rPr>
              <a:t>4 уровня осознания нравственных норм: </a:t>
            </a:r>
            <a:endParaRPr b="0" lang="en-US" sz="32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Ребенок называет нравственную норму, правильно оценивает поведение детей и мотивирует свою оценку (4 балла)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Ребенок называет нравственную норму, правильно оценивает поведение детей, но не мотивирует свою оценку (3 балла)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Ребенок оценивает поведение детей как положительное или отрицательное, но оценку не мотивирует и нравственную норму не формулирует (2 балла)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Ребенок не может оценить поступки детей (1 балл)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66"/>
                </a:solidFill>
                <a:latin typeface="Arial"/>
              </a:rPr>
              <a:t>Вопросы анкеты</a:t>
            </a: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Знаешь ли ты что такое нравственность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Кто тебе про это рассказывал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Какие поступки ты считаешь безнравственными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Совершал(а) ли ты когда-нибудь безнравственные поступки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Какие чувства ты потом испытывал(а)?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66"/>
                </a:solidFill>
                <a:latin typeface="Arial"/>
              </a:rPr>
              <a:t>Результаты анкетирования</a:t>
            </a: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79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51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Имеют представления о нормах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нравственности 90%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451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Учительница, мам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451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лохие, аморальные, неправильные(драки, хамство, обзывательства и т. п.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451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овершали безнравственные поступки 90%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451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Испытывали после этого угрызения совести, вину, стыд 100% обучающихся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13" name="Object 5"/>
          <p:cNvGraphicFramePr/>
          <p:nvPr/>
        </p:nvGraphicFramePr>
        <p:xfrm>
          <a:off x="5076720" y="1844640"/>
          <a:ext cx="358164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76720" y="1844640"/>
                    <a:ext cx="358164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66"/>
                </a:solidFill>
                <a:latin typeface="Arial"/>
              </a:rPr>
              <a:t>Вывод</a:t>
            </a: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«Только сильные духом выбирают путь трудный, иначе как они испытают себя?»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Н.Рерих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66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333366"/>
                </a:solidFill>
                <a:latin typeface="Arial"/>
              </a:rPr>
              <a:t>Теоретические  основы духовно- нравственного      воспитания младших школьников </a:t>
            </a:r>
            <a:endParaRPr b="0" lang="en-US" sz="32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Проблема нравственного воспитания была актуальной всегда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Для  разных людей в разные исторические эпохи и в разные периоды жизни  на  первый  план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выступают разные ценности и цели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В  настоящее  время  воспитание  рассматривается  и анализируется с точки зрения того,  что  все  поступки  человека выступают как реальное изменение  условий  жизни  других  людей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Воспитание предполагает осознание воспитуемым конкретных явлений как ценностей  или  не ценностей, определенное его к ним отношение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1369800" y="1557360"/>
            <a:ext cx="7313400" cy="438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Ценностные  ориентации  формируются  в  течение  всей  жизни,   однако наиболее важным  для  развития  нравственно-ценностных  ориентации  является возраст  6-12  лет,  в  котором  складываются   интеллектуальные   механизмы познания окружающего мира и самого себя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С поступлением в школу наступает перелом в  условиях  развития  детей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Весь  уклад  жизни  и  ценностей  становится  иными.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У  младшего  школьника происходит  интенсивное  формирование  качеств   личности,   обусловливающих возможность  новых   устремлений   и   необходимого   уровня   отношений   к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действительности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66"/>
                </a:solidFill>
                <a:latin typeface="Arial"/>
              </a:rPr>
              <a:t>Нравственные представления о мире</a:t>
            </a:r>
            <a:endParaRPr b="0" lang="en-US" sz="32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1. Выработка понимания жизненной важности морали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2. Установка на выработку нравственного самосознания (совесть)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3. Выработка стимулов дальнейшего нравственного развития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4. Выработка моральной стойкости, желание и умения сопротивляться злу, искушению и соблазну самооправдания при нарушении моральных требований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5. Милосердие и любовь к людям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66"/>
                </a:solidFill>
                <a:latin typeface="Arial"/>
              </a:rPr>
              <a:t>Формы работы по реализации ДНРВ</a:t>
            </a:r>
            <a:endParaRPr b="0" lang="en-US" sz="32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Экскурсии и походы, тематические прогулки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Проектная деятельность социальной направленности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Классные часы на этические темы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Все виды творческой, художественной, спортивной и общественной деятельности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Чтение художественной детской литературы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Игры, конкурсы, соревнования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66"/>
                </a:solidFill>
                <a:latin typeface="Arial"/>
              </a:rPr>
              <a:t>Ожидаемый результат</a:t>
            </a:r>
            <a:br>
              <a:rPr sz="3200"/>
            </a:br>
            <a:r>
              <a:rPr b="0" lang="ru-RU" sz="3200" spc="-1" strike="noStrike">
                <a:solidFill>
                  <a:srgbClr val="333366"/>
                </a:solidFill>
                <a:latin typeface="Arial"/>
              </a:rPr>
              <a:t>Что изменится?</a:t>
            </a:r>
            <a:endParaRPr b="0" lang="en-US" sz="32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Уровень сформированности духовно-нравственной культуры обучающихся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Готовность родителей к активному участию в учебно-воспитательном процессе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66"/>
                </a:solidFill>
                <a:latin typeface="Arial"/>
              </a:rPr>
              <a:t>Методика </a:t>
            </a:r>
            <a:r>
              <a:rPr b="0" lang="en-US" sz="3600" spc="-1" strike="noStrike">
                <a:solidFill>
                  <a:srgbClr val="333366"/>
                </a:solidFill>
                <a:latin typeface="Arial"/>
              </a:rPr>
              <a:t>«</a:t>
            </a:r>
            <a:r>
              <a:rPr b="0" lang="ru-RU" sz="3600" spc="-1" strike="noStrike">
                <a:solidFill>
                  <a:srgbClr val="333366"/>
                </a:solidFill>
                <a:latin typeface="Arial"/>
              </a:rPr>
              <a:t>Закончи историю</a:t>
            </a:r>
            <a:r>
              <a:rPr b="0" lang="en-US" sz="3600" spc="-1" strike="noStrike">
                <a:solidFill>
                  <a:srgbClr val="333366"/>
                </a:solidFill>
                <a:latin typeface="Arial"/>
              </a:rPr>
              <a:t>»</a:t>
            </a: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История 1. У девочки из корзины на дорогу рассыпались игрушки. Рядом стоял мальчик. Он подошел к девочке и сказал…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История 2. Кате на день рождения мама подарила красивую куклу. Катя стала с ней играть. К ней подошла ее младшая сестра Вера и сказала: 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Я тоже хочу поиграть с этой куклой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». 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Тогда Катя ответила…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8T19:57:47Z</dcterms:created>
  <dc:creator>user0701</dc:creator>
  <dc:description/>
  <dc:language>en-US</dc:language>
  <cp:lastModifiedBy>Admin</cp:lastModifiedBy>
  <dcterms:modified xsi:type="dcterms:W3CDTF">2015-03-22T16:15:05Z</dcterms:modified>
  <cp:revision>5</cp:revision>
  <dc:subject/>
  <dc:title>Основы нравственного воспитания младших школьников</dc:title>
</cp:coreProperties>
</file>