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4FE-B1B8-4046-A4BD-AD736193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C1E-820E-4963-8AB6-1833B3F6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5E9-CB84-46B5-91C5-8C8CFA2F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DDE-A3DD-47F8-8537-B7CF4499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456E-497D-43AA-BFB4-FE5AF64E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D32-F132-49A0-A14C-9D3728A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1582-D29C-400E-8C2A-C16B4915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EA15-2588-4D10-8BDE-8180B9CF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DA47-F4EB-479D-86E5-548A3F3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A82A-4966-4E3C-9D77-0A47D09D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D01F-4AD0-4F0D-9BCD-126CF40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30C-3FB6-4E07-8FF8-76564ED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6073-D611-451E-BE62-D94A535D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BC77-D6D6-4555-9D82-FAE7AA4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E56-063A-4C9C-B27D-80F2B4E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5040-0413-49B2-B32E-2A238BA4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A331-F2FD-473C-B5D1-70D5250A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4C1-E22A-4144-8177-83C9E3E5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61B-2A13-49A9-ACE3-17543EBB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A42-93EF-42BB-B865-8A46B173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AAB-119E-49A7-A713-067D4EE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0AE-85A9-4046-8B53-2D3A5C6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76D-3A99-4FAF-BF5F-A0439AC3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C25-AE61-43A2-92DF-C944EC67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15AB-E428-4557-BFA9-8297BCCF18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24E7-A4C3-4AD9-A3CF-FB0628F2CF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366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Духовно-нравственное воспитание младших школьников - основа их успешности и сохранения здоровья.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34290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розова С..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тория 3. Дети строили город. Оля не хотела играть, она стояла рядом и смотрела, как играют другие. К детям подошла воспитательница и сказала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ы сейчас будем ужинать. Пора складывать кубики в коробку. Попросите Олю помочь вам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гда Оля ответила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тория 4. Петя и Вова играли вместе и сломали красивую, дорогую игрушку. Пришел папа и спросил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то сломал игрушку?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гда Петя ответил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4 уровня осознания нравственных норм: 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называет нравственную норму, правильно оценивает поведение детей и мотивирует свою оценку (4 балл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называет нравственную норму, правильно оценивает поведение детей, но не мотивирует свою оценку (3 балл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оценивает поведение детей как положительное или отрицательное, но оценку не мотивирует и нравственную норму не формулирует (2 балл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не может оценить поступки детей (1 балл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Вопросы анкеты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ешь ли ты что такое нравственнос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то тебе про это рассказыва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ие поступки ты считаешь безнравственны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вершал(а) ли ты когда-нибудь безнравственные поступк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ие чувства ты потом испытывал(а)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Результаты анкетирования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меют представления о норма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равственности 9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ница, ма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охие, аморальные, неправильные(драки, хамство, обзывательства и т. п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ершали безнравственные поступки 9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ытывали после этого угрызения совести, вину, стыд 100% обучаю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5076720" y="1844640"/>
          <a:ext cx="358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844640"/>
                    <a:ext cx="358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Только сильные духом выбирают путь трудный, иначе как они испытают себя?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.Рери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Теоретические  основы духовно- нравственного      воспитания младших школьников 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блема нравственного воспитания была актуальной всегд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 разных людей в разные исторические эпохи и в разные периоды жизни  на  первый  пла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тупают разные ценности и це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 настоящее  время  воспитание  рассматривается  и анализируется с точки зрения того,  что  все  поступки  человека выступают как реальное изменение  условий  жизни  других  люд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оспитание предполагает осознание воспитуемым конкретных явлений как ценностей  или  не ценностей, определенное его к ним отнош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ные  ориентации  формируются  в  течение  всей  жизни,   однако наиболее важным  для  развития  нравственно-ценностных  ориентации  является возраст  6-12  лет,  в  котором  складываются   интеллектуальные   механизмы познания окружающего мира и самого себ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поступлением в школу наступает перелом в  условиях  развития  дет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есь  уклад  жизни  и  ценностей  становится  иным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  младшего  школьника происходит  интенсивное  формирование  качеств   личности,   обусловливающих возможность  новых   устремлений   и   необходимого   уровня   отношений   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йствитель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Нравственные представления о мире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Выработка понимания жизненной важности морал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Установка на выработку нравственного самосознания (совесть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Выработка стимулов дальнейшего нравственного развит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Выработка моральной стойкости, желание и умения сопротивляться злу, искушению и соблазну самооправдания при нарушении моральных требова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Милосердие и любовь к людя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Формы работы по реализации ДНРВ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кскурсии и походы, тематические прогул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ектная деятельность социальной направлен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лассные часы на этические т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се виды творческой, художественной, спортивной и общественной 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тение художественной детской литератур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ы, конкурсы, соревн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Ожидаемый результат</a:t>
            </a:r>
            <a:br>
              <a:rPr sz="3200"/>
            </a:b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Что изменится?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ровень сформированности духовно-нравственной культуры обучающихс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отовность родителей к активному участию в учебно-воспитательном процесс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Методика </a:t>
            </a: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Закончи историю</a:t>
            </a: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тория 1. У девочки из корзины на дорогу рассыпались игрушки. Рядом стоял мальчик. Он подошел к девочке и сказал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тория 2. Кате на день рождения мама подарила красивую куклу. Катя стала с ней играть. К ней подошла ее младшая сестра Вера и сказала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тоже хочу поиграть с этой куклой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огда Катя ответила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9:57:47Z</dcterms:created>
  <dc:creator>user0701</dc:creator>
  <dc:description/>
  <dc:language>en-US</dc:language>
  <cp:lastModifiedBy>Admin</cp:lastModifiedBy>
  <dcterms:modified xsi:type="dcterms:W3CDTF">2015-03-22T16:15:05Z</dcterms:modified>
  <cp:revision>5</cp:revision>
  <dc:subject/>
  <dc:title>Основы нравственного воспитания младших школьников</dc:title>
</cp:coreProperties>
</file>