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1E0-7FC4-4797-A1AB-23869F65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448-CA65-41DB-8235-EF64EB9C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871-2864-4A97-8EAC-F3603292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61B-BC51-439E-9036-A5E39A1B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98A-E9F2-41E1-8877-223F6DC9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B7F-5952-438C-A8B9-CAEE4F3E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8E9-7148-442F-A7E3-1AFD6B75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182-469D-4170-9B38-CD844C8B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F55-12CE-4CBE-9BD1-8D84110F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BE8-0D0F-492F-85C8-58FD5D19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325-8844-4778-A784-9E97BA5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C8A-69DC-41FA-AB82-DFD6C6EA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EB81-747D-4A24-9C63-B85704BD16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571760" y="1857240"/>
            <a:ext cx="621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70c0"/>
                </a:solidFill>
                <a:latin typeface="Monotype Corsiva"/>
              </a:rPr>
              <a:t>Динами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3296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  <a:ea typeface="Traditional Arabic"/>
              </a:rPr>
              <a:t>Динамика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  <a:ea typeface="Traditional Arabic"/>
              </a:rPr>
              <a:t> – это раздел механики, в основе которого лежит количественное взаимодействие тел, определяющее характер их дви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271440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Взаимодействие тел есть причина измен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корости их дв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При изменении скорости движения тела приобретают уско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Чтобы описать движение тела, нужно выбрать нужную систему отс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Что вызывает ускорение тел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5439"/>
                </a:solidFill>
                <a:latin typeface="Monotype Corsiva"/>
              </a:rPr>
              <a:t>Принцип причинности в механик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Изменение скорости тела (а значит, ускорения) всегда вызывается воздействием на него каких-либо других те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Если  тело движется без ускорения (а = 0), то скорость тела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икогда</a:t>
            </a:r>
            <a:r>
              <a:rPr b="0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не мен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9d3232"/>
                </a:solidFill>
                <a:latin typeface="Monotype Corsiva"/>
                <a:ea typeface="Times New Roman"/>
              </a:rPr>
              <a:t>Чтобы заставить тело изменить модуль или направление скорости, нужно приложить к нему какое-нибудь внешнее воздейств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Движение с постоянной скорость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Monotype Corsiva"/>
              </a:rPr>
              <a:t>Основное утверждение механи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Если действие со стороны других тел на данное тело нет, то согласно основному утверждению механики ускорение тела равно нулю,э т.е. тело будет покоится или двигаться с постоянной скор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00040" y="4143240"/>
            <a:ext cx="164772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571920" y="4214880"/>
            <a:ext cx="1773360" cy="217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6715080" y="4214880"/>
            <a:ext cx="174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64808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857680" y="14292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Monotype Corsiva"/>
              </a:rPr>
              <a:t>«… движение тела с постоянной скоростью нуждается для своего поддержания в действиях, производимых на тело извне. Без такой поддержки тело обязательно остановится» (Аристотел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85840" y="2786040"/>
            <a:ext cx="1714320" cy="210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7215120" y="2714760"/>
            <a:ext cx="1643040" cy="2193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2143080" y="2928960"/>
            <a:ext cx="507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Monotype Corsiva"/>
              </a:rPr>
              <a:t>Свободное тело, которое не взаимодействует с другими телами, движется всегда с постоянной скоростью или находится в по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1857240" y="4287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d3232"/>
                </a:solidFill>
                <a:latin typeface="Monotype Corsiva"/>
              </a:rPr>
              <a:t>Системы отсч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6"/>
          <p:cNvCxnSpPr/>
          <p:nvPr/>
        </p:nvCxnSpPr>
        <p:spPr>
          <a:xfrm flipH="1">
            <a:off x="2642400" y="1213920"/>
            <a:ext cx="786600" cy="1143720"/>
          </a:xfrm>
          <a:prstGeom prst="straightConnector1">
            <a:avLst/>
          </a:prstGeom>
          <a:ln w="9360">
            <a:solidFill>
              <a:srgbClr val="6ea072"/>
            </a:solidFill>
            <a:miter/>
            <a:tailEnd len="med" type="arrow" w="med"/>
          </a:ln>
        </p:spPr>
      </p:cxnSp>
      <p:cxnSp>
        <p:nvCxnSpPr>
          <p:cNvPr id="58" name="Прямая со стрелкой 7"/>
          <p:cNvCxnSpPr/>
          <p:nvPr/>
        </p:nvCxnSpPr>
        <p:spPr>
          <a:xfrm>
            <a:off x="5572080" y="1214280"/>
            <a:ext cx="1000800" cy="1215360"/>
          </a:xfrm>
          <a:prstGeom prst="straightConnector1">
            <a:avLst/>
          </a:prstGeom>
          <a:ln w="9360">
            <a:solidFill>
              <a:srgbClr val="6ea072"/>
            </a:solidFill>
            <a:miter/>
            <a:tailEnd len="med" type="arrow" w="med"/>
          </a:ln>
        </p:spPr>
      </p:cxnSp>
      <p:sp>
        <p:nvSpPr>
          <p:cNvPr id="59" name="TextBox 13"/>
          <p:cNvSpPr/>
          <p:nvPr/>
        </p:nvSpPr>
        <p:spPr>
          <a:xfrm>
            <a:off x="4929120" y="264312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4714920" y="264312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4786200" y="2714760"/>
            <a:ext cx="3081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857160" y="2286000"/>
            <a:ext cx="37861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Инерциаль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Системы отсчета, связанные с Землей, в которых ускорение тела определяется только действием на него других 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5000760" y="2357280"/>
            <a:ext cx="37861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Неинерциальн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Системы отсчета, связанные с Землей, в которых ускорение тела не связано с действием на него других 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териальная т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7030a0"/>
                </a:solidFill>
                <a:latin typeface="Monotype Corsiva"/>
              </a:rPr>
              <a:t>Основные законы механики Ньютона относятся не к произвольным телам, а к точке, обладающей массой, - материальной точк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Monotype Corsiva"/>
              </a:rPr>
              <a:t>Смысл данного поня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002060"/>
                </a:solidFill>
                <a:latin typeface="Monotype Corsiva"/>
              </a:rPr>
              <a:t>если размеры и форма тела не оказывают существенного влияния на характер механического движения, то принято тело считать материальной точк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3000" spc="-1" strike="noStrike">
                <a:solidFill>
                  <a:srgbClr val="c00000"/>
                </a:solidFill>
                <a:latin typeface="Monotype Corsiva"/>
              </a:rPr>
              <a:t>В механике любое тело можно рассматривать как совокупность большого числа материальных точек. Зная законы движения точки, мы в принципе располагаем методом описания движения произвольного те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Monotype Corsiva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Monotype Corsiva"/>
              </a:rPr>
              <a:t>§ 20, 21 – учить записи в тетради, ответить на вопросы в конце параграф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8:37:17Z</dcterms:created>
  <dc:creator>Admin</dc:creator>
  <dc:description/>
  <dc:language>en-US</dc:language>
  <cp:lastModifiedBy>Admin</cp:lastModifiedBy>
  <dcterms:modified xsi:type="dcterms:W3CDTF">2013-10-13T19:45:53Z</dcterms:modified>
  <cp:revision>7</cp:revision>
  <dc:subject/>
  <dc:title>Слайд 1</dc:title>
</cp:coreProperties>
</file>