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59A-0C77-48C3-A20D-C7EED90B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5B1-BB01-479C-8E55-C7686605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B8E-649E-4D5B-B68E-E3D8D4A2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D16-2DB0-4ADE-875E-B51CC422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4A05-C8F2-4152-A095-256016FF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DF9-F4E0-42D4-A872-DDEFC709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B709-5FA1-4652-9A59-00EDA149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5F3F-FD1B-4CBB-82BF-EB60E44D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8D2C-A19A-46DC-AA80-AAC39D2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5D8B-623F-413D-819A-5DEDD18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C02-A101-4FB9-8BEE-C88C581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868-67DE-4380-B6A7-3913F40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D29A-1D57-4974-B3CA-26F5246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DDF6-4A10-450A-AAF3-459A7D51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476B-3BB7-40D9-B046-755ED10E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2F85-B350-4793-B6A5-2394B9C3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C8C-2546-430C-AAB6-BA72F7D2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238-3C78-4E72-99DC-81D5FE9D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E4D-FC76-4668-98F3-2B2431A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6EA-3E6B-4BBB-AB24-7F3F1D25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E69-0C70-4D8C-8305-6D12C19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780-9ECF-4092-99BD-F35BB9C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93A-8467-4220-A0E9-2838130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5CF-CAF9-4342-98E7-7591354E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1BB1-E774-4658-BBF4-3EBB8BA362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F3F-9F9A-40F4-B3A8-3B7E404042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49236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26028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258920" y="1413000"/>
            <a:ext cx="66261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ffff99"/>
                </a:solidFill>
                <a:latin typeface="Modern No. 20"/>
              </a:rPr>
              <a:t>Электрическая цепь и её составные части</a:t>
            </a:r>
            <a:r>
              <a:rPr b="1" lang="ru-RU" sz="4800" spc="-1" strike="noStrike">
                <a:solidFill>
                  <a:srgbClr val="ffff99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Прост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не замкнутая</a:t>
            </a: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 электрическая цеп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716360" y="1557360"/>
            <a:ext cx="417672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пь состоит из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ккумулято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ампочк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единительные провод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755640" y="2205000"/>
            <a:ext cx="3313080" cy="3095640"/>
          </a:xfrm>
          <a:prstGeom prst="rect">
            <a:avLst/>
          </a:prstGeom>
          <a:solidFill>
            <a:srgbClr val="ffffff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1332000" y="285264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22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23"/>
          <p:cNvSpPr/>
          <p:nvPr/>
        </p:nvSpPr>
        <p:spPr>
          <a:xfrm>
            <a:off x="2195640" y="256536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24"/>
          <p:cNvSpPr/>
          <p:nvPr/>
        </p:nvSpPr>
        <p:spPr>
          <a:xfrm>
            <a:off x="2556000" y="2637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2700360" y="256536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27"/>
          <p:cNvSpPr/>
          <p:nvPr/>
        </p:nvSpPr>
        <p:spPr>
          <a:xfrm>
            <a:off x="1332000" y="285264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28"/>
          <p:cNvSpPr/>
          <p:nvPr/>
        </p:nvSpPr>
        <p:spPr>
          <a:xfrm>
            <a:off x="1332000" y="4005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635280" y="2852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32"/>
          <p:cNvSpPr/>
          <p:nvPr/>
        </p:nvSpPr>
        <p:spPr>
          <a:xfrm flipH="1" flipV="1">
            <a:off x="1187280" y="3644640"/>
            <a:ext cx="1447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Oval 33"/>
          <p:cNvSpPr/>
          <p:nvPr/>
        </p:nvSpPr>
        <p:spPr>
          <a:xfrm>
            <a:off x="2124000" y="4365720"/>
            <a:ext cx="647640" cy="647640"/>
          </a:xfrm>
          <a:prstGeom prst="ellipse">
            <a:avLst/>
          </a:prstGeom>
          <a:solidFill>
            <a:srgbClr val="ffffff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4"/>
          <p:cNvSpPr/>
          <p:nvPr/>
        </p:nvSpPr>
        <p:spPr>
          <a:xfrm>
            <a:off x="1332000" y="4724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35"/>
          <p:cNvSpPr/>
          <p:nvPr/>
        </p:nvSpPr>
        <p:spPr>
          <a:xfrm>
            <a:off x="2771640" y="472428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37"/>
          <p:cNvSpPr/>
          <p:nvPr/>
        </p:nvSpPr>
        <p:spPr>
          <a:xfrm flipV="1">
            <a:off x="2195640" y="4437000"/>
            <a:ext cx="50472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38"/>
          <p:cNvSpPr/>
          <p:nvPr/>
        </p:nvSpPr>
        <p:spPr>
          <a:xfrm>
            <a:off x="2195640" y="4508640"/>
            <a:ext cx="431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140328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26836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268360" y="378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313200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39"/>
          <p:cNvSpPr/>
          <p:nvPr/>
        </p:nvSpPr>
        <p:spPr>
          <a:xfrm>
            <a:off x="2700360" y="285264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42" descr="2012200936151234"/>
          <p:cNvPicPr/>
          <p:nvPr/>
        </p:nvPicPr>
        <p:blipFill>
          <a:blip r:embed="rId1">
            <a:lum bright="12000"/>
          </a:blip>
          <a:srcRect l="0" t="0" r="-29" b="0"/>
          <a:stretch/>
        </p:blipFill>
        <p:spPr>
          <a:xfrm>
            <a:off x="4859280" y="3789360"/>
            <a:ext cx="3457800" cy="282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6" name="Text Box 43"/>
          <p:cNvSpPr/>
          <p:nvPr/>
        </p:nvSpPr>
        <p:spPr>
          <a:xfrm>
            <a:off x="485928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45"/>
          <p:cNvSpPr/>
          <p:nvPr/>
        </p:nvSpPr>
        <p:spPr>
          <a:xfrm>
            <a:off x="7236000" y="630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46"/>
          <p:cNvSpPr/>
          <p:nvPr/>
        </p:nvSpPr>
        <p:spPr>
          <a:xfrm>
            <a:off x="7812000" y="414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47"/>
          <p:cNvSpPr/>
          <p:nvPr/>
        </p:nvSpPr>
        <p:spPr>
          <a:xfrm>
            <a:off x="900000" y="5661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хема электрической цеп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48"/>
          <p:cNvSpPr/>
          <p:nvPr/>
        </p:nvSpPr>
        <p:spPr>
          <a:xfrm flipV="1">
            <a:off x="2484360" y="544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49"/>
          <p:cNvSpPr/>
          <p:nvPr/>
        </p:nvSpPr>
        <p:spPr>
          <a:xfrm>
            <a:off x="4788000" y="57340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электрическая цеп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6"/>
          <p:cNvSpPr/>
          <p:nvPr/>
        </p:nvSpPr>
        <p:spPr>
          <a:xfrm>
            <a:off x="755640" y="2205000"/>
            <a:ext cx="3313080" cy="3095640"/>
          </a:xfrm>
          <a:prstGeom prst="rect">
            <a:avLst/>
          </a:prstGeom>
          <a:solidFill>
            <a:srgbClr val="ffffff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Прост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замкнутая </a:t>
            </a: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электрическая цеп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5292720" y="2421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50920" y="1557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 замыкании ключа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(2)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лампочка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(3)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горае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6836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3200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268360" y="22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403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1332000" y="285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2700360" y="2565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Line 19"/>
          <p:cNvSpPr/>
          <p:nvPr/>
        </p:nvSpPr>
        <p:spPr>
          <a:xfrm>
            <a:off x="255600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205092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>
            <a:off x="1332000" y="285264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25"/>
          <p:cNvSpPr/>
          <p:nvPr/>
        </p:nvSpPr>
        <p:spPr>
          <a:xfrm>
            <a:off x="1332000" y="4005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1332000" y="47242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2124000" y="4365720"/>
            <a:ext cx="647640" cy="647640"/>
          </a:xfrm>
          <a:prstGeom prst="ellipse">
            <a:avLst/>
          </a:prstGeom>
          <a:solidFill>
            <a:srgbClr val="ffff00">
              <a:alpha val="4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28"/>
          <p:cNvSpPr/>
          <p:nvPr/>
        </p:nvSpPr>
        <p:spPr>
          <a:xfrm>
            <a:off x="2771640" y="472428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3635280" y="2852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2195640" y="4508640"/>
            <a:ext cx="5047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31"/>
          <p:cNvSpPr/>
          <p:nvPr/>
        </p:nvSpPr>
        <p:spPr>
          <a:xfrm flipV="1">
            <a:off x="2195640" y="4437000"/>
            <a:ext cx="50472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2771640" y="2852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84" name="AutoShape 40"/>
          <p:cNvCxnSpPr/>
          <p:nvPr/>
        </p:nvCxnSpPr>
        <p:spPr>
          <a:xfrm>
            <a:off x="1331640" y="4019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5" name="Line 41"/>
          <p:cNvSpPr/>
          <p:nvPr/>
        </p:nvSpPr>
        <p:spPr>
          <a:xfrm flipV="1">
            <a:off x="1332000" y="3644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5" descr="20122009361512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59280" y="3789360"/>
            <a:ext cx="3457800" cy="282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87" name="Text Box 46"/>
          <p:cNvSpPr/>
          <p:nvPr/>
        </p:nvSpPr>
        <p:spPr>
          <a:xfrm>
            <a:off x="7236000" y="6308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47"/>
          <p:cNvSpPr/>
          <p:nvPr/>
        </p:nvSpPr>
        <p:spPr>
          <a:xfrm>
            <a:off x="493236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48"/>
          <p:cNvSpPr/>
          <p:nvPr/>
        </p:nvSpPr>
        <p:spPr>
          <a:xfrm>
            <a:off x="7812000" y="414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49"/>
          <p:cNvSpPr/>
          <p:nvPr/>
        </p:nvSpPr>
        <p:spPr>
          <a:xfrm>
            <a:off x="900000" y="5661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хема электрической цеп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50"/>
          <p:cNvSpPr/>
          <p:nvPr/>
        </p:nvSpPr>
        <p:spPr>
          <a:xfrm flipV="1">
            <a:off x="2484360" y="544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51"/>
          <p:cNvSpPr/>
          <p:nvPr/>
        </p:nvSpPr>
        <p:spPr>
          <a:xfrm>
            <a:off x="4788000" y="3068640"/>
            <a:ext cx="396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Verdana"/>
              </a:rPr>
              <a:t>электрическая цеп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52"/>
          <p:cNvSpPr/>
          <p:nvPr/>
        </p:nvSpPr>
        <p:spPr>
          <a:xfrm>
            <a:off x="6227640" y="3429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Задание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я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условные обозначен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начертите схему цепи карманного фонаря и назовите части этой цеп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4" descr="фонарь"/>
          <p:cNvPicPr/>
          <p:nvPr/>
        </p:nvPicPr>
        <p:blipFill>
          <a:blip r:embed="rId2"/>
          <a:srcRect l="0" t="0" r="0" b="-29"/>
          <a:stretch/>
        </p:blipFill>
        <p:spPr>
          <a:xfrm>
            <a:off x="826920" y="3860640"/>
            <a:ext cx="5113440" cy="230364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5">
            <a:hlinkClick r:id="" action="ppaction://hlinkshowjump?jump=nextslide"/>
          </p:cNvPr>
          <p:cNvSpPr/>
          <p:nvPr/>
        </p:nvSpPr>
        <p:spPr>
          <a:xfrm>
            <a:off x="6516720" y="5950080"/>
            <a:ext cx="2305080" cy="574560"/>
          </a:xfrm>
          <a:custGeom>
            <a:avLst/>
            <a:gdLst>
              <a:gd name="textAreaLeft" fmla="*/ 37080 w 2305080"/>
              <a:gd name="textAreaRight" fmla="*/ 2268000 w 230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86616" h="21600">
                <a:moveTo>
                  <a:pt x="0" y="0"/>
                </a:moveTo>
                <a:lnTo>
                  <a:pt x="86616" y="0"/>
                </a:lnTo>
                <a:lnTo>
                  <a:pt x="86616" y="21600"/>
                </a:lnTo>
                <a:lnTo>
                  <a:pt x="0" y="21600"/>
                </a:lnTo>
                <a:close/>
              </a:path>
              <a:path fill="lightenLess" w="86616" h="21600">
                <a:moveTo>
                  <a:pt x="0" y="0"/>
                </a:moveTo>
                <a:lnTo>
                  <a:pt x="86616" y="0"/>
                </a:lnTo>
                <a:lnTo>
                  <a:pt x="85216" y="1400"/>
                </a:lnTo>
                <a:lnTo>
                  <a:pt x="1400" y="1400"/>
                </a:lnTo>
                <a:close/>
              </a:path>
              <a:path fill="darken" w="86616" h="21600">
                <a:moveTo>
                  <a:pt x="86616" y="0"/>
                </a:moveTo>
                <a:lnTo>
                  <a:pt x="86616" y="21600"/>
                </a:lnTo>
                <a:lnTo>
                  <a:pt x="85216" y="20200"/>
                </a:lnTo>
                <a:lnTo>
                  <a:pt x="85216" y="1400"/>
                </a:lnTo>
                <a:close/>
              </a:path>
              <a:path fill="darkenLess" w="86616" h="21600">
                <a:moveTo>
                  <a:pt x="8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216" y="20200"/>
                </a:lnTo>
                <a:close/>
              </a:path>
              <a:path fill="lighten" w="8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616" h="21600">
                <a:moveTo>
                  <a:pt x="37781" y="3985"/>
                </a:moveTo>
                <a:lnTo>
                  <a:pt x="44779" y="3985"/>
                </a:lnTo>
                <a:lnTo>
                  <a:pt x="48835" y="7484"/>
                </a:lnTo>
                <a:lnTo>
                  <a:pt x="48835" y="17615"/>
                </a:lnTo>
                <a:lnTo>
                  <a:pt x="37781" y="17615"/>
                </a:lnTo>
                <a:close/>
              </a:path>
              <a:path fill="darken" w="86616" h="21600">
                <a:moveTo>
                  <a:pt x="44779" y="3985"/>
                </a:moveTo>
                <a:lnTo>
                  <a:pt x="48835" y="7484"/>
                </a:lnTo>
                <a:lnTo>
                  <a:pt x="44779" y="74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верь себ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верка выполнения зад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68360" y="1557360"/>
            <a:ext cx="8424720" cy="4753080"/>
          </a:xfrm>
          <a:prstGeom prst="rect">
            <a:avLst/>
          </a:prstGeom>
          <a:solidFill>
            <a:srgbClr val="33cccc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916360" y="321300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3635280" y="3068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3780000" y="292572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4140360" y="299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4284720" y="292572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25"/>
          <p:cNvSpPr/>
          <p:nvPr/>
        </p:nvSpPr>
        <p:spPr>
          <a:xfrm>
            <a:off x="2916360" y="321300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2916360" y="436572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27"/>
          <p:cNvSpPr/>
          <p:nvPr/>
        </p:nvSpPr>
        <p:spPr>
          <a:xfrm>
            <a:off x="5219640" y="328464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28"/>
          <p:cNvSpPr/>
          <p:nvPr/>
        </p:nvSpPr>
        <p:spPr>
          <a:xfrm flipH="1" flipV="1">
            <a:off x="2771640" y="4003200"/>
            <a:ext cx="1447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Oval 29"/>
          <p:cNvSpPr/>
          <p:nvPr/>
        </p:nvSpPr>
        <p:spPr>
          <a:xfrm>
            <a:off x="3708360" y="4795920"/>
            <a:ext cx="647640" cy="647640"/>
          </a:xfrm>
          <a:prstGeom prst="ellipse">
            <a:avLst/>
          </a:prstGeom>
          <a:solidFill>
            <a:srgbClr val="ffffff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2916360" y="508464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4356000" y="5084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32"/>
          <p:cNvSpPr/>
          <p:nvPr/>
        </p:nvSpPr>
        <p:spPr>
          <a:xfrm flipV="1">
            <a:off x="3780000" y="4868640"/>
            <a:ext cx="5047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Line 33"/>
          <p:cNvSpPr/>
          <p:nvPr/>
        </p:nvSpPr>
        <p:spPr>
          <a:xfrm>
            <a:off x="3780000" y="4869000"/>
            <a:ext cx="50472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34"/>
          <p:cNvSpPr/>
          <p:nvPr/>
        </p:nvSpPr>
        <p:spPr>
          <a:xfrm>
            <a:off x="4284720" y="321300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Line 35"/>
          <p:cNvSpPr/>
          <p:nvPr/>
        </p:nvSpPr>
        <p:spPr>
          <a:xfrm>
            <a:off x="4427640" y="285264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36"/>
          <p:cNvSpPr/>
          <p:nvPr/>
        </p:nvSpPr>
        <p:spPr>
          <a:xfrm>
            <a:off x="4500720" y="278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Line 37"/>
          <p:cNvSpPr/>
          <p:nvPr/>
        </p:nvSpPr>
        <p:spPr>
          <a:xfrm>
            <a:off x="4427640" y="2852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Line 38"/>
          <p:cNvSpPr/>
          <p:nvPr/>
        </p:nvSpPr>
        <p:spPr>
          <a:xfrm>
            <a:off x="3492360" y="2852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6012000" y="3141720"/>
            <a:ext cx="2736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- двух гальванических    элементов 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ключа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Лампочки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оединительные пров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40" descr="фонарь"/>
          <p:cNvPicPr/>
          <p:nvPr/>
        </p:nvPicPr>
        <p:blipFill>
          <a:blip r:embed="rId1"/>
          <a:srcRect l="0" t="0" r="0" b="-41"/>
          <a:stretch/>
        </p:blipFill>
        <p:spPr>
          <a:xfrm>
            <a:off x="324000" y="1052640"/>
            <a:ext cx="4033800" cy="165420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sp>
        <p:nvSpPr>
          <p:cNvPr id="321" name="Text Box 41"/>
          <p:cNvSpPr/>
          <p:nvPr/>
        </p:nvSpPr>
        <p:spPr>
          <a:xfrm>
            <a:off x="4572000" y="227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Фонарь состоит из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3780000" y="35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 Box 43"/>
          <p:cNvSpPr/>
          <p:nvPr/>
        </p:nvSpPr>
        <p:spPr>
          <a:xfrm>
            <a:off x="291636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44"/>
          <p:cNvSpPr/>
          <p:nvPr/>
        </p:nvSpPr>
        <p:spPr>
          <a:xfrm>
            <a:off x="3780000" y="5516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solidFill>
            <a:srgbClr val="33cccc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Book Antiqua"/>
              </a:rPr>
              <a:t>Стр.48 параграф 9 вопро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сылки на использованные материал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[URL=http://www.radikal.ru][IMG]http://s43.radikal.ru/i101/1103/d4/e23fbb4e0b53.jpg[/IMG][/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[URL=http://radikal.ru/F/s42.radikal.ru/i096/1103/6e/b072aaf3498f.jpg.html][IMG]http://s42.radikal.ru/i096/1103/6e/b072aaf3498ft.jpg[/IMG][/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презентации использованы рисунки и задания из учебни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зики – 8 кл., автор  А.В. Перышки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Электрическую энергию от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источника тока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 нужно доставить к </a:t>
            </a: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требител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5" descr="лэп"/>
          <p:cNvPicPr/>
          <p:nvPr/>
        </p:nvPicPr>
        <p:blipFill>
          <a:blip r:embed="rId1"/>
          <a:srcRect l="0" t="0" r="-105" b="66"/>
          <a:stretch/>
        </p:blipFill>
        <p:spPr>
          <a:xfrm>
            <a:off x="2340000" y="1989000"/>
            <a:ext cx="4681440" cy="3095640"/>
          </a:xfrm>
          <a:prstGeom prst="rect">
            <a:avLst/>
          </a:prstGeom>
          <a:ln w="12600">
            <a:solidFill>
              <a:srgbClr val="ffff66"/>
            </a:solidFill>
            <a:miter/>
          </a:ln>
        </p:spPr>
      </p:pic>
      <p:pic>
        <p:nvPicPr>
          <p:cNvPr id="163" name="Picture 6" descr="BMP048"/>
          <p:cNvPicPr/>
          <p:nvPr/>
        </p:nvPicPr>
        <p:blipFill>
          <a:blip r:embed="rId2"/>
          <a:stretch/>
        </p:blipFill>
        <p:spPr>
          <a:xfrm>
            <a:off x="1908000" y="5373720"/>
            <a:ext cx="1513080" cy="129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BMP058"/>
          <p:cNvPicPr/>
          <p:nvPr/>
        </p:nvPicPr>
        <p:blipFill>
          <a:blip r:embed="rId3"/>
          <a:srcRect l="56530" t="0" r="0" b="0"/>
          <a:stretch/>
        </p:blipFill>
        <p:spPr>
          <a:xfrm>
            <a:off x="7308720" y="508464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плита"/>
          <p:cNvPicPr/>
          <p:nvPr/>
        </p:nvPicPr>
        <p:blipFill>
          <a:blip r:embed="rId4"/>
          <a:stretch/>
        </p:blipFill>
        <p:spPr>
          <a:xfrm>
            <a:off x="250920" y="3645000"/>
            <a:ext cx="1428480" cy="1990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эл прибор"/>
          <p:cNvPicPr/>
          <p:nvPr/>
        </p:nvPicPr>
        <p:blipFill>
          <a:blip r:embed="rId5"/>
          <a:srcRect l="-1705" t="0" r="68988" b="0"/>
          <a:stretch/>
        </p:blipFill>
        <p:spPr>
          <a:xfrm>
            <a:off x="7236000" y="3357720"/>
            <a:ext cx="1728720" cy="1420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BMP058"/>
          <p:cNvPicPr/>
          <p:nvPr/>
        </p:nvPicPr>
        <p:blipFill>
          <a:blip r:embed="rId6"/>
          <a:srcRect l="0" t="0" r="49106" b="0"/>
          <a:stretch/>
        </p:blipFill>
        <p:spPr>
          <a:xfrm>
            <a:off x="179280" y="1557360"/>
            <a:ext cx="1764000" cy="143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эл прибор"/>
          <p:cNvPicPr/>
          <p:nvPr/>
        </p:nvPicPr>
        <p:blipFill>
          <a:blip r:embed="rId7"/>
          <a:srcRect l="33061" t="14094" r="35411" b="0"/>
          <a:stretch/>
        </p:blipFill>
        <p:spPr>
          <a:xfrm>
            <a:off x="5148360" y="5373720"/>
            <a:ext cx="1800000" cy="131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эл прибор"/>
          <p:cNvPicPr/>
          <p:nvPr/>
        </p:nvPicPr>
        <p:blipFill>
          <a:blip r:embed="rId8"/>
          <a:srcRect l="67129" t="0" r="0" b="0"/>
          <a:stretch/>
        </p:blipFill>
        <p:spPr>
          <a:xfrm>
            <a:off x="7267680" y="1484280"/>
            <a:ext cx="1876320" cy="1533600"/>
          </a:xfrm>
          <a:prstGeom prst="rect">
            <a:avLst/>
          </a:prstGeom>
          <a:ln w="0">
            <a:noFill/>
          </a:ln>
        </p:spPr>
      </p:pic>
      <p:sp>
        <p:nvSpPr>
          <p:cNvPr id="170" name="Line 13"/>
          <p:cNvSpPr/>
          <p:nvPr/>
        </p:nvSpPr>
        <p:spPr>
          <a:xfrm flipH="1">
            <a:off x="2843280" y="4941720"/>
            <a:ext cx="50472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1692000" y="4005360"/>
            <a:ext cx="934920" cy="431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5"/>
          <p:cNvSpPr/>
          <p:nvPr/>
        </p:nvSpPr>
        <p:spPr>
          <a:xfrm flipH="1" flipV="1">
            <a:off x="1908000" y="2276640"/>
            <a:ext cx="648000" cy="288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6804000" y="2133720"/>
            <a:ext cx="576360" cy="287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6804000" y="3933720"/>
            <a:ext cx="57636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6588000" y="4724280"/>
            <a:ext cx="936720" cy="720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5580000" y="4941720"/>
            <a:ext cx="144360" cy="432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7004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1692360" y="62064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2232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Простейшая 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электрическая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 цепь состоит из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Text Box 40"/>
          <p:cNvSpPr/>
          <p:nvPr/>
        </p:nvSpPr>
        <p:spPr>
          <a:xfrm>
            <a:off x="826920" y="5445000"/>
            <a:ext cx="6985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Чтобы в цепи возник электрический ток, она должна быть замкнутой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619280" y="191628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точника то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619280" y="2708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требителя электроэнер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1873800" y="3449520"/>
            <a:ext cx="49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оединительных пров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1833120" y="4314960"/>
            <a:ext cx="49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амыкающего устрой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В замкнутой цепи ток от источника поступает к потребител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5" descr="201220093606я"/>
          <p:cNvPicPr/>
          <p:nvPr/>
        </p:nvPicPr>
        <p:blipFill>
          <a:blip r:embed="rId1">
            <a:alphaModFix amt="52000"/>
          </a:blip>
          <a:stretch/>
        </p:blipFill>
        <p:spPr>
          <a:xfrm>
            <a:off x="684360" y="1916280"/>
            <a:ext cx="7488000" cy="4357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87" name="AutoShape 6"/>
          <p:cNvSpPr/>
          <p:nvPr/>
        </p:nvSpPr>
        <p:spPr>
          <a:xfrm>
            <a:off x="4932360" y="2276640"/>
            <a:ext cx="2232000" cy="360360"/>
          </a:xfrm>
          <a:prstGeom prst="borderCallout1">
            <a:avLst>
              <a:gd name="adj1" fmla="val 18750"/>
              <a:gd name="adj2" fmla="val -8333"/>
              <a:gd name="adj3" fmla="val 79736"/>
              <a:gd name="adj4" fmla="val -22476"/>
            </a:avLst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826920" y="2276640"/>
            <a:ext cx="187200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79" y="3802"/>
                </a:moveTo>
                <a:lnTo>
                  <a:pt x="23560" y="3802"/>
                </a:lnTo>
                <a:lnTo>
                  <a:pt x="23560" y="22762"/>
                </a:lnTo>
                <a:lnTo>
                  <a:pt x="10186" y="41827"/>
                </a:lnTo>
              </a:path>
            </a:pathLst>
          </a:cu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Источник то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826920" y="5661000"/>
            <a:ext cx="26654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18" y="4000"/>
                </a:moveTo>
                <a:lnTo>
                  <a:pt x="24713" y="4000"/>
                </a:lnTo>
                <a:lnTo>
                  <a:pt x="24713" y="-2306"/>
                </a:lnTo>
                <a:lnTo>
                  <a:pt x="9919" y="-8719"/>
                </a:lnTo>
              </a:path>
            </a:pathLst>
          </a:cu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Замыкающее устройст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003640" y="5661000"/>
            <a:ext cx="26654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18" y="4000"/>
                </a:moveTo>
                <a:lnTo>
                  <a:pt x="24713" y="4000"/>
                </a:lnTo>
                <a:lnTo>
                  <a:pt x="24713" y="-6075"/>
                </a:lnTo>
                <a:lnTo>
                  <a:pt x="13740" y="-16425"/>
                </a:lnTo>
              </a:path>
            </a:pathLst>
          </a:cu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Регистрирующее ток устройст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бис4"/>
          <p:cNvPicPr/>
          <p:nvPr/>
        </p:nvPicPr>
        <p:blipFill>
          <a:blip r:embed="rId1"/>
          <a:stretch/>
        </p:blipFill>
        <p:spPr>
          <a:xfrm>
            <a:off x="5076720" y="260280"/>
            <a:ext cx="3672000" cy="275760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pic>
        <p:nvPicPr>
          <p:cNvPr id="192" name="Picture 11" descr="схема"/>
          <p:cNvPicPr/>
          <p:nvPr/>
        </p:nvPicPr>
        <p:blipFill>
          <a:blip r:embed="rId2"/>
          <a:stretch/>
        </p:blipFill>
        <p:spPr>
          <a:xfrm>
            <a:off x="250920" y="260280"/>
            <a:ext cx="3743280" cy="27687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Электрические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Arial"/>
              </a:rPr>
              <a:t>цепи вокруг нас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7" descr="материнка"/>
          <p:cNvPicPr/>
          <p:nvPr/>
        </p:nvPicPr>
        <p:blipFill>
          <a:blip r:embed="rId3"/>
          <a:stretch/>
        </p:blipFill>
        <p:spPr>
          <a:xfrm>
            <a:off x="900000" y="692280"/>
            <a:ext cx="3889440" cy="21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лэп2"/>
          <p:cNvPicPr/>
          <p:nvPr/>
        </p:nvPicPr>
        <p:blipFill>
          <a:blip r:embed="rId4"/>
          <a:stretch/>
        </p:blipFill>
        <p:spPr>
          <a:xfrm>
            <a:off x="539640" y="3860640"/>
            <a:ext cx="3959280" cy="27813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196" name="Picture 9" descr="nokiaмикросх"/>
          <p:cNvPicPr/>
          <p:nvPr/>
        </p:nvPicPr>
        <p:blipFill>
          <a:blip r:embed="rId5"/>
          <a:stretch/>
        </p:blipFill>
        <p:spPr>
          <a:xfrm>
            <a:off x="5148360" y="3860640"/>
            <a:ext cx="3673440" cy="275616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схема"/>
          <p:cNvPicPr/>
          <p:nvPr/>
        </p:nvPicPr>
        <p:blipFill>
          <a:blip r:embed="rId1"/>
          <a:stretch/>
        </p:blipFill>
        <p:spPr>
          <a:xfrm>
            <a:off x="684360" y="3141720"/>
            <a:ext cx="7762680" cy="3527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Электрическими схемами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зываю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чертежи, на которых изображены способы соединения электрических приборов в цеп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Условные обозначения  на схем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Object 11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162080" cy="71424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12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1171440" cy="61920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14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1180800" cy="64800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16" descr=""/>
          <p:cNvPicPr/>
          <p:nvPr/>
        </p:nvPicPr>
        <p:blipFill>
          <a:blip r:embed="rId4"/>
          <a:stretch/>
        </p:blipFill>
        <p:spPr>
          <a:xfrm>
            <a:off x="684360" y="5229360"/>
            <a:ext cx="1190520" cy="718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8"/>
          <p:cNvSpPr/>
          <p:nvPr/>
        </p:nvSpPr>
        <p:spPr>
          <a:xfrm>
            <a:off x="2700360" y="4621320"/>
            <a:ext cx="554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2191680" y="2214720"/>
            <a:ext cx="68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альванический элемент или аккумулято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26"/>
          <p:cNvSpPr/>
          <p:nvPr/>
        </p:nvSpPr>
        <p:spPr>
          <a:xfrm>
            <a:off x="2643480" y="3213000"/>
            <a:ext cx="63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атарея элементов или аккумулятор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2530080" y="4292640"/>
            <a:ext cx="38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единение прово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2570040" y="53830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есечение провод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7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Условные обозначения, применяемые на схем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Object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1296720" cy="71136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5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1296720" cy="71568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7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1296720" cy="6922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9"/>
          <p:cNvSpPr/>
          <p:nvPr/>
        </p:nvSpPr>
        <p:spPr>
          <a:xfrm>
            <a:off x="2484360" y="184464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жимы для подключения    какого-либо приб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4"/>
          <a:stretch/>
        </p:blipFill>
        <p:spPr>
          <a:xfrm>
            <a:off x="611280" y="4941720"/>
            <a:ext cx="1296720" cy="750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1296720" cy="7491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2"/>
          <p:cNvSpPr/>
          <p:nvPr/>
        </p:nvSpPr>
        <p:spPr>
          <a:xfrm>
            <a:off x="2443320" y="306864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люч, замыкающее устройств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2708280" y="5013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484360" y="5157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мпермет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445840" y="4076640"/>
            <a:ext cx="42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лектрическая лампочк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2621520" y="60213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вольтмет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6" descr=""/>
          <p:cNvPicPr/>
          <p:nvPr/>
        </p:nvPicPr>
        <p:blipFill>
          <a:blip r:embed="rId1"/>
          <a:stretch/>
        </p:blipFill>
        <p:spPr>
          <a:xfrm>
            <a:off x="755640" y="5516640"/>
            <a:ext cx="1295280" cy="718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>
              <a:alpha val="38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Условные обозначения, применяемые на схем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Object 3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129528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9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12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29528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Line 21"/>
          <p:cNvSpPr/>
          <p:nvPr/>
        </p:nvSpPr>
        <p:spPr>
          <a:xfrm>
            <a:off x="1187280" y="5877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2575440" y="1989000"/>
            <a:ext cx="39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лектрический звоно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2473200" y="3068640"/>
            <a:ext cx="652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зистор (проводник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меющий определенное сопротивление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2475360" y="46530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гревательный элемен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2570400" y="573408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лавкий предохранител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8:21:57Z</dcterms:created>
  <dc:creator>Оксана</dc:creator>
  <dc:description/>
  <dc:language>en-US</dc:language>
  <cp:lastModifiedBy>Евгений</cp:lastModifiedBy>
  <dcterms:modified xsi:type="dcterms:W3CDTF">2019-11-13T16:42:17Z</dcterms:modified>
  <cp:revision>24</cp:revision>
  <dc:subject/>
  <dc:title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c0000000000010243100207f6000400038000</vt:lpwstr>
  </property>
</Properties>
</file>