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3C0-BF7E-450E-8DA7-F6FBD48F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712-1E6A-4030-9152-854FD1B9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01B-9F43-446C-BBFF-211FA424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76F-6E99-46CB-B9AE-B8A0905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968-3209-4FF3-B4B4-5D83E4D4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198-B01E-4B90-8012-C8A0360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EB8C-2847-4108-9748-FB56229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371-4EBA-48BC-9884-210C27A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BFAB-47B4-4A01-AB46-B678F0E6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C80F-3256-4DA7-B97C-C213923B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C18-5D64-40CF-A047-6352E417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0B1-0410-4652-8C66-2328D985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A199-0E53-4226-AF2A-62E85B0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65C-ED84-4B07-A7EE-B4B0AF5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C7C-E841-4586-8F0D-59ECAF2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7E8-9A98-4C7D-8C6F-C838D04E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6FF-45A1-47A0-BEDF-9E39DB89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401-0D40-4E48-ADFC-0F18E7FF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1EA-E5F1-4909-89C0-A05DD5B3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3E6-663F-4C56-B915-CFE6BDB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4C4-6CC7-4A2B-BB5D-ECD09B4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9DA-167A-4757-9321-F06529D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2EA-629B-4575-B115-30F70B2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3D4-E8BD-4EF9-A076-EDD937E5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C449-365C-42C4-8142-BF50162C58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5CAC-7778-4C73-B8B6-A55E82199A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49236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260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58920" y="1413000"/>
            <a:ext cx="66261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ffff99"/>
                </a:solidFill>
                <a:latin typeface="Modern No. 20"/>
              </a:rPr>
              <a:t>Электрическая цепь и её составные части</a:t>
            </a: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Прост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не замкнутая</a:t>
            </a: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 электрическая цеп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716360" y="1557360"/>
            <a:ext cx="41767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пь состоит из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ккумулято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ампочк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единительные провод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755640" y="2205000"/>
            <a:ext cx="3313080" cy="3095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1332000" y="2852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23"/>
          <p:cNvSpPr/>
          <p:nvPr/>
        </p:nvSpPr>
        <p:spPr>
          <a:xfrm>
            <a:off x="2195640" y="256536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24"/>
          <p:cNvSpPr/>
          <p:nvPr/>
        </p:nvSpPr>
        <p:spPr>
          <a:xfrm>
            <a:off x="2556000" y="2637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2700360" y="256536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27"/>
          <p:cNvSpPr/>
          <p:nvPr/>
        </p:nvSpPr>
        <p:spPr>
          <a:xfrm>
            <a:off x="1332000" y="285264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28"/>
          <p:cNvSpPr/>
          <p:nvPr/>
        </p:nvSpPr>
        <p:spPr>
          <a:xfrm>
            <a:off x="1332000" y="4005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635280" y="2852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32"/>
          <p:cNvSpPr/>
          <p:nvPr/>
        </p:nvSpPr>
        <p:spPr>
          <a:xfrm flipH="1" flipV="1">
            <a:off x="1187280" y="3644640"/>
            <a:ext cx="14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Oval 33"/>
          <p:cNvSpPr/>
          <p:nvPr/>
        </p:nvSpPr>
        <p:spPr>
          <a:xfrm>
            <a:off x="2124000" y="4365720"/>
            <a:ext cx="647640" cy="647640"/>
          </a:xfrm>
          <a:prstGeom prst="ellipse">
            <a:avLst/>
          </a:prstGeom>
          <a:solidFill>
            <a:srgbClr val="ffffff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4"/>
          <p:cNvSpPr/>
          <p:nvPr/>
        </p:nvSpPr>
        <p:spPr>
          <a:xfrm>
            <a:off x="133200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2771640" y="472428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37"/>
          <p:cNvSpPr/>
          <p:nvPr/>
        </p:nvSpPr>
        <p:spPr>
          <a:xfrm flipV="1">
            <a:off x="2195640" y="4437000"/>
            <a:ext cx="5047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38"/>
          <p:cNvSpPr/>
          <p:nvPr/>
        </p:nvSpPr>
        <p:spPr>
          <a:xfrm>
            <a:off x="2195640" y="450864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140328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268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26836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13200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2700360" y="285264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42" descr="2012200936151234"/>
          <p:cNvPicPr/>
          <p:nvPr/>
        </p:nvPicPr>
        <p:blipFill>
          <a:blip r:embed="rId1">
            <a:lum bright="12000"/>
          </a:blip>
          <a:srcRect l="0" t="0" r="-29" b="0"/>
          <a:stretch/>
        </p:blipFill>
        <p:spPr>
          <a:xfrm>
            <a:off x="4859280" y="3789360"/>
            <a:ext cx="3457800" cy="282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6" name="Text Box 43"/>
          <p:cNvSpPr/>
          <p:nvPr/>
        </p:nvSpPr>
        <p:spPr>
          <a:xfrm>
            <a:off x="485928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45"/>
          <p:cNvSpPr/>
          <p:nvPr/>
        </p:nvSpPr>
        <p:spPr>
          <a:xfrm>
            <a:off x="7236000" y="630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7812000" y="414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900000" y="5661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хема электрической цеп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48"/>
          <p:cNvSpPr/>
          <p:nvPr/>
        </p:nvSpPr>
        <p:spPr>
          <a:xfrm flipV="1">
            <a:off x="2484360" y="544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4788000" y="57340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электрическая цеп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6"/>
          <p:cNvSpPr/>
          <p:nvPr/>
        </p:nvSpPr>
        <p:spPr>
          <a:xfrm>
            <a:off x="755640" y="2205000"/>
            <a:ext cx="3313080" cy="3095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Прост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замкнутая </a:t>
            </a: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электрическая цеп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5292720" y="2421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50920" y="1557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замыкании ключ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(2)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лампочк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(3)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горае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6836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3200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268360" y="22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403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1332000" y="285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2700360" y="2565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Line 19"/>
          <p:cNvSpPr/>
          <p:nvPr/>
        </p:nvSpPr>
        <p:spPr>
          <a:xfrm>
            <a:off x="2556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1332000" y="285264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25"/>
          <p:cNvSpPr/>
          <p:nvPr/>
        </p:nvSpPr>
        <p:spPr>
          <a:xfrm>
            <a:off x="1332000" y="4005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133200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2124000" y="4365720"/>
            <a:ext cx="647640" cy="647640"/>
          </a:xfrm>
          <a:prstGeom prst="ellipse">
            <a:avLst/>
          </a:prstGeom>
          <a:solidFill>
            <a:srgbClr val="ffff00">
              <a:alpha val="4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2771640" y="472428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3635280" y="2852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2195640" y="4508640"/>
            <a:ext cx="50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31"/>
          <p:cNvSpPr/>
          <p:nvPr/>
        </p:nvSpPr>
        <p:spPr>
          <a:xfrm flipV="1">
            <a:off x="2195640" y="4437000"/>
            <a:ext cx="50472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2771640" y="2852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84" name="AutoShape 40"/>
          <p:cNvCxnSpPr/>
          <p:nvPr/>
        </p:nvCxnSpPr>
        <p:spPr>
          <a:xfrm>
            <a:off x="1331640" y="4019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5" name="Line 41"/>
          <p:cNvSpPr/>
          <p:nvPr/>
        </p:nvSpPr>
        <p:spPr>
          <a:xfrm flipV="1">
            <a:off x="1332000" y="364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5" descr="2012200936151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3789360"/>
            <a:ext cx="3457800" cy="282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87" name="Text Box 46"/>
          <p:cNvSpPr/>
          <p:nvPr/>
        </p:nvSpPr>
        <p:spPr>
          <a:xfrm>
            <a:off x="7236000" y="630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47"/>
          <p:cNvSpPr/>
          <p:nvPr/>
        </p:nvSpPr>
        <p:spPr>
          <a:xfrm>
            <a:off x="493236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48"/>
          <p:cNvSpPr/>
          <p:nvPr/>
        </p:nvSpPr>
        <p:spPr>
          <a:xfrm>
            <a:off x="7812000" y="414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49"/>
          <p:cNvSpPr/>
          <p:nvPr/>
        </p:nvSpPr>
        <p:spPr>
          <a:xfrm>
            <a:off x="900000" y="5661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хема электрической цеп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50"/>
          <p:cNvSpPr/>
          <p:nvPr/>
        </p:nvSpPr>
        <p:spPr>
          <a:xfrm flipV="1">
            <a:off x="2484360" y="544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51"/>
          <p:cNvSpPr/>
          <p:nvPr/>
        </p:nvSpPr>
        <p:spPr>
          <a:xfrm>
            <a:off x="4788000" y="306864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Verdana"/>
              </a:rPr>
              <a:t>электрическая цеп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52"/>
          <p:cNvSpPr/>
          <p:nvPr/>
        </p:nvSpPr>
        <p:spPr>
          <a:xfrm>
            <a:off x="622764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я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условные обознач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начертите схему цепи карманного фонаря и назовите части этой цеп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4" descr="фонарь"/>
          <p:cNvPicPr/>
          <p:nvPr/>
        </p:nvPicPr>
        <p:blipFill>
          <a:blip r:embed="rId2"/>
          <a:srcRect l="0" t="0" r="0" b="-29"/>
          <a:stretch/>
        </p:blipFill>
        <p:spPr>
          <a:xfrm>
            <a:off x="826920" y="3860640"/>
            <a:ext cx="5113440" cy="230364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">
            <a:hlinkClick r:id="" action="ppaction://hlinkshowjump?jump=nextslide"/>
          </p:cNvPr>
          <p:cNvSpPr/>
          <p:nvPr/>
        </p:nvSpPr>
        <p:spPr>
          <a:xfrm>
            <a:off x="6516720" y="5950080"/>
            <a:ext cx="2305080" cy="5745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6616" h="21600">
                <a:moveTo>
                  <a:pt x="0" y="0"/>
                </a:moveTo>
                <a:lnTo>
                  <a:pt x="86616" y="0"/>
                </a:lnTo>
                <a:lnTo>
                  <a:pt x="86616" y="21600"/>
                </a:lnTo>
                <a:lnTo>
                  <a:pt x="0" y="21600"/>
                </a:lnTo>
                <a:close/>
              </a:path>
              <a:path fill="lightenLess" w="86616" h="21600">
                <a:moveTo>
                  <a:pt x="0" y="0"/>
                </a:moveTo>
                <a:lnTo>
                  <a:pt x="86616" y="0"/>
                </a:lnTo>
                <a:lnTo>
                  <a:pt x="85216" y="1400"/>
                </a:lnTo>
                <a:lnTo>
                  <a:pt x="1400" y="1400"/>
                </a:lnTo>
                <a:close/>
              </a:path>
              <a:path fill="darken" w="86616" h="21600">
                <a:moveTo>
                  <a:pt x="86616" y="0"/>
                </a:moveTo>
                <a:lnTo>
                  <a:pt x="86616" y="21600"/>
                </a:lnTo>
                <a:lnTo>
                  <a:pt x="85216" y="20200"/>
                </a:lnTo>
                <a:lnTo>
                  <a:pt x="85216" y="1400"/>
                </a:lnTo>
                <a:close/>
              </a:path>
              <a:path fill="darkenLess" w="86616" h="21600">
                <a:moveTo>
                  <a:pt x="8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216" y="20200"/>
                </a:lnTo>
                <a:close/>
              </a:path>
              <a:path fill="lighten" w="8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616" h="21600">
                <a:moveTo>
                  <a:pt x="37781" y="3985"/>
                </a:moveTo>
                <a:lnTo>
                  <a:pt x="44779" y="3985"/>
                </a:lnTo>
                <a:lnTo>
                  <a:pt x="48835" y="7484"/>
                </a:lnTo>
                <a:lnTo>
                  <a:pt x="48835" y="17615"/>
                </a:lnTo>
                <a:lnTo>
                  <a:pt x="37781" y="17615"/>
                </a:lnTo>
                <a:close/>
              </a:path>
              <a:path fill="darken" w="86616" h="21600">
                <a:moveTo>
                  <a:pt x="44779" y="3985"/>
                </a:moveTo>
                <a:lnTo>
                  <a:pt x="48835" y="7484"/>
                </a:lnTo>
                <a:lnTo>
                  <a:pt x="44779" y="74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верь себ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верка выполнения зад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68360" y="1557360"/>
            <a:ext cx="8424720" cy="4753080"/>
          </a:xfrm>
          <a:prstGeom prst="rect">
            <a:avLst/>
          </a:prstGeom>
          <a:solidFill>
            <a:srgbClr val="33cccc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916360" y="321300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3635280" y="3068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3780000" y="292572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4140360" y="299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4284720" y="292572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25"/>
          <p:cNvSpPr/>
          <p:nvPr/>
        </p:nvSpPr>
        <p:spPr>
          <a:xfrm>
            <a:off x="2916360" y="321300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2916360" y="436572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27"/>
          <p:cNvSpPr/>
          <p:nvPr/>
        </p:nvSpPr>
        <p:spPr>
          <a:xfrm>
            <a:off x="5219640" y="3284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28"/>
          <p:cNvSpPr/>
          <p:nvPr/>
        </p:nvSpPr>
        <p:spPr>
          <a:xfrm flipH="1" flipV="1">
            <a:off x="2771640" y="4003200"/>
            <a:ext cx="14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Oval 29"/>
          <p:cNvSpPr/>
          <p:nvPr/>
        </p:nvSpPr>
        <p:spPr>
          <a:xfrm>
            <a:off x="3708360" y="4795920"/>
            <a:ext cx="647640" cy="647640"/>
          </a:xfrm>
          <a:prstGeom prst="ellipse">
            <a:avLst/>
          </a:prstGeom>
          <a:solidFill>
            <a:srgbClr val="ffffff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2916360" y="50846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4356000" y="5084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32"/>
          <p:cNvSpPr/>
          <p:nvPr/>
        </p:nvSpPr>
        <p:spPr>
          <a:xfrm flipV="1">
            <a:off x="3780000" y="4868640"/>
            <a:ext cx="5047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33"/>
          <p:cNvSpPr/>
          <p:nvPr/>
        </p:nvSpPr>
        <p:spPr>
          <a:xfrm>
            <a:off x="3780000" y="4869000"/>
            <a:ext cx="50472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34"/>
          <p:cNvSpPr/>
          <p:nvPr/>
        </p:nvSpPr>
        <p:spPr>
          <a:xfrm>
            <a:off x="4284720" y="321300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35"/>
          <p:cNvSpPr/>
          <p:nvPr/>
        </p:nvSpPr>
        <p:spPr>
          <a:xfrm>
            <a:off x="4427640" y="285264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36"/>
          <p:cNvSpPr/>
          <p:nvPr/>
        </p:nvSpPr>
        <p:spPr>
          <a:xfrm>
            <a:off x="4500720" y="278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Line 37"/>
          <p:cNvSpPr/>
          <p:nvPr/>
        </p:nvSpPr>
        <p:spPr>
          <a:xfrm>
            <a:off x="442764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Line 38"/>
          <p:cNvSpPr/>
          <p:nvPr/>
        </p:nvSpPr>
        <p:spPr>
          <a:xfrm>
            <a:off x="3492360" y="2852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6012000" y="3141720"/>
            <a:ext cx="2736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- двух гальванических    элементов 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ключа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Лампочки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оединительные пров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40" descr="фонарь"/>
          <p:cNvPicPr/>
          <p:nvPr/>
        </p:nvPicPr>
        <p:blipFill>
          <a:blip r:embed="rId1"/>
          <a:srcRect l="0" t="0" r="0" b="-41"/>
          <a:stretch/>
        </p:blipFill>
        <p:spPr>
          <a:xfrm>
            <a:off x="324000" y="1052640"/>
            <a:ext cx="4033800" cy="16542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sp>
        <p:nvSpPr>
          <p:cNvPr id="321" name="Text Box 41"/>
          <p:cNvSpPr/>
          <p:nvPr/>
        </p:nvSpPr>
        <p:spPr>
          <a:xfrm>
            <a:off x="4572000" y="227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Фонарь состоит из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3780000" y="35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43"/>
          <p:cNvSpPr/>
          <p:nvPr/>
        </p:nvSpPr>
        <p:spPr>
          <a:xfrm>
            <a:off x="291636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44"/>
          <p:cNvSpPr/>
          <p:nvPr/>
        </p:nvSpPr>
        <p:spPr>
          <a:xfrm>
            <a:off x="3780000" y="5516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solidFill>
            <a:srgbClr val="33cccc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Book Antiqua"/>
              </a:rPr>
              <a:t>Стр.48 параграф 9 вопро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сылки на использованные материал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[URL=http://www.radikal.ru][IMG]http://s43.radikal.ru/i101/1103/d4/e23fbb4e0b53.jpg[/IMG][/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[URL=http://radikal.ru/F/s42.radikal.ru/i096/1103/6e/b072aaf3498f.jpg.html][IMG]http://s42.radikal.ru/i096/1103/6e/b072aaf3498ft.jpg[/IMG][/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резентации использованы рисунки и задания из учебни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зики – 8 кл., автор  А.В. Перышки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Электрическую энергию от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источника тока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 нужно доставить к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5" descr="лэп"/>
          <p:cNvPicPr/>
          <p:nvPr/>
        </p:nvPicPr>
        <p:blipFill>
          <a:blip r:embed="rId1"/>
          <a:srcRect l="0" t="0" r="-105" b="66"/>
          <a:stretch/>
        </p:blipFill>
        <p:spPr>
          <a:xfrm>
            <a:off x="2340000" y="1989000"/>
            <a:ext cx="4681440" cy="30956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63" name="Picture 6" descr="BMP048"/>
          <p:cNvPicPr/>
          <p:nvPr/>
        </p:nvPicPr>
        <p:blipFill>
          <a:blip r:embed="rId2"/>
          <a:stretch/>
        </p:blipFill>
        <p:spPr>
          <a:xfrm>
            <a:off x="1908000" y="5373720"/>
            <a:ext cx="1513080" cy="129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BMP058"/>
          <p:cNvPicPr/>
          <p:nvPr/>
        </p:nvPicPr>
        <p:blipFill>
          <a:blip r:embed="rId3"/>
          <a:srcRect l="56530" t="0" r="0" b="0"/>
          <a:stretch/>
        </p:blipFill>
        <p:spPr>
          <a:xfrm>
            <a:off x="7308720" y="508464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плита"/>
          <p:cNvPicPr/>
          <p:nvPr/>
        </p:nvPicPr>
        <p:blipFill>
          <a:blip r:embed="rId4"/>
          <a:stretch/>
        </p:blipFill>
        <p:spPr>
          <a:xfrm>
            <a:off x="250920" y="3645000"/>
            <a:ext cx="1428480" cy="199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эл прибор"/>
          <p:cNvPicPr/>
          <p:nvPr/>
        </p:nvPicPr>
        <p:blipFill>
          <a:blip r:embed="rId5"/>
          <a:srcRect l="-1705" t="0" r="68988" b="0"/>
          <a:stretch/>
        </p:blipFill>
        <p:spPr>
          <a:xfrm>
            <a:off x="7236000" y="3357720"/>
            <a:ext cx="1728720" cy="1420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BMP058"/>
          <p:cNvPicPr/>
          <p:nvPr/>
        </p:nvPicPr>
        <p:blipFill>
          <a:blip r:embed="rId6"/>
          <a:srcRect l="0" t="0" r="49106" b="0"/>
          <a:stretch/>
        </p:blipFill>
        <p:spPr>
          <a:xfrm>
            <a:off x="179280" y="1557360"/>
            <a:ext cx="1764000" cy="143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эл прибор"/>
          <p:cNvPicPr/>
          <p:nvPr/>
        </p:nvPicPr>
        <p:blipFill>
          <a:blip r:embed="rId7"/>
          <a:srcRect l="33061" t="14094" r="35411" b="0"/>
          <a:stretch/>
        </p:blipFill>
        <p:spPr>
          <a:xfrm>
            <a:off x="5148360" y="5373720"/>
            <a:ext cx="1800000" cy="131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эл прибор"/>
          <p:cNvPicPr/>
          <p:nvPr/>
        </p:nvPicPr>
        <p:blipFill>
          <a:blip r:embed="rId8"/>
          <a:srcRect l="67129" t="0" r="0" b="0"/>
          <a:stretch/>
        </p:blipFill>
        <p:spPr>
          <a:xfrm>
            <a:off x="7267680" y="1484280"/>
            <a:ext cx="1876320" cy="1533600"/>
          </a:xfrm>
          <a:prstGeom prst="rect">
            <a:avLst/>
          </a:prstGeom>
          <a:ln w="0">
            <a:noFill/>
          </a:ln>
        </p:spPr>
      </p:pic>
      <p:sp>
        <p:nvSpPr>
          <p:cNvPr id="170" name="Line 13"/>
          <p:cNvSpPr/>
          <p:nvPr/>
        </p:nvSpPr>
        <p:spPr>
          <a:xfrm flipH="1">
            <a:off x="2843280" y="4941720"/>
            <a:ext cx="50472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1692000" y="4005360"/>
            <a:ext cx="934920" cy="431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 flipH="1" flipV="1">
            <a:off x="1908000" y="2276640"/>
            <a:ext cx="648000" cy="288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6804000" y="2133720"/>
            <a:ext cx="576360" cy="287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804000" y="3933720"/>
            <a:ext cx="57636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6588000" y="4724280"/>
            <a:ext cx="936720" cy="720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5580000" y="4941720"/>
            <a:ext cx="144360" cy="432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7004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1692360" y="620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2232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Простейш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электрическая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 цепь состоит из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826920" y="5445000"/>
            <a:ext cx="6985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Чтобы в цепи возник электрический ток, она должна быть замкнуто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619280" y="1916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точника т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619280" y="2708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требителя электроэнер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1873800" y="3449520"/>
            <a:ext cx="49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оединительных пров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1833120" y="431496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амыкающего устрой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В замкнутой цепи ток от источника поступает к 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5" descr="201220093606я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684360" y="1916280"/>
            <a:ext cx="7488000" cy="4357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87" name="AutoShape 6"/>
          <p:cNvSpPr/>
          <p:nvPr/>
        </p:nvSpPr>
        <p:spPr>
          <a:xfrm>
            <a:off x="4932360" y="2276640"/>
            <a:ext cx="2232000" cy="360360"/>
          </a:xfrm>
          <a:prstGeom prst="borderCallout1">
            <a:avLst>
              <a:gd name="adj1" fmla="val 18750"/>
              <a:gd name="adj2" fmla="val -8333"/>
              <a:gd name="adj3" fmla="val 79736"/>
              <a:gd name="adj4" fmla="val -22476"/>
            </a:avLst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826920" y="2276640"/>
            <a:ext cx="187200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79" y="3802"/>
                </a:moveTo>
                <a:lnTo>
                  <a:pt x="23560" y="3802"/>
                </a:lnTo>
                <a:lnTo>
                  <a:pt x="23560" y="22762"/>
                </a:lnTo>
                <a:lnTo>
                  <a:pt x="10186" y="41827"/>
                </a:lnTo>
              </a:path>
            </a:pathLst>
          </a:cu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Источник то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826920" y="5661000"/>
            <a:ext cx="2665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18" y="4000"/>
                </a:moveTo>
                <a:lnTo>
                  <a:pt x="24713" y="4000"/>
                </a:lnTo>
                <a:lnTo>
                  <a:pt x="24713" y="-2306"/>
                </a:lnTo>
                <a:lnTo>
                  <a:pt x="9919" y="-8719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Замыкающее устрой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003640" y="5661000"/>
            <a:ext cx="2665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18" y="4000"/>
                </a:moveTo>
                <a:lnTo>
                  <a:pt x="24713" y="4000"/>
                </a:lnTo>
                <a:lnTo>
                  <a:pt x="24713" y="-6075"/>
                </a:lnTo>
                <a:lnTo>
                  <a:pt x="13740" y="-16425"/>
                </a:lnTo>
              </a:path>
            </a:pathLst>
          </a:cu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Регистрирующее ток устрой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бис4"/>
          <p:cNvPicPr/>
          <p:nvPr/>
        </p:nvPicPr>
        <p:blipFill>
          <a:blip r:embed="rId1"/>
          <a:stretch/>
        </p:blipFill>
        <p:spPr>
          <a:xfrm>
            <a:off x="5076720" y="260280"/>
            <a:ext cx="3672000" cy="27576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92" name="Picture 11" descr="схема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27687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Электр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цепи вокруг нас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7" descr="материнка"/>
          <p:cNvPicPr/>
          <p:nvPr/>
        </p:nvPicPr>
        <p:blipFill>
          <a:blip r:embed="rId3"/>
          <a:stretch/>
        </p:blipFill>
        <p:spPr>
          <a:xfrm>
            <a:off x="900000" y="692280"/>
            <a:ext cx="3889440" cy="21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лэп2"/>
          <p:cNvPicPr/>
          <p:nvPr/>
        </p:nvPicPr>
        <p:blipFill>
          <a:blip r:embed="rId4"/>
          <a:stretch/>
        </p:blipFill>
        <p:spPr>
          <a:xfrm>
            <a:off x="539640" y="3860640"/>
            <a:ext cx="3959280" cy="27813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96" name="Picture 9" descr="nokiaмикросх"/>
          <p:cNvPicPr/>
          <p:nvPr/>
        </p:nvPicPr>
        <p:blipFill>
          <a:blip r:embed="rId5"/>
          <a:stretch/>
        </p:blipFill>
        <p:spPr>
          <a:xfrm>
            <a:off x="5148360" y="3860640"/>
            <a:ext cx="3673440" cy="275616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схема"/>
          <p:cNvPicPr/>
          <p:nvPr/>
        </p:nvPicPr>
        <p:blipFill>
          <a:blip r:embed="rId1"/>
          <a:stretch/>
        </p:blipFill>
        <p:spPr>
          <a:xfrm>
            <a:off x="684360" y="3141720"/>
            <a:ext cx="7762680" cy="3527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Электрическими схемами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зываю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чертежи, на которых изображены способы соединения электрических приборов в цеп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Условные обозначения 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Object 1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162080" cy="71424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12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1171440" cy="61920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14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1180800" cy="64800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16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1190520" cy="718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2700360" y="4621320"/>
            <a:ext cx="55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2191680" y="2214720"/>
            <a:ext cx="68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альванический элемент или аккумулято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26"/>
          <p:cNvSpPr/>
          <p:nvPr/>
        </p:nvSpPr>
        <p:spPr>
          <a:xfrm>
            <a:off x="2643480" y="3213000"/>
            <a:ext cx="63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атарея элементов или аккумулятор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2530080" y="4292640"/>
            <a:ext cx="38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единение прово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2570040" y="53830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есечение провод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Условные обозначения, применяемые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Object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1296720" cy="71136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5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1296720" cy="71568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7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1296720" cy="6922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9"/>
          <p:cNvSpPr/>
          <p:nvPr/>
        </p:nvSpPr>
        <p:spPr>
          <a:xfrm>
            <a:off x="2484360" y="184464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жимы для подключения    какого-либо приб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4"/>
          <a:stretch/>
        </p:blipFill>
        <p:spPr>
          <a:xfrm>
            <a:off x="611280" y="4941720"/>
            <a:ext cx="1296720" cy="750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1296720" cy="7491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2"/>
          <p:cNvSpPr/>
          <p:nvPr/>
        </p:nvSpPr>
        <p:spPr>
          <a:xfrm>
            <a:off x="2443320" y="306864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люч, замыкающее устройств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708280" y="5013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48436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мпермет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445840" y="4076640"/>
            <a:ext cx="42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лектрическая лампочк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2621520" y="60213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вольтмет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6" descr=""/>
          <p:cNvPicPr/>
          <p:nvPr/>
        </p:nvPicPr>
        <p:blipFill>
          <a:blip r:embed="rId1"/>
          <a:stretch/>
        </p:blipFill>
        <p:spPr>
          <a:xfrm>
            <a:off x="755640" y="5516640"/>
            <a:ext cx="1295280" cy="718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Условные обозначения, применяемые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9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12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29528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Line 21"/>
          <p:cNvSpPr/>
          <p:nvPr/>
        </p:nvSpPr>
        <p:spPr>
          <a:xfrm>
            <a:off x="1187280" y="5877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2575440" y="198900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ктрический звоно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2473200" y="3068640"/>
            <a:ext cx="652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зистор (проводник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меющий определенное сопротивление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2475360" y="46530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гревательный элемен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570400" y="573408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вкий предохранител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8:21:57Z</dcterms:created>
  <dc:creator>Оксана</dc:creator>
  <dc:description/>
  <dc:language>en-US</dc:language>
  <cp:lastModifiedBy>Евгений</cp:lastModifiedBy>
  <dcterms:modified xsi:type="dcterms:W3CDTF">2019-11-13T16:42:17Z</dcterms:modified>
  <cp:revision>24</cp:revision>
  <dc:subject/>
  <dc:title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c0000000000010243100207f6000400038000</vt:lpwstr>
  </property>
</Properties>
</file>