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193-17B6-4033-BB9E-5415DA13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F69-D8F6-44C3-BFF7-23C4D274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BAA-5C35-4928-9168-749D74B4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7FB-1B2E-4C0C-95EE-F04E512D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593-3819-4903-986B-FD622BA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7D2-98EA-4F8E-86EF-C7B4784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F5A-FC7E-4C02-A8A9-D9C4AC0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6F7-F679-49A0-AE68-BCF11CE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1EE-06FF-4C39-A0AC-DAD0FFB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BDC-EBB5-402B-B29D-26B4DD3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9E4-9284-433A-94E3-5207D3F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65D-E7C5-447C-8D6C-98C21F1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5A73-8C74-4CB4-BACE-3027774AE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25360" y="1889280"/>
            <a:ext cx="8772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Нина\Documents\image_image_959429.jpg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553440"/>
          </a:xfrm>
          <a:prstGeom prst="rect">
            <a:avLst/>
          </a:prstGeom>
          <a:ln w="0">
            <a:noFill/>
          </a:ln>
        </p:spPr>
      </p:pic>
      <p:pic>
        <p:nvPicPr>
          <p:cNvPr id="43" name="(VocalRemover.ru) c0e535da76b456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8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lh3.googleusercontent.com/zkHAf-XfRFsvah1tuxxsFbmG9vzUWZ1Ih1TxdbsFLjc9SjJZa46HhhCD9HyeDHCdO2t3dnYaSyyyBGkIiRcsgbI4Qy2sXEmNjHIqR5F16lKL2HFHWQrSmEzf7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laycast.ru/uploads/2012/12/03/4163068.gif"/>
          <p:cNvPicPr/>
          <p:nvPr/>
        </p:nvPicPr>
        <p:blipFill>
          <a:blip r:embed="rId1"/>
          <a:stretch/>
        </p:blipFill>
        <p:spPr>
          <a:xfrm>
            <a:off x="0" y="-466560"/>
            <a:ext cx="9353520" cy="7324560"/>
          </a:xfrm>
          <a:prstGeom prst="rect">
            <a:avLst/>
          </a:prstGeom>
          <a:ln w="0">
            <a:noFill/>
          </a:ln>
        </p:spPr>
      </p:pic>
      <p:pic>
        <p:nvPicPr>
          <p:cNvPr id="46" name="Г.Свиридов. Поёт зима аукает.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82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laycast.ru/uploads/2008/11/27/751438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Над окошком месяц.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843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23:27:40Z</dcterms:created>
  <dc:creator>Нина</dc:creator>
  <dc:description/>
  <dc:language>en-US</dc:language>
  <cp:lastModifiedBy>Нина</cp:lastModifiedBy>
  <dcterms:modified xsi:type="dcterms:W3CDTF">2015-12-11T00:11:11Z</dcterms:modified>
  <cp:revision>5</cp:revision>
  <dc:subject/>
  <dc:title>Слайд 1</dc:title>
</cp:coreProperties>
</file>