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9BB-BA89-420F-BA01-EA944BF0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605-875D-41E2-BA38-81DDAD8E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DD9-A893-44DF-BC90-2B4C2991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19F-F558-4701-8BE0-F3150910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521-22E3-4B26-8997-91CF36D6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BBD-DB50-45E8-AE88-33DFDBDE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39D-0963-427F-94BA-EFFB387B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A0E-98C8-4A21-83F9-092DA4C1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255-952B-41EE-9B1C-9CE8FAB8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E25-BD12-47FA-9607-38C9642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B1E-81C9-4BB1-984C-1A5BE06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448-376D-4602-A75B-71FE57B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1F2-F6AF-4A16-8BE1-0F4EFBACB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25360" y="1889280"/>
            <a:ext cx="8772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Нина\Documents\image_image_959429.jpg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553440"/>
          </a:xfrm>
          <a:prstGeom prst="rect">
            <a:avLst/>
          </a:prstGeom>
          <a:ln w="0">
            <a:noFill/>
          </a:ln>
        </p:spPr>
      </p:pic>
      <p:pic>
        <p:nvPicPr>
          <p:cNvPr id="43" name="(VocalRemover.ru) c0e535da76b456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81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lh3.googleusercontent.com/zkHAf-XfRFsvah1tuxxsFbmG9vzUWZ1Ih1TxdbsFLjc9SjJZa46HhhCD9HyeDHCdO2t3dnYaSyyyBGkIiRcsgbI4Qy2sXEmNjHIqR5F16lKL2HFHWQrSmEzf7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playcast.ru/uploads/2012/12/03/4163068.gif"/>
          <p:cNvPicPr/>
          <p:nvPr/>
        </p:nvPicPr>
        <p:blipFill>
          <a:blip r:embed="rId1"/>
          <a:stretch/>
        </p:blipFill>
        <p:spPr>
          <a:xfrm>
            <a:off x="0" y="-466560"/>
            <a:ext cx="9353520" cy="7324560"/>
          </a:xfrm>
          <a:prstGeom prst="rect">
            <a:avLst/>
          </a:prstGeom>
          <a:ln w="0">
            <a:noFill/>
          </a:ln>
        </p:spPr>
      </p:pic>
      <p:pic>
        <p:nvPicPr>
          <p:cNvPr id="46" name="Г.Свиридов. Поёт зима аукает.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82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laycast.ru/uploads/2008/11/27/751438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Над окошком месяц.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843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23:27:40Z</dcterms:created>
  <dc:creator>Нина</dc:creator>
  <dc:description/>
  <dc:language>en-US</dc:language>
  <cp:lastModifiedBy>Нина</cp:lastModifiedBy>
  <dcterms:modified xsi:type="dcterms:W3CDTF">2015-12-11T00:11:11Z</dcterms:modified>
  <cp:revision>5</cp:revision>
  <dc:subject/>
  <dc:title>Слайд 1</dc:title>
</cp:coreProperties>
</file>