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gif" ContentType="image/gi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11517-C0D0-4499-93CA-82F2605DEA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857DC-59B4-45AC-BF12-A6662F9267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D3A-19C9-47A0-948E-AA9E6A61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D63-8AF1-4B64-83E1-8B16B67E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9E1-5F77-45E2-BBDC-E714D5FB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620-A95B-4A72-8267-1C5CAC48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799-E355-43FD-86C4-51E0895F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F30-3EC6-47AB-9A14-F16E0312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E72-136B-4BC6-AE5F-9C6DDCC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2DC-9E56-44F5-8CD5-4072126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58C-7F40-4C22-AAE9-5877F5D9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4C0-26EB-490D-9C13-14AE908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675-FDE1-429E-B193-587374D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E11-7AC3-4043-A060-D99BECB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91A1C-E51E-4CA7-9917-7E07FAE56F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36720" y="5364000"/>
            <a:ext cx="71755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Игра - Верт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«Путешествие по школьным предмет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Подготовила Минаева В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152360" y="125280"/>
            <a:ext cx="6357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 АО «Северодвинский детский до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112240" y="4643280"/>
            <a:ext cx="157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entury Schoolbook"/>
              </a:rPr>
              <a:t>Думай, смекай, отгады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http://im4-tub.yandex.net/i?id=230377498-32-72"/>
          <p:cNvPicPr/>
          <p:nvPr/>
        </p:nvPicPr>
        <p:blipFill>
          <a:blip r:embed="rId1"/>
          <a:stretch/>
        </p:blipFill>
        <p:spPr>
          <a:xfrm>
            <a:off x="647640" y="6300720"/>
            <a:ext cx="116352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Бараш 19.png"/>
          <p:cNvPicPr/>
          <p:nvPr/>
        </p:nvPicPr>
        <p:blipFill>
          <a:blip r:embed="rId2"/>
          <a:stretch/>
        </p:blipFill>
        <p:spPr>
          <a:xfrm>
            <a:off x="-216000" y="-541440"/>
            <a:ext cx="2303640" cy="2835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627280" y="351000"/>
            <a:ext cx="65563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7. стан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нестандартно мыслящ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9"/>
          <p:cNvSpPr/>
          <p:nvPr/>
        </p:nvSpPr>
        <p:spPr>
          <a:xfrm>
            <a:off x="2160720" y="1403280"/>
            <a:ext cx="135720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3" descr="6 спичек"/>
          <p:cNvPicPr/>
          <p:nvPr/>
        </p:nvPicPr>
        <p:blipFill>
          <a:blip r:embed="rId3"/>
          <a:stretch/>
        </p:blipFill>
        <p:spPr>
          <a:xfrm>
            <a:off x="936720" y="2556000"/>
            <a:ext cx="1871640" cy="1224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4"/>
          <p:cNvSpPr/>
          <p:nvPr/>
        </p:nvSpPr>
        <p:spPr>
          <a:xfrm>
            <a:off x="503280" y="3924360"/>
            <a:ext cx="4249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разме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пичек так, чтобы каждая спич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ас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тальными пя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5" descr="Крестики нолики"/>
          <p:cNvPicPr/>
          <p:nvPr/>
        </p:nvPicPr>
        <p:blipFill>
          <a:blip r:embed="rId4"/>
          <a:stretch/>
        </p:blipFill>
        <p:spPr>
          <a:xfrm>
            <a:off x="6769080" y="2195640"/>
            <a:ext cx="1609920" cy="15825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3"/>
          <p:cNvSpPr/>
          <p:nvPr/>
        </p:nvSpPr>
        <p:spPr>
          <a:xfrm>
            <a:off x="5616720" y="4589640"/>
            <a:ext cx="3527280" cy="145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. Необходимо переложить 3 спички так, чтобы получить ровно 3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ttp://zabavnik.club/wp-content/uploads/Kartinki_pro_parovozik_iz_Romashkovo_58_01035433.jpg"/>
          <p:cNvPicPr/>
          <p:nvPr/>
        </p:nvPicPr>
        <p:blipFill>
          <a:blip r:embed="rId1"/>
          <a:stretch/>
        </p:blipFill>
        <p:spPr>
          <a:xfrm>
            <a:off x="68400" y="0"/>
            <a:ext cx="10012320" cy="755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fantany.ru/media/images/frames_prev/fmp_43391415638786.jpg"/>
          <p:cNvPicPr/>
          <p:nvPr/>
        </p:nvPicPr>
        <p:blipFill>
          <a:blip r:embed="rId2"/>
          <a:stretch/>
        </p:blipFill>
        <p:spPr>
          <a:xfrm>
            <a:off x="7500960" y="5796000"/>
            <a:ext cx="1860480" cy="1320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5"/>
          <p:cNvSpPr/>
          <p:nvPr/>
        </p:nvSpPr>
        <p:spPr>
          <a:xfrm>
            <a:off x="0" y="5940360"/>
            <a:ext cx="6624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ехали</a:t>
            </a:r>
            <a:r>
              <a:rPr b="1" i="1" lang="ru-RU" sz="6000" spc="-1" strike="noStrike">
                <a:solidFill>
                  <a:srgbClr val="009973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ttp://im3-tub.yandex.net/i?id=171070015-21-72"/>
          <p:cNvPicPr/>
          <p:nvPr/>
        </p:nvPicPr>
        <p:blipFill>
          <a:blip r:embed="rId1"/>
          <a:stretch/>
        </p:blipFill>
        <p:spPr>
          <a:xfrm>
            <a:off x="503280" y="25092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Выноска-облако 6"/>
          <p:cNvSpPr/>
          <p:nvPr/>
        </p:nvSpPr>
        <p:spPr>
          <a:xfrm>
            <a:off x="2376360" y="250920"/>
            <a:ext cx="7307280" cy="1584360"/>
          </a:xfrm>
          <a:prstGeom prst="cloudCallout">
            <a:avLst>
              <a:gd name="adj1" fmla="val -64935"/>
              <a:gd name="adj2" fmla="val 173555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85640" y="291960"/>
            <a:ext cx="88585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2808360" y="611280"/>
            <a:ext cx="662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.станция «Шуточ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76360" y="452592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503280" y="1403280"/>
            <a:ext cx="918036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то у Бориса впереди, а у Глеба сзад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гда человек бывает в комнате без голо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ем оканчиваются день и ноч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часы показывают точное время только два раза в сут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легче: килограмм ваты или килограмм желез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 чему, когда хочешь спать, идешь на кров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надо сделать, чтобы четыре парня остались в одном сап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орона сидит, а собака на хвосте сидит. Может ли это бы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огда черной кошке легче всего пробраться в д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каком месяце болтливая Машенька говорит меньше вс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астут две березы. На каждой березе по четыре шишки. Сколько всего шиш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Что случится с голубым шарфом, если его положить в воду на пять мину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Как написать слово "мышеловка" пятью букв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Когда коня покупают, какой он быв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60360" y="3492360"/>
            <a:ext cx="633564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сем   спасибо   за работу   и сотрудничест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До новых встр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justclickit.ru/flash/other/other%20(1513).gif"/>
          <p:cNvPicPr/>
          <p:nvPr/>
        </p:nvPicPr>
        <p:blipFill>
          <a:blip r:embed="rId1"/>
          <a:stretch/>
        </p:blipFill>
        <p:spPr>
          <a:xfrm>
            <a:off x="6912000" y="539640"/>
            <a:ext cx="1944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7488360" y="5364000"/>
            <a:ext cx="1800000" cy="1754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1"/>
          <p:cNvSpPr/>
          <p:nvPr/>
        </p:nvSpPr>
        <p:spPr>
          <a:xfrm>
            <a:off x="1008000" y="755640"/>
            <a:ext cx="820908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вертушка «путешествие по школьным предметам"- это игра-путешествие по станциям, на которых необходимо выполнить определённые задания  за определенное время и получить бал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ем игры считается команда, набравшая наибольшее количество бал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27200" y="250560"/>
            <a:ext cx="795024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а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0000" y="1081080"/>
            <a:ext cx="9504360" cy="627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ботаем в группах. Начинаем и заканчиваем работу по сигналу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 каждой станции группа получает задание, они могут состоять из нескольких бло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лученные задания группа выполняет командой или распределяет задания между членами групп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ажно успеть выполнить все задания правильно за отведенное врем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 скорость вы можете заработать дополнительные балл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читывается слаженность работы в группе и дисципли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99640"/>
            <a:ext cx="957744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ЕБУСЛАНД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powerclip.ru/userfiles/1882.jpg"/>
          <p:cNvPicPr/>
          <p:nvPr/>
        </p:nvPicPr>
        <p:blipFill>
          <a:blip r:embed="rId1"/>
          <a:srcRect l="0" t="3597" r="0" b="4603"/>
          <a:stretch/>
        </p:blipFill>
        <p:spPr>
          <a:xfrm>
            <a:off x="7764480" y="5764320"/>
            <a:ext cx="2316240" cy="148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http://im6-tub.yandex.net/i?id=141342393-48-72"/>
          <p:cNvPicPr/>
          <p:nvPr/>
        </p:nvPicPr>
        <p:blipFill>
          <a:blip r:embed="rId2"/>
          <a:stretch/>
        </p:blipFill>
        <p:spPr>
          <a:xfrm>
            <a:off x="503280" y="2343240"/>
            <a:ext cx="2035080" cy="26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2808360" y="3129120"/>
            <a:ext cx="530856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539640"/>
            <a:ext cx="90694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анц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Шифровальная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s://arhivurokov.ru/intolimp/html/2017/03/12/i_58c5781fc1aad/phpdp0A4W_Razrabotka-matematicheskogo-kvesta-V-poiskah-istiny-5-6-klass_1.png"/>
          <p:cNvPicPr/>
          <p:nvPr/>
        </p:nvPicPr>
        <p:blipFill>
          <a:blip r:embed="rId1"/>
          <a:stretch/>
        </p:blipFill>
        <p:spPr>
          <a:xfrm>
            <a:off x="2232000" y="2266920"/>
            <a:ext cx="6048360" cy="505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http://im5-tub.yandex.net/i?id=170790949-26-72"/>
          <p:cNvPicPr/>
          <p:nvPr/>
        </p:nvPicPr>
        <p:blipFill>
          <a:blip r:embed="rId2"/>
          <a:stretch/>
        </p:blipFill>
        <p:spPr>
          <a:xfrm>
            <a:off x="216000" y="324000"/>
            <a:ext cx="13730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655640" y="-80280"/>
            <a:ext cx="7056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станция «Литературная 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900000" y="1690560"/>
            <a:ext cx="8064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655640" y="259200"/>
            <a:ext cx="7056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станция «Эрудит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565360" y="1515960"/>
            <a:ext cx="5643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655640" y="-80280"/>
            <a:ext cx="7056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.станция «Математическая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871640" y="1911240"/>
            <a:ext cx="7064280" cy="43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2062080" y="3708360"/>
            <a:ext cx="6291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http://im5-tub.yandex.net/i?id=111973213-22-72"/>
          <p:cNvPicPr/>
          <p:nvPr/>
        </p:nvPicPr>
        <p:blipFill>
          <a:blip r:embed="rId1"/>
          <a:stretch/>
        </p:blipFill>
        <p:spPr>
          <a:xfrm>
            <a:off x="8209080" y="324000"/>
            <a:ext cx="1187280" cy="1157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5640" y="-80280"/>
            <a:ext cx="7056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6.стан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Логическая</a:t>
            </a:r>
            <a:r>
              <a:rPr b="1" lang="ru-RU" sz="4800" spc="-1" strike="noStrike">
                <a:solidFill>
                  <a:srgbClr val="0d0d0d"/>
                </a:solidFill>
                <a:latin typeface="Arial"/>
                <a:ea typeface="Arial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87280" y="1920960"/>
            <a:ext cx="929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744560" y="1630440"/>
            <a:ext cx="61628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06Z</dcterms:created>
  <dc:creator>Тамара</dc:creator>
  <dc:description/>
  <dc:language>en-US</dc:language>
  <cp:lastModifiedBy>Валя</cp:lastModifiedBy>
  <dcterms:modified xsi:type="dcterms:W3CDTF">2019-11-24T10:13:35Z</dcterms:modified>
  <cp:revision>40</cp:revision>
  <dc:subject/>
  <dc:title>Слайд 1</dc:title>
</cp:coreProperties>
</file>