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6.png" ContentType="image/pn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1EE-2AEA-482C-8EC6-43EC96EA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034-5FA8-4C64-AFCB-31A0C6F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8A7-7E61-46C7-9DB9-5640E853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09C-7220-4508-8368-ECB20353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DB2-ACCA-403F-9C41-4C62FEE6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DC8-16F6-4DD9-8091-04347D9D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576-B0D4-4D20-9179-0D03A4A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930-6253-4473-AB3B-0219824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FDB-450B-43A3-889A-5013D19D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229-F309-4867-AA94-BB8BAC42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7E7-DED4-489A-9948-62FD0E7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28F-527D-4441-ADFE-5CBE23F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A39-8ED2-4343-B290-7AA1FA4DC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072005B.jpg"/>
          <p:cNvPicPr/>
          <p:nvPr/>
        </p:nvPicPr>
        <p:blipFill>
          <a:blip r:embed="rId1"/>
          <a:stretch/>
        </p:blipFill>
        <p:spPr>
          <a:xfrm>
            <a:off x="-141120" y="0"/>
            <a:ext cx="928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1131.gif"/>
          <p:cNvPicPr/>
          <p:nvPr/>
        </p:nvPicPr>
        <p:blipFill>
          <a:blip r:embed="rId2"/>
          <a:stretch/>
        </p:blipFill>
        <p:spPr>
          <a:xfrm>
            <a:off x="642960" y="3643200"/>
            <a:ext cx="1447920" cy="200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13840" y="713880"/>
            <a:ext cx="4286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Русская азбука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от  рождения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до наших дн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143680" y="981000"/>
            <a:ext cx="33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аботу выполнил ученик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2 «Г» класса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МБОУ СОШ №10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Иванов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292720" y="310500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Кондратенко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libereya.ru/biblus/chudinov1/02110024_files/0024-07.gif"/>
          <p:cNvPicPr/>
          <p:nvPr/>
        </p:nvPicPr>
        <p:blipFill>
          <a:blip r:embed="rId2"/>
          <a:stretch/>
        </p:blipFill>
        <p:spPr>
          <a:xfrm>
            <a:off x="714240" y="1571760"/>
            <a:ext cx="7786800" cy="435744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sp>
        <p:nvSpPr>
          <p:cNvPr id="82" name="TextBox 6"/>
          <p:cNvSpPr/>
          <p:nvPr/>
        </p:nvSpPr>
        <p:spPr>
          <a:xfrm>
            <a:off x="3672720" y="8571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Book Antiqua"/>
              </a:rPr>
              <a:t>Кирил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file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1250973217_bukvica"/>
          <p:cNvPicPr/>
          <p:nvPr/>
        </p:nvPicPr>
        <p:blipFill>
          <a:blip r:embed="rId3"/>
          <a:stretch/>
        </p:blipFill>
        <p:spPr>
          <a:xfrm>
            <a:off x="5219640" y="403200"/>
            <a:ext cx="3529080" cy="3170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395280" y="90792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На Русь азбука пришла только в 988 году после крещения Руси. Само название «азбука» происходит от названия двух первых букв </a:t>
            </a:r>
            <a:br>
              <a:rPr sz="3600"/>
            </a:b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А - «АЗ» и </a:t>
            </a:r>
            <a:br>
              <a:rPr sz="3600"/>
            </a:b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Б – «БУ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28760" y="1928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\Рабочий стол\Старославянская азбука\images22.jpg"/>
          <p:cNvPicPr/>
          <p:nvPr/>
        </p:nvPicPr>
        <p:blipFill>
          <a:blip r:embed="rId2"/>
          <a:stretch/>
        </p:blipFill>
        <p:spPr>
          <a:xfrm>
            <a:off x="6072120" y="785880"/>
            <a:ext cx="2486160" cy="1571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428760" y="1227240"/>
            <a:ext cx="642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На уроках русского языка и чтения мы каждый день знакомимся с новыми буквами, учимся их правильно читать и писать. Мне стало интересно: откуда появились буквы, есть ли день рождения у нашей азбуки, и, вообще, откуда к нам пришла письм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428760" y="1643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684360" y="981000"/>
            <a:ext cx="6173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b0516"/>
                </a:solidFill>
                <a:uFillTx/>
                <a:latin typeface="Times New Roman"/>
              </a:rPr>
              <a:t>Цели моей работы:</a:t>
            </a:r>
            <a:br>
              <a:rPr sz="4000"/>
            </a:br>
            <a:r>
              <a:rPr b="1" lang="ru-RU" sz="4000" spc="-1" strike="noStrike">
                <a:solidFill>
                  <a:srgbClr val="6b0516"/>
                </a:solidFill>
                <a:latin typeface="Times New Roman"/>
              </a:rPr>
              <a:t>- познакомиться с историей возникновения и развития русской азбуки;</a:t>
            </a:r>
            <a:br>
              <a:rPr sz="4000"/>
            </a:br>
            <a:r>
              <a:rPr b="1" lang="ru-RU" sz="4000" spc="-1" strike="noStrike">
                <a:solidFill>
                  <a:srgbClr val="6b0516"/>
                </a:solidFill>
                <a:latin typeface="Times New Roman"/>
              </a:rPr>
              <a:t>- проследить, какие изменения происходили в русском алфав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20360" cy="727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2112840"/>
            <a:ext cx="612144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- узнать, как и откуда появилась наша азбука;</a:t>
            </a:r>
            <a:br>
              <a:rPr sz="3200"/>
            </a:b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- узнать, сколько букв было в первом алфавите;</a:t>
            </a:r>
            <a:br>
              <a:rPr sz="3200"/>
            </a:b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- узнать, какие изменения происходили в русском алфавите от его появления до наших д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Азбука Рукописная книга 1698 г0001.jpg"/>
          <p:cNvPicPr/>
          <p:nvPr/>
        </p:nvPicPr>
        <p:blipFill>
          <a:blip r:embed="rId2"/>
          <a:stretch/>
        </p:blipFill>
        <p:spPr>
          <a:xfrm>
            <a:off x="6297480" y="603360"/>
            <a:ext cx="2670480" cy="28288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3"/>
          <a:stretch/>
        </p:blipFill>
        <p:spPr>
          <a:xfrm>
            <a:off x="609480" y="639720"/>
            <a:ext cx="80218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50800" y="2142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вятой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01"/>
          <p:cNvPicPr/>
          <p:nvPr/>
        </p:nvPicPr>
        <p:blipFill>
          <a:blip r:embed="rId2"/>
          <a:stretch/>
        </p:blipFill>
        <p:spPr>
          <a:xfrm>
            <a:off x="500040" y="1071720"/>
            <a:ext cx="1571760" cy="442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02"/>
          <p:cNvPicPr/>
          <p:nvPr/>
        </p:nvPicPr>
        <p:blipFill>
          <a:blip r:embed="rId3"/>
          <a:stretch/>
        </p:blipFill>
        <p:spPr>
          <a:xfrm>
            <a:off x="6858000" y="1000080"/>
            <a:ext cx="178596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099840" y="14292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вятой Мефод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2357280" y="1285920"/>
            <a:ext cx="421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2195640" y="730080"/>
            <a:ext cx="4662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24 мая в России отмечают праздник Славянской письменности и культуры. В этот день мы вспоминаем двух братьев-монахов, Кирилла и Мефодия, которые подарили всем славянам алфав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357720" y="928800"/>
            <a:ext cx="5286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0516"/>
                </a:solidFill>
                <a:latin typeface="Times New Roman"/>
              </a:rPr>
              <a:t>Кирилл и Мефодий родились в Византии. Оба брата были очень грамотными, знали греческий, арабский, латинский, славянские язы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Старославянская азбука\кирилл и мефодий3.jpeg"/>
          <p:cNvPicPr/>
          <p:nvPr/>
        </p:nvPicPr>
        <p:blipFill>
          <a:blip r:embed="rId2"/>
          <a:stretch/>
        </p:blipFill>
        <p:spPr>
          <a:xfrm>
            <a:off x="571680" y="1643040"/>
            <a:ext cx="26510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Рисунок1.jpg"/>
          <p:cNvPicPr/>
          <p:nvPr/>
        </p:nvPicPr>
        <p:blipFill>
          <a:blip r:embed="rId2"/>
          <a:stretch/>
        </p:blipFill>
        <p:spPr>
          <a:xfrm>
            <a:off x="-324000" y="-100080"/>
            <a:ext cx="9792000" cy="7274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300480" y="1052640"/>
            <a:ext cx="5159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Русский князь обратился к правителям Византии с просьбой прислать на Русь ученых монахов, чтобы они смогли перевести церковные книги на понятный для славян язы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/>
          <p:cNvPicPr/>
          <p:nvPr/>
        </p:nvPicPr>
        <p:blipFill>
          <a:blip r:embed="rId3"/>
          <a:srcRect l="0" t="-2190" r="0" b="0"/>
          <a:stretch/>
        </p:blipFill>
        <p:spPr>
          <a:xfrm>
            <a:off x="457200" y="1844640"/>
            <a:ext cx="28432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62080" y="-95400"/>
            <a:ext cx="9720360" cy="72694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4067280" y="692280"/>
            <a:ext cx="47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Это было очень трудно сделать, потому что своей письменности у славян не было. Кирилл взял за основу греческий алфавит и при помощи Мефодия создал новую азбу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24000" y="1123920"/>
            <a:ext cx="37432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4214880" y="34441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Admin\Рабочий стол\Старославянская азбука\images2.jpg"/>
          <p:cNvPicPr/>
          <p:nvPr/>
        </p:nvPicPr>
        <p:blipFill>
          <a:blip r:embed="rId2"/>
          <a:stretch/>
        </p:blipFill>
        <p:spPr>
          <a:xfrm>
            <a:off x="250920" y="1052640"/>
            <a:ext cx="3430440" cy="4824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681360" y="620640"/>
            <a:ext cx="5067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В кириллице было звуков больше, чем в греческом алфавите, поэтому братьям пришлось придумать для них новые буквы, такие как Ж (живете), Ш (ша), Щ (ща), ЮС МАЛЫЙ, ЮС БОЛЬШОЙ и другие. Всего в русской азбуке было 43 буквы.</a:t>
            </a:r>
            <a:r>
              <a:rPr b="0" lang="ru-RU" sz="3200" spc="-1" strike="noStrike">
                <a:solidFill>
                  <a:srgbClr val="6b051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7:13Z</dcterms:created>
  <dc:creator>Admin</dc:creator>
  <dc:description/>
  <dc:language>en-US</dc:language>
  <cp:lastModifiedBy>Acer</cp:lastModifiedBy>
  <dcterms:modified xsi:type="dcterms:W3CDTF">2019-11-24T08:25:50Z</dcterms:modified>
  <cp:revision>109</cp:revision>
  <dc:subject/>
  <dc:title>Слайд 1</dc:title>
</cp:coreProperties>
</file>