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554-917E-43A3-ABA0-25FFA8DD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FA6-7757-42E2-AD7B-0333FEC8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04E-645D-4E23-89CC-11C9CB3F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07A-0074-41D9-B51A-4C5E688B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4E3-6EE0-4403-8752-21ADFD31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E2C-5A4E-46F7-8CA9-C4702745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3C0-4B27-4F45-911F-3E5554E8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158-1F44-4ECC-8D66-595C27B6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F13-769C-46F9-B39F-C5F23190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D34-2ED4-4D12-A6AE-577B47C3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BE0-C5B9-4013-9F6F-2A050EF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708-6AF7-4704-B2D3-067E3C7F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AEB4-26DC-4040-9FDB-6DC3838E1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072005B.jpg"/>
          <p:cNvPicPr/>
          <p:nvPr/>
        </p:nvPicPr>
        <p:blipFill>
          <a:blip r:embed="rId1"/>
          <a:stretch/>
        </p:blipFill>
        <p:spPr>
          <a:xfrm>
            <a:off x="-141120" y="0"/>
            <a:ext cx="928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81131.gif"/>
          <p:cNvPicPr/>
          <p:nvPr/>
        </p:nvPicPr>
        <p:blipFill>
          <a:blip r:embed="rId2"/>
          <a:stretch/>
        </p:blipFill>
        <p:spPr>
          <a:xfrm>
            <a:off x="642960" y="3643200"/>
            <a:ext cx="1447920" cy="2001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13840" y="713880"/>
            <a:ext cx="4286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Русская азбука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от  рождения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до наших дн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5143680" y="981000"/>
            <a:ext cx="33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аботу выполнил ученик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2 «Г» класса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МБОУ СОШ №10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Иванов Ан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292720" y="310500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Кондратенко Наталь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1000080" y="85716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Book Antiqua"/>
              </a:rPr>
              <a:t>Заглавные буквы славянского алфавита – букв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571680" y="2071800"/>
            <a:ext cx="1500120" cy="209232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2786040" y="2071800"/>
            <a:ext cx="1285920" cy="205236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4857840" y="2000160"/>
            <a:ext cx="1461960" cy="207180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1" name="Picture 10" descr=""/>
          <p:cNvPicPr/>
          <p:nvPr/>
        </p:nvPicPr>
        <p:blipFill>
          <a:blip r:embed="rId5"/>
          <a:stretch/>
        </p:blipFill>
        <p:spPr>
          <a:xfrm>
            <a:off x="3857760" y="3929040"/>
            <a:ext cx="1312560" cy="200016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2" name="Picture 9" descr=""/>
          <p:cNvPicPr/>
          <p:nvPr/>
        </p:nvPicPr>
        <p:blipFill>
          <a:blip r:embed="rId6"/>
          <a:stretch/>
        </p:blipFill>
        <p:spPr>
          <a:xfrm>
            <a:off x="7215120" y="2000160"/>
            <a:ext cx="1359000" cy="207180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7"/>
          <a:stretch/>
        </p:blipFill>
        <p:spPr>
          <a:xfrm>
            <a:off x="1643040" y="3929040"/>
            <a:ext cx="1357200" cy="200520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  <p:pic>
        <p:nvPicPr>
          <p:cNvPr id="54" name="Picture 8" descr=""/>
          <p:cNvPicPr/>
          <p:nvPr/>
        </p:nvPicPr>
        <p:blipFill>
          <a:blip r:embed="rId8"/>
          <a:stretch/>
        </p:blipFill>
        <p:spPr>
          <a:xfrm>
            <a:off x="5929200" y="3857760"/>
            <a:ext cx="1625760" cy="2028600"/>
          </a:xfrm>
          <a:prstGeom prst="rect">
            <a:avLst/>
          </a:prstGeom>
          <a:ln w="2556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539640" y="981000"/>
            <a:ext cx="8064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0516"/>
                </a:solidFill>
                <a:latin typeface="Times New Roman"/>
              </a:rPr>
              <a:t>Каждая буква славянского алфавита имела свое название. Читая, люди соединяли названия букв, а не звуки. Чтобы прочитать слово «мама», они читали «мыслете–аз-мыслете-аз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Берестяные грамоты.png"/>
          <p:cNvPicPr/>
          <p:nvPr/>
        </p:nvPicPr>
        <p:blipFill>
          <a:blip r:embed="rId2"/>
          <a:stretch/>
        </p:blipFill>
        <p:spPr>
          <a:xfrm>
            <a:off x="324000" y="576360"/>
            <a:ext cx="3143160" cy="37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7" descr="5932233"/>
          <p:cNvPicPr/>
          <p:nvPr/>
        </p:nvPicPr>
        <p:blipFill>
          <a:blip r:embed="rId3"/>
          <a:stretch/>
        </p:blipFill>
        <p:spPr>
          <a:xfrm>
            <a:off x="1619280" y="2851200"/>
            <a:ext cx="3257640" cy="352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4876920" y="576360"/>
            <a:ext cx="379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0516"/>
                </a:solidFill>
                <a:latin typeface="Times New Roman"/>
              </a:rPr>
              <a:t>Вместе с  алфавитом к нам пришла и письменность, то есть возможность записывать буквы. До сегодняшнего дня сохранились памятники древней русской письменности, которые написаны на берестяной коре, - берестяные грам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миниатюры в книге.jpg"/>
          <p:cNvPicPr/>
          <p:nvPr/>
        </p:nvPicPr>
        <p:blipFill>
          <a:blip r:embed="rId2"/>
          <a:stretch/>
        </p:blipFill>
        <p:spPr>
          <a:xfrm>
            <a:off x="4316400" y="3187800"/>
            <a:ext cx="2065320" cy="294480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4" descr="Оклад книги.jpg"/>
          <p:cNvPicPr/>
          <p:nvPr/>
        </p:nvPicPr>
        <p:blipFill>
          <a:blip r:embed="rId3"/>
          <a:stretch/>
        </p:blipFill>
        <p:spPr>
          <a:xfrm>
            <a:off x="4286160" y="785880"/>
            <a:ext cx="2071800" cy="228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Содержимое 4" descr="заставка в книге (2).JPG"/>
          <p:cNvPicPr/>
          <p:nvPr/>
        </p:nvPicPr>
        <p:blipFill>
          <a:blip r:embed="rId4"/>
          <a:stretch/>
        </p:blipFill>
        <p:spPr>
          <a:xfrm>
            <a:off x="6529320" y="615960"/>
            <a:ext cx="2024280" cy="26701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395280" y="1052640"/>
            <a:ext cx="3774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Очень долго книги переписывали от руки ученые монахи, поэтому книг было мало, а стоили они очень дорого. При царе Иване Грозном была напечатана первая кни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Apostol"/>
          <p:cNvPicPr/>
          <p:nvPr/>
        </p:nvPicPr>
        <p:blipFill>
          <a:blip r:embed="rId5"/>
          <a:stretch/>
        </p:blipFill>
        <p:spPr>
          <a:xfrm>
            <a:off x="6443640" y="3286080"/>
            <a:ext cx="2305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8:57:13Z</dcterms:created>
  <dc:creator>Admin</dc:creator>
  <dc:description/>
  <dc:language>en-US</dc:language>
  <cp:lastModifiedBy>Acer</cp:lastModifiedBy>
  <dcterms:modified xsi:type="dcterms:W3CDTF">2019-11-24T08:35:15Z</dcterms:modified>
  <cp:revision>111</cp:revision>
  <dc:subject/>
  <dc:title>Слайд 1</dc:title>
</cp:coreProperties>
</file>