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8618-2ABB-4D99-B271-2D973A2AE3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8D0B-0B92-4929-9644-C84F4A1B2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Times New Roman"/>
              </a:rPr>
              <a:t>Великое дело создания славянской азбуки совершили братья Константин (при крещении принявший имя Кирилл) и Мефодий. Главная заслуга в этом деле принадлежит Кириллу. Мефодий был верным его помощником. Составляя славянскую азбуку, Кирилл смог уловить в звучании знакомого ему с детства славянского языка (а это был, вероятно, один из диалектов древнеболгарского языка) основные звуки этого языка и найти для каждого из них буквенные обозначения. Читая по-старославянски, мы произносим слова так, как они написаны. В старославянском языке мы не встретим такого расхождения между звучанием слов и их произношением, как, например в английском или французск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Times New Roman"/>
              </a:rPr>
              <a:t>Славянский книжный язык (старославянский) получил распространение в качестве общего языка для многих славянских народов. Им пользовались южные славяне (болгары, сербы, хорваты), западные славяне (чехи, словаки), восточные славяне(украинцы, белорусы, русские)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Times New Roman"/>
              </a:rPr>
              <a:t>        В память о великом подвиге Кирилла и Мефодия 24 мая во всем мире празднуется День славянской письменности. Особенно торжественно отмечается он в Болгарии. Там совершаются праздничные шествия со славянской азбукой и иконами святых братьев. Начиная с 1987 года, и в нашей стране в этот день стал проводиться праздник славянской письменности и культуры. Русский народ отдает дань памяти и благодарности “славянских стран учителям... "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DDA-DA59-4647-835E-414A521B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682-E484-4018-96A4-67C92FF7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B8F-2367-4184-838E-C1A7A0C9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8ED-37BA-4D02-AF05-4E92C4EB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D3C9-2CF8-43F0-8A33-FD78F2A2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D1CA-E3BB-4F56-9645-0DB2C910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2F96-C7EA-4DBB-9A59-0A1B4A2F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C6BB-54CB-4C2D-92DB-FAD7382F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11FE-8C45-4D0D-8DB3-AA6EC2E6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9EBA-43D3-4609-A94E-F132D81E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DEA3-308B-40E3-A2A5-1558BC59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181-3647-4B87-A0F1-9207B0B9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C83E-AEFA-4FEF-AFD2-202859E5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81AF-F33B-4025-A3B5-74CDCF5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D82D-4002-4E5E-8C73-23B0F03D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80B1-B56D-411A-B508-622F0145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5B59-293A-4218-87E1-48601104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595-50D1-4DB4-86A6-30172383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EDC-C5C0-440E-A7CF-64AEE6FA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E06-9805-4238-A4CA-0DC2280C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278-F78F-4403-A245-8F36EF0C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AEB-F043-4F75-8AEE-80C4D5EB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60E-3509-481A-B142-F942EEBB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728-ABC5-4921-A18A-0346C27C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FEA5-49A0-499C-844A-DEE798652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3DDF-8631-4CBF-968A-73ACF61D4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1072005B.jpg"/>
          <p:cNvPicPr/>
          <p:nvPr/>
        </p:nvPicPr>
        <p:blipFill>
          <a:blip r:embed="rId1"/>
          <a:stretch/>
        </p:blipFill>
        <p:spPr>
          <a:xfrm>
            <a:off x="-141120" y="0"/>
            <a:ext cx="92836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281131.gif"/>
          <p:cNvPicPr/>
          <p:nvPr/>
        </p:nvPicPr>
        <p:blipFill>
          <a:blip r:embed="rId2"/>
          <a:stretch/>
        </p:blipFill>
        <p:spPr>
          <a:xfrm>
            <a:off x="642960" y="3643200"/>
            <a:ext cx="1447920" cy="2001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13840" y="713880"/>
            <a:ext cx="4286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Русская азбука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от  рождения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до наших дн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5143680" y="981000"/>
            <a:ext cx="33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аботу выполнил ученик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2 «Г» класса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МБОУ СОШ №10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Иванов Ан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5292720" y="3105000"/>
            <a:ext cx="30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Кондратенко Наталь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2"/>
          <p:cNvGraphicFramePr/>
          <p:nvPr/>
        </p:nvGraphicFramePr>
        <p:xfrm>
          <a:off x="2428920" y="25002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25002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8"/>
          <p:cNvSpPr/>
          <p:nvPr/>
        </p:nvSpPr>
        <p:spPr>
          <a:xfrm>
            <a:off x="518148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181480" y="1676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214880" y="785880"/>
            <a:ext cx="4343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0516"/>
                </a:solidFill>
                <a:latin typeface="Times New Roman"/>
              </a:rPr>
              <a:t>Славянская азбука, какой ее придумали Кирилл и  Мефодий, оставалась неизменной несколько веков. Первые изменения в азбуку внес русский царь Петр1. По его приказу из алфавита убрали буквы «ОТ», «ОМЕГА», «КСИ», «ПСИ».</a:t>
            </a:r>
            <a:r>
              <a:rPr b="0" lang="ru-RU" sz="2800" spc="-1" strike="noStrike">
                <a:solidFill>
                  <a:srgbClr val="6b051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4"/>
          <a:stretch/>
        </p:blipFill>
        <p:spPr>
          <a:xfrm>
            <a:off x="403200" y="1077840"/>
            <a:ext cx="2724120" cy="4248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" descr=""/>
          <p:cNvPicPr/>
          <p:nvPr/>
        </p:nvPicPr>
        <p:blipFill>
          <a:blip r:embed="rId5"/>
          <a:stretch/>
        </p:blipFill>
        <p:spPr>
          <a:xfrm>
            <a:off x="2011320" y="3263760"/>
            <a:ext cx="223200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395280" y="105264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В 18 веке в азбуке появились буквы «Ё», «Й» (и краткое), а в начале 20 века из азбуки убрали буквы «ять», «фита», «ижица» и другие.</a:t>
            </a:r>
            <a:r>
              <a:rPr b="0" lang="ru-RU" sz="3600" spc="-1" strike="noStrike">
                <a:solidFill>
                  <a:srgbClr val="6b051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2" descr=""/>
          <p:cNvPicPr/>
          <p:nvPr/>
        </p:nvPicPr>
        <p:blipFill>
          <a:blip r:embed="rId2"/>
          <a:stretch/>
        </p:blipFill>
        <p:spPr>
          <a:xfrm>
            <a:off x="4284720" y="1143000"/>
            <a:ext cx="43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Объект 5" descr=""/>
          <p:cNvPicPr/>
          <p:nvPr/>
        </p:nvPicPr>
        <p:blipFill>
          <a:blip r:embed="rId1"/>
          <a:stretch/>
        </p:blipFill>
        <p:spPr>
          <a:xfrm>
            <a:off x="2063880" y="1600200"/>
            <a:ext cx="501624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2" descr="Рисунок1.jpg"/>
          <p:cNvPicPr/>
          <p:nvPr/>
        </p:nvPicPr>
        <p:blipFill>
          <a:blip r:embed="rId2"/>
          <a:stretch/>
        </p:blipFill>
        <p:spPr>
          <a:xfrm>
            <a:off x="-312840" y="-171360"/>
            <a:ext cx="9780840" cy="734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539640" y="1125360"/>
            <a:ext cx="374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В русском алфавите осталось 33 буквы, за сто последних лет русская азбука не потеряла больше ни одной бук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6" descr=""/>
          <p:cNvPicPr/>
          <p:nvPr/>
        </p:nvPicPr>
        <p:blipFill>
          <a:blip r:embed="rId3"/>
          <a:stretch/>
        </p:blipFill>
        <p:spPr>
          <a:xfrm>
            <a:off x="4284720" y="836640"/>
            <a:ext cx="431964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109"/>
          <p:cNvPicPr/>
          <p:nvPr/>
        </p:nvPicPr>
        <p:blipFill>
          <a:blip r:embed="rId2"/>
          <a:stretch/>
        </p:blipFill>
        <p:spPr>
          <a:xfrm>
            <a:off x="3357720" y="3857760"/>
            <a:ext cx="2663640" cy="200016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112" name="Picture 2" descr="Фото Москвы. Памятник Кириллу и Мефодию на Славянской площади."/>
          <p:cNvPicPr/>
          <p:nvPr/>
        </p:nvPicPr>
        <p:blipFill>
          <a:blip r:embed="rId3"/>
          <a:stretch/>
        </p:blipFill>
        <p:spPr>
          <a:xfrm>
            <a:off x="6715080" y="928800"/>
            <a:ext cx="1714680" cy="228600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113" name="Picture 4" descr="114"/>
          <p:cNvPicPr/>
          <p:nvPr/>
        </p:nvPicPr>
        <p:blipFill>
          <a:blip r:embed="rId4"/>
          <a:stretch/>
        </p:blipFill>
        <p:spPr>
          <a:xfrm>
            <a:off x="714240" y="1000080"/>
            <a:ext cx="1857600" cy="228600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114" name="Picture 4" descr="107"/>
          <p:cNvPicPr/>
          <p:nvPr/>
        </p:nvPicPr>
        <p:blipFill>
          <a:blip r:embed="rId5"/>
          <a:stretch/>
        </p:blipFill>
        <p:spPr>
          <a:xfrm>
            <a:off x="714240" y="3500280"/>
            <a:ext cx="2143440" cy="241164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115" name="Picture 4" descr="108"/>
          <p:cNvPicPr/>
          <p:nvPr/>
        </p:nvPicPr>
        <p:blipFill>
          <a:blip r:embed="rId6"/>
          <a:stretch/>
        </p:blipFill>
        <p:spPr>
          <a:xfrm>
            <a:off x="6500880" y="3500280"/>
            <a:ext cx="2000160" cy="241308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sp>
        <p:nvSpPr>
          <p:cNvPr id="116" name="Прямоугольник 1"/>
          <p:cNvSpPr/>
          <p:nvPr/>
        </p:nvSpPr>
        <p:spPr>
          <a:xfrm>
            <a:off x="2700360" y="928800"/>
            <a:ext cx="380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0516"/>
                </a:solidFill>
                <a:latin typeface="Times New Roman"/>
              </a:rPr>
              <a:t>В славянских странах, в том числе и в России, есть памятники братьям Кириллу и Мефод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864720" cy="73454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500040" y="1500120"/>
            <a:ext cx="7786800" cy="51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. Ишимова А.О. История России для детей. М., 199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2. Колесов В.В. История русского языка в рассказах. М.: Акалис, 19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3. Миронова Т.Л. Необычайное путешествие в Древнюю Русь. Грамматика древнерусского языка для детей. М., 19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4. Рябцев Ю.С. Путешествие в Древнюю Русь. М., 19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5. Самсонов Н.Г. Древнерусский язык. М., 19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6. Улуханов И.С. О языке Древней Руси. М., 197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7. К. Титаренко «Тайна славянской азбуки», 1995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8. А. Зиновьев «Тайнопись кириллицы», 1998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9. М. Кронгауз «Откуда есть пошла славянская письменность», ж-л «Русский язык» 1996 г., №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0. Е. Немировский «По следам первопечатника», М.: Современник, 1983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1. Воскобойников В. «Кирилл и Мефодий». – М.: Белый город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2. Кашурникова Т.М. «Чудо, имя которому – книга». - М. Школьная  библиотека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3. Майорова Н. «Литература Древней Руси». – М.: Белый город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4. Перехвальская Е. «Откуда пошла азбука».- М.: Малыш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5. «Энциклопедия для детей» - т.10. Языкознание. Русский язык – Аванта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857760" y="78588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 Antiqua"/>
              </a:rPr>
              <a:t>Литература.</a:t>
            </a:r>
            <a:r>
              <a:rPr b="1" lang="ru-RU" sz="4000" spc="-1" strike="noStrike">
                <a:solidFill>
                  <a:srgbClr val="984807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8:57:13Z</dcterms:created>
  <dc:creator>Admin</dc:creator>
  <dc:description/>
  <dc:language>en-US</dc:language>
  <cp:lastModifiedBy>Acer</cp:lastModifiedBy>
  <dcterms:modified xsi:type="dcterms:W3CDTF">2019-11-24T08:36:30Z</dcterms:modified>
  <cp:revision>113</cp:revision>
  <dc:subject/>
  <dc:title>Слайд 1</dc:title>
</cp:coreProperties>
</file>