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5FD-440E-4C02-85CA-9E6F2BC4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00F-F715-45C2-BAC8-B9D9141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BE3-ADC4-4AD5-AE7F-70280D4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88B-6CE6-4B10-8653-2E224458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6E05-E17D-480A-B243-EB8F3EA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F225-A764-4E61-9D99-7349070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BAF-121A-49C5-92A0-670DF22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0DD-0C53-4918-BA72-AB9A7F5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026-3D2C-4836-83F1-B649D4E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202B-CB1C-46EA-8E66-2844F26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CCC-32C5-4846-9C95-1E14F8A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AC1-E3F7-4F79-BE25-9BF6D44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12F2-CA1F-4207-B749-E05C99C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DF2-F0F8-4DBB-BAA7-BB3A801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DADF-E874-4718-A23F-F8B2AEE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7A3-B232-4EF5-B14B-008193C4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B6F3-C90E-499C-A331-433A160C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347-AAF7-4E7A-B228-60058467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7BD-5A47-4448-9355-9DC0D2D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120-8744-41F1-B0DD-7021B26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673-65FC-4E44-ACBD-C14535A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875-A801-451E-9528-1ADB1E5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885-D205-4047-8C17-5990617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6B5-7A5C-4DD7-993C-8A233D9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523-EB83-4695-BE9B-C183C950F447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01D-B6BD-4C3A-9226-0C24F1238DDE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3040" y="2725560"/>
            <a:ext cx="750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1f1e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640" y="764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.Ю.Лермонтов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7" descr="http://www.pravmir.ru/wp-content/uploads/2013/07/6ad9b56d8919f273f16d155d10ba711f.jpg"/>
          <p:cNvPicPr/>
          <p:nvPr/>
        </p:nvPicPr>
        <p:blipFill>
          <a:blip r:embed="rId1"/>
          <a:stretch/>
        </p:blipFill>
        <p:spPr>
          <a:xfrm>
            <a:off x="2627280" y="1916280"/>
            <a:ext cx="511344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75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нциклопедическа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072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Лазурь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– светло – синий цвет, синева (устар., возвыш.)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природная светло – синяя краска, оттенок синего цвет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ихотворе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Лис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бъект 5" descr=""/>
          <p:cNvPicPr/>
          <p:nvPr/>
        </p:nvPicPr>
        <p:blipFill>
          <a:blip r:embed="rId1"/>
          <a:stretch/>
        </p:blipFill>
        <p:spPr>
          <a:xfrm>
            <a:off x="3303720" y="2755800"/>
            <a:ext cx="340200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8785b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31640" y="1197000"/>
            <a:ext cx="367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инар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восточный платан, высокое листопадное дерево с густой широкой кроной. Ствол до 50 метров в высоту и  окружность д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8 метров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Объект 5" descr=""/>
          <p:cNvPicPr/>
          <p:nvPr/>
        </p:nvPicPr>
        <p:blipFill>
          <a:blip r:embed="rId1"/>
          <a:stretch/>
        </p:blipFill>
        <p:spPr>
          <a:xfrm>
            <a:off x="5321160" y="1676520"/>
            <a:ext cx="3110040" cy="3687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ихотворение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На севере диком 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4284720" y="2027160"/>
            <a:ext cx="46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севере диком стоит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голой вершине сосн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И дремлет, качаясь, и снегом        сыпучи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ета, как ризой, она.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И снится ей всё, что в пустыне далёкой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 том крае, где солнца восход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на и грустна на утёсе горюче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ctr" pos="305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рекрасная пальма растёт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0" descr="На севере диком"/>
          <p:cNvPicPr/>
          <p:nvPr/>
        </p:nvPicPr>
        <p:blipFill>
          <a:blip r:embed="rId1"/>
          <a:stretch/>
        </p:blipFill>
        <p:spPr>
          <a:xfrm>
            <a:off x="1763640" y="2708280"/>
            <a:ext cx="2303640" cy="328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нциклопедическа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57480" y="198072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Ри́за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 — из др.-русск. «одежда, облачение». </a:t>
            </a: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Риза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 — верхнее облачение священника при богослужении. 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2663640" cy="3251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859280" y="836640"/>
            <a:ext cx="4284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ословный перевод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осна стоит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севере, на холодной вершин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на дремлет, белым покрывалом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кутывают ее лед и сне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на мечтает о пальме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оторая  далеко на восто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диноко и молча печалится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пылающей скале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1268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58920" y="1052640"/>
            <a:ext cx="403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евере мрачном, на дикой скал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др одинокий под снегом белее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адко заснул он в инистой мгл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н его вьюга лелее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юную пальму все сниться ем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 дальних пределах Восток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ламенным небом, на знойном холм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и цветёт одиноко..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19640" y="981000"/>
            <a:ext cx="39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А.Фет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евере дуб одиноки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на пригорке крутом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дремлет, сурово покрыты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нежным и льдяным покровом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сне ему видится пальма,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алекой, восточной стран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змолвной, глубокой печали,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а на горячей скале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общ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16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ем вы сегодня пополнили свой «багаж знаний»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 каким новым термином познакомилис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ов же лейтмотив произведений М.Ю.Лермонтова, изученных сегодня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то удалось повторить, закрепить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ово ваше впечатление от сегодняшнего урока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 сколько каждый из вас поработал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8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вторить литературоведческие терми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ыучить стихотворение «Одиночество» наизуст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56840" y="1857240"/>
            <a:ext cx="8129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ак страшно жизни сей оков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м в одиночестве влачит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елить веселье - все готовы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икто не хочет грусть делит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(М.Ю.Лермонтов)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этическ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На севере диком стоит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 голой вершине сосна» (На севере диком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Белеет парус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и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» (Парус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Но остался мокрый след в морщин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тарого утеса.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ко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» (Утес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и без цели по свету ношуся давно 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асох я без тени, увял…» (Листок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Тучки небесные, вечные странники…» (Тучи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Как страшно жизни сей оков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м в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диночестве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влачить…»                       (Одиночество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Мотив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– устойчивый, значимый образ, постоянно повторяющаяся детал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Лейтмотив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– основной мотив, главный, ведущий в произведени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«Мотив одиночества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в лирике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333333"/>
                </a:solidFill>
                <a:latin typeface="Arial"/>
              </a:rPr>
              <a:t>М.Ю.Лермонтова».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28400" y="1988640"/>
            <a:ext cx="781524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остроение художественного произведения, расположение и взаимосвязь всех его частей, образов, эпизодов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Необычный порядок слов в предложени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ротивопоставление слов, образов, эпизодов для усиления выразительности мысл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Образное определение предмета, выраженное преимущественно прилагательным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еренесение человеческих черт на неодушевлённые предметы и явления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Переносное значение слова, основанное на сходстве двух предметов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ключ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Композиц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Инверс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Антите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Эпит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Олицетвор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Метафор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Ю.Лермо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одержимое 4" descr="автопортрет лерм.jpg"/>
          <p:cNvPicPr/>
          <p:nvPr/>
        </p:nvPicPr>
        <p:blipFill>
          <a:blip r:embed="rId1"/>
          <a:stretch/>
        </p:blipFill>
        <p:spPr>
          <a:xfrm>
            <a:off x="4500720" y="1557360"/>
            <a:ext cx="3446280" cy="3860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434600"/>
            <a:ext cx="30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Автопортрет (в мундире Нижегородского драгунского полка)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Акварель.1837г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7699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Ю. Лермонтов «УТЕ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3" descr="0_4e36d_e093cd82_L.jpeg"/>
          <p:cNvPicPr/>
          <p:nvPr/>
        </p:nvPicPr>
        <p:blipFill>
          <a:blip r:embed="rId1"/>
          <a:srcRect l="5732" t="0" r="5732" b="0"/>
          <a:stretch/>
        </p:blipFill>
        <p:spPr>
          <a:xfrm>
            <a:off x="1619280" y="2421000"/>
            <a:ext cx="2519280" cy="33940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716360" y="2133720"/>
            <a:ext cx="44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очевала тучка золота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а груди утёса – великана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Утром в путь она умчалась рано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По лазури весело игра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Но остался влажный след в морщин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Старого утёса. Одинок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Он стоит, задумался глубоко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</a:rPr>
              <a:t>И тихонько плачет он в пустын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3:32:21Z</dcterms:created>
  <dc:creator>1</dc:creator>
  <dc:description/>
  <dc:language>en-US</dc:language>
  <cp:lastModifiedBy>ЛЁША</cp:lastModifiedBy>
  <dcterms:modified xsi:type="dcterms:W3CDTF">2019-11-24T08:28:11Z</dcterms:modified>
  <cp:revision>157</cp:revision>
  <dc:subject/>
  <dc:title>Пример презентации к уроку литературы в 6 классе</dc:title>
</cp:coreProperties>
</file>