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C54-40BC-4000-A3C0-00821769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FB9-878B-42B0-B442-083ED5B1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31B-D231-4BEF-9172-337BB4BC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48B-ED7A-4D10-AF00-A951D0AD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2DDC-95E7-4F7B-B80C-955AD9CF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93B6-460E-4FB1-A530-15849C6D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E734-9595-4312-9ED4-FE861D1C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0623-F16E-445D-BEE1-95F52D2D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D54A-3308-4DE0-8084-8378F69C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1DA6-A4DC-47C9-8732-A1DAEF4F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A756-9139-45A6-87F1-76C1639A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AEA-5F4F-44F3-8FCB-AB426ADE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9481-AEF2-4F1B-9D47-B0218052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6D2E-CA4A-46A8-88E2-960E459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0973-62EF-4587-B46E-1D29E49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E69-417A-4BA9-890C-141048AD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CCDD-412F-4F79-A649-93EA7BEF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B1C-2E97-4585-81E4-DBE6E68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2E1-AAD5-4614-ACEB-3888EBF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CE1-30E8-4896-BA9F-58AC6EFD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FC0-CA50-42BA-A11C-D18A604B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536-3D08-48B1-A4E8-EA11F1A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B73-F259-4E38-BBD3-CE9E8478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0BA-A6CA-4638-AE45-12C484E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B96-0600-4E66-B835-BB2380FC9D8A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6F9-FEA8-42E2-9F33-4A905CB11AE4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3040" y="2725560"/>
            <a:ext cx="750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1f1e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95640" y="764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М.Ю.Лермонтов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7" descr="http://www.pravmir.ru/wp-content/uploads/2013/07/6ad9b56d8919f273f16d155d10ba711f.jpg"/>
          <p:cNvPicPr/>
          <p:nvPr/>
        </p:nvPicPr>
        <p:blipFill>
          <a:blip r:embed="rId1"/>
          <a:stretch/>
        </p:blipFill>
        <p:spPr>
          <a:xfrm>
            <a:off x="2627280" y="1916280"/>
            <a:ext cx="511344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75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нциклопедическая 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7480" y="198072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Лазурь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 – светло – синий цвет, синева (устар., возвыш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природная светло – синяя краска, оттенок синего цвет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ихотворени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Лист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Объект 5" descr=""/>
          <p:cNvPicPr/>
          <p:nvPr/>
        </p:nvPicPr>
        <p:blipFill>
          <a:blip r:embed="rId1"/>
          <a:stretch/>
        </p:blipFill>
        <p:spPr>
          <a:xfrm>
            <a:off x="3303720" y="2755800"/>
            <a:ext cx="340200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8785b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31640" y="1197000"/>
            <a:ext cx="3671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инар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восточный платан, высокое листопадное дерево с густой широкой кроной. Ствол до 50 метров в высоту и  окружность д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8 метров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Объект 5" descr=""/>
          <p:cNvPicPr/>
          <p:nvPr/>
        </p:nvPicPr>
        <p:blipFill>
          <a:blip r:embed="rId1"/>
          <a:stretch/>
        </p:blipFill>
        <p:spPr>
          <a:xfrm>
            <a:off x="5321160" y="1676520"/>
            <a:ext cx="3110040" cy="3687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ихотворени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На севере диком 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284720" y="2027160"/>
            <a:ext cx="46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севере диком стоит одинок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голой вершине сосн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И дремлет, качаясь, и снегом        сыпучим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дета, как ризой, она.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И снится ей всё, что в пустыне далёкой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 том крае, где солнца восход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дна и грустна на утёсе горючем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рекрасная пальма растёт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0" descr="На севере диком"/>
          <p:cNvPicPr/>
          <p:nvPr/>
        </p:nvPicPr>
        <p:blipFill>
          <a:blip r:embed="rId1"/>
          <a:stretch/>
        </p:blipFill>
        <p:spPr>
          <a:xfrm>
            <a:off x="1763640" y="2708280"/>
            <a:ext cx="2303640" cy="328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нциклопедическая 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57480" y="198072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Ри́за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 — из др.-русск. «одежда, облачение». </a:t>
            </a: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Риза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 — верхнее облачение священника при богослужении.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2663640" cy="3251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859280" y="836640"/>
            <a:ext cx="4284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ословный перевод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осна стоит одинок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севере, на холодной вершин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на дремлет, белым покрывалом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кутывают ее лед и снег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на мечтает о пальме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оторая  далеко на восток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диноко и молча печалится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пылающей скале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1268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258920" y="1052640"/>
            <a:ext cx="403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евере мрачном, на дикой скал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др одинокий под снегом беле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адко заснул он в инистой мгл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н его вьюга лелеет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 юную пальму все сниться ем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 дальних пределах Восток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ламенным небом, на знойном холм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и цветёт одиноко..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219640" y="981000"/>
            <a:ext cx="39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А.Фет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евере дуб одиноки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на пригорке крутом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дремлет, сурово покрыты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нежным и льдяным покровом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сне ему видится пальма,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алекой, восточной стран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езмолвной, глубокой печали,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 на горячей скале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общ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ем вы сегодня пополнили свой «багаж знаний»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 каким новым термином познакомились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ков же лейтмотив произведений М.Ю.Лермонтова, изученных сегодня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то удалось повторить, закрепить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ково ваше впечатление от сегодняшнего урока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 сколько каждый из вас поработал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8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вторить литературоведческие терми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ыучить стихотворение «Одиночество» наизуст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56840" y="1857240"/>
            <a:ext cx="81298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ак страшно жизни сей оков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м в одиночестве влачить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елить веселье - все готовы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икто не хочет грусть делит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                                 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(М.Ю.Лермонтов)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э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842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На севере диком стоит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к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 голой вершине сосна» (На севере диком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Белеет парус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ки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…» (Парус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Но остался мокрый след в морщин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тарого утеса.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ко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…» (Утес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и без цели по свету ношуся давно 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асох я без тени, увял…» (Листок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Тучки небесные, вечные странники…» (Тучи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Как страшно жизни сей оков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м в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честве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влачить…»                       (Одиночество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Мотив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– устойчивый, значимый образ, постоянно повторяющаяся деталь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Лейтмотив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– основной мотив, главный, ведущий в произведени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«Мотив одиночества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в лирике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М.Ю.Лермонтова».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рминолог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28400" y="1988640"/>
            <a:ext cx="781524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остроение художественного произведения, расположение и взаимосвязь всех его частей, образов, эпизодов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Необычный порядок слов в предложени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ротивопоставление слов, образов, эпизодов для усиления выразительности мысл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Образное определение предмета, выраженное преимущественно прилагательным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еренесение человеческих черт на неодушевлённые предметы и явления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ереносное значение слова, основанное на сходстве двух предметов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ключ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Композиц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Инверс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Антите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Эпит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Олицетвор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Метафор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684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Ю.Лермо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одержимое 4" descr="автопортрет лерм.jpg"/>
          <p:cNvPicPr/>
          <p:nvPr/>
        </p:nvPicPr>
        <p:blipFill>
          <a:blip r:embed="rId1"/>
          <a:stretch/>
        </p:blipFill>
        <p:spPr>
          <a:xfrm>
            <a:off x="4500720" y="1557360"/>
            <a:ext cx="3446280" cy="3860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434600"/>
            <a:ext cx="3071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Автопортрет (в мундире Нижегородского драгунского полка)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Акварель.1837г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7699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Ю. Лермонтов «УТЕ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3" descr="0_4e36d_e093cd82_L.jpeg"/>
          <p:cNvPicPr/>
          <p:nvPr/>
        </p:nvPicPr>
        <p:blipFill>
          <a:blip r:embed="rId1"/>
          <a:srcRect l="5732" t="0" r="5732" b="0"/>
          <a:stretch/>
        </p:blipFill>
        <p:spPr>
          <a:xfrm>
            <a:off x="1619280" y="2421000"/>
            <a:ext cx="2519280" cy="33940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716360" y="2133720"/>
            <a:ext cx="442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Ночевала тучка золота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На груди утёса – великана,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Утром в путь она умчалась рано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По лазури весело игра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Но остался влажный след в морщин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Старого утёса. Одинок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Он стоит, задумался глубоко,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И тихонько плачет он в пустын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3:32:21Z</dcterms:created>
  <dc:creator>1</dc:creator>
  <dc:description/>
  <dc:language>en-US</dc:language>
  <cp:lastModifiedBy>ЛЁША</cp:lastModifiedBy>
  <dcterms:modified xsi:type="dcterms:W3CDTF">2019-11-24T08:28:11Z</dcterms:modified>
  <cp:revision>157</cp:revision>
  <dc:subject/>
  <dc:title>Пример презентации к уроку литературы в 6 классе</dc:title>
</cp:coreProperties>
</file>