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F34-32F5-4FB0-8C42-87F3E030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4FF-632D-4661-A608-AF7BADEF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830-5106-45D8-8225-65952DFE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457-C092-4C3B-A839-90F1DDFD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2E0B-40F6-4ADE-9031-5C3BA50C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C7C8-5EE0-46D7-966F-2B532A9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569-9904-40A1-9FFA-A3E842D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5BD-623C-49A6-BBA8-302C18AA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BA16-221B-4082-8A87-FC5D0CA6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0587-077C-43D7-AABA-E49FD835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5AD8-79A6-4CF6-82E6-293B1BCB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490-2F82-42A7-A1A6-D791CA8C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168-9F98-43A2-8040-44A9C2D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58A-C991-4BB4-AC13-DCE440B5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0257-CEC9-4199-905B-5D33FBC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7BDB-D8B3-4277-9D59-3455BEFE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261E-4736-475E-8278-01CB2290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9A2-B814-4AAD-8CC8-A9FCFACF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6AC-2717-4486-AA99-2B207590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A57-511C-46D3-9611-6864EA7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CE2-2359-4AE1-A731-4D0AD35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1A8-448E-499B-808E-49BAC43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7B7-669B-4B96-AE4F-87E8872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AC4-6A4F-46CD-8EF4-723FDE6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5750-A76E-4467-8773-02025786B9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C460-D4CE-47AB-AF51-9A85621E3D4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735" TargetMode="External"/><Relationship Id="rId2" Type="http://schemas.openxmlformats.org/officeDocument/2006/relationships/hyperlink" Target="https://ru.wikipedia.org/wiki/&#1051;&#1077;&#1074;&#1072;&#1096;&#1086;&#1074;,_&#1042;&#1072;&#1089;&#1080;&#1083;&#1080;&#1081;_&#1071;&#1082;&#1086;&#1074;&#1083;&#1077;&#1074;&#1080;&#1095;" TargetMode="External"/><Relationship Id="rId3" Type="http://schemas.openxmlformats.org/officeDocument/2006/relationships/hyperlink" Target="https://ru.wikipedia.org/wiki/&#1050;&#1080;&#1079;&#1083;&#1103;&#1088;&#1089;&#1082;&#1072;&#1103;_&#1082;&#1088;&#1077;&#1087;&#1086;&#1089;&#1090;&#1100;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p.wiki-wiki.ru/wp/index.php/XVIII_&#1074;&#1077;&#1082;" TargetMode="External"/><Relationship Id="rId2" Type="http://schemas.openxmlformats.org/officeDocument/2006/relationships/hyperlink" Target="http://wp.wiki-wiki.ru/wp/index.php/&#1056;&#1086;&#1089;&#1089;&#1080;&#1081;&#1089;&#1082;&#1072;&#1103;_&#1048;&#1084;&#1087;&#1077;&#1088;&#1080;&#1103;" TargetMode="External"/><Relationship Id="rId3" Type="http://schemas.openxmlformats.org/officeDocument/2006/relationships/hyperlink" Target="http://wp.wiki-wiki.ru/wp/index.php/&#1040;&#1088;&#1084;&#1103;&#1085;&#1077;" TargetMode="External"/><Relationship Id="rId4" Type="http://schemas.openxmlformats.org/officeDocument/2006/relationships/hyperlink" Target="http://wp.wiki-wiki.ru/wp/index.php/&#1043;&#1088;&#1091;&#1079;&#1080;&#1085;&#1099;" TargetMode="External"/><Relationship Id="rId5" Type="http://schemas.openxmlformats.org/officeDocument/2006/relationships/hyperlink" Target="http://wp.wiki-wiki.ru/wp/index.php/&#1050;&#1072;&#1073;&#1072;&#1088;&#1076;&#1080;&#1085;&#1094;&#1099;" TargetMode="External"/><Relationship Id="rId6" Type="http://schemas.openxmlformats.org/officeDocument/2006/relationships/hyperlink" Target="http://wp.wiki-wiki.ru/wp/index.php/&#1054;&#1089;&#1077;&#1090;&#1080;&#1085;&#1099;" TargetMode="External"/><Relationship Id="rId7" Type="http://schemas.openxmlformats.org/officeDocument/2006/relationships/hyperlink" Target="http://wp.wiki-wiki.ru/wp/index.php/&#1050;&#1091;&#1084;&#1099;&#1082;&#1080;" TargetMode="External"/><Relationship Id="rId8" Type="http://schemas.openxmlformats.org/officeDocument/2006/relationships/hyperlink" Target="http://wp.wiki-wiki.ru/wp/index.php/&#1053;&#1086;&#1075;&#1072;&#1081;&#1094;&#1099;" TargetMode="External"/><Relationship Id="rId9" Type="http://schemas.openxmlformats.org/officeDocument/2006/relationships/hyperlink" Target="http://wp.wiki-wiki.ru/wp/index.php/&#1063;&#1077;&#1095;&#1077;&#1085;&#1094;&#1099;" TargetMode="External"/><Relationship Id="rId10" Type="http://schemas.openxmlformats.org/officeDocument/2006/relationships/hyperlink" Target="https://ru.wikipedia.org/wiki/&#1050;&#1088;&#1077;&#1087;&#1086;&#1089;&#1090;&#1100;_&#1057;&#1074;&#1103;&#1090;&#1086;&#1075;&#1086;_&#1050;&#1088;&#1077;&#1089;&#1090;&#1072;" TargetMode="External"/><Relationship Id="rId11" Type="http://schemas.openxmlformats.org/officeDocument/2006/relationships/hyperlink" Target="https://ru.wikipedia.org/wiki/&#1057;&#1091;&#1083;&#1072;&#1082;_(&#1088;&#1077;&#1082;&#1072;)" TargetMode="External"/><Relationship Id="rId12" Type="http://schemas.openxmlformats.org/officeDocument/2006/relationships/hyperlink" Target="https://ru.wikipedia.org/wiki/&#1053;&#1072;&#1076;&#1080;&#1088;-&#1096;&#1072;&#1093;" TargetMode="Externa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nkgorodov.ru/famous-person/ekaterina-ii-velikaya" TargetMode="External"/><Relationship Id="rId2" Type="http://schemas.openxmlformats.org/officeDocument/2006/relationships/hyperlink" Target="http://www.bankgorodov.ru/famous-person/aleksandr-i-pavlovich" TargetMode="External"/><Relationship Id="rId3" Type="http://schemas.openxmlformats.org/officeDocument/2006/relationships/hyperlink" Target="http://www.bankgorodov.ru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XIX_&#1074;&#1077;&#1082;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s://ru.wikipedia.org/wiki/1811_&#1075;&#1086;&#1076;" TargetMode="External"/><Relationship Id="rId4" Type="http://schemas.openxmlformats.org/officeDocument/2006/relationships/hyperlink" Target="https://ru.wikipedia.org/wiki/1825_&#1075;&#1086;&#1076;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p.wiki-wiki.ru/wp/index.php/1885_&#1075;&#1086;&#1076;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3/33/&#1058;&#1077;&#1088;&#1089;&#1082;&#1072;&#1103;_&#1086;&#1073;&#1083;&#1072;&#1089;&#1090;&#1100;_&#1080;&#1079;_&#1041;&#1077;&#1085;&#1082;&#1077;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p.wiki-wiki.ru/wp/index.php/&#1057;&#1090;&#1072;&#1074;&#1088;&#1086;&#1087;&#1086;&#1083;&#1100;&#1089;&#1082;&#1072;&#1103;_&#1075;&#1091;&#1073;&#1077;&#1088;&#1085;&#1080;&#1103;" TargetMode="External"/><Relationship Id="rId4" Type="http://schemas.openxmlformats.org/officeDocument/2006/relationships/hyperlink" Target="http://wp.wiki-wiki.ru/wp/index.php/&#1058;&#1077;&#1088;&#1089;&#1082;&#1072;&#1103;_&#1086;&#1073;&#1083;&#1072;&#1089;&#1090;&#1100;" TargetMode="External"/><Relationship Id="rId5" Type="http://schemas.openxmlformats.org/officeDocument/2006/relationships/hyperlink" Target="http://wp.wiki-wiki.ru/wp/index.php/&#1040;&#1083;&#1077;&#1082;&#1089;&#1072;&#1085;&#1076;&#1088;_II" TargetMode="External"/><Relationship Id="rId6" Type="http://schemas.openxmlformats.org/officeDocument/2006/relationships/hyperlink" Target="http://wp.wiki-wiki.ru/wp/index.php/1873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90;&#1072;&#1074;&#1088;&#1086;&#1087;&#1086;&#1083;&#1100;&#1089;&#1082;&#1080;&#1081;_&#1082;&#1088;&#1072;&#1081;" TargetMode="External"/><Relationship Id="rId2" Type="http://schemas.openxmlformats.org/officeDocument/2006/relationships/hyperlink" Target="https://ru.wikipedia.org/wiki/&#1044;&#1072;&#1075;&#1077;&#1089;&#1090;&#1072;&#1085;&#1089;&#1082;&#1072;&#1103;_&#1040;&#1057;&#1057;&#1056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www.bankgorodov.ru/famous-person/bagration-petr-ivanovich" TargetMode="External"/><Relationship Id="rId4" Type="http://schemas.openxmlformats.org/officeDocument/2006/relationships/hyperlink" Target="http://www.bankgorodov.ru/famous-person/tolstoi-lev-nikolaevich" TargetMode="External"/><Relationship Id="rId5" Type="http://schemas.openxmlformats.org/officeDocument/2006/relationships/hyperlink" Target="http://www.bankgorodov.ru/place/gorod_astrahan" TargetMode="External"/><Relationship Id="rId6" Type="http://schemas.openxmlformats.org/officeDocument/2006/relationships/hyperlink" Target="http://www.bankgorodov.ru/place/starogladovskaya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6;&#1092;&#1077;&#1089;&#1089;&#1086;&#1088;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91;&#1084;&#1099;&#1082;&#1089;&#1082;&#1080;&#1081;_&#1103;&#1079;&#1099;&#1082;" TargetMode="External"/><Relationship Id="rId2" Type="http://schemas.openxmlformats.org/officeDocument/2006/relationships/hyperlink" Target="https://ru.wikipedia.org/wiki/&#1044;&#1072;&#1075;&#1077;&#1089;&#1090;&#1072;&#1085;" TargetMode="External"/><Relationship Id="rId3" Type="http://schemas.openxmlformats.org/officeDocument/2006/relationships/hyperlink" Target="https://ru.wikipedia.org/wiki/&#1040;&#1076;&#1084;&#1080;&#1085;&#1080;&#1089;&#1090;&#1088;&#1072;&#1090;&#1080;&#1074;&#1085;&#1099;&#1081;_&#1094;&#1077;&#1085;&#1090;&#1088;" TargetMode="External"/><Relationship Id="rId4" Type="http://schemas.openxmlformats.org/officeDocument/2006/relationships/hyperlink" Target="https://ru.wikipedia.org/wiki/&#1050;&#1080;&#1079;&#1083;&#1103;&#1088;&#1089;&#1082;&#1080;&#1081;_&#1088;&#1072;&#1081;&#1086;&#1085;" TargetMode="External"/><Relationship Id="rId5" Type="http://schemas.openxmlformats.org/officeDocument/2006/relationships/hyperlink" Target="https://ru.wikipedia.org/wiki/&#1043;&#1086;&#1088;&#1086;&#1076;&#1089;&#1082;&#1086;&#1081;_&#1086;&#1082;&#1088;&#1091;&#1075;_&#1075;&#1086;&#1088;&#1086;&#1076;_&#1050;&#1080;&#1079;&#1083;&#1103;&#1088;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72;&#1075;&#1077;&#1089;&#1090;&#1072;&#1085;" TargetMode="External"/><Relationship Id="rId2" Type="http://schemas.openxmlformats.org/officeDocument/2006/relationships/hyperlink" Target="https://ru.wikipedia.org/w/index.php?title=&#1057;&#1090;&#1072;&#1088;&#1099;&#1081;_&#1058;&#1077;&#1088;&#1077;&#1082;&amp;action=edit&amp;redlink=1" TargetMode="External"/><Relationship Id="rId3" Type="http://schemas.openxmlformats.org/officeDocument/2006/relationships/hyperlink" Target="https://ru.wikipedia.org/wiki/&#1063;&#1077;&#1095;&#1085;&#1103;" TargetMode="External"/><Relationship Id="rId4" Type="http://schemas.openxmlformats.org/officeDocument/2006/relationships/hyperlink" Target="https://ru.wikipedia.org/wiki/&#1052;&#1072;&#1093;&#1072;&#1095;&#1082;&#1072;&#1083;&#1072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735_&#1075;&#1086;&#1076;" TargetMode="External"/><Relationship Id="rId2" Type="http://schemas.openxmlformats.org/officeDocument/2006/relationships/hyperlink" Target="https://ru.wikipedia.org/wiki/XVI_&#1074;&#1077;&#1082;" TargetMode="External"/><Relationship Id="rId3" Type="http://schemas.openxmlformats.org/officeDocument/2006/relationships/hyperlink" Target="https://ru.wikipedia.org/wiki/&#1040;&#1073;&#1089;&#1080;&#1103;&#1093;&#1082;&#1077;&#1085;&#1090;" TargetMode="External"/><Relationship Id="rId4" Type="http://schemas.openxmlformats.org/officeDocument/2006/relationships/hyperlink" Target="https://ru.wikipedia.org/wiki/1722_&#1075;&#1086;&#1076;" TargetMode="External"/><Relationship Id="rId5" Type="http://schemas.openxmlformats.org/officeDocument/2006/relationships/hyperlink" Target="https://ru.wikipedia.org/wiki/&#1055;&#1077;&#1088;&#1089;&#1080;&#1076;&#1089;&#1082;&#1080;&#1081;_&#1087;&#1086;&#1093;&#1086;&#1076;_(1722&#8212;1723)" TargetMode="External"/><Relationship Id="rId6" Type="http://schemas.openxmlformats.org/officeDocument/2006/relationships/hyperlink" Target="http://wp.wiki-wiki.ru/wp/index.php/1725_&#1075;&#1086;&#1076;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8;&#1082;&#1080;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s://ru.wikipedia.org/wiki/&#1058;&#1077;&#1088;&#1077;&#1082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F:\фото Кизляра\vRMmZtdsWos.jpg"/>
          <p:cNvPicPr/>
          <p:nvPr/>
        </p:nvPicPr>
        <p:blipFill>
          <a:blip r:embed="rId1"/>
          <a:stretch/>
        </p:blipFill>
        <p:spPr>
          <a:xfrm>
            <a:off x="1928880" y="214200"/>
            <a:ext cx="4995720" cy="3035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57120" y="3655440"/>
            <a:ext cx="835812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Презентация на тему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тория города Кизляра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ставитель:  Байсунгурова Наталья Васильевна -                                        учитель истории МКОУ «Первомайская СОШ» Кизлярского района Р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928800" y="228600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город возник как военное укрепление в правление императрицы Анны Иоанновны в 1735 г. и был призван противодействовать планам Надир-шаха по захвату южных территорий России в междуречье Волги и Дона. Впоследствии именно через Кизляр Российская империя осуществляла своё влияние на Кавказе, а кизлярские военные коменданты являлись непосредственными проводниками этого влияния, свидетельством чему служит хранящийся в Государственном архиве Республики Дагестан так называемый фонд «Кизлярского коменданта». Это обстоятельство дало основание выдающемуся российскому археографу XIX в. Адольфу Берже назвать Кизляр русской столицей на Кавказ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1500120" y="42876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173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енерал-аншеф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В. Я. Леваш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новал крепость Кизляр 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Кизлярская креп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которая вместе с располагавшимся рядом поселением получила статус г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Levashov VV.jpg"/>
          <p:cNvPicPr/>
          <p:nvPr/>
        </p:nvPicPr>
        <p:blipFill>
          <a:blip r:embed="rId4"/>
          <a:stretch/>
        </p:blipFill>
        <p:spPr>
          <a:xfrm>
            <a:off x="500040" y="1967040"/>
            <a:ext cx="2786040" cy="32274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503640" y="5214960"/>
            <a:ext cx="24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шов Василий Яковлевич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https://upload.wikimedia.org/wikipedia/commons/thumb/2/20/AFRE_Kizlyar.jpg/300px-AFRE_Kizlyar.jpg"/>
          <p:cNvPicPr/>
          <p:nvPr/>
        </p:nvPicPr>
        <p:blipFill>
          <a:blip r:embed="rId5"/>
          <a:stretch/>
        </p:blipFill>
        <p:spPr>
          <a:xfrm>
            <a:off x="5072040" y="2000160"/>
            <a:ext cx="3571920" cy="3119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5500800" y="507204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Кизлярской крепост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-е г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214280" y="285840"/>
            <a:ext cx="735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XVIII в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зляр интенсивно заселяется разноплемёнными людьми. Правительство активно привлекает население, стремясь закрепить позици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гионе. Здесь селятся христиане: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армя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грузи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ещённые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кабардин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осети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мусульмане: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7"/>
              </a:rPr>
              <a:t>кумы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8"/>
              </a:rPr>
              <a:t>ногай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9"/>
              </a:rPr>
              <a:t>чечен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28760" y="2143080"/>
            <a:ext cx="84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репост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0"/>
              </a:rPr>
              <a:t>Святого Кре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1"/>
              </a:rPr>
              <a:t>Сула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рытой по требованию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2"/>
              </a:rPr>
              <a:t>Надир-ша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в Кизляр были переведены казаки, северокавказцы, издавна находившиеся на службе России (чеченцы-аккинцы, кабардинцы и др.), а также армяне и грузины. Все они стали именоваться Терско-Кизлярским казачьим войском. Русскоязычные казаки проживали в особом квартале — Кизлярской станице, нерусские жили в других кварталах. В общем город состоял из 8 кварталов, отделённых друг от друга земляным валом, помимо Кизлярской станицы, населённой в основном русскими казаками, здесь были: армянская слободка или Арментир, Грузинская слободка или Курце-аул, квартал разноплемённых северокавказцев, принявших христианство — христианская деревня или Кристи-аул, Окочирская слободка или Окочир-аул — квартал, населённый чеченцами, преимущественно аккинцами, служившими царю; Черкесская слободка или Черкес-аул, населённый кабардинцами; Казанте-аул квартал населённый казанскими татарами, и Тезик-аул (Таджикская деревня), который занимал восточную часть Мусульманской слободки гор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2"/>
          <p:cNvSpPr/>
          <p:nvPr/>
        </p:nvSpPr>
        <p:spPr>
          <a:xfrm>
            <a:off x="500040" y="207180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XVIII века Кизлярская крепость была упразднена. По указ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Екатерины 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ость получила статус уездного города, относившегося к новой Кавказской губернии. Границы уезда были намечены в 1786 году. После упразднения крепости основным занятием жителей города становится производство. Ещё в 1718 году недалеко от Кизляра была основана фабрика по производству шёлковой пряжи. К 1800 году в самом Кизляре и его окрестностях действовал уже целый ряд фабрик. Наибольшее количество предприятий в Кизляре занималось изготовлением винно-водочной продукции. Правительство не могло оставить без внимания местное виноделие, имевшее огромное значение для российской экономики. По указу император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Александра 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1806 году в окрестностях Кизляра было основано винодельческое училище, при котором находился собственный опытный сад. Для преподавания в учебном заведении император пригласил специалистов из Германии. Специалисты привезли с собой новые сорта винограда. В первой половине XIX столетия площадь виноградников в окрестностях Кизляра резко увеличилась. Кизлярские вина стали известны по всей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71720" y="21420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XIX в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од играет важную роль на юге России, являясь по сути политическим и экономическим центром Северного Кавказа. К тому времени Кизляр становится довольно большим городом. В первой четверти XIX века в нём проживало около 15 тысяч человек (без войск и пришлых). После Киева и Астрахани он считался самым крупным городом на юге Росси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https://upload.wikimedia.org/wikipedia/commons/thumb/3/34/%D0%9F%D0%BB%D0%B0%D0%BD%D1%8B_%D0%B3%D0%BE%D1%80%D0%BE%D0%B4%D0%BE%D0%B2_%D0%B8%D0%B7_%D0%9F%D0%BE%D0%BB%D0%BD%D0%BE%D0%B3%D0%BE_%D1%81%D0%BE%D0%B1%D1%80%D0%B0%D0%BD%D0%B8%D1%8F_%D0%B7%D0%B0%D0%BA%D0%BE%D0%BD%D0%BE%D0%B2_%D0%A0%D0%BE%D1%81%D1%81%D0%B8%D0%B9%D1%81%D0%BA%D0%BE%D0%B9_%D0%B8%D0%BC%D0%BF%D0%B5%D1%80%D0%B8%D0%B8_112.jpg/1024px-%D0%9F%D0%BB%D0%B0%D0%BD%D1%8B_%D0%B3%D0%BE%D1%80%D0%BE%D0%B4%D0%BE%D0%B2_%D0%B8%D0%B7_%D0%9F%D0%BE%D0%BB%D0%BD%D0%BE%D0%B3%D0%BE_%D1%81%D0%BE%D0%B1%D1%80%D0%B0%D0%BD%D0%B8%D1%8F_%D0%B7%D0%B0%D0%BA%D0%BE%D0%BD%D0%BE%D0%B2_%D0%A0%D0%BE%D1%81%D1%81%D0%B8%D0%B9%D1%81%D0%BA%D0%BE%D0%B9_%D0%B8%D0%BC%D0%BF%D0%B5%D1%80%D0%B8%D0%B8_112.jpg"/>
          <p:cNvPicPr/>
          <p:nvPr/>
        </p:nvPicPr>
        <p:blipFill>
          <a:blip r:embed="rId2"/>
          <a:stretch/>
        </p:blipFill>
        <p:spPr>
          <a:xfrm>
            <a:off x="4286160" y="1928880"/>
            <a:ext cx="4714920" cy="38894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142920" y="2286000"/>
            <a:ext cx="40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1811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н был в пять раз больше Симферополя, в три раза больше Новочеркасска и Таганрога, чуть больше Одессы, Полтавы и Харькова. На Кавказе крупнее Кизляра был Тифлис, насчитывавший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1825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тыс. населения, и приближался к нему по количеству населения Дербент, в котором тогда проживало 11 060 челове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5309280" y="585792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города Кизляра 1839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214720" y="285840"/>
            <a:ext cx="664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активно поощряло развитие в крае таких отраслей как виноградарство и виноделие, а также шелководство. Виноградарство и виноделие достигли небывалого развития и стали главной отраслью экономики края. С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1885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первые в России налажено производство конья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й отраслью хозяйства являлось рыболовств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05 году открыта первая в России школа виноделия. С 1822 года центр Кизлярского уезда в составе Кавказской области. В 1831 году, во время Кавказской войны, город подвергся набегу войск Кази-Муллы. С 1860 года — центр Кизлярского округ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3" descr="F:\фото Кизляра\8_34.jpg"/>
          <p:cNvPicPr/>
          <p:nvPr/>
        </p:nvPicPr>
        <p:blipFill>
          <a:blip r:embed="rId2"/>
          <a:stretch/>
        </p:blipFill>
        <p:spPr>
          <a:xfrm>
            <a:off x="285840" y="3071880"/>
            <a:ext cx="55324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Файл:Терская область из Бенк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9120" y="500040"/>
            <a:ext cx="3933720" cy="57056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214200" y="2214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декабря 1867 года город Кизляр с частью уезда отчислен от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Ставропольской губер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Тер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214960" y="5786280"/>
            <a:ext cx="36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области c оф.описанием, утверждённый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Александром 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187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85840" y="242892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половине XIX века из-за возникновения новых городов и смещения важных торговых путей Кизляр утратил своё значение как важный город на Северном Кавказе. Наблюдается упадок торговли и экономики. Вместе с этим вплоть до 20-х годов XX века демографическая ситуация ухудшается: большой уровень смертности, отсутствие притока населения из других регионов и постоянный отток собственного населения из-за чего население Кизляра к началу XX века по сравнению с серединой XIX века уменьшилось вдвое. В 1922 году город включён в состав Дагестанской АСС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6"/>
          <p:cNvSpPr/>
          <p:nvPr/>
        </p:nvSpPr>
        <p:spPr>
          <a:xfrm>
            <a:off x="357120" y="4357800"/>
            <a:ext cx="814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изляра в XX веке складывалась тяжело для города. Большие испытания пришлось выдержать кизлярцам в годы гражданской войны, когда в течение 4 месяцев город находился в полной блокаде, не раз подвергался нападениям. Тогда, в 1918 году Кизляр одним из первых приказом Реввоенсовета Каспийско-Кавказского фронта был удостоен звания «Город-герой Гражданской войны». Следующие годы были отмечены репрессиями расказачивания, разрушения храмов. С того времени в Кизляре сохранилась одна Никольская церковь, ставшая сегодня старейшей действующей церковью в Дагестан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:\фото Кизляра\114081128.jpg"/>
          <p:cNvPicPr/>
          <p:nvPr/>
        </p:nvPicPr>
        <p:blipFill>
          <a:blip r:embed="rId1"/>
          <a:srcRect l="0" t="0" r="0" b="-1238"/>
          <a:stretch/>
        </p:blipFill>
        <p:spPr>
          <a:xfrm>
            <a:off x="6572160" y="214200"/>
            <a:ext cx="2286000" cy="3857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F:\фото Кизляра\kizlyar-597490.jpg"/>
          <p:cNvPicPr/>
          <p:nvPr/>
        </p:nvPicPr>
        <p:blipFill>
          <a:blip r:embed="rId2"/>
          <a:stretch/>
        </p:blipFill>
        <p:spPr>
          <a:xfrm>
            <a:off x="4143240" y="1428840"/>
            <a:ext cx="2678400" cy="221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F:\фото Кизляра\result_image_big043545.png"/>
          <p:cNvPicPr/>
          <p:nvPr/>
        </p:nvPicPr>
        <p:blipFill>
          <a:blip r:embed="rId3"/>
          <a:stretch/>
        </p:blipFill>
        <p:spPr>
          <a:xfrm>
            <a:off x="428760" y="285840"/>
            <a:ext cx="37144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785880" y="2571840"/>
            <a:ext cx="7715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февраля 1938 года в соста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Орджоникидзев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ыли переданы пять северных районо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Дагестанской АСС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Ачикулакский, Караногайский, Каясулинский, Кизлярский, Шелковской). Из них был образован Кизлярский автономный округ с центром в городе Кизля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44 года — в составе Грозненской области, в 1957 году — вновь передан Дагестану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ский краеведческий музей им. Багратио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9720" y="142560"/>
            <a:ext cx="7954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МН КИЗЛЯР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янный ветрами терской долин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я легендарной эпохи черт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тровских времен, незабытых донын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шь неприступною крепостью ты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 старинный – неповторим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еприимный, навек родн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дцах хранимый, непобедимы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ой сплоченный, наш город гер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ценим твой орден, и герб, и знамена 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йные символы славы тво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тим Левашова и Багратио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х кизлярцев - твоих сынов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бы дорога нас не уводи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да возвратиться спешим поскор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бе наши корни, в тебе наша си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частье грядущее наших дете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бе не однажды оружием грозил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только запомнят вершители зл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часть неделимой Великой Росси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Родина наша, здесь наша земля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857240" y="428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страшным испытанием стала Великая Отечественная война, в которой 10 тысяч кизлярцев отдали жизни за свободу страны. В честь тех, кто погиб, в год 50-летия Победы в Кизляре был воздвигнут мемориал «Память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3" descr="F:\фото Кизляра\13365 (1).jpeg"/>
          <p:cNvPicPr/>
          <p:nvPr/>
        </p:nvPicPr>
        <p:blipFill>
          <a:blip r:embed="rId1"/>
          <a:stretch/>
        </p:blipFill>
        <p:spPr>
          <a:xfrm>
            <a:off x="0" y="1643040"/>
            <a:ext cx="4791240" cy="359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F:\фото Кизляра\143119006907470.jpg"/>
          <p:cNvPicPr/>
          <p:nvPr/>
        </p:nvPicPr>
        <p:blipFill>
          <a:blip r:embed="rId2"/>
          <a:stretch/>
        </p:blipFill>
        <p:spPr>
          <a:xfrm>
            <a:off x="4357800" y="326880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5"/>
          <p:cNvSpPr/>
          <p:nvPr/>
        </p:nvSpPr>
        <p:spPr>
          <a:xfrm>
            <a:off x="1071720" y="2000160"/>
            <a:ext cx="6786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изляру песни по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изляру песни слага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Кизляр-это город-ге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шой мы его защищае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еды пали в боя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димые наши станицы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павших хранит обели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Славы на вечных страни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частье ковали в бо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няли победное знам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и нет. Они в нашем строю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горят их сердца,словно плам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 парку бредем в тишин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ллеям идем любимы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хот пушек не слышен уже,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ет Кизляр наш родимы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1785960" y="6429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злярском парк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Рабия Магомедов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6" descr="Рабия Магомедова"/>
          <p:cNvPicPr/>
          <p:nvPr/>
        </p:nvPicPr>
        <p:blipFill>
          <a:blip r:embed="rId1"/>
          <a:stretch/>
        </p:blipFill>
        <p:spPr>
          <a:xfrm>
            <a:off x="5214960" y="1928880"/>
            <a:ext cx="3357720" cy="43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00040" y="23572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годы XX и начало XXI веков стали для Кизляра самым трудным и противоречивым периодом в истории города. Со сменой общественного строя, реформами, проявились острые кризисные моменты в духовной, политической, экономической сферах. Обострились проблемы репрессированных народов, казачества. Но все эти годы Кизляр не только выдержал, он помогал укреплению стабильности в республике, активно развивал побратимские связи с городами и регионами России, что имело огромное значение для находившегося в транспортной, экономической и порой в экономической блокаде. С 1992 года Кизляром заключены договоры о дружбе и взаимопомощи с Буденновском, Железноводском Ставропольского края, Одинцово - Московской области, Колпино – Санкт-Петербург, Анапа – Краснодарского края, Азовом - Ростовской области, дружеские связи установлены с далеким Приморским кра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2143080"/>
            <a:ext cx="7643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Кизляр живет и трудится, развивая связи с другими городами и регионами, стараясь перенять опыт исторических городов России, чтобы стать современнее и сохранить свой, самобытный исторический облик, свои традиции. В целях сохранения исторического и культурного наследия в городе выделены объекты, которые достойны того, чтобы войти в федеральную программу сохранения памятников архитектуры, стать объектами туризма. Это места и здания, связанные с именами Л.Н. Толстого, Н.И. Пирогова, генерала Ермолова и других великих людей. Одновременно перед городом стоят задачи его благоустройства, обеспечения экологической безопасности и сохранения уникальных уголков кизлярской природы. К участию в этой работе активно привлекаются промышленные предприятия города, общественные организации, научный потенциал ВУЗов Кизляра, постоянно ведется летопись города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285920" y="-79200"/>
            <a:ext cx="7643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звестные люди,  посетившие Кизля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ётр Великий, царь, 1722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А. Гильденштедт, член Российской академии наук, 1770—1773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Г. Гмелин, учёный, 7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С. Паллас, учёный, 7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. Фальк, учёный, 7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И. Пугачёв, предводитель народного восстания, 1771—177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. Суворов, полководец, 1779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М. Иванов, художник-пейзажист, 80-е годы XVIII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С. Ефремов, известный путешественник, 1798-99 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Грибоедов, дипломат, писатель, 1-я четверть XIX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Бестужев-Марлинский, писатель-декабрист ,1829 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А. Катенин, поэт, 1836-37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Ю. Лермонтов, поэт, 1837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И. Пирогов, хирург, 1837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Фиркович, учёный, 1840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Н. Толстой, писатель, 1851-53 г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юма-отец, писатель, 1858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3214800" y="642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менитые люд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2" descr="Багратион Петр Иванович"/>
          <p:cNvPicPr/>
          <p:nvPr/>
        </p:nvPicPr>
        <p:blipFill>
          <a:blip r:embed="rId1"/>
          <a:stretch/>
        </p:blipFill>
        <p:spPr>
          <a:xfrm>
            <a:off x="2643120" y="200016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Толстой Лев Николаевич"/>
          <p:cNvPicPr/>
          <p:nvPr/>
        </p:nvPicPr>
        <p:blipFill>
          <a:blip r:embed="rId2"/>
          <a:stretch/>
        </p:blipFill>
        <p:spPr>
          <a:xfrm>
            <a:off x="6715080" y="5000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2500200" y="1285920"/>
            <a:ext cx="264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Багратион Петр Иванович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городе Кизляре и провел в нем детские год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5357880" y="242892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Толстой Лев Николаевич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л Кизляр по пути из 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Астраха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станицу 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Старогладовску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мае 1851 года. Приезжал в город в марте 1852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7" descr="F:\фото Кизляра\613021751.jpg"/>
          <p:cNvPicPr/>
          <p:nvPr/>
        </p:nvPicPr>
        <p:blipFill>
          <a:blip r:embed="rId7"/>
          <a:stretch/>
        </p:blipFill>
        <p:spPr>
          <a:xfrm>
            <a:off x="285840" y="214200"/>
            <a:ext cx="2214360" cy="32036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285840" y="3929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цы по праву гордятся историей своего замечательного города. В 1765 году здесь родился полководец, герой войны 1812 года Петр Багратион. Его мать похоронена в Кизляре. Местный краеведческий музей носит имя Багратион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худ. Я. А. Васильев. Холст, масло, 1818.С фотографии А. М. Лушева. 1870."/>
          <p:cNvPicPr/>
          <p:nvPr/>
        </p:nvPicPr>
        <p:blipFill>
          <a:blip r:embed="rId1"/>
          <a:stretch/>
        </p:blipFill>
        <p:spPr>
          <a:xfrm>
            <a:off x="571680" y="1785960"/>
            <a:ext cx="2543040" cy="35622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142920" y="5286240"/>
            <a:ext cx="428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зляре побывал известный художник-пейзажис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 Иван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делавший несколько акварельных зарисовок с видами города, хранящихся сейчас в Государственном Русском музее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357800" y="21420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98-1799 годах директором Кизлярской пограничной таможни служил Ф.С. Ефремов, известный русский путешественник, побывавший на Тибете и в Инд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5429160" y="1857240"/>
            <a:ext cx="342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8 году по пути из Астрахани в горный Дагестан, где еще продолжалась война царя с кавказскими горцами, в Кизляре останавливался знаменитый французский писатель-романист Александр Дюма-отец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Картинки по запросу"/>
          <p:cNvPicPr/>
          <p:nvPr/>
        </p:nvPicPr>
        <p:blipFill>
          <a:blip r:embed="rId2"/>
          <a:stretch/>
        </p:blipFill>
        <p:spPr>
          <a:xfrm>
            <a:off x="5643720" y="3138480"/>
            <a:ext cx="278604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500040" y="5786280"/>
            <a:ext cx="371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29 году Кизляр посетил писатель-декабрист А.Бестужев-Марлинский, переведенный из якутской ссылки рядовым и Отдельный Кавказский корпу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2" descr="Griboyedov.jpg"/>
          <p:cNvPicPr/>
          <p:nvPr/>
        </p:nvPicPr>
        <p:blipFill>
          <a:blip r:embed="rId1"/>
          <a:stretch/>
        </p:blipFill>
        <p:spPr>
          <a:xfrm>
            <a:off x="6143760" y="142920"/>
            <a:ext cx="2714400" cy="31734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6000840" y="3286080"/>
            <a:ext cx="3143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етверти XIX века в гребенских станицах, а по некоторым данным, и в самом Кизляре бывал создатель бессмертной комеди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е от ума»    А.Грибоедов, служивший тогда у главнокомандующего на Кавказе в качестве секретаря по иностранным делам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4" descr="Bestuzhev Alexandr Alexandrovich.jpg"/>
          <p:cNvPicPr/>
          <p:nvPr/>
        </p:nvPicPr>
        <p:blipFill>
          <a:blip r:embed="rId2"/>
          <a:stretch/>
        </p:blipFill>
        <p:spPr>
          <a:xfrm>
            <a:off x="857160" y="1857240"/>
            <a:ext cx="25718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6357960" y="142920"/>
            <a:ext cx="2571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37 году на пути в Дагестан Кизляр посетил знаменитый ученый-хирург и педагог Н.И. Пирогов,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 професс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тель первого атласа топографической анатомии, основоположник русской военно-полевой хирургии, основатель русской школы анестез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" descr="Mikhail lermontov.jpg"/>
          <p:cNvPicPr/>
          <p:nvPr/>
        </p:nvPicPr>
        <p:blipFill>
          <a:blip r:embed="rId2"/>
          <a:stretch/>
        </p:blipFill>
        <p:spPr>
          <a:xfrm>
            <a:off x="1357200" y="1928880"/>
            <a:ext cx="2543400" cy="34002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071720" y="21420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зжал в 1837 году в Кизляр М.Лермонтов, сосланный на Кавказ Николаем I за стихотворение «На смерть поэта». Пребывание на Тереке дало материал и вдохновило Лермонтова на создание таких произведений, как «Дары Терека» и «Казачья колыбельная», последняя была написана в станице Червленной Кизлярского уез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Пирогов Николай Иванович.jpg"/>
          <p:cNvPicPr/>
          <p:nvPr/>
        </p:nvPicPr>
        <p:blipFill>
          <a:blip r:embed="rId3"/>
          <a:stretch/>
        </p:blipFill>
        <p:spPr>
          <a:xfrm>
            <a:off x="6643800" y="23572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500120" y="264312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городе есть памятные места, связанные с именами Петра Первог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. В. Суворова, М. Ю. Лермонто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. И. Пирогова, Л. Н. Толст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 других великих сынов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F:\фото Кизляра\26.png"/>
          <p:cNvPicPr/>
          <p:nvPr/>
        </p:nvPicPr>
        <p:blipFill>
          <a:blip r:embed="rId1"/>
          <a:srcRect l="0" t="2562" r="4976" b="15385"/>
          <a:stretch/>
        </p:blipFill>
        <p:spPr>
          <a:xfrm>
            <a:off x="5429160" y="28584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фото Кизляра\83216116_4189255_kizlyar_stella_1.jpg"/>
          <p:cNvPicPr/>
          <p:nvPr/>
        </p:nvPicPr>
        <p:blipFill>
          <a:blip r:embed="rId2"/>
          <a:stretch/>
        </p:blipFill>
        <p:spPr>
          <a:xfrm>
            <a:off x="1285920" y="3286080"/>
            <a:ext cx="1785960" cy="26431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5715000" y="32148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населения – 48 102 человека (2015 г.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ерритории – 3 200 га.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642960" y="1071720"/>
            <a:ext cx="83581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звестные уроженцы и жител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ётр Багратион (1765—1812) — генерал-лейтенант царской армии, герой Отечественной войны 1812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Далин (1797—1865) — генерал-лейтенант, участник Кавказской вой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ий Агабальянц (1904—1967) — ученый — лауреат Ленинской премии ССС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Смирнов (1908—1943) — Герой Советского Союза, старши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искун (1914—1982) — Герой Советского Союза, лейтен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Баташев (1915—1997) — Герой Советского Союза, старший серж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Бовт (1916—1949) — Герой Советского Союза, гвардии серж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Сидоренко (1919—1994) — Герой Советского Союза, капит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олгарин (1925—2002) — Герой Советского Союза, ефрейто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арион Есипенко (1891—1988) — Герой Соц. Труда, генерал-майо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Афанасьев (род. в 1926) — генерал-лейтенан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Буровцев (род. в 1937) — генерал-майо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лкова, Алла Константиновна (род. в 1953) — ректор МИТХТ (2005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F:\фото Кизляра\120323211.jpg"/>
          <p:cNvPicPr/>
          <p:nvPr/>
        </p:nvPicPr>
        <p:blipFill>
          <a:blip r:embed="rId1"/>
          <a:stretch/>
        </p:blipFill>
        <p:spPr>
          <a:xfrm>
            <a:off x="428760" y="1643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:\фото Кизляра\851102162.jpg"/>
          <p:cNvPicPr/>
          <p:nvPr/>
        </p:nvPicPr>
        <p:blipFill>
          <a:blip r:embed="rId1"/>
          <a:stretch/>
        </p:blipFill>
        <p:spPr>
          <a:xfrm>
            <a:off x="0" y="3143160"/>
            <a:ext cx="4505400" cy="3537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3"/>
          <p:cNvSpPr/>
          <p:nvPr/>
        </p:nvSpPr>
        <p:spPr>
          <a:xfrm>
            <a:off x="5786280" y="3071880"/>
            <a:ext cx="2786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ский краеведческий музей им. Багратион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3714840" y="6286680"/>
            <a:ext cx="2857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современной истори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изля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3" descr="F:\фото Кизляра\icon_576cf2b49df18.jpg"/>
          <p:cNvPicPr/>
          <p:nvPr/>
        </p:nvPicPr>
        <p:blipFill>
          <a:blip r:embed="rId2"/>
          <a:stretch/>
        </p:blipFill>
        <p:spPr>
          <a:xfrm>
            <a:off x="2071800" y="214200"/>
            <a:ext cx="6921360" cy="2859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F:\фото Кизляра\result_image_big161830.png"/>
          <p:cNvPicPr/>
          <p:nvPr/>
        </p:nvPicPr>
        <p:blipFill>
          <a:blip r:embed="rId1"/>
          <a:stretch/>
        </p:blipFill>
        <p:spPr>
          <a:xfrm>
            <a:off x="0" y="142920"/>
            <a:ext cx="6000840" cy="450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F:\фото Кизляра\14303988250107x600.jpg"/>
          <p:cNvPicPr/>
          <p:nvPr/>
        </p:nvPicPr>
        <p:blipFill>
          <a:blip r:embed="rId2"/>
          <a:stretch/>
        </p:blipFill>
        <p:spPr>
          <a:xfrm>
            <a:off x="5572080" y="385776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:\фото Кизляра\65_20130303_54.jpg"/>
          <p:cNvPicPr/>
          <p:nvPr/>
        </p:nvPicPr>
        <p:blipFill>
          <a:blip r:embed="rId1"/>
          <a:stretch/>
        </p:blipFill>
        <p:spPr>
          <a:xfrm>
            <a:off x="5572080" y="285840"/>
            <a:ext cx="2819520" cy="450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F:\фото Кизляра\kizlyar-375444 (1).jpg"/>
          <p:cNvPicPr/>
          <p:nvPr/>
        </p:nvPicPr>
        <p:blipFill>
          <a:blip r:embed="rId2"/>
          <a:stretch/>
        </p:blipFill>
        <p:spPr>
          <a:xfrm>
            <a:off x="428760" y="342900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142920" y="214200"/>
            <a:ext cx="8786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р знаменит своим коньячным производством. В этом городе в 1885 году был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 первый российский коньячный завод. Сейчас он выпускает 1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 коньяка, из которых 9 являются марочны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работают электроаппаратный и электромеханический заводы. Стремительными темпами развивается ООО ПП «Кизляр», производящее холодное клинковое и сувенирное оружие. Его продукция поставляется во многие страны Европы, США, ОА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1" descr="C:\Users\Магнат\Desktop\83216125_4189255_1269005759_81480659_1.jpg"/>
          <p:cNvPicPr/>
          <p:nvPr/>
        </p:nvPicPr>
        <p:blipFill>
          <a:blip r:embed="rId1"/>
          <a:stretch/>
        </p:blipFill>
        <p:spPr>
          <a:xfrm>
            <a:off x="5143680" y="1571760"/>
            <a:ext cx="3619440" cy="2414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Users\Магнат\Desktop\83216126_4189255_2008_11_09_40_842508423.jpg"/>
          <p:cNvPicPr/>
          <p:nvPr/>
        </p:nvPicPr>
        <p:blipFill>
          <a:blip r:embed="rId2"/>
          <a:stretch/>
        </p:blipFill>
        <p:spPr>
          <a:xfrm>
            <a:off x="3071880" y="4857840"/>
            <a:ext cx="3071880" cy="1888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F:\фото Кизляра\wm_65_20130303_76.jpg"/>
          <p:cNvPicPr/>
          <p:nvPr/>
        </p:nvPicPr>
        <p:blipFill>
          <a:blip r:embed="rId3"/>
          <a:stretch/>
        </p:blipFill>
        <p:spPr>
          <a:xfrm>
            <a:off x="785880" y="1571760"/>
            <a:ext cx="4071960" cy="243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i2.guns.ru/forums/icons/forum_pictures/000397/397009.jpg"/>
          <p:cNvPicPr/>
          <p:nvPr/>
        </p:nvPicPr>
        <p:blipFill>
          <a:blip r:embed="rId4"/>
          <a:stretch/>
        </p:blipFill>
        <p:spPr>
          <a:xfrm>
            <a:off x="6357960" y="487512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000080" y="142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национальное население Кизляра исповедует разные религии. Кроме православных и армянских церквей здесь всегда действовали мечети, синагога, католическая церковь, лютеранская община, буддийский храм. Историки отмечают невероятную веротерпимость и взаимопонимание жителей города. Из поколения в поколение передаются традиции уважительного отношения к представителям различных конфесс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2" descr="C:\Users\Магнат\Desktop\83220749_4189255_001.jpg"/>
          <p:cNvPicPr/>
          <p:nvPr/>
        </p:nvPicPr>
        <p:blipFill>
          <a:blip r:embed="rId1"/>
          <a:stretch/>
        </p:blipFill>
        <p:spPr>
          <a:xfrm>
            <a:off x="500040" y="2214720"/>
            <a:ext cx="3952800" cy="2965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bymosque.ru/wp-content/uploads/2017/10/kizlyar_podgotovka05-1024x646.jpg"/>
          <p:cNvPicPr/>
          <p:nvPr/>
        </p:nvPicPr>
        <p:blipFill>
          <a:blip r:embed="rId2"/>
          <a:stretch/>
        </p:blipFill>
        <p:spPr>
          <a:xfrm>
            <a:off x="4929120" y="2214720"/>
            <a:ext cx="40006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071720" y="57168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зля́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ку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ызыл-я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— город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Республике Дагест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Россия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Административный  цент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Кизлярского райо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ет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городской округ город Кизля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Флаг"/>
          <p:cNvPicPr/>
          <p:nvPr/>
        </p:nvPicPr>
        <p:blipFill>
          <a:blip r:embed="rId6"/>
          <a:stretch/>
        </p:blipFill>
        <p:spPr>
          <a:xfrm>
            <a:off x="5072040" y="2214720"/>
            <a:ext cx="3578400" cy="2385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6723360" y="47862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F:\фото Кизляра\114084564.jpg"/>
          <p:cNvPicPr/>
          <p:nvPr/>
        </p:nvPicPr>
        <p:blipFill>
          <a:blip r:embed="rId7"/>
          <a:stretch/>
        </p:blipFill>
        <p:spPr>
          <a:xfrm>
            <a:off x="500040" y="2000160"/>
            <a:ext cx="4095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214200" y="2786040"/>
            <a:ext cx="65725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гласования этих материалов с Министром юстиции они были представлены на высочайшее рассмотрение императору Николаю 1, который и утвердил герб г. Кизляра 7 сентября 1842-го года. г. Кизляр возник как крепость на Тереке, входящая в систему пограничных Кавказских укрепленных линий, в 1735г. Кизляр получил официально статус города и его главным символом стал герб, утвержденный 7 сентября 1842-го г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Герб"/>
          <p:cNvPicPr/>
          <p:nvPr/>
        </p:nvPicPr>
        <p:blipFill>
          <a:blip r:embed="rId1"/>
          <a:stretch/>
        </p:blipFill>
        <p:spPr>
          <a:xfrm>
            <a:off x="6929280" y="2143080"/>
            <a:ext cx="1892520" cy="2262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1000080" y="142920"/>
            <a:ext cx="80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льдический щит разделен на две половины: в верхней части – герб Кавказской области, к которой принадлежал и Кизляр. На золотом фоне темного цвета – вершина одной из гор Кавказа и на ней – двуглавый орел. Над головами орла – императорская корона, на груди – герб города Москвы (в червленом щите – изображение Георгия Победоносца, на серебряном коне поражающего золотого с зелеными крылами дракона в пасть). Крылья орла распростерты; в правой лапе он держит пучок молний (перуны), в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й – венок из лавровых листье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785880" y="2143080"/>
            <a:ext cx="59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жней половине герба изображен куст винограда, обвитый вокруг таркалины; цвет ее темный, лоза – зеленого цвета, фон – голубой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роект герба г. Кизляра был представлен Областным Начальником Генерал - Адъютантом П.Х. Грабе в 1842 г.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857160" y="5000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расположен на севере республик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Дагест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гу рек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Старый Тере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далеко от границы с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Чеченской республи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в 170 км к северо-западу от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Махачка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2" descr="http://kavpolit.com/media/redactor/2014/03/06/10_04e01.jpg"/>
          <p:cNvPicPr/>
          <p:nvPr/>
        </p:nvPicPr>
        <p:blipFill>
          <a:blip r:embed="rId5"/>
          <a:stretch/>
        </p:blipFill>
        <p:spPr>
          <a:xfrm>
            <a:off x="2428920" y="1857240"/>
            <a:ext cx="4286160" cy="488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214280" y="21420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большинства исследователей название городу дано по старинному наименованию протоки  р. Терека, нынешней  р. Таловки. Происходит от тюркского «кызыл яр» (красный обрыв). Другой перевод названия Кизляр с тюркского — девушки ( къыз — «девушка», лар — множ. число существительного, Кызлар — «девушки»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3" descr="F:\фото Кизляра\Kizlyar-pervyy-gorod-ger (2).jpg"/>
          <p:cNvPicPr/>
          <p:nvPr/>
        </p:nvPicPr>
        <p:blipFill>
          <a:blip r:embed="rId1"/>
          <a:stretch/>
        </p:blipFill>
        <p:spPr>
          <a:xfrm>
            <a:off x="1714680" y="221472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000160" y="285840"/>
            <a:ext cx="52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официальной датой основания современного города Кизляр считаетс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1735 г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было начато строительство Кизлярской русской крепости, постоянное поселение здесь существовало за 150—200 лет до это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214200" y="221472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Кизляра положило основание здесь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XVI в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селения, которое образовали выходцы из Средней Азии, купцы по роду деятельности, по происхождению таджики. Своё поселение они именовали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Абсияхк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что в переводе с фарси означает аб — вода, сиях — чёрный, кент — поселение, город), тогда как кумыки, жившие по соседству, именовали его Карасув-кент (с тюркского кара — чёрный, су — вода, кент — поселение) или Кызлар-кала. Среди множества наименований название «Кизляр» было окончательно закреплено за поселением указом Петра I после его посещения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1722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 врем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Персидского пох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571920" y="535788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1725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еление Кизляр было уничтожено наводнением. Новое поселение было основано на небольшом расстоянии от прежне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85840" y="2071800"/>
            <a:ext cx="4071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поселения выходцев из Средней Азии в этом месте во второй половине XVI века был основан, согласно царскому указу, «Кизлярский караул» или «Кизлярский перевоз», являвшийся своего рода заставой, таможенным постом, охранявшим переправу через Терек и контролировавшим проходивший здесь торговый путь, соединявший страны востока с Русью. Караул был представлен отрядом стрельцов, из расположенного неподалёк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Терского город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https://upload.wikimedia.org/wikipedia/commons/1/17/%D0%A2%D0%B5%D1%80%D0%BA%D0%B8.jpg"/>
          <p:cNvPicPr/>
          <p:nvPr/>
        </p:nvPicPr>
        <p:blipFill>
          <a:blip r:embed="rId2"/>
          <a:stretch/>
        </p:blipFill>
        <p:spPr>
          <a:xfrm>
            <a:off x="4429080" y="357120"/>
            <a:ext cx="4549680" cy="3814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6072120" y="42148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ский гор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4429080" y="428616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города связано с рекой, в долине которой он находился, —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Тере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тарорусск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тсюда и Терский/Терской г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1:36:29Z</dcterms:created>
  <dc:creator>User</dc:creator>
  <dc:description/>
  <dc:language>en-US</dc:language>
  <cp:lastModifiedBy>магнат</cp:lastModifiedBy>
  <dcterms:modified xsi:type="dcterms:W3CDTF">2019-11-24T15:54:23Z</dcterms:modified>
  <cp:revision>95</cp:revision>
  <dc:subject/>
  <dc:title>Слайд 1</dc:title>
</cp:coreProperties>
</file>