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7529-9497-45A8-BBA1-6A3D299D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4A0E-46BA-43F7-AEF8-9667A37D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6D8-55F7-41AF-A013-42CA8253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8FFB-5921-466F-ABE4-4EDB28A2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B5D9-E525-4168-8531-408DB5BD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B5F4-99ED-4F02-AC34-2E89A2D1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B131-AA23-447A-A0C2-145DC4BA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D1E0-7AF3-4CAF-B9B7-DF1D28FE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5BAA-7AD7-4FDB-8908-EDCC2C83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9368-B16D-4C3B-91C2-7B40F6FD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A1C5-D9CE-4A6C-8850-6F3739B8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0BAF-23EC-4935-A525-BCC2E638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B1CC-0E41-4B5A-BD80-202B4F49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AE06-318D-4B07-9E45-4AB05025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B58E-5F05-43DA-BED9-E8DE43C2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565A-C184-4F46-B7DD-620E48CA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7891-EC57-469D-B3E4-CEBEF3F3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6C4CA-A06F-4F1C-818E-94158B73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46147-735B-43CC-A190-97D44CB7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9EF12-83DE-4CC8-BD2B-7A832BAC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1173A-ED05-429E-8FB7-690E19B3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23E3C-2621-42B3-9C94-B0363472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F574-1CD2-40EB-B53B-28E7EB69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040FF-11DF-4BA5-A19C-ADC188CD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9750C-5F66-43EC-8CCA-89DA271C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C5939-DCBB-4ABE-8CFF-9336E870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375A3-5270-4EC5-8666-D915626A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A83B1-276E-4E64-B6A0-88EFF327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AE1DC-6BFF-4B54-9869-AB5EF82A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C9FA7-AB1B-4D8C-BAF9-C5F58773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F40C6-C547-43B3-AB60-34C90164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EB2F0-2682-42D7-A718-2F397DA5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953BD-5283-468A-A186-CACD826B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FF59-51AD-403E-9B2B-36411499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7687B-E0CB-4B1B-B515-173D4638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F2AE7-3F40-4862-8A9C-713C7BE8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FC9DE-1BAA-4655-9E51-D08A9A89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6ED88-588F-45C6-8C21-23FACE35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A6AA3-ABC9-4E86-B695-F02F6B48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AD045-2DC4-4D46-8B0C-85AAD8B9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AC555-ECEB-4920-B7B7-B5AFFC41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84B51-9888-47E3-A08D-8F0C698B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30E61-4BCB-4854-AF72-4E43D4BA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2CE32-D298-4EED-95B4-6F682176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4047-FBE0-4C40-B62F-3D2ECAA2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2D973-8598-44E6-91ED-6528EB8B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BAB6B-EC1B-4612-8C6A-385136D4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879F8-F827-48EC-808D-4DBF7618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1BC52-5D14-4085-9886-60BEBB59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EC4C8-32AB-4E43-A8FA-84C940AB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8048B-D800-4E9F-95E8-DFD1E4F9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3675E-1330-4D55-9C7B-9A6C1826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70712-75F0-459D-A8BD-480F663F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CF06D-9692-4D34-A442-F0EC9862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42A22-9863-43D7-A8B1-158B3412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713-B338-4A12-B1CE-08467652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62611-CB91-4E7D-82CD-CEABF59B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E67-2F8C-428F-9B32-EC6AB1AE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2192-CE0C-43D4-9A47-B569359E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DF71-E5B0-4A1F-93C5-CE1EB17B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9C29-9020-45A8-987A-CE85BBFD8A1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DBB0-F5AE-42BD-9C8E-FF7A5677C0E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8927-F949-4E0D-A51B-AF14136F3A8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2A1F-F269-41B2-A340-DA4CBE95063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44CD-467E-48A9-A81C-A840E2F7A6B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0728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РИТЕРИИ ЭФФЕКТИВНОСТИ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ОВРЕМЕННОГО УРОКА 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 УСЛОВИЯХ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ЕАЛИЗАЦИИ ФГОС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423000" y="6206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БОУ «Общеобразовательная школа психолого – педагогической поддержки № 101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5664600" y="5877000"/>
            <a:ext cx="31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рова Наталья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2"/>
          <p:cNvSpPr/>
          <p:nvPr/>
        </p:nvSpPr>
        <p:spPr>
          <a:xfrm>
            <a:off x="395280" y="404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8)Активная работа учащихся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• 9) Творчество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• 10) Дифференцированная и индивидуальная работа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• 11) Эмоциональная атмосфера на уроке (положительный эмоциональный настрой в начале урока, эмоциональная подача материала)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• 12) Создание ситуации успеха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• 13) Использование разнообразных методических приёмов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• 14) Мастерство и профессионализм учителя (умение выбрать методы, формы обучения, подобрать средства, умение организовать, умение импровизировать, уверенность в своих знаниях, настойчивость, дисциплинированность, творческое начало личности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2"/>
          <p:cNvSpPr/>
          <p:nvPr/>
        </p:nvSpPr>
        <p:spPr>
          <a:xfrm>
            <a:off x="684360" y="134136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Эффективность любого урока определяется не тем, что дает детям учитель, а тем, что они взяли в процессе обучения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  Т.е. что дал учащимся урок, насколько они продвинулись в усвоении учебного материала. Эффективный урок характеризуется тем, что на таком уроке, при разумной экономии учебного времени, при активной деятельности всех детей, каждый ученик приобретает определённую сумму знаний и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2"/>
          <p:cNvSpPr/>
          <p:nvPr/>
        </p:nvSpPr>
        <p:spPr>
          <a:xfrm>
            <a:off x="395280" y="141300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Какие методические приемы эффективно используются в коррекционной работе с детьми имеющие интеллектуальные нарушения?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  В первую очередь те, которые позволяют ребенку быть активным  участником коррекционно-развивающего процесса, т.е. те методы и приемы, которые способствуют переходу пассивных учеников в заинтересованных обучающихся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Перечислим некоторые из них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2"/>
          <p:cNvSpPr/>
          <p:nvPr/>
        </p:nvSpPr>
        <p:spPr>
          <a:xfrm>
            <a:off x="539640" y="1052640"/>
            <a:ext cx="820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1. Использование технических средств обучения или компьютера(интерактивных мультимедийных приложений, линейных и интерактивных компьютерных презентаций и специальных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развивающих программ; использование ТСО не должно длиться подряд более 15-20 минут)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2. Организация экспериментов, которые позволяют успешно формировать у детей наглядно-действенное мышление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3. Методы моделирования, которые необходимы для развития умения обобщать существенные признак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2"/>
          <p:cNvSpPr/>
          <p:nvPr/>
        </p:nvSpPr>
        <p:spPr>
          <a:xfrm>
            <a:off x="611280" y="40464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4. Приемы обучения с помощью органов чувств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5. Дидактические игры способствующие развитию творческого мышления. Также такие игры помогают снять психологическое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напряжение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6. Эвристический метод предполагает проведение конкурсов, ролевых игр, соревнований, что также делает ребенка активным участником образовательного процесса, повышает его мотивацию к учебной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деятельности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7. Использование упражнений, как многократное повторение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практических или умственных действи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2"/>
          <p:cNvSpPr/>
          <p:nvPr/>
        </p:nvSpPr>
        <p:spPr>
          <a:xfrm>
            <a:off x="324000" y="549360"/>
            <a:ext cx="8496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8. Словесные методы и приемы, которые активно включаются в детскую практику, например объяснение или рассказ ранее изученного материала самими детьми или друг другу в парах. В этом случае учитель на уроке не выступает в качестве лектора, а дает возможность учащимся быть активными участниками процесса обучения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9. Проблемный метод также помогает в создании активной модели проведения урока. Учитель только осуществляет постановку проблемной ситуации, а поиск решений остается за детьми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10. Внедрение само и взаимооценки, определение степени соответствия эталону или качества выполненного действия. Такой метод способствует развитию критичности и желанию работать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2"/>
          <p:cNvSpPr/>
          <p:nvPr/>
        </p:nvSpPr>
        <p:spPr>
          <a:xfrm>
            <a:off x="395280" y="69228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Используя основные методы и приемы повышающие эффективность современного урока, важно помнить и о необходимости создания педагогом условий для реализации новых образовательных стандартов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Рассмотрим наиболее актуальные и базовые условия, которые необходимо соблюд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1. Мотивация учащихся ( повышение интереса учащихся, т.к детьми движет исключительно интерес)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2. Визуализация изучаемого материала (рациональное использование наглядных средств, классной доски, зарисовки схем и моделирования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2"/>
          <p:cNvSpPr/>
          <p:nvPr/>
        </p:nvSpPr>
        <p:spPr>
          <a:xfrm>
            <a:off x="539640" y="105264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3. Учет каналов восприятия информации (преобладание аудиального, визуального или кинестетического канала)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4. Ситуация успеха ( сравнение достижений ученика только с его собственным прошлым умением, а не с успехами другого)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5. Непрерывная поддержка контакта в течении всего занятия как со всей группой детей, так и индивидуально (используя весь спектр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выразительности речи, мимики, контакт глаз, улыбку и внимание к каждому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2"/>
          <p:cNvSpPr/>
          <p:nvPr/>
        </p:nvSpPr>
        <p:spPr>
          <a:xfrm>
            <a:off x="324000" y="69228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6. Учет индивидуальных особенностей ребенка (например: наличие тревожности у ребенка, отсутствие базовых навыков работы на уроке, быстрая истощаемость нервной системы, трудности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переключения с одного вида деятельности на другой, замедленное восприятие и переработка информации, низкий темп выполнения заданий, общая ослабленность организма, недостаточное умение выражать свои мысли или не полное понимание речи окружающих,несоответствие учебной программы возможностям ребенка, слишком легкая или слишком сложная программа)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    Перечисленные условия, методы и приемы организации современного урока считаются в рамках ФГОС наиболее результатив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"/>
          <p:cNvSpPr/>
          <p:nvPr/>
        </p:nvSpPr>
        <p:spPr>
          <a:xfrm>
            <a:off x="324000" y="378720"/>
            <a:ext cx="842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Как учитель может определить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эффективность урока?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 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усвоение учащимися определённых знаний (результаты фронтального и индивидуального опроса, результаты самостоятельных, проверочных, контрольных работ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применение знаний в новых ситуациях, использование знаний в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развитие общеучебных умений и навы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развитие у учащихся познавательных проце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развитие рефлексии и оценоч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характеристика деятельности учащихся на уроке (интерес, активность, понимание материала и его знач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желание ученика найти дополнительную информацию по теме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324000" y="515772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«Если мы будем учить сегодня так, как мы учили вчера, мы украдем у детей завт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Джон Дью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C:\Users\User\Desktop\pervoklashki_adme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468360" y="89964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Verdana"/>
                <a:ea typeface="Calibri"/>
              </a:rPr>
              <a:t>      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Calibri"/>
              </a:rPr>
              <a:t>Урок - динамичная вариативная форма организации процесса целенаправленного взаимодействия (деятельности и общения) учителя и учащихся, включающая содержание, формы, методы и средства обучения и систематически применяемая для решения задач образования, воспитания и развития ученика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Calibri"/>
              </a:rPr>
              <a:t>     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Calibri"/>
              </a:rPr>
              <a:t>Урок в условиях реализации ФГОС строится на базе системно-деятельностного подхода, который направлен на развитие личности учащегося на основе освоения универсальных способов деятельности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2"/>
          <p:cNvSpPr/>
          <p:nvPr/>
        </p:nvSpPr>
        <p:spPr>
          <a:xfrm>
            <a:off x="395280" y="476280"/>
            <a:ext cx="84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Эффективность урока – стимул к успеху учителя и ученика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Что значит слово «эффективность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1. Эффективность – дающий эффект, приводящий к нужным результатам, действенный (словарь С.И. Ушак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2. Под эффективностью понимают полезность для развития каждого ребё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3. Слово “эффективность” в переводе с латинского – “эфектос” – означает выполнение действий, результат, следствие каких-либо действий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 Таким образом, эффективность урока - это его результативность, т.е. что дал учащимся урок, насколько они продвинулись в усвоении учебн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2"/>
          <p:cNvSpPr/>
          <p:nvPr/>
        </p:nvSpPr>
        <p:spPr>
          <a:xfrm>
            <a:off x="684360" y="1484280"/>
            <a:ext cx="777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Значит, оценивая эффективность урока, следует иметь в виду следующие парамет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-понят ли учащимися теоретический материал;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-научились ли применять полученные знания на практике;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-сформировались ли навыки по теме урока;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-проведена ли учителем коррекционная работа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"/>
          <p:cNvSpPr/>
          <p:nvPr/>
        </p:nvSpPr>
        <p:spPr>
          <a:xfrm>
            <a:off x="611280" y="1215360"/>
            <a:ext cx="766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Calibri"/>
              </a:rPr>
              <a:t>     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Calibri"/>
              </a:rPr>
              <a:t>Эффективный урок – это такой урок, когда удаётся вовлечь всех учащихся в работу: и сильный, и слабый ученик находит себе на уроке посильную ему работу, а по итогам урока показывают хорошие знания.     Конечно, эффективность урока во многом зависит от субъективного отношения учащегося к изучаемому материалу, его волевых усилий, помогающих преодолеть трудности. Поэтому немаловажное значение имеет повышение мотивации учащихся к изучению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2"/>
          <p:cNvSpPr/>
          <p:nvPr/>
        </p:nvSpPr>
        <p:spPr>
          <a:xfrm>
            <a:off x="324000" y="1125360"/>
            <a:ext cx="86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Эффективность урока зависит от использования методических приёмов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Методические приемы – это педагогически оформленные действия учителя и учащихся, посредством которых решаются конкретные задачи. Они должны соответствовать педагогической ситуации, особенностям развития учащихся, индивидуальному стилю педагогической деятельности учителя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        </a:t>
            </a: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Прием – это организация определенного вида работы на конкретном урок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"/>
          <p:cNvSpPr/>
          <p:nvPr/>
        </p:nvSpPr>
        <p:spPr>
          <a:xfrm>
            <a:off x="395280" y="13960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Критерии эффективного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Самостоятельность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Активная и творческая работа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Взаимодействие учителя и уче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Умение общаться, стиль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Учет учебных возможностей уче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Сотрудн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  <a:ea typeface="Times New Roman"/>
              </a:rPr>
              <a:t>Насыщенность урока, моторная плотность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User\Desktop\RIAN_871727.HR_.ru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00" y="333360"/>
            <a:ext cx="8496000" cy="611496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5"/>
          <p:cNvSpPr/>
          <p:nvPr/>
        </p:nvSpPr>
        <p:spPr>
          <a:xfrm>
            <a:off x="324000" y="336600"/>
            <a:ext cx="849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От чего зависит эффективность урока? Наверно, от следующих факторов: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• 1) Тщательная и всесторонняя подготовка учителя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• 2) Конкретность поставленной цели и задач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• 3) Выбор типа урока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• 4) Продуманность форм и методов обучения. Обучение через открытие!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• 5) Сотрудничество учителя и ученика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• 6) Использование разнообразных средств обучения (учебники и учебные пособия, наглядные средства, технические средства, средства Интернета).</a:t>
            </a:r>
            <a:br>
              <a:rPr sz="2400"/>
            </a:br>
            <a:r>
              <a:rPr b="0" lang="ru-RU" sz="2400" spc="-1" strike="noStrike">
                <a:solidFill>
                  <a:srgbClr val="f07f09"/>
                </a:solidFill>
                <a:latin typeface="Verdana"/>
              </a:rPr>
              <a:t>• 7) Моторная плотность урока, использование всего времени урока с максимальной продуктивностью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8T16:13:31Z</dcterms:created>
  <dc:creator>User</dc:creator>
  <dc:description/>
  <dc:language>en-US</dc:language>
  <cp:lastModifiedBy>user</cp:lastModifiedBy>
  <dcterms:modified xsi:type="dcterms:W3CDTF">2019-11-24T14:11:59Z</dcterms:modified>
  <cp:revision>17</cp:revision>
  <dc:subject/>
  <dc:title>КРИТЕРИИ ЭФФЕКТИВНОСТИ СОВРЕМЕННОГО УРОКА  В УСЛОВИЯХ РЕАЛИЗАЦИИ ФГОС</dc:title>
</cp:coreProperties>
</file>