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BAA-D06E-4309-A848-840DAD00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6EC-45E8-41E2-93E1-4B5DB1EF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C8A-23FA-42A4-A3F4-0255003E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8F3-56C3-4FEE-ACB4-D3BA4155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37EB-CE52-4102-BB00-EBF61A72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0832-3B24-419D-BB99-6636A6F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9E5-EF00-4F82-BA45-41CCFF99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044-7887-4A2D-92BF-EA52202E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7EC-7895-4973-857E-C7E63F7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54E-B500-48EF-9B70-C5321F11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71A6-0613-4142-93E6-E1E7DBC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DF9-7553-4D50-9E99-2D28270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E86C-A835-4C1E-8D39-A17CA14B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3E7-0F28-4095-BE7E-2D23F9F8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86D-571D-4ED5-9F3E-275C578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473B-9E3E-421D-855D-F20109B3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5B28-6F42-4238-B817-07C7B8E7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841A-4EF8-437A-BCE4-A17EF858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66C2-0068-4831-ABB1-5D581F43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F9E9-FCF7-4BCA-A2CB-B2A02B0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27EC-E783-48C3-87B1-C489E389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D377-7DBA-49ED-8964-39956D7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7E7-4135-49C4-AD05-8F77176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DB93-EF23-47B4-83E2-DB2539D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C1FF-9F85-46FC-BE5E-CD3D4CB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21B3-1BE0-4E85-8E14-AAEB0E7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6EB1-7C14-4D5D-B6B3-64FFC03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73E0-0944-4517-8F13-253074A5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5157-D606-4BE7-9840-596AA2FE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0D01-76BD-452F-B84F-7EB49D2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6A59-8556-47BA-A4FE-791C36D4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EEF0-A677-42B1-B68A-141E4BEA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673B-CCD7-461C-80E1-F7C7EA4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313-070E-4BF0-BA27-68BF1BB5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E3FB-88B4-4913-B9EA-E1277A2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F6DB-5D2B-480D-B380-85F2667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F13D-B4C2-4FFC-A046-21EE58A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6D32-AC1B-4B82-B81C-B60B1F6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BBE9-E1D5-4FE8-A35B-4D422F4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2439-E6BB-4185-95F9-4230D64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844D-C5D0-4DED-8D78-8D819C3E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61BA9-F417-42E6-9B84-44461EA2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938A-4DFE-4654-8595-6E86E2DE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F4BA-8B48-4AF3-9EE8-C0B8388A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673-B782-429C-9584-BBA878CC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E928-CEEE-4743-BF97-95DDF7D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D097-018C-4BEB-8534-5F1BC5C1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7F95-E547-49BC-8C9A-8979CB55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F588-92B4-46A8-AE10-7585C926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AD25-7D1E-4A39-9ADE-E7ACEC5F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58D0-17E1-44D1-ABFD-57BECB1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62C7-B43E-4620-8BFB-3463FEF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17E9-AE46-401C-B050-E3484314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192A-FDDD-41EC-9C76-FEE017A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70FB-08D4-4B2B-93FF-EFF22B2C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966-E09B-4CEE-9821-F02E98A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3AD8-746E-4F3B-9B18-65BD7E58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C82-D4FE-41F2-B3C8-A7A5107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3AF-D574-4388-8D21-DE3E971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C65-09CB-431E-BD8A-2531935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EF8-34E2-415A-8A67-518568E7CB3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E03-5AD8-498B-9437-C18C32130F2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24A4-A3EA-4EA3-9CBD-6973B8A4696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41E-92DF-4179-9563-311167D7D42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47C-6AA6-45C3-8A4E-19FA347B4B7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ИТЕРИИ ЭФФЕКТИВНОСТИ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ВРЕМЕННОГО УРОКА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 УСЛОВИЯХ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АЛИЗАЦИИ ФГОС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23000" y="6206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«Общеобразовательная школа психолого – педагогической поддержки № 10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664600" y="587700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395280" y="404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8)Активная работа учащихс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9) Творчество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0) Дифференцированная и индивидуальная работ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1) Эмоциональная атмосфера на уроке (положительный эмоциональный настрой в начале урока, эмоциональная подача материала)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2) Создание ситуации успех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3) Использование разнообразных методических приёмов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4) Мастерство и профессионализм учителя (умение выбрать методы, формы обучения, подобрать средства, умение организовать, умение импровизировать, уверенность в своих знаниях, настойчивость, дисциплинированность, творческое начало личности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684360" y="1341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Эффективность любого урока определяется не тем, что дает детям учитель, а тем, что они взяли в процессе обучени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Т.е. что дал учащимся урок, насколько они продвинулись в усвоении учебного материала. Эффективный урок характеризуется тем, что на таком уроке, при разумной экономии учебного времени, при активной деятельности всех детей, каждый ученик приобретает определённую сумму зна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"/>
          <p:cNvSpPr/>
          <p:nvPr/>
        </p:nvSpPr>
        <p:spPr>
          <a:xfrm>
            <a:off x="395280" y="141300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Какие методические приемы эффективно используются в коррекционной работе с детьми имеющие интеллектуальные нарушения?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В первую очередь те, которые позволяют ребенку быть активным  участником коррекционно-развивающего процесса, т.е. те методы и приемы, которые способствуют переходу пассивных учеников в заинтересованных обучающихс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еречислим некоторые из них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539640" y="105264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. Использование технических средств обучения или компьютера(интерактивных мультимедийных приложений, линейных и интерактивных компьютерных презентаций и специальных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развивающих программ; использование ТСО не должно длиться подряд более 15-20 минут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2. Организация экспериментов, которые позволяют успешно формировать у детей наглядно-действен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3. Методы моделирования, которые необходимы для развития умения обобщать существенные признак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611280" y="40464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4. Приемы обучения с помощью органов чувств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5. Дидактические игры способствующие развитию творческого мышления. Также такие игры помогают снять психологическое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напряжение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6. Эвристический метод предполагает проведение конкурсов, ролевых игр, соревнований, что также делает ребенка активным участником образовательного процесса, повышает его мотивацию к учебной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7. Использование упражнений, как многократное повторение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рактических или умственных действ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324000" y="549360"/>
            <a:ext cx="849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8. Словесные методы и приемы, которые активно включаются в детскую практику, например объяснение или рассказ ранее изученного материала самими детьми или друг другу в парах. В этом случае учитель на уроке не выступает в качестве лектора, а дает возможность учащимся быть активными участниками процесса обучени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9. Проблемный метод также помогает в создании активной модели проведения урока. Учитель только осуществляет постановку проблемной ситуации, а поиск решений остается за детьм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0. Внедрение само и взаимооценки, определение степени соответствия эталону или качества выполненного действия. Такой метод способствует развитию критичности и желанию работать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"/>
          <p:cNvSpPr/>
          <p:nvPr/>
        </p:nvSpPr>
        <p:spPr>
          <a:xfrm>
            <a:off x="395280" y="69228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Используя основные методы и приемы повышающие эффективность современного урока, важно помнить и о необходимости создания педагогом условий для реализации новых образовательных стандартов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Рассмотрим наиболее актуальные и базовые условия, которые необходимо соблюд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. Мотивация учащихся ( повышение интереса учащихся, т.к детьми движет исключительно интерес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2. Визуализация изучаемого материала (рациональное использование наглядных средств, классной доски, зарисовки схем и моделирования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539640" y="1052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3. Учет каналов восприятия информации (преобладание аудиального, визуального или кинестетического канала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4. Ситуация успеха ( сравнение достижений ученика только с его собственным прошлым умением, а не с успехами другого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5. Непрерывная поддержка контакта в течении всего занятия как со всей группой детей, так и индивидуально (используя весь спектр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выразительности речи, мимики, контакт глаз, улыбку и внимание к каждому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324000" y="692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6. Учет индивидуальных особенностей ребенка (например: наличие тревожности у ребенка, отсутствие базовых навыков работы на уроке, быстрая истощаемость нервной системы, трудности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ереключения с одного вида деятельности на другой, замедленное восприятие и переработка информации, низкий темп выполнения заданий, общая ослабленность организма, недостаточное умение выражать свои мысли или не полное понимание речи окружающих,несоответствие учебной программы возможностям ребенка, слишком легкая или слишком сложная программа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 Перечисленные условия, методы и приемы организации современного урока считаются в рамках ФГОС наиболее результатив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324000" y="37872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Как учитель может определить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эффективность урока?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усвоение учащимися определённых знаний (результаты фронтального и индивидуального опроса, результаты самостоятельных, проверочных, контрольных работ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применение знаний в новых ситуациях, использование знаний в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развитие общеучебных уме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развитие у учащихся познаватель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развитие рефлексии и оцен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характеристика деятельности учащихся на уроке (интерес, активность, понимание материала и его 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желание ученика найти дополнительную информацию по теме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24000" y="515772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«Если мы будем учить сегодня так, как мы учили вчера, мы украдем у детей зав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Users\User\Desktop\pervoklashki_adme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468360" y="89964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Verdana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Урок - динамичная вариативная форма организации процесса целенаправленного взаимодействия (деятельности и общения) учителя и учащихся, включающая содержание, формы, методы и средства обучения и систематически применяемая для решения задач образования, воспитания и развития ученика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Урок в условиях реализации ФГОС строится на базе системно-деятельностного подхода, который направлен на развитие личности учащегося на основе освоения универсальных способов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39528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Эффективность урока – стимул к успеху учителя и ученик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Что значит слово «эффективнос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. Эффективность – дающий эффект, приводящий к нужным результатам, действенный (словарь С.И. Уша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2. Под эффективностью понимают полезность для развития каждого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3. Слово “эффективность” в переводе с латинского – “эфектос” – означает выполнение действий, результат, следствие каких-либо действий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Таким образом, эффективность урока - это его результативность, т.е. что дал учащимся урок, насколько они продвинулись в усвоении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"/>
          <p:cNvSpPr/>
          <p:nvPr/>
        </p:nvSpPr>
        <p:spPr>
          <a:xfrm>
            <a:off x="684360" y="148428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Значит, оценивая эффективность урока, следует иметь в виду следующи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понят ли учащимися теоретический материал;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научились ли применять полученные знания на практике;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сформировались ли навыки по теме урока;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проведена ли учителем коррекционная работ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611280" y="1215360"/>
            <a:ext cx="76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Эффективный урок – это такой урок, когда удаётся вовлечь всех учащихся в работу: и сильный, и слабый ученик находит себе на уроке посильную ему работу, а по итогам урока показывают хорошие знания.     Конечно, эффективность урока во многом зависит от субъективного отношения учащегося к изучаемому материалу, его волевых усилий, помогающих преодолеть трудности. Поэтому немаловажное значение имеет повышение мотивации учащихся к изучению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324000" y="112536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Эффективность урока зависит от использования методических приёмов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Методические приемы – это педагогически оформленные действия учителя и учащихся, посредством которых решаются конкретные задачи. Они должны соответствовать педагогической ситуации, особенностям развития учащихся, индивидуальному стилю педагогической деятельности учител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рием – это организация определенного вида работы на конкретном урок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"/>
          <p:cNvSpPr/>
          <p:nvPr/>
        </p:nvSpPr>
        <p:spPr>
          <a:xfrm>
            <a:off x="395280" y="13960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Критерии эффектив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Самосто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Активная и творческая работ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Взаимодействие учителя 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Умение общаться, стиль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Учет учебных возможностей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Сотруд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Насыщенность урока, моторная плот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324000" y="336600"/>
            <a:ext cx="849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От чего зависит эффективность урока? Наверно, от следующих факторов: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) Тщательная и всесторонняя подготовка учител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2) Конкретность поставленной цели и задач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3) Выбор типа урок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4) Продуманность форм и методов обучения. Обучение через открытие!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5) Сотрудничество учителя и ученик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6) Использование разнообразных средств обучения (учебники и учебные пособия, наглядные средства, технические средства, средства Интернета)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7) Моторная плотность урока, использование всего времени урока с максимальной продуктивност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6:13:31Z</dcterms:created>
  <dc:creator>User</dc:creator>
  <dc:description/>
  <dc:language>en-US</dc:language>
  <cp:lastModifiedBy>user</cp:lastModifiedBy>
  <dcterms:modified xsi:type="dcterms:W3CDTF">2019-11-24T14:11:59Z</dcterms:modified>
  <cp:revision>17</cp:revision>
  <dc:subject/>
  <dc:title>КРИТЕРИИ ЭФФЕКТИВНОСТИ СОВРЕМЕННОГО УРОКА  В УСЛОВИЯХ РЕАЛИЗАЦИИ ФГОС</dc:title>
</cp:coreProperties>
</file>