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gif" ContentType="image/gif"/>
  <Override PartName="/ppt/media/image5.jpeg" ContentType="image/jpeg"/>
  <Override PartName="/ppt/media/image18.wmf" ContentType="image/x-wmf"/>
  <Override PartName="/ppt/media/image26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4.gif" ContentType="image/gif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539-75E8-4033-8278-AA9B400D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A98-CB05-42B9-9DC1-8564837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8A2-E741-4833-AA40-5B288D6E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246-C753-459F-A152-B3BC7A85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D0B-1D24-402F-AACF-77AFA00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49F-3699-48D1-817E-365698E8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B20-31D2-490F-BFD8-FB4E18F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F12-0F99-40F0-B191-8401A0DB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02B-ED52-48B1-AAE0-3963E29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952-90BA-4ED0-A40E-D6A45A8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679-D35D-4681-B126-0C55BE3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B4D-79CE-4233-84EF-DC5848DD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2EB-5B92-4D0A-A90A-68F3612BD6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6829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0292"/>
                </a:solidFill>
                <a:latin typeface="Arial Rounded MT Bold"/>
                <a:ea typeface="Arial"/>
              </a:rPr>
              <a:t>“</a:t>
            </a:r>
            <a:r>
              <a:rPr b="1" i="1" lang="ru-RU" sz="4100" spc="-1" strike="noStrike">
                <a:solidFill>
                  <a:srgbClr val="fe0292"/>
                </a:solidFill>
                <a:latin typeface="Arial"/>
                <a:ea typeface="Arial"/>
              </a:rPr>
              <a:t>ЛИНГВИСТИЧЕСКИЕ ИГРЫ НА УРОКАХ РУССКОГО ЯЗЫК</a:t>
            </a:r>
            <a:r>
              <a:rPr b="1" i="1" lang="en-US" sz="4100" spc="-1" strike="noStrike">
                <a:solidFill>
                  <a:srgbClr val="fe0292"/>
                </a:solidFill>
                <a:latin typeface="Arial Rounded MT Bold"/>
                <a:ea typeface="Arial"/>
              </a:rPr>
              <a:t>A </a:t>
            </a:r>
            <a:r>
              <a:rPr b="1" i="1" lang="ru-RU" sz="4100" spc="-1" strike="noStrike">
                <a:solidFill>
                  <a:srgbClr val="fe0292"/>
                </a:solidFill>
                <a:latin typeface="Arial"/>
                <a:ea typeface="Arial"/>
              </a:rPr>
              <a:t> В  НАЧАЛЬНОЙ  ШКОЛ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йка"/>
          <p:cNvPicPr/>
          <p:nvPr/>
        </p:nvPicPr>
        <p:blipFill>
          <a:blip r:embed="rId1"/>
          <a:stretch/>
        </p:blipFill>
        <p:spPr>
          <a:xfrm>
            <a:off x="6875640" y="4076640"/>
            <a:ext cx="1755720" cy="17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71280" y="4300200"/>
            <a:ext cx="58323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 учитель начальных классов  МАОУ «СОШ № 3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зее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904760" cy="1171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4427640" y="254160"/>
          <a:ext cx="4406760" cy="62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254160"/>
                    <a:ext cx="440676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илворд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 логическая игра. На квадратном поле расположены буквы.  Нужно, выделяя буквы, находить слова так, чтобы они целиком заполняли квадрат. Не все, а только загаданные слова подходят для за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С Диска C\Праздник Осени\Desktop\автобус.jpg"/>
          <p:cNvPicPr/>
          <p:nvPr/>
        </p:nvPicPr>
        <p:blipFill>
          <a:blip r:embed="rId4"/>
          <a:stretch/>
        </p:blipFill>
        <p:spPr>
          <a:xfrm>
            <a:off x="1908000" y="4581360"/>
            <a:ext cx="2495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http://www.igraza.ru/images/stories/1.jpg"/>
          <p:cNvPicPr/>
          <p:nvPr/>
        </p:nvPicPr>
        <p:blipFill>
          <a:blip r:embed="rId2"/>
          <a:stretch/>
        </p:blipFill>
        <p:spPr>
          <a:xfrm>
            <a:off x="2340000" y="2349360"/>
            <a:ext cx="5203800" cy="1616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ребус2 "/>
          <p:cNvPicPr/>
          <p:nvPr/>
        </p:nvPicPr>
        <p:blipFill>
          <a:blip r:embed="rId3"/>
          <a:stretch/>
        </p:blipFill>
        <p:spPr>
          <a:xfrm>
            <a:off x="250920" y="4149720"/>
            <a:ext cx="4252680" cy="1366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ребус 3"/>
          <p:cNvPicPr/>
          <p:nvPr/>
        </p:nvPicPr>
        <p:blipFill>
          <a:blip r:embed="rId4"/>
          <a:stretch/>
        </p:blipFill>
        <p:spPr>
          <a:xfrm>
            <a:off x="4788000" y="4653000"/>
            <a:ext cx="415584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16360" y="549000"/>
            <a:ext cx="5472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бу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дка, в которой искомое слово или фраза изображены комбинацией фигур, букв или зна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62"/>
          <p:cNvPicPr/>
          <p:nvPr/>
        </p:nvPicPr>
        <p:blipFill>
          <a:blip r:embed="rId5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162"/>
          <p:cNvPicPr/>
          <p:nvPr/>
        </p:nvPicPr>
        <p:blipFill>
          <a:blip r:embed="rId6"/>
          <a:stretch/>
        </p:blipFill>
        <p:spPr>
          <a:xfrm>
            <a:off x="2340000" y="6381720"/>
            <a:ext cx="547668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27280" y="691920"/>
            <a:ext cx="60595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80000"/>
                </a:solidFill>
                <a:latin typeface="Arial"/>
                <a:ea typeface="Arial"/>
              </a:rPr>
              <a:t>ШАРА́ДА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- загадка, в которой загаданное слово делится на несколько составных частей, каждая из которых представляет собой отдельное слово.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24000" y="21337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– мышки писк в трав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– на бычьей голов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ет яблочным, капустны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мяным, пышным, очень вкусны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-р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5292720" y="3429000"/>
            <a:ext cx="31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остою из двух слог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отгадать меня готов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нота прозвучал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важнейшая припра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месте  овощ я в са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учке на грядке я раст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-со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С Диска C\Праздник Осени\Desktop\фасоль.jpg"/>
          <p:cNvPicPr/>
          <p:nvPr/>
        </p:nvPicPr>
        <p:blipFill>
          <a:blip r:embed="rId1"/>
          <a:stretch/>
        </p:blipFill>
        <p:spPr>
          <a:xfrm>
            <a:off x="5651640" y="1844640"/>
            <a:ext cx="201600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С Диска C\Праздник Осени\Desktop\пирог.jpg"/>
          <p:cNvPicPr/>
          <p:nvPr/>
        </p:nvPicPr>
        <p:blipFill>
          <a:blip r:embed="rId2"/>
          <a:stretch/>
        </p:blipFill>
        <p:spPr>
          <a:xfrm>
            <a:off x="1403280" y="4149720"/>
            <a:ext cx="2521080" cy="1954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166"/>
          <p:cNvPicPr/>
          <p:nvPr/>
        </p:nvPicPr>
        <p:blipFill>
          <a:blip r:embed="rId3"/>
          <a:stretch/>
        </p:blipFill>
        <p:spPr>
          <a:xfrm>
            <a:off x="2411280" y="18900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19051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88000" y="404280"/>
            <a:ext cx="38988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РИПТОГРАММ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—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(греч. от kryptos тайный и gramma всё вообще писанное). Записка, написанная условными знаками или буквам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:\С Диска C\Праздник Осени\Desktop\криптограмма 2.jpg"/>
          <p:cNvPicPr/>
          <p:nvPr/>
        </p:nvPicPr>
        <p:blipFill>
          <a:blip r:embed="rId1"/>
          <a:stretch/>
        </p:blipFill>
        <p:spPr>
          <a:xfrm>
            <a:off x="324000" y="1557360"/>
            <a:ext cx="4535280" cy="511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:\С Диска C\Праздник Осени\Desktop\элли 2.jpg"/>
          <p:cNvPicPr/>
          <p:nvPr/>
        </p:nvPicPr>
        <p:blipFill>
          <a:blip r:embed="rId2"/>
          <a:stretch/>
        </p:blipFill>
        <p:spPr>
          <a:xfrm>
            <a:off x="5148360" y="3141720"/>
            <a:ext cx="38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62"/>
          <p:cNvPicPr/>
          <p:nvPr/>
        </p:nvPicPr>
        <p:blipFill>
          <a:blip r:embed="rId4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611280" y="1125360"/>
            <a:ext cx="5329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откроешь - и во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го польётс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ишь Э - и тог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нотеатре он найдётс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 - здоровью основ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- букву возьми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рским стану слово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у справа сними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едмет увлечень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обраньях и преньях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С Диска C\Праздник Осени\Desktop\кран.jpg"/>
          <p:cNvPicPr/>
          <p:nvPr/>
        </p:nvPicPr>
        <p:blipFill>
          <a:blip r:embed="rId1"/>
          <a:stretch/>
        </p:blipFill>
        <p:spPr>
          <a:xfrm>
            <a:off x="3708360" y="458136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С Диска C\Праздник Осени\Desktop\экран.jpg"/>
          <p:cNvPicPr/>
          <p:nvPr/>
        </p:nvPicPr>
        <p:blipFill>
          <a:blip r:embed="rId2"/>
          <a:stretch/>
        </p:blipFill>
        <p:spPr>
          <a:xfrm>
            <a:off x="6254640" y="1773360"/>
            <a:ext cx="244656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90512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Логогриф</a:t>
            </a:r>
            <a:r>
              <a:rPr b="0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 - загадка, в которой новые слова образуются в результате прибавления или убавления одной буквы или с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4" descr="166"/>
          <p:cNvPicPr/>
          <p:nvPr/>
        </p:nvPicPr>
        <p:blipFill>
          <a:blip r:embed="rId4"/>
          <a:stretch/>
        </p:blipFill>
        <p:spPr>
          <a:xfrm>
            <a:off x="3203640" y="189000"/>
            <a:ext cx="50292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4300" spc="-1" strike="noStrike">
                <a:solidFill>
                  <a:srgbClr val="000099"/>
                </a:solidFill>
                <a:latin typeface="Calibri"/>
              </a:rPr>
              <a:t>СПАСИБО ЗА РАБОТУ!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:\С Диска C\Праздник Осени\Desktop\словарь.jpg"/>
          <p:cNvPicPr/>
          <p:nvPr/>
        </p:nvPicPr>
        <p:blipFill>
          <a:blip r:embed="rId1"/>
          <a:stretch/>
        </p:blipFill>
        <p:spPr>
          <a:xfrm>
            <a:off x="2411280" y="2428920"/>
            <a:ext cx="4537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68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Четвертый лишний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В каждом из столбцов найдите четвертый лишний фразеологизм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;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объясните, почему он 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 “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лишний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”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, и составьте с ним   пред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) хоть пруд пруди                                      2)  во все лопа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кот наплакал                                                 сломя го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тьма-тьмущая                                                черепашьим ша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яблоку негде упасть                                     в мгновенье 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) слово в слово                                          4)  попасть впрос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тютелька в тютельку                                    попасть на седьмое не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илами на воде писано                                попасть в пере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комар носа не подточит                              попасть в переп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76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549000"/>
            <a:ext cx="51148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200" spc="-1" strike="noStrike">
                <a:solidFill>
                  <a:srgbClr val="0101ff"/>
                </a:solidFill>
                <a:latin typeface="Arial"/>
                <a:ea typeface="Arial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0101ff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d4542c"/>
                </a:solidFill>
                <a:latin typeface="Arial"/>
                <a:ea typeface="Arial"/>
              </a:rPr>
              <a:t>Одним словом</a:t>
            </a:r>
            <a:r>
              <a:rPr b="1" i="1" lang="en-US" sz="2200" spc="-1" strike="noStrike">
                <a:solidFill>
                  <a:srgbClr val="0101ff"/>
                </a:solidFill>
                <a:latin typeface="Arial"/>
                <a:ea typeface="Arial"/>
              </a:rPr>
              <a:t>”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1844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рубить на носу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– запомн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коптить небо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             пальчики оближешь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себе на уме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                     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развесить уши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куры не клюют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           прикусить язык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вставлять палки в колеса -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…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обвести вокруг пальца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заткнуть за пояс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бить баклуши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62"/>
          <p:cNvPicPr/>
          <p:nvPr/>
        </p:nvPicPr>
        <p:blipFill>
          <a:blip r:embed="rId2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62"/>
          <p:cNvPicPr/>
          <p:nvPr/>
        </p:nvPicPr>
        <p:blipFill>
          <a:blip r:embed="rId3"/>
          <a:stretch/>
        </p:blipFill>
        <p:spPr>
          <a:xfrm>
            <a:off x="2484360" y="645336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:\С Диска C\Праздник Осени\Desktop\вставлять.jpg"/>
          <p:cNvPicPr/>
          <p:nvPr/>
        </p:nvPicPr>
        <p:blipFill>
          <a:blip r:embed="rId4"/>
          <a:stretch/>
        </p:blipFill>
        <p:spPr>
          <a:xfrm>
            <a:off x="4788000" y="3741840"/>
            <a:ext cx="3600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101ff"/>
                </a:solidFill>
                <a:latin typeface="Calibri"/>
              </a:rPr>
              <a:t>       </a:t>
            </a:r>
            <a:r>
              <a:rPr b="1" i="1" lang="ru-RU" sz="2200" spc="-1" strike="noStrike">
                <a:solidFill>
                  <a:srgbClr val="0101ff"/>
                </a:solidFill>
                <a:latin typeface="Calibri"/>
              </a:rPr>
              <a:t>ЛИНГВИСТИЧЕСКАЯ ИГРА</a:t>
            </a:r>
            <a:br>
              <a:rPr sz="2200"/>
            </a:br>
            <a:r>
              <a:rPr b="1" i="1" lang="ru-RU" sz="2200" spc="-1" strike="noStrike">
                <a:solidFill>
                  <a:srgbClr val="953735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i="1" lang="ru-RU" sz="2200" spc="-1" strike="noStrike">
                <a:solidFill>
                  <a:srgbClr val="953735"/>
                </a:solidFill>
                <a:latin typeface="Calibri"/>
              </a:rPr>
              <a:t>О ком так говорят</a:t>
            </a:r>
            <a:r>
              <a:rPr b="1" i="1" lang="en-US" sz="2200" spc="-1" strike="noStrike">
                <a:solidFill>
                  <a:srgbClr val="953735"/>
                </a:solidFill>
                <a:latin typeface="Calibri"/>
              </a:rPr>
              <a:t> ?”</a:t>
            </a:r>
            <a:br>
              <a:rPr sz="25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змея подколодная                 7.  правая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белая ворона                          8. семи пядей во л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гусь лапчатый                        9. собаку съ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тертый калач                         10. звезд с неба не хват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забубенная головушка        11. язык без кос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желторотый птенец              12. и швец, и жнец, и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дуде игр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166"/>
          <p:cNvPicPr/>
          <p:nvPr/>
        </p:nvPicPr>
        <p:blipFill>
          <a:blip r:embed="rId2"/>
          <a:stretch/>
        </p:blipFill>
        <p:spPr>
          <a:xfrm>
            <a:off x="3059280" y="26028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С Диска C\Праздник Осени\Desktop\гусь.jpg"/>
          <p:cNvPicPr/>
          <p:nvPr/>
        </p:nvPicPr>
        <p:blipFill>
          <a:blip r:embed="rId3"/>
          <a:stretch/>
        </p:blipFill>
        <p:spPr>
          <a:xfrm>
            <a:off x="3132000" y="4508640"/>
            <a:ext cx="2519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200" spc="-1" strike="noStrike">
                <a:solidFill>
                  <a:srgbClr val="0101ff"/>
                </a:solidFill>
                <a:latin typeface="Calibri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fe0292"/>
                </a:solidFill>
                <a:latin typeface="Calibri"/>
              </a:rPr>
              <a:t>“</a:t>
            </a:r>
            <a:r>
              <a:rPr b="1" i="1" lang="ru-RU" sz="2200" spc="-1" strike="noStrike">
                <a:solidFill>
                  <a:srgbClr val="fe0292"/>
                </a:solidFill>
                <a:latin typeface="Calibri"/>
              </a:rPr>
              <a:t>Восстанови фразеологизм</a:t>
            </a:r>
            <a:r>
              <a:rPr b="1" i="1" lang="en-US" sz="2200" spc="-1" strike="noStrike">
                <a:solidFill>
                  <a:srgbClr val="fe0292"/>
                </a:solidFill>
                <a:latin typeface="Calibri"/>
              </a:rPr>
              <a:t>”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ff"/>
                </a:solidFill>
                <a:latin typeface="Arial"/>
                <a:ea typeface="Arial"/>
              </a:rPr>
              <a:t>Перепишите, вставляя нужные по смыслу слова             ( из мира животных )</a:t>
            </a:r>
            <a:r>
              <a:rPr b="1" i="1" lang="en-US" sz="2400" spc="-1" strike="noStrike">
                <a:solidFill>
                  <a:srgbClr val="0101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1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делить шкуру неубитого ….  7) считать 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2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сесть на любимого ….            8) дразнить 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3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купить… в мешке                    9) брать… за р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aa0e02"/>
                </a:solidFill>
                <a:latin typeface="Calibri"/>
              </a:rPr>
              <a:t>4) </a:t>
            </a:r>
            <a:r>
              <a:rPr b="1" lang="ru-RU" sz="1800" spc="-1" strike="noStrike">
                <a:solidFill>
                  <a:srgbClr val="aa0e02"/>
                </a:solidFill>
                <a:latin typeface="Calibri"/>
              </a:rPr>
              <a:t>пустить… в огород                   10) смотреть как… на новые вор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5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набито как в бочке …          11) прокатить на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6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дуется как… на крупу          12) писать как… лап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806480" cy="111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С Диска C\Праздник Осени\Desktop\козёл.jpg"/>
          <p:cNvPicPr/>
          <p:nvPr/>
        </p:nvPicPr>
        <p:blipFill>
          <a:blip r:embed="rId2"/>
          <a:stretch/>
        </p:blipFill>
        <p:spPr>
          <a:xfrm>
            <a:off x="5292720" y="479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С Диска C\Праздник Осени\Desktop\мышь.jpg"/>
          <p:cNvPicPr/>
          <p:nvPr/>
        </p:nvPicPr>
        <p:blipFill>
          <a:blip r:embed="rId3"/>
          <a:stretch/>
        </p:blipFill>
        <p:spPr>
          <a:xfrm>
            <a:off x="1403280" y="5013360"/>
            <a:ext cx="2305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1640" y="189000"/>
            <a:ext cx="44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на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Анаграм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слово, из которого можно получить другое слово путём перестановки букв или слогов, например: Рига-игра, ракета-карета, анис-сани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ва для игр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раб, арфа, баня, вино, жало, зола, куст, карп, лето, маяк, мать, марш, весна, сосна, атлас, рост, туша, шарф, адрес, актёр, банка, глав, волос, розга, кайма, канал, сокол, кукла, шпала, ма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157"/>
          <p:cNvPicPr/>
          <p:nvPr/>
        </p:nvPicPr>
        <p:blipFill>
          <a:blip r:embed="rId2"/>
          <a:stretch/>
        </p:blipFill>
        <p:spPr>
          <a:xfrm>
            <a:off x="250920" y="6524640"/>
            <a:ext cx="8785080" cy="21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С Диска C\Праздник Осени\Desktop\сосна.jpeg"/>
          <p:cNvPicPr/>
          <p:nvPr/>
        </p:nvPicPr>
        <p:blipFill>
          <a:blip r:embed="rId3"/>
          <a:stretch/>
        </p:blipFill>
        <p:spPr>
          <a:xfrm>
            <a:off x="7308720" y="1052640"/>
            <a:ext cx="1676520" cy="29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D:\С Диска C\Праздник Осени\Desktop\nasos.png"/>
          <p:cNvPicPr/>
          <p:nvPr/>
        </p:nvPicPr>
        <p:blipFill>
          <a:blip r:embed="rId4"/>
          <a:stretch/>
        </p:blipFill>
        <p:spPr>
          <a:xfrm>
            <a:off x="6300720" y="4724280"/>
            <a:ext cx="151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27280" y="333360"/>
            <a:ext cx="60595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0292"/>
                </a:solidFill>
                <a:latin typeface="Calibri"/>
              </a:rPr>
              <a:t>Мета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712880" cy="105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4360" y="1268280"/>
            <a:ext cx="813564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етаграм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это загадка, по условиям которой из загаданного слова, путём замены одной буквы другой, получается нов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вук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е вкусна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 пище каждому  нужна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регись меня, не то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ъем и платье, и паль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 школе на стене,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ы, реки есть на мне.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 вас не утаю –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е в школе я стою.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D:\С Диска C\Праздник Осени\Desktop\карта.jpg"/>
          <p:cNvPicPr/>
          <p:nvPr/>
        </p:nvPicPr>
        <p:blipFill>
          <a:blip r:embed="rId2"/>
          <a:stretch/>
        </p:blipFill>
        <p:spPr>
          <a:xfrm>
            <a:off x="4646520" y="2154240"/>
            <a:ext cx="3957840" cy="19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С Диска C\Праздник Осени\Desktop\парта.jpg"/>
          <p:cNvPicPr/>
          <p:nvPr/>
        </p:nvPicPr>
        <p:blipFill>
          <a:blip r:embed="rId3"/>
          <a:stretch/>
        </p:blipFill>
        <p:spPr>
          <a:xfrm>
            <a:off x="826920" y="4149720"/>
            <a:ext cx="2391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6275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e0292"/>
                </a:solidFill>
                <a:latin typeface="Arial"/>
                <a:ea typeface="Arial"/>
              </a:rPr>
              <a:t>Решите звуковые пропор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905120" cy="117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84360" y="1989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34936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к : г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  <a:ea typeface="Arial"/>
              </a:rPr>
              <a:t> т : ?                 д : т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б : ?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в : ф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з :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к : т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г : 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177"/>
          <p:cNvPicPr/>
          <p:nvPr/>
        </p:nvPicPr>
        <p:blipFill>
          <a:blip r:embed="rId2"/>
          <a:stretch/>
        </p:blipFill>
        <p:spPr>
          <a:xfrm>
            <a:off x="2050920" y="189000"/>
            <a:ext cx="6769080" cy="144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177"/>
          <p:cNvPicPr/>
          <p:nvPr/>
        </p:nvPicPr>
        <p:blipFill>
          <a:blip r:embed="rId3"/>
          <a:stretch/>
        </p:blipFill>
        <p:spPr>
          <a:xfrm>
            <a:off x="468360" y="6524640"/>
            <a:ext cx="8496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http://kladraz.ru/images/117(2).jpg"/>
          <p:cNvPicPr/>
          <p:nvPr/>
        </p:nvPicPr>
        <p:blipFill>
          <a:blip r:embed="rId2"/>
          <a:stretch/>
        </p:blipFill>
        <p:spPr>
          <a:xfrm>
            <a:off x="5724360" y="2637000"/>
            <a:ext cx="3218040" cy="253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324000" y="1197360"/>
            <a:ext cx="486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Тема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Звонкие и глухие согла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горизон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В шубе - летом, зимой - раздетый. 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Толстый тонкого побьет, тонкий что-нибудь прибьет. (Молоток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Лежит мужичок в золотом кафтане, подпоясан пояском, встать не может, люди поднимают. (Сно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то зимой холодной ходит злой, голодный? (Волк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Рассыпался горох на двенадцать дорог. (Гра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. Что на себе не видишь? (Рос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24000" y="4123800"/>
            <a:ext cx="482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вертик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. С неба - звездой, на ладошке - водой. (Сне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Золотист он и усат, в ста карманах сто ребят. (Коло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Семьсот ворот, да один   выход. (Нево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Без рук, без ног, а в избу лезет. (Холо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Слеп да тупорыл, всю 3землю изрыл, мороз пришел - в землю ушел. (Кро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оссворд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 — головоломка, представляющая собой переплетение рядов клеточек, которые заполняются словами по заданным значе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183"/>
          <p:cNvPicPr/>
          <p:nvPr/>
        </p:nvPicPr>
        <p:blipFill>
          <a:blip r:embed="rId3"/>
          <a:stretch/>
        </p:blipFill>
        <p:spPr>
          <a:xfrm flipH="1" rot="10800000">
            <a:off x="3132000" y="259560"/>
            <a:ext cx="4048200" cy="73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183"/>
          <p:cNvPicPr/>
          <p:nvPr/>
        </p:nvPicPr>
        <p:blipFill>
          <a:blip r:embed="rId4"/>
          <a:stretch/>
        </p:blipFill>
        <p:spPr>
          <a:xfrm>
            <a:off x="4427640" y="6453360"/>
            <a:ext cx="40482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3:15:57Z</dcterms:created>
  <dc:creator>User</dc:creator>
  <dc:description/>
  <dc:language>en-US</dc:language>
  <cp:lastModifiedBy>Пользователь</cp:lastModifiedBy>
  <dcterms:modified xsi:type="dcterms:W3CDTF">2018-02-03T17:52:00Z</dcterms:modified>
  <cp:revision>37</cp:revision>
  <dc:subject/>
  <dc:title> ЛИНГВИСТИЧЕСКАЯ ИГРА “Четвертый лишний” </dc:title>
</cp:coreProperties>
</file>