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%D0%91%D0%95%D0%A2%D0%A5%D0%9E%D0%92%D0%95%D0%9D%D0%BB%D1%83%D0%BD%D0%BD%D0%B0%D1%8F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47A-E5A5-4BA5-B703-FDBE051B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9DA-11C8-4E28-83E9-C60BEABD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B36-AC0F-4D66-B4D7-CF4B766E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87C-3F90-4CA3-AD86-C1139B4D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D757-DBDD-43EA-A591-8D9FF586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0A19-A12D-4001-B587-2B61F78A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CE2F-C10A-48E7-9ECC-20538E66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C137-9013-44C4-B1FF-0979D568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FFF9-DAAD-4446-AADE-8985BC0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57C0-4C71-4BDD-824A-A2625EF7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21A6-6146-4A59-8A21-1FD0946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7F6-B5B7-42D9-9075-CF5413B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3803-082A-4E19-A968-1CE82E3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9634-29E7-4928-96D8-566E6B2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58BD-25DE-44FA-968B-D08C8AB3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EFEE-C65A-40D5-A5CB-8A16C63E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1407-8D26-4367-B0E6-9269D419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255-4027-40F4-BAEB-B26E2FB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CFC-52C3-4100-938B-F439D38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AA4-A1A9-447B-8A85-FCD61ABC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728-C0D5-401D-8C9F-250E5AC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19B-268C-4E6E-A59A-05DABBC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9DE-7DD8-4101-BA14-FF29815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5B6-29C1-49F4-9C8C-919DDB0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9A29-F69E-433D-B30E-6C141C391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0A69-855E-4864-B1DE-644086AB5E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1041;&#1045;&#1058;&#1061;&#1054;&#1042;&#1045;&#1053;&#1083;&#1091;&#1085;&#1085;&#1072;&#1103;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200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ИНИЯ И ЕЁ ВЫРАЗИТЕЛЬНЫЕ ВОЗМОЖ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3" descr="{F3470F39-B1D9-46AE-883E-084E2562848A}"/>
          <p:cNvPicPr/>
          <p:nvPr/>
        </p:nvPicPr>
        <p:blipFill>
          <a:blip r:embed="rId1"/>
          <a:stretch/>
        </p:blipFill>
        <p:spPr>
          <a:xfrm>
            <a:off x="1444680" y="1847880"/>
            <a:ext cx="6321240" cy="4668840"/>
          </a:xfrm>
          <a:prstGeom prst="rect">
            <a:avLst/>
          </a:prstGeom>
          <a:ln w="0">
            <a:noFill/>
          </a:ln>
        </p:spPr>
      </p:pic>
    </p:spTree>
  </p:cSld>
  <p:transition advTm="10000">
    <p:randomBar dir="horz"/>
    <p:sndAc>
      <p:stSnd>
        <p:snd r:embed="rId2" name="%D0%91%D0%95%D0%A2%D0%A5%D0%9E%D0%92%D0%95%D0%9D%D0%BB%D1%83%D0%BD%D0%BD%D0%B0%D1%8F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этот почерк может быть очень разным: строгим, когда всякий знак завершен, и непринужденным, упругим, энергичным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249"/>
          <p:cNvPicPr/>
          <p:nvPr/>
        </p:nvPicPr>
        <p:blipFill>
          <a:blip r:embed="rId1"/>
          <a:stretch/>
        </p:blipFill>
        <p:spPr>
          <a:xfrm>
            <a:off x="5210280" y="0"/>
            <a:ext cx="3933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Цветы и травы"/>
          <p:cNvPicPr/>
          <p:nvPr/>
        </p:nvPicPr>
        <p:blipFill>
          <a:blip r:embed="rId1"/>
          <a:stretch/>
        </p:blipFill>
        <p:spPr>
          <a:xfrm>
            <a:off x="357120" y="1285920"/>
            <a:ext cx="3408480" cy="331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Учебный рисунок "/>
          <p:cNvPicPr/>
          <p:nvPr/>
        </p:nvPicPr>
        <p:blipFill>
          <a:blip r:embed="rId2"/>
          <a:stretch/>
        </p:blipFill>
        <p:spPr>
          <a:xfrm>
            <a:off x="4859280" y="2133720"/>
            <a:ext cx="379584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3672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пером или карандашом в основном состоит из линий — длинных или коротких, волнистых или отрывистых, толстых или тонки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Кузьмин Н"/>
          <p:cNvPicPr/>
          <p:nvPr/>
        </p:nvPicPr>
        <p:blipFill>
          <a:blip r:embed="rId1"/>
          <a:stretch/>
        </p:blipFill>
        <p:spPr>
          <a:xfrm>
            <a:off x="404496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Характер лин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зные по своему характеру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ожно почувствовать то весомость и уверенность, то беглость и поспешность ли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Пикассо П"/>
          <p:cNvPicPr/>
          <p:nvPr/>
        </p:nvPicPr>
        <p:blipFill>
          <a:blip r:embed="rId1"/>
          <a:stretch/>
        </p:blipFill>
        <p:spPr>
          <a:xfrm>
            <a:off x="5076720" y="2060640"/>
            <a:ext cx="32958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0384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я может быть лихой, смелой или строгой, обстоятель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Пикассо П Арлекино"/>
          <p:cNvPicPr/>
          <p:nvPr/>
        </p:nvPicPr>
        <p:blipFill>
          <a:blip r:embed="rId1"/>
          <a:stretch/>
        </p:blipFill>
        <p:spPr>
          <a:xfrm>
            <a:off x="4692600" y="0"/>
            <a:ext cx="4451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а может очерчивать контур, как упругая проволока, выявляя изображение на бумаге, или быть линией - росчерком, оставляющим на бумаге свободный след впечат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ГоряевВ"/>
          <p:cNvPicPr/>
          <p:nvPr/>
        </p:nvPicPr>
        <p:blipFill>
          <a:blip r:embed="rId1"/>
          <a:stretch/>
        </p:blipFill>
        <p:spPr>
          <a:xfrm>
            <a:off x="4594320" y="0"/>
            <a:ext cx="454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396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роде линии встречаются очень редко, в каком-то смысле их и вовсе 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 же время мы их види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ей мы обозначаем контур предмета, его край, но в жизни этой черты 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Кузьмин Н"/>
          <p:cNvPicPr/>
          <p:nvPr/>
        </p:nvPicPr>
        <p:blipFill>
          <a:blip r:embed="rId1"/>
          <a:stretch/>
        </p:blipFill>
        <p:spPr>
          <a:xfrm>
            <a:off x="4440240" y="0"/>
            <a:ext cx="4703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я — это знак, она условна, придумана нами как способ обознач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дь и буквы тоже ли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шрифты"/>
          <p:cNvPicPr/>
          <p:nvPr/>
        </p:nvPicPr>
        <p:blipFill>
          <a:blip r:embed="rId1"/>
          <a:stretch/>
        </p:blipFill>
        <p:spPr>
          <a:xfrm>
            <a:off x="1547640" y="1916280"/>
            <a:ext cx="5905800" cy="45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разительность лин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писать буквы мы стремимся аккуратно, правильно, а в изображении подход другой: здесь на первый план выходи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нтерес к выразительности лин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Барталамео Пейзаж"/>
          <p:cNvPicPr/>
          <p:nvPr/>
        </p:nvPicPr>
        <p:blipFill>
          <a:blip r:embed="rId1"/>
          <a:stretch/>
        </p:blipFill>
        <p:spPr>
          <a:xfrm>
            <a:off x="5364000" y="2060640"/>
            <a:ext cx="30369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859280" y="259920"/>
            <a:ext cx="4038480" cy="62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человека, рисующего линией, как и у пишущего, есть свой почерк — своя манера вести линию, обрисовывать контуры предм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Аненков Велимир Хлебников"/>
          <p:cNvPicPr/>
          <p:nvPr/>
        </p:nvPicPr>
        <p:blipFill>
          <a:blip r:embed="rId1"/>
          <a:stretch/>
        </p:blipFill>
        <p:spPr>
          <a:xfrm>
            <a:off x="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21:05:50Z</dcterms:created>
  <dc:creator>USER</dc:creator>
  <dc:description/>
  <dc:language>en-US</dc:language>
  <cp:lastModifiedBy>Ксения</cp:lastModifiedBy>
  <dcterms:modified xsi:type="dcterms:W3CDTF">2019-11-24T11:51:07Z</dcterms:modified>
  <cp:revision>20</cp:revision>
  <dc:subject/>
  <dc:title>Слайд 1</dc:title>
</cp:coreProperties>
</file>