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%D0%91%D0%95%D0%A2%D0%A5%D0%9E%D0%92%D0%95%D0%9D%D0%BB%D1%83%D0%BD%D0%BD%D0%B0%D1%8F.wav" ContentType="audio/x-wav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D03-5723-4E98-A85A-F4AAF325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0931-14F8-47E4-A7FF-B070B475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6494-4352-46CA-BA9F-A77E9A1B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268-DBAC-4AF1-BAEA-4872BA33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4D02-59C9-4778-9418-9EC31C85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B4F8-F2E0-488E-A175-94C61061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F00A-2388-4EB2-BE1F-BEA01626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8EDA-2C61-4896-A7D0-08061A4B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225E-592E-4767-9FCD-C840B9F9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ADB7-E739-4E3A-953E-8E5F9CFD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196F-4748-47D0-B4C4-033D9676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632F-F8FF-40DE-B188-27E211D7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D6C9-21CE-4057-8418-939E393F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B301-37F6-479F-82CD-80DAD315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7C81-1A7A-4D57-B2E6-467B3284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AB5F-756B-4A96-8113-D0092682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C6B9-EE06-4E6F-82C5-CB51867B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2E02-9030-4ECD-B222-96E7BCC0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303-BFD5-4A20-A3EA-3FEE2337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4B98-E209-4A31-A617-85331E44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B7FF-2905-4383-8993-CBD67BF2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84B9-3F6D-43D1-A43F-CD6C00D0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229A-B5D9-49AC-A1EA-D9AE919A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30DB-F958-4AC8-9892-A2DDB340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CBB0-246E-48F9-873B-02F4FC71E7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8E30-CB91-4FD2-B6F1-478889A27A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&#1041;&#1045;&#1058;&#1061;&#1054;&#1042;&#1045;&#1053;&#1083;&#1091;&#1085;&#1085;&#1072;&#1103;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9200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ЛИНИЯ И ЕЁ ВЫРАЗИТЕЛЬНЫЕ ВОЗМОЖ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3" descr="{F3470F39-B1D9-46AE-883E-084E2562848A}"/>
          <p:cNvPicPr/>
          <p:nvPr/>
        </p:nvPicPr>
        <p:blipFill>
          <a:blip r:embed="rId1"/>
          <a:stretch/>
        </p:blipFill>
        <p:spPr>
          <a:xfrm>
            <a:off x="1444680" y="1847880"/>
            <a:ext cx="6321240" cy="4668840"/>
          </a:xfrm>
          <a:prstGeom prst="rect">
            <a:avLst/>
          </a:prstGeom>
          <a:ln w="0">
            <a:noFill/>
          </a:ln>
        </p:spPr>
      </p:pic>
    </p:spTree>
  </p:cSld>
  <p:transition advTm="10000">
    <p:randomBar dir="horz"/>
    <p:sndAc>
      <p:stSnd>
        <p:snd r:embed="rId2" name="%D0%91%D0%95%D0%A2%D0%A5%D0%9E%D0%92%D0%95%D0%9D%D0%BB%D1%83%D0%BD%D0%BD%D0%B0%D1%8F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этот почерк может быть очень разным: строгим, когда всякий знак завершен, и непринужденным, упругим, энергичным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3" descr="249"/>
          <p:cNvPicPr/>
          <p:nvPr/>
        </p:nvPicPr>
        <p:blipFill>
          <a:blip r:embed="rId1"/>
          <a:stretch/>
        </p:blipFill>
        <p:spPr>
          <a:xfrm>
            <a:off x="5210280" y="0"/>
            <a:ext cx="3933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НИ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Цветы и травы"/>
          <p:cNvPicPr/>
          <p:nvPr/>
        </p:nvPicPr>
        <p:blipFill>
          <a:blip r:embed="rId1"/>
          <a:stretch/>
        </p:blipFill>
        <p:spPr>
          <a:xfrm>
            <a:off x="357120" y="1285920"/>
            <a:ext cx="3408480" cy="3311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Учебный рисунок "/>
          <p:cNvPicPr/>
          <p:nvPr/>
        </p:nvPicPr>
        <p:blipFill>
          <a:blip r:embed="rId2"/>
          <a:stretch/>
        </p:blipFill>
        <p:spPr>
          <a:xfrm>
            <a:off x="4859280" y="2133720"/>
            <a:ext cx="3795840" cy="40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36720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исунок пером или карандашом в основном состоит из линий — длинных или коротких, волнистых или отрывистых, толстых или тонки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3" descr="Кузьмин Н"/>
          <p:cNvPicPr/>
          <p:nvPr/>
        </p:nvPicPr>
        <p:blipFill>
          <a:blip r:embed="rId1"/>
          <a:stretch/>
        </p:blipFill>
        <p:spPr>
          <a:xfrm>
            <a:off x="4044960" y="0"/>
            <a:ext cx="50990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Характер лин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нии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азные по своему характеру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ожно почувствовать то весомость и уверенность, то беглость и поспешность лин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Пикассо П"/>
          <p:cNvPicPr/>
          <p:nvPr/>
        </p:nvPicPr>
        <p:blipFill>
          <a:blip r:embed="rId1"/>
          <a:stretch/>
        </p:blipFill>
        <p:spPr>
          <a:xfrm>
            <a:off x="5076720" y="2060640"/>
            <a:ext cx="329580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403848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ния может быть лихой, смелой или строгой, обстоятельн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3" descr="Пикассо П Арлекино"/>
          <p:cNvPicPr/>
          <p:nvPr/>
        </p:nvPicPr>
        <p:blipFill>
          <a:blip r:embed="rId1"/>
          <a:stretch/>
        </p:blipFill>
        <p:spPr>
          <a:xfrm>
            <a:off x="4692600" y="0"/>
            <a:ext cx="4451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а может очерчивать контур, как упругая проволока, выявляя изображение на бумаге, или быть линией - росчерком, оставляющим на бумаге свободный след впечатл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3" descr="ГоряевВ"/>
          <p:cNvPicPr/>
          <p:nvPr/>
        </p:nvPicPr>
        <p:blipFill>
          <a:blip r:embed="rId1"/>
          <a:stretch/>
        </p:blipFill>
        <p:spPr>
          <a:xfrm>
            <a:off x="4594320" y="0"/>
            <a:ext cx="4549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396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рироде линии встречаются очень редко, в каком-то смысле их и вовсе не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о же время мы их види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нией мы обозначаем контур предмета, его край, но в жизни этой черты не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3" descr="Кузьмин Н"/>
          <p:cNvPicPr/>
          <p:nvPr/>
        </p:nvPicPr>
        <p:blipFill>
          <a:blip r:embed="rId1"/>
          <a:stretch/>
        </p:blipFill>
        <p:spPr>
          <a:xfrm>
            <a:off x="4440240" y="0"/>
            <a:ext cx="47037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ния — это знак, она условна, придумана нами как способ обознач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дь и буквы тоже лин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3" descr="шрифты"/>
          <p:cNvPicPr/>
          <p:nvPr/>
        </p:nvPicPr>
        <p:blipFill>
          <a:blip r:embed="rId1"/>
          <a:stretch/>
        </p:blipFill>
        <p:spPr>
          <a:xfrm>
            <a:off x="1547640" y="1916280"/>
            <a:ext cx="5905800" cy="45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Выразительность лин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лько писать буквы мы стремимся аккуратно, правильно, а в изображении подход другой: здесь на первый план выходит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интерес к выразительности лини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Барталамео Пейзаж"/>
          <p:cNvPicPr/>
          <p:nvPr/>
        </p:nvPicPr>
        <p:blipFill>
          <a:blip r:embed="rId1"/>
          <a:stretch/>
        </p:blipFill>
        <p:spPr>
          <a:xfrm>
            <a:off x="5364000" y="2060640"/>
            <a:ext cx="303696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859280" y="259920"/>
            <a:ext cx="4038480" cy="62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человека, рисующего линией, как и у пишущего, есть свой почерк — своя манера вести линию, обрисовывать контуры предме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3" descr="Аненков Велимир Хлебников"/>
          <p:cNvPicPr/>
          <p:nvPr/>
        </p:nvPicPr>
        <p:blipFill>
          <a:blip r:embed="rId1"/>
          <a:stretch/>
        </p:blipFill>
        <p:spPr>
          <a:xfrm>
            <a:off x="0" y="0"/>
            <a:ext cx="4505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21:05:50Z</dcterms:created>
  <dc:creator>USER</dc:creator>
  <dc:description/>
  <dc:language>en-US</dc:language>
  <cp:lastModifiedBy>Ксения</cp:lastModifiedBy>
  <dcterms:modified xsi:type="dcterms:W3CDTF">2019-11-24T11:51:07Z</dcterms:modified>
  <cp:revision>20</cp:revision>
  <dc:subject/>
  <dc:title>Слайд 1</dc:title>
</cp:coreProperties>
</file>