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EE0F-F1D2-45BC-82DE-46361072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273F-8909-427B-81F5-2430A917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EA2C-A854-42FA-BE50-5F0ED572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8583-B622-47FE-AB2E-501CF642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DBD0-D3A0-46D2-A3DC-5EA69EEA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E0F-B656-41E2-B395-ADA14691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FAA9-11C6-438A-AA8A-B52E96EE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0752-FB6A-4BE0-84EF-7EED6FD4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B5B-6354-4A5B-9E30-8D883EBB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9E89-F598-452B-AF61-E9928FF4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42D-66AC-466F-916F-A7474203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E49B-B97D-4BD0-B15C-37E5CC95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7FCB-7A78-4533-B267-827E5C5B91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Под дождём они гуляю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Щипать травку обожаю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Кря кричат, всё это шутк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Ну конечно – это …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1000204_PH03634"/>
          <p:cNvPicPr/>
          <p:nvPr/>
        </p:nvPicPr>
        <p:blipFill>
          <a:blip r:embed="rId1"/>
          <a:stretch/>
        </p:blipFill>
        <p:spPr>
          <a:xfrm>
            <a:off x="4952880" y="3886200"/>
            <a:ext cx="3886200" cy="27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Arial"/>
              </a:rPr>
              <a:t>Синквей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Лягу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Лупоглазая, толст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Придумывает, летит, хваст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Изобретает необычный способ ле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Arial"/>
              </a:rPr>
              <a:t>Путешественн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3300"/>
                </a:solidFill>
                <a:latin typeface="Arial"/>
              </a:rPr>
              <a:t>Интересным для ме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3300"/>
                </a:solidFill>
                <a:latin typeface="Arial"/>
              </a:rPr>
              <a:t>был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3300"/>
                </a:solidFill>
                <a:latin typeface="Arial"/>
              </a:rPr>
              <a:t>Мне понравилось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3300"/>
                </a:solidFill>
                <a:latin typeface="Arial"/>
              </a:rPr>
              <a:t>Мне не понравилось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3300"/>
                </a:solidFill>
                <a:latin typeface="Arial"/>
              </a:rPr>
              <a:t>Я хочу сказать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304920" y="152280"/>
            <a:ext cx="85341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 О      Н О В Ы Х        В С Т Р Е Ч  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Picture 9" descr="05labhicu1228760300"/>
          <p:cNvPicPr/>
          <p:nvPr/>
        </p:nvPicPr>
        <p:blipFill>
          <a:blip r:embed="rId2"/>
          <a:stretch/>
        </p:blipFill>
        <p:spPr>
          <a:xfrm>
            <a:off x="1295280" y="2514600"/>
            <a:ext cx="60962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Подрастала – хвост растил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Платье темное носи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Подросла – зеленой стал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Хвост на весла поменя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_preview"/>
          <p:cNvPicPr/>
          <p:nvPr/>
        </p:nvPicPr>
        <p:blipFill>
          <a:blip r:embed="rId1"/>
          <a:stretch/>
        </p:blipFill>
        <p:spPr>
          <a:xfrm>
            <a:off x="3124080" y="4114800"/>
            <a:ext cx="248940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2"/>
          <p:cNvSpPr txBox="1"/>
          <p:nvPr/>
        </p:nvSpPr>
        <p:spPr>
          <a:xfrm>
            <a:off x="838080" y="228600"/>
            <a:ext cx="79250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Лягушка-путешественниц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pic>
        <p:nvPicPr>
          <p:cNvPr id="46" name="Picture 29" descr="011labhicu1228760301"/>
          <p:cNvPicPr/>
          <p:nvPr/>
        </p:nvPicPr>
        <p:blipFill>
          <a:blip r:embed="rId2"/>
          <a:stretch/>
        </p:blipFill>
        <p:spPr>
          <a:xfrm>
            <a:off x="1523880" y="2514600"/>
            <a:ext cx="6096240" cy="3962520"/>
          </a:xfrm>
          <a:prstGeom prst="rect">
            <a:avLst/>
          </a:prstGeom>
          <a:ln w="130320">
            <a:solidFill>
              <a:srgbClr val="ff99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http://im8-tub.mail.ru/i?id=23896319&amp;tov=8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990720" y="2362320"/>
            <a:ext cx="2895480" cy="3809880"/>
          </a:xfrm>
          <a:prstGeom prst="rect">
            <a:avLst/>
          </a:prstGeom>
          <a:ln w="111240">
            <a:solidFill>
              <a:srgbClr val="ff0000"/>
            </a:solidFill>
            <a:miter/>
          </a:ln>
        </p:spPr>
      </p:pic>
      <p:sp>
        <p:nvSpPr>
          <p:cNvPr id="48" name="WordArt 10"/>
          <p:cNvSpPr txBox="1"/>
          <p:nvPr/>
        </p:nvSpPr>
        <p:spPr>
          <a:xfrm>
            <a:off x="380880" y="380880"/>
            <a:ext cx="8534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волод Михайлович Гаршин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11"/>
          <p:cNvSpPr txBox="1"/>
          <p:nvPr/>
        </p:nvSpPr>
        <p:spPr>
          <a:xfrm>
            <a:off x="4952880" y="4800600"/>
            <a:ext cx="308628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1855-1888)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Arial"/>
              </a:rPr>
              <a:t>лягушачье достоин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Arial"/>
              </a:rPr>
              <a:t>как бумажный пая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Arial"/>
              </a:rPr>
              <a:t>захватило ду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Arial"/>
              </a:rPr>
              <a:t>присутствие духа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ostImg" descr="pic"/>
          <p:cNvPicPr/>
          <p:nvPr/>
        </p:nvPicPr>
        <p:blipFill>
          <a:blip r:embed="rId1"/>
          <a:srcRect l="0" t="2750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06labhicu12287603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Лягушка-путешественница - кадр 2 (00:06:0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7"/>
          <p:cNvSpPr txBox="1"/>
          <p:nvPr/>
        </p:nvSpPr>
        <p:spPr>
          <a:xfrm>
            <a:off x="685800" y="228600"/>
            <a:ext cx="8344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Заяц от листа, лягушка от зайца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8"/>
          <p:cNvSpPr txBox="1"/>
          <p:nvPr/>
        </p:nvSpPr>
        <p:spPr>
          <a:xfrm>
            <a:off x="380880" y="2514600"/>
            <a:ext cx="83822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соко взлетишь, да низко упадёшь.</a:t>
            </a:r>
            <a:endParaRPr b="1" lang="en-US" sz="44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457200" y="4191120"/>
            <a:ext cx="8229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Impact"/>
              </a:rPr>
              <a:t>Хвастовство само себя наказывает.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Impact"/>
              <a:ea typeface="Impact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20T11:41:46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