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13A-A144-41B3-8CE1-8D7B241F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909-F157-4E4A-B9DB-D04BCB89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5B7-8108-46D2-B445-3B56DD81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DB9-2D4A-449C-810D-B2A329D3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C22-BECB-4E6C-9199-0CB6099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02F-BF27-4E2C-8EF2-26227400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534-A843-40B8-8187-F2751B44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A78-CDDD-4404-B836-5816EBB7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42B-71B2-4406-9137-B897C04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38F-B57A-4315-8D74-7C03E75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A43-DD2E-4CF4-85DB-4838EF9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3DE-1004-454B-9E34-7693959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94CF-7362-4BD2-8E43-0F3D15CED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Под дождём они гуляю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Щипать травку обожаю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Кря кричат, всё это шутк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Ну конечно – это …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000204_PH03634"/>
          <p:cNvPicPr/>
          <p:nvPr/>
        </p:nvPicPr>
        <p:blipFill>
          <a:blip r:embed="rId1"/>
          <a:stretch/>
        </p:blipFill>
        <p:spPr>
          <a:xfrm>
            <a:off x="4952880" y="3886200"/>
            <a:ext cx="38862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Синквей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Ляг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Лупоглазая, толс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Придумывает, летит, хвас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Изобретает необычный способ ле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Путешествен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Интересным для ме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был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Мне понрави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Мне не понрави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Я хочу сказа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304920" y="152280"/>
            <a:ext cx="8534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 О      Н О В Ы Х        В С Т Р Е Ч 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9" descr="05labhicu1228760300"/>
          <p:cNvPicPr/>
          <p:nvPr/>
        </p:nvPicPr>
        <p:blipFill>
          <a:blip r:embed="rId2"/>
          <a:stretch/>
        </p:blipFill>
        <p:spPr>
          <a:xfrm>
            <a:off x="1295280" y="2514600"/>
            <a:ext cx="60962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одрастала – хвост расти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латье темное носи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одросла – зеленой ста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Хвост на весла поменя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preview"/>
          <p:cNvPicPr/>
          <p:nvPr/>
        </p:nvPicPr>
        <p:blipFill>
          <a:blip r:embed="rId1"/>
          <a:stretch/>
        </p:blipFill>
        <p:spPr>
          <a:xfrm>
            <a:off x="3124080" y="4114800"/>
            <a:ext cx="248940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2"/>
          <p:cNvSpPr txBox="1"/>
          <p:nvPr/>
        </p:nvSpPr>
        <p:spPr>
          <a:xfrm>
            <a:off x="838080" y="228600"/>
            <a:ext cx="7925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Лягушка-путешественниц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46" name="Picture 29" descr="011labhicu1228760301"/>
          <p:cNvPicPr/>
          <p:nvPr/>
        </p:nvPicPr>
        <p:blipFill>
          <a:blip r:embed="rId2"/>
          <a:stretch/>
        </p:blipFill>
        <p:spPr>
          <a:xfrm>
            <a:off x="1523880" y="2514600"/>
            <a:ext cx="6096240" cy="3962520"/>
          </a:xfrm>
          <a:prstGeom prst="rect">
            <a:avLst/>
          </a:prstGeom>
          <a:ln w="130320">
            <a:solidFill>
              <a:srgbClr val="ff99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im8-tub.mail.ru/i?id=23896319&amp;tov=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2362320"/>
            <a:ext cx="2895480" cy="3809880"/>
          </a:xfrm>
          <a:prstGeom prst="rect">
            <a:avLst/>
          </a:prstGeom>
          <a:ln w="111240">
            <a:solidFill>
              <a:srgbClr val="ff0000"/>
            </a:solidFill>
            <a:miter/>
          </a:ln>
        </p:spPr>
      </p:pic>
      <p:sp>
        <p:nvSpPr>
          <p:cNvPr id="48" name="WordArt 10"/>
          <p:cNvSpPr txBox="1"/>
          <p:nvPr/>
        </p:nvSpPr>
        <p:spPr>
          <a:xfrm>
            <a:off x="380880" y="38088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волод Михайлович Гарши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4952880" y="4800600"/>
            <a:ext cx="3086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1855-1888)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лягушачье достоин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как бумажный пая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захватило 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присутствие дух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ostImg" descr="pic"/>
          <p:cNvPicPr/>
          <p:nvPr/>
        </p:nvPicPr>
        <p:blipFill>
          <a:blip r:embed="rId1"/>
          <a:srcRect l="0" t="2750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06labhicu12287603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Лягушка-путешественница - кадр 2 (00:06: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7"/>
          <p:cNvSpPr txBox="1"/>
          <p:nvPr/>
        </p:nvSpPr>
        <p:spPr>
          <a:xfrm>
            <a:off x="685800" y="228600"/>
            <a:ext cx="8344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Заяц от листа, лягушка от зайца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380880" y="2514600"/>
            <a:ext cx="8382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око взлетишь, да низко упадёшь.</a:t>
            </a:r>
            <a:endParaRPr b="1" lang="en-US" sz="4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Хвастовство само себя наказывает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0T11:41:46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