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47B076A9-B322-424C-A7AA-3FAAF6887C63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2987640" y="2505240"/>
            <a:ext cx="55450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86e2"/>
                </a:solidFill>
                <a:latin typeface="Arial Black"/>
              </a:rPr>
              <a:t>                                                                                                                     </a:t>
            </a:r>
            <a:r>
              <a:rPr b="0" lang="ru-RU" sz="4000" spc="-1" strike="noStrike">
                <a:solidFill>
                  <a:srgbClr val="0070c0"/>
                </a:solidFill>
                <a:latin typeface="Arial Black"/>
              </a:rPr>
              <a:t>ПЛАВАНИЕ</a:t>
            </a:r>
            <a:r>
              <a:rPr b="0" lang="ru-RU" sz="4000" spc="-1" strike="noStrike">
                <a:solidFill>
                  <a:srgbClr val="4686e2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8c93"/>
                </a:solidFill>
                <a:latin typeface="Arial Black"/>
              </a:rPr>
              <a:t>и его влияние на приобщение детей к здоровому образ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8c93"/>
                </a:solidFill>
                <a:latin typeface="Arial Black"/>
              </a:rPr>
              <a:t>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Рисунок 3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3311280" cy="2521080"/>
          </a:xfrm>
          <a:prstGeom prst="rect">
            <a:avLst/>
          </a:prstGeom>
          <a:ln w="0">
            <a:noFill/>
          </a:ln>
        </p:spPr>
      </p:pic>
      <p:sp>
        <p:nvSpPr>
          <p:cNvPr id="40" name="Прямоугольник 4"/>
          <p:cNvSpPr/>
          <p:nvPr/>
        </p:nvSpPr>
        <p:spPr>
          <a:xfrm>
            <a:off x="5219640" y="76500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bfc5"/>
                </a:solidFill>
                <a:latin typeface="Arial"/>
              </a:rPr>
              <a:t>Информационно-рекламная през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bfc5"/>
                </a:solidFill>
                <a:latin typeface="Arial"/>
              </a:rPr>
              <a:t>для родителей дошколь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8"/>
          <p:cNvSpPr/>
          <p:nvPr/>
        </p:nvSpPr>
        <p:spPr>
          <a:xfrm>
            <a:off x="900000" y="189000"/>
            <a:ext cx="7632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cd2"/>
                </a:solidFill>
                <a:latin typeface="Arial"/>
                <a:ea typeface="Times New Roman"/>
              </a:rPr>
              <a:t>Уважаемые родител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2195640" y="9079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й прекрасный вид спорта – Плавание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йтесь плаванием со своими детками, и вы заметите как улучшается ваше настроение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699920"/>
            <a:ext cx="78868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е прищучивание детей к воде, положительно сказывается на физическом уровне и нервной системе всего детского организма. Все движения мышечных групп ног и рук, так же туловища уже хорошо развиты к 3-5  годам. При плавании органы кровообращения находятся в самых облегченных условиях движении плов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прекрасный вид спорта – Плавание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йтесь плаванием со своими детками, и вы заметите как улучшается ваше настроение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2286000" y="22748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900000" y="692280"/>
            <a:ext cx="77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ие, плавание, игры на воде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полезный вид спорта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7"/>
          <p:cNvSpPr/>
          <p:nvPr/>
        </p:nvSpPr>
        <p:spPr>
          <a:xfrm>
            <a:off x="395280" y="0"/>
            <a:ext cx="842472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ahoma"/>
                <a:ea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826920" y="1341360"/>
            <a:ext cx="7705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ёт универсальную и максимально полную нагрузку для развития всех групп мышц, эффективно развиваются: плечевой пояс, руки, ноги, мышца тела, пресс живота и спины, другие. Для растущего организма ребёнка это очень ва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бывают разные, бывают спокойные и позитивно настроенные, а бывает и так, что ребёнок приходит на тренировку с негативными эмоциями, в состоянии раздражения или эмоционального расстройства. Так вот, вода обладает уникальными успокаивающими и снимающими негативную энергию свой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3708360" y="1197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ание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8"/>
          <p:cNvSpPr/>
          <p:nvPr/>
        </p:nvSpPr>
        <p:spPr>
          <a:xfrm>
            <a:off x="755640" y="260280"/>
            <a:ext cx="77040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На Земле человек всегда был связан с водой. Водоёмы, около которых поселялись люди, были нужны им не только как источник необходимой для жизни воды, но и как место добывания пищи, и как преграда, защищавшая от неожиданных нападений, и как удобный путь сообщения и торгов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Огромное значение воды в жизни первобытного человека, необходимость производственного освоения этой непривычной среды потребовали от него умения плавания, чтобы не погибнуть в  борьбе за существование. С возникновением государственного строя умение плавать стало особенно необходимым в труде и в военном деле. Только в   дальнейшем с развитием цивилизации, умение чело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плавать стало применяться в целях физ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вос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86e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"/>
          <p:cNvSpPr/>
          <p:nvPr/>
        </p:nvSpPr>
        <p:spPr>
          <a:xfrm>
            <a:off x="179280" y="-1501920"/>
            <a:ext cx="8856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4576680" y="2421000"/>
            <a:ext cx="39736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зречение древних индийских мудрецов гласит: «Десять преимуществ даёт омовение: 1.) ясность ума 2.) свежесть, 3.) бодрость, 4.) здоровье, 5.) силу, 6.) красоту, 7.) молодость, 8.) чистоту, 9.) приятный цвет кожи и 10.) внимание красивых женщ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395280" y="-5349960"/>
            <a:ext cx="83534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3741"/>
                </a:solidFill>
                <a:latin typeface="Roboto-Regular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3741"/>
                </a:solidFill>
                <a:latin typeface="Roboto-Regular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445248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"/>
          <p:cNvPicPr/>
          <p:nvPr/>
        </p:nvPicPr>
        <p:blipFill>
          <a:blip r:embed="rId1"/>
          <a:stretch/>
        </p:blipFill>
        <p:spPr>
          <a:xfrm>
            <a:off x="668160" y="3279600"/>
            <a:ext cx="3907080" cy="24354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"/>
          <p:cNvPicPr/>
          <p:nvPr/>
        </p:nvPicPr>
        <p:blipFill>
          <a:blip r:embed="rId2"/>
          <a:stretch/>
        </p:blipFill>
        <p:spPr>
          <a:xfrm>
            <a:off x="4692600" y="539640"/>
            <a:ext cx="3624480" cy="19335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7"/>
          <p:cNvSpPr/>
          <p:nvPr/>
        </p:nvSpPr>
        <p:spPr>
          <a:xfrm>
            <a:off x="324000" y="34596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Многие народы с древних времён использовали купание в гигиенических и закаливающих це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863800" y="184464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86e2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250920" y="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7cd2"/>
                </a:solidFill>
                <a:latin typeface="Arial"/>
                <a:ea typeface="Times New Roman"/>
              </a:rPr>
              <a:t>Чтобы заниматься  плаванием не нужно приобретать особого снаряжения, а начать заниматься можно в самом раннем возрасте и продолжать на протяжении всей жизни, пока нравится этот вид спорта. И, конечно, для человека польза плавания является неоценимой и с физической, и с психологической точки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3462480" y="2428920"/>
            <a:ext cx="4957560" cy="32637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2"/>
          <a:stretch/>
        </p:blipFill>
        <p:spPr>
          <a:xfrm>
            <a:off x="735120" y="2428920"/>
            <a:ext cx="2000160" cy="145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8"/>
          <p:cNvSpPr/>
          <p:nvPr/>
        </p:nvSpPr>
        <p:spPr>
          <a:xfrm>
            <a:off x="351000" y="-1654200"/>
            <a:ext cx="8453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468360" y="-1711440"/>
            <a:ext cx="82803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1547640" y="-10396440"/>
            <a:ext cx="6462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3419640" y="-15220800"/>
            <a:ext cx="57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 rot="10800000">
            <a:off x="5867280" y="-658080"/>
            <a:ext cx="288144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4664160" y="260280"/>
            <a:ext cx="4084560" cy="55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35cb1"/>
                </a:solidFill>
                <a:uFillTx/>
                <a:latin typeface="Arial"/>
                <a:ea typeface="Times New Roman"/>
              </a:rPr>
              <a:t>Польза плавания с физической точки 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1). Тренировка для сердечно-сосудистой системы. 2).  Укрепление тонуса и повышение силы дыхательных мышц. 3). Мышечная сила.  4). Снижение веса. 5). Умеренная нагрузка. 6). Закаливание организма. 7).  Гибкость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684360" y="260280"/>
            <a:ext cx="37922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35cb1"/>
                </a:solidFill>
                <a:uFillTx/>
                <a:latin typeface="Arial"/>
                <a:ea typeface="Times New Roman"/>
              </a:rPr>
              <a:t>Польза плавания с психологической точки 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1). Уменьшение стресса.2). Социальная активность.3).Занятия плаванием способствуют развитию таких черт личности человека, как целеустремленность и настойчивость, смелость и реш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3112920" y="4022640"/>
            <a:ext cx="3097440" cy="21495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503280" y="-243000"/>
            <a:ext cx="831672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1c1d"/>
                </a:solidFill>
                <a:latin typeface="Arial"/>
              </a:rPr>
              <a:t>Значение  плавания для до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а обладает уникальными целебными свойствами, об этом знали наши предки и 1000 лет назад. Вода исцеляет и закаляет. Круглогодичные занятия плаванием будут способствовать закаливанию вашего ребёнка, укреплению иммунной системы, что защищает его от различного рода вирусных и других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2"/>
          <p:cNvSpPr/>
          <p:nvPr/>
        </p:nvSpPr>
        <p:spPr>
          <a:xfrm>
            <a:off x="611280" y="333360"/>
            <a:ext cx="81374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e1e20"/>
                </a:solidFill>
                <a:latin typeface="Arial"/>
                <a:ea typeface="Calibri"/>
              </a:rPr>
              <a:t>Правильный ритм работы мышц и дыхательных органов так же оказывает благоприятное влияние на деятельность сердечно - сосудистой системы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  <a:ea typeface="Calibri"/>
              </a:rPr>
              <a:t>При плавании подъемная сила воды, поддерживающая ребенка на поверхности, как бы облегчает тело, поэтому снижается давление на опорный аппарат скелета, особенно на позвоноч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  <a:ea typeface="Calibri"/>
              </a:rPr>
              <a:t>Правильное физическое воспитание ребенка немыслимо без закаливания его организма. Самые эффективные средства закаливания — воздух, солнце, вода. Наиболее действенным является закаливание 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Calibri"/>
              </a:rPr>
              <a:t>водо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ancesco Marino / FreeDigitalPhotos.net</dc:description>
  <dc:language>en-US</dc:language>
  <cp:lastModifiedBy>User</cp:lastModifiedBy>
  <dcterms:modified xsi:type="dcterms:W3CDTF">2019-05-06T17:19:49Z</dcterms:modified>
  <cp:revision>77</cp:revision>
  <dc:subject/>
  <dc:title>Blue Water Flow</dc:title>
</cp:coreProperties>
</file>