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7D2-574C-4517-85E9-A98AB62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1C3-4AB6-4AEE-875D-C538F23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A1D-F33E-4858-8EFD-8C823660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AD4-128B-475B-B7A9-4633330B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97B-0D4A-45A7-A903-630FA9AA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757-8048-4DA8-AF80-EF5AA865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361-B09D-4CA0-9D77-66D8299E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0D1-5123-4C93-9112-71E0753C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BCC-6044-4DA1-9463-205F0EA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1AE-77AE-4F8B-BBFE-4AF60F1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44C-F658-4330-87DA-2C7EB3A9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498-AAA0-4CB8-A560-F3551EF2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9D95-B0BF-43DE-B127-E010BD8F0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 flipV="1" rot="10800000">
            <a:off x="178920" y="933120"/>
            <a:ext cx="93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униципальное дошколь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тский сад п. Тихмен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600440" y="422100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спитатель Пан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95640" y="1622520"/>
            <a:ext cx="900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е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польз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Лего-констру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 решении образовательных задач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539640" y="3227400"/>
          <a:ext cx="8229600" cy="178596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Физическ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, развит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й и мелкой моторики обеих ру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как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9640" y="2135160"/>
          <a:ext cx="8280360" cy="1006560"/>
        </p:xfrm>
        <a:graphic>
          <a:graphicData uri="http://schemas.openxmlformats.org/drawingml/2006/table">
            <a:tbl>
              <a:tblPr/>
              <a:tblGrid>
                <a:gridCol w="2586240"/>
                <a:gridCol w="5694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изическ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5" descr="C:\Documents and Settings\Admin\Рабочий стол\ФОТО ЛЕГО\IMG_20191119_102220.jpg"/>
          <p:cNvPicPr/>
          <p:nvPr/>
        </p:nvPicPr>
        <p:blipFill>
          <a:blip r:embed="rId2"/>
          <a:srcRect l="0" t="24616" r="0" b="0"/>
          <a:stretch/>
        </p:blipFill>
        <p:spPr>
          <a:xfrm>
            <a:off x="1332000" y="1052640"/>
            <a:ext cx="2952720" cy="30970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C:\Documents and Settings\Admin\Рабочий стол\ФОТО ЛЕГО\IMG_20191119_102326.jpg"/>
          <p:cNvPicPr/>
          <p:nvPr/>
        </p:nvPicPr>
        <p:blipFill>
          <a:blip r:embed="rId3"/>
          <a:srcRect l="0" t="18378" r="0" b="0"/>
          <a:stretch/>
        </p:blipFill>
        <p:spPr>
          <a:xfrm>
            <a:off x="5003640" y="981000"/>
            <a:ext cx="2990880" cy="3257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C:\Documents and Settings\Admin\Рабочий стол\ФОТО ЛЕГО\IMG_20191119_102849.jpg"/>
          <p:cNvPicPr/>
          <p:nvPr/>
        </p:nvPicPr>
        <p:blipFill>
          <a:blip r:embed="rId4"/>
          <a:srcRect l="0" t="32353" r="0" b="0"/>
          <a:stretch/>
        </p:blipFill>
        <p:spPr>
          <a:xfrm>
            <a:off x="4716360" y="3860640"/>
            <a:ext cx="2667240" cy="2409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C:\Documents and Settings\Admin\Рабочий стол\ФОТО ЛЕГО\IMG_20191119_103036.jpg"/>
          <p:cNvPicPr/>
          <p:nvPr/>
        </p:nvPicPr>
        <p:blipFill>
          <a:blip r:embed="rId5"/>
          <a:srcRect l="0" t="6564" r="0" b="14932"/>
          <a:stretch/>
        </p:blipFill>
        <p:spPr>
          <a:xfrm>
            <a:off x="2124000" y="3860640"/>
            <a:ext cx="23907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360" y="98532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LEGO игра – важнейший спутник дет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позволяющий детям учиться, играя, обучаясь в иг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Каждая постройка LEGO – это фанта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новое приключение, каждый раз не обыч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всегда веселое, познавательное и жел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7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755640" y="36540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Конструируя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ребенок действует, как зодч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возводящий здание собственного потенциал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. Пи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C:\Documents and Settings\Admin\Рабочий стол\ФОТО ЛЕГО\IMG_20191118_163920.jpg"/>
          <p:cNvPicPr/>
          <p:nvPr/>
        </p:nvPicPr>
        <p:blipFill>
          <a:blip r:embed="rId2"/>
          <a:srcRect l="0" t="25481" r="0" b="12260"/>
          <a:stretch/>
        </p:blipFill>
        <p:spPr>
          <a:xfrm>
            <a:off x="3132000" y="4076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684360" y="1500120"/>
          <a:ext cx="7562880" cy="4216320"/>
        </p:xfrm>
        <a:graphic>
          <a:graphicData uri="http://schemas.openxmlformats.org/drawingml/2006/table">
            <a:tbl>
              <a:tblPr/>
              <a:tblGrid>
                <a:gridCol w="2361960"/>
                <a:gridCol w="52009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оциально-коммуникативн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овместных построек, объединенных одной идеей, одним проек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щения и взаимодействия ребенка со взрослыми и сверстника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готовности к совместной деятельности со сверстникам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озитивных установок к различным видам труда и творче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оциальных навыков: самостоятельности, инициативности, ответственности, взаимо поним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циально-коммуникатив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" descr="C:\Documents and Settings\Admin\Рабочий стол\ФОТО ЛЕГО\IMG_20191118_160247.jpg"/>
          <p:cNvPicPr/>
          <p:nvPr/>
        </p:nvPicPr>
        <p:blipFill>
          <a:blip r:embed="rId2"/>
          <a:stretch/>
        </p:blipFill>
        <p:spPr>
          <a:xfrm>
            <a:off x="61128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C:\Documents and Settings\Admin\Рабочий стол\ФОТО ЛЕГО\IMG_20191118_163758.jpg"/>
          <p:cNvPicPr/>
          <p:nvPr/>
        </p:nvPicPr>
        <p:blipFill>
          <a:blip r:embed="rId3"/>
          <a:stretch/>
        </p:blipFill>
        <p:spPr>
          <a:xfrm>
            <a:off x="6156360" y="1844640"/>
            <a:ext cx="2835360" cy="3946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C:\Documents and Settings\Admin\Рабочий стол\ФОТО ЛЕГО\IMG_20191111_152531.jpg"/>
          <p:cNvPicPr/>
          <p:nvPr/>
        </p:nvPicPr>
        <p:blipFill>
          <a:blip r:embed="rId4"/>
          <a:stretch/>
        </p:blipFill>
        <p:spPr>
          <a:xfrm>
            <a:off x="3635280" y="2637000"/>
            <a:ext cx="234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042920" y="2205000"/>
          <a:ext cx="7274160" cy="3529080"/>
        </p:xfrm>
        <a:graphic>
          <a:graphicData uri="http://schemas.openxmlformats.org/drawingml/2006/table">
            <a:tbl>
              <a:tblPr/>
              <a:tblGrid>
                <a:gridCol w="2268720"/>
                <a:gridCol w="500544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знавательн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конструирование – воплощение замысла из деталей Лего-конструк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ервичных представлений о себе и  других людях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объектах окружающего мир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их свойствах и отношениях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математических способностей дете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закреплению правил безопасности на дорогах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42920" y="1198440"/>
          <a:ext cx="7274160" cy="1006560"/>
        </p:xfrm>
        <a:graphic>
          <a:graphicData uri="http://schemas.openxmlformats.org/drawingml/2006/table">
            <a:tbl>
              <a:tblPr/>
              <a:tblGrid>
                <a:gridCol w="2271960"/>
                <a:gridCol w="500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ознаватель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C:\Documents and Settings\Admin\Рабочий стол\ФОТО ЛЕГО\IMG_20191119_093433.jpg"/>
          <p:cNvPicPr/>
          <p:nvPr/>
        </p:nvPicPr>
        <p:blipFill>
          <a:blip r:embed="rId2"/>
          <a:stretch/>
        </p:blipFill>
        <p:spPr>
          <a:xfrm>
            <a:off x="1258920" y="1557360"/>
            <a:ext cx="3384360" cy="3816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C:\Documents and Settings\Admin\Рабочий стол\ФОТО ЛЕГО\IMG_20191119_092319.jpg"/>
          <p:cNvPicPr/>
          <p:nvPr/>
        </p:nvPicPr>
        <p:blipFill>
          <a:blip r:embed="rId3"/>
          <a:srcRect l="0" t="3353" r="0" b="14735"/>
          <a:stretch/>
        </p:blipFill>
        <p:spPr>
          <a:xfrm>
            <a:off x="5003640" y="155736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042920" y="2720880"/>
          <a:ext cx="7105680" cy="2436840"/>
        </p:xfrm>
        <a:graphic>
          <a:graphicData uri="http://schemas.openxmlformats.org/drawingml/2006/table">
            <a:tbl>
              <a:tblPr/>
              <a:tblGrid>
                <a:gridCol w="2217960"/>
                <a:gridCol w="4887720"/>
              </a:tblGrid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ечевое развит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тического слуха, понятие синтаксис, словообразов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звуковой и интонационной культуры реч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ого слух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вуковой аналитико-синтетической активности как предпосылки обучения грамоте, рассказывание и сочинение сказок и историй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 играх театрализованного харак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042920" y="1700280"/>
          <a:ext cx="7129440" cy="1006560"/>
        </p:xfrm>
        <a:graphic>
          <a:graphicData uri="http://schemas.openxmlformats.org/drawingml/2006/table">
            <a:tbl>
              <a:tblPr/>
              <a:tblGrid>
                <a:gridCol w="2227320"/>
                <a:gridCol w="4902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2" descr="Top-10-Party-Decorating-For-Your-Childs-Lego-Birthday-Invitations-Party-Celebr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11280" y="3068640"/>
          <a:ext cx="8229600" cy="151272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ое конструирование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замысла из деталей Лего-конструктор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самостоятельной конструктивно-модельной творческой деятельности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11280" y="2062080"/>
          <a:ext cx="8208720" cy="1006560"/>
        </p:xfrm>
        <a:graphic>
          <a:graphicData uri="http://schemas.openxmlformats.org/drawingml/2006/table">
            <a:tbl>
              <a:tblPr/>
              <a:tblGrid>
                <a:gridCol w="2563560"/>
                <a:gridCol w="564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разовате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бласть применения Лего-конструирования, в соответствии с целевыми ориентирами ФГОС Д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2" descr="background_power_point_lego_by_einsteint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удожественно-эстетическое разви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6" descr="C:\Documents and Settings\Admin\Рабочий стол\ФОТО ЛЕГО\IMG_20191119_095606.jpg"/>
          <p:cNvPicPr/>
          <p:nvPr/>
        </p:nvPicPr>
        <p:blipFill>
          <a:blip r:embed="rId2"/>
          <a:stretch/>
        </p:blipFill>
        <p:spPr>
          <a:xfrm>
            <a:off x="1332000" y="1341360"/>
            <a:ext cx="2781360" cy="3714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C:\Documents and Settings\Admin\Рабочий стол\ФОТО ЛЕГО\IMG_20191105_154459.jpg"/>
          <p:cNvPicPr/>
          <p:nvPr/>
        </p:nvPicPr>
        <p:blipFill>
          <a:blip r:embed="rId3"/>
          <a:srcRect l="0" t="25923" r="0" b="0"/>
          <a:stretch/>
        </p:blipFill>
        <p:spPr>
          <a:xfrm>
            <a:off x="4572000" y="1268280"/>
            <a:ext cx="3819600" cy="2124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C:\Documents and Settings\Admin\Рабочий стол\ФОТО ЛЕГО\IMG_20191111_152947.jpg"/>
          <p:cNvPicPr/>
          <p:nvPr/>
        </p:nvPicPr>
        <p:blipFill>
          <a:blip r:embed="rId4"/>
          <a:srcRect l="0" t="25284" r="0" b="9061"/>
          <a:stretch/>
        </p:blipFill>
        <p:spPr>
          <a:xfrm>
            <a:off x="5076720" y="3429000"/>
            <a:ext cx="3044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15:14:00Z</dcterms:created>
  <dc:creator>Пользователь</dc:creator>
  <dc:description/>
  <dc:language>en-US</dc:language>
  <cp:lastModifiedBy>Admin</cp:lastModifiedBy>
  <dcterms:modified xsi:type="dcterms:W3CDTF">2019-11-24T09:30:42Z</dcterms:modified>
  <cp:revision>23</cp:revision>
  <dc:subject/>
  <dc:title>Социально-коммуникативное развитие</dc:title>
</cp:coreProperties>
</file>