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wmf" ContentType="image/x-wmf"/>
  <Override PartName="/ppt/media/image3.png" ContentType="image/png"/>
  <Override PartName="/ppt/media/image10.png" ContentType="image/png"/>
  <Override PartName="/ppt/media/image9.wmf" ContentType="image/x-wmf"/>
  <Override PartName="/ppt/media/image14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7.png" ContentType="image/png"/>
  <Override PartName="/ppt/media/image15.png" ContentType="image/png"/>
  <Override PartName="/ppt/media/image6.gif" ContentType="image/gif"/>
  <Override PartName="/ppt/media/image2.gif" ContentType="image/gif"/>
  <Override PartName="/ppt/media/image4.gif" ContentType="image/gif"/>
  <Override PartName="/ppt/media/image7.wmf" ContentType="image/x-wmf"/>
  <Override PartName="/ppt/media/image12.wmf" ContentType="image/x-wmf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552-766B-447A-8746-5AB31C0D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F34-F238-4FCB-8F6F-C99208C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C7F-970E-4616-8A45-8676F023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F6F-1954-4974-99E6-7CCBB8CA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647-AF5D-42BB-9EB9-068DA69C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C57-FBBE-438D-A845-2A84DDDF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7A7-827D-4F30-A335-D197B569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2FC-0469-455A-9928-CC8A36D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C15-991E-4A96-8D52-BF6D54B5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154-07BA-4834-9374-C79F16C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0EA-4FBE-4184-ACE8-54BA4C71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19E-FC77-4742-871D-5A74AD8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1D7-A089-4E80-961F-2AF979DD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609480"/>
            <a:ext cx="8305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уб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сёлых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матиков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638440" cy="218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5105520"/>
            <a:ext cx="1542960" cy="141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24480" y="5029200"/>
            <a:ext cx="23241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85840" y="5105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Ответ: 127 лещ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520" y="2057400"/>
            <a:ext cx="6324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+2+4+8+16+32+64= 1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078360" cy="398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286000" y="53352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37339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 хозяйством попа справляется 10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ждый работник в день съедает каравай хлеба и другие прод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п принял на работу Балду. Живет Балда в поповском доме, спит себе на соломе , ест за четверых, работает за семер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п прогнал лишних работников. Сколько караваев хлеба поп экономил ежеднев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586728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твет: 3 кара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аботников съедали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караваев. Балда работает за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емерых.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Чтобы справиться с хозяйством, надо  еще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рабо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+3=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к.) балда и три работ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-7=3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к.)- эконом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085840" cy="289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438280" y="30492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124080" y="2743200"/>
            <a:ext cx="6019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)   если первую и последнюю цифры зачеркнуть, то получится двузначное число, которое при сумме цифр 13 является наибольш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)   первая цифра больше последней в 4 раза. Сколько лет Хоттабыч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8544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7760" y="4952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твет</a:t>
            </a:r>
            <a:r>
              <a:rPr b="1" lang="he-IL" sz="4400" spc="-1" strike="noStrike">
                <a:solidFill>
                  <a:srgbClr val="ff0066"/>
                </a:solidFill>
                <a:latin typeface="Arial"/>
                <a:cs typeface="Arial"/>
              </a:rPr>
              <a:t>׃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8942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ибольшим двузначным числом с суммой цифр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является число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94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4=4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(не подходит, цифры не разные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4 =8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(подходит, цифры все раз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80880" y="3733920"/>
            <a:ext cx="2495520" cy="294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438280" y="22860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Arial"/>
              </a:rPr>
              <a:t>6</a:t>
            </a: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Arial"/>
              </a:rPr>
              <a:t> 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447560"/>
            <a:ext cx="811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ереставь две палочки таким образом, чтобы получилось три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819520"/>
          <a:ext cx="8229600" cy="3306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cc"/>
                      </a:solidFill>
                    </a:lnL>
                    <a:lnR>
                      <a:noFill/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1 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8800"/>
            <a:ext cx="769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дставл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манд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373392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64520" y="3657600"/>
            <a:ext cx="136044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48320" y="5486400"/>
            <a:ext cx="1085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.   На берёзе 10 сучков, на каждом сучке по 16 веток, а на каждой ветке 4 яблока. Сколько на дереве яб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.   Несла бабка на базар сто яиц, одно  (а дно) упало. Сколько яиц осталось в кор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3.   Что легче килограмм ваты или килограмм желе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2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23160" y="4648320"/>
            <a:ext cx="1847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4. Как определить сколько воды в бочке (больше или меньше половины), если не производить никаких измер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5. Двое играли в шашки 4 часа, сколько играл каждый из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6. Машина перевозит зерно с элеватора на вокзал. На машину можно погрузить 5 тонн. Всего нужно перевести 22 тонны зерна. Сколько рейсов с элева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а вокзал сделает маш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2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466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7. Шел  Кондрат в Ленингра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 навстречу 12 реб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 каждого по 3 луко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каждой лукошке – ко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 каждой кошки – 12 ко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 каждого котенка в зубах по 4 мышо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И задумался старый Кондра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колько мышат и ко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Ребята несут в Ленингр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Arial"/>
              </a:rPr>
              <a:t>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4826160"/>
            <a:ext cx="2438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8. Длина бревна 5 м., за 1 мин. отпиливают по 1 метру. За сколько минут распилят все бре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9. Саша принес в школу кулек конфет. Если их раскладывать парами, тройками и четверками, то 1 будет лишняя, а пятерками    лишней не будет. Сколько конфет в куль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0. Отцу – 30 лет, а его  сыну – 5 лет. Через сколько лет отец будет старше сына  на 27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2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5028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Напишите    изве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ысказывания о матем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3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303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685800"/>
            <a:ext cx="35816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4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2210040" cy="210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095560" cy="18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423864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23619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первую минуту лиса выбросила лишь одного леща, во вторую – 2 леща, в третью- 4 леща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каждую следующую минуту она выбрасывала вдвое больше ле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Через 7 минут лиса выбросила всю рыбу и сама потихоньку ушла. Сколько лещей досталось хитрой ли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81800" y="4038480"/>
            <a:ext cx="266220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9-19T09:30:2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