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22C5-B226-45AB-A321-AF2C4F1F0D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96D2-B0C1-4ABB-A34E-4F02112DB654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B0E5-5AA9-4859-A414-769D669E8F92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09E-922F-4BD4-9103-E1A9FD2E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AC6-250C-4279-AC0E-25C3634B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F6B-D0D4-4717-8031-BC86DB1A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635-6B7E-4E60-B33D-83032611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5D73-5DAF-45CD-8D45-640DEFE2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203D-C401-44F4-B97A-F557C6EE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0F94-C733-4608-BC25-A8E0AD5F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96F3-450A-4958-9CBE-5428E3E3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87E3-6459-481F-85B7-2CD7C8A4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7D72-5F64-422E-BEBB-E4F8250E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4242-0F5D-4F3B-BE42-9B618329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341-2E79-41E8-82D3-F43A4526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0BA6-D0D7-430D-9235-A53A0B56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5AE8-6E57-4C5C-A165-7691161F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29E7-D935-4277-B393-C5587003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0087-05E5-409C-B771-28D28D3E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005F-47EC-4740-B839-EBABE808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BAF-6493-4BC2-B812-F276BF40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F16-6BC4-4351-893F-2293D232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D1F-9B97-479B-A6EA-1B1FB93F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D73-1A5D-40EB-8780-A913B810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F65-3E69-4527-8E36-5B5CB59C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116-6E09-41AF-87CF-F898B6D4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241-FE66-486D-A352-157EDDE0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1622-9217-42C5-A9FA-E8D8C2C0FF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4E47-1293-4238-A5D6-E244FD3A3BE4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16df"/>
                </a:solidFill>
                <a:latin typeface="Times New Roman"/>
              </a:rPr>
              <a:t>«Мои любимые детские книжки» </a:t>
            </a:r>
            <a:br>
              <a:rPr sz="3200"/>
            </a:br>
            <a:r>
              <a:rPr b="1" i="1" lang="ru-RU" sz="3200" spc="-1" strike="noStrike">
                <a:solidFill>
                  <a:srgbClr val="ee16df"/>
                </a:solidFill>
                <a:latin typeface="Times New Roman"/>
              </a:rPr>
              <a:t>по произведениям С.В.Михалкова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1" name="Picture 6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557520" cy="42483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7"/>
          <p:cNvSpPr/>
          <p:nvPr/>
        </p:nvSpPr>
        <p:spPr>
          <a:xfrm>
            <a:off x="250920" y="2876760"/>
            <a:ext cx="4465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Чтобы  стать  героем,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Нужно  быть  отважным,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     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Честным  в  деле  каждом,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     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Скромным  в  слове  каждом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     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Слабому  -  опорой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     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В  поединке  смелым,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     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Преданным  народу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     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Мыслями  и  делом.      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Прямоугольник 4"/>
          <p:cNvSpPr/>
          <p:nvPr/>
        </p:nvSpPr>
        <p:spPr>
          <a:xfrm>
            <a:off x="0" y="5749920"/>
            <a:ext cx="27860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16df"/>
                </a:solidFill>
                <a:latin typeface="Arial"/>
              </a:rPr>
              <a:t>Подготовила: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16d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ee16df"/>
                </a:solidFill>
                <a:latin typeface="Arial"/>
              </a:rPr>
              <a:t>педагог-библиотекарь 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16df"/>
                </a:solidFill>
                <a:latin typeface="Arial"/>
              </a:rPr>
              <a:t>МБОУ Аннинская СОШ № 3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16d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ee16df"/>
                </a:solidFill>
                <a:latin typeface="Arial"/>
              </a:rPr>
              <a:t>Бондарь Светлана Николаевна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«Мой щенок»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5580000" y="1844640"/>
            <a:ext cx="2973600" cy="41036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5"/>
          <p:cNvSpPr/>
          <p:nvPr/>
        </p:nvSpPr>
        <p:spPr>
          <a:xfrm>
            <a:off x="395280" y="1986480"/>
            <a:ext cx="47530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Я сегодня сбилась с ног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У меня пропал щенок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Два часа его звала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Два часа его ждала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За уроки не садилась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И обедать не могла.</a:t>
            </a:r>
            <a:r>
              <a:rPr b="1" lang="ru-RU" sz="2800" spc="-1" strike="noStrike">
                <a:solidFill>
                  <a:srgbClr val="3a09c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e16df"/>
                </a:solidFill>
                <a:latin typeface="Arial"/>
              </a:rPr>
              <a:t>Что же натворил этот щенок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4" name="Sergey-Mihalkov-Moy-schenok---muzykal_nyy-stih(muzofon.com).mp3" descr=""/>
          <p:cNvPicPr/>
          <p:nvPr/>
        </p:nvPicPr>
        <p:blipFill>
          <a:blip r:embed="rId2"/>
          <a:stretch/>
        </p:blipFill>
        <p:spPr>
          <a:xfrm>
            <a:off x="500076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137352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12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«Трезор»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619440" cy="47628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5"/>
          <p:cNvSpPr/>
          <p:nvPr/>
        </p:nvSpPr>
        <p:spPr>
          <a:xfrm>
            <a:off x="324000" y="2001240"/>
            <a:ext cx="46083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Arial"/>
              </a:rPr>
              <a:t>На дверях висел замок.                                                                   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Arial"/>
              </a:rPr>
              <a:t>Взаперти сидел щенок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Arial"/>
              </a:rPr>
              <a:t>Все ушли и одного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Arial"/>
              </a:rPr>
              <a:t>в доме заперли его.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e16df"/>
                </a:solidFill>
                <a:latin typeface="Arial"/>
              </a:rPr>
              <a:t>А что же натворил этот щенок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8" name="Sergey-Mihalkov---Kotyata-04Trezor(muzofon.com).mp3" descr=""/>
          <p:cNvPicPr/>
          <p:nvPr/>
        </p:nvPicPr>
        <p:blipFill>
          <a:blip r:embed="rId2"/>
          <a:stretch/>
        </p:blipFill>
        <p:spPr>
          <a:xfrm>
            <a:off x="450072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16df"/>
                </a:solidFill>
                <a:latin typeface="Times New Roman"/>
              </a:rPr>
              <a:t>Пьесы С. В. Михалков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357280" y="1571760"/>
            <a:ext cx="395784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«Зайка-Зазнайка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«Три поросёнка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«Я хочу домой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«Дорогой мальчик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«Сомбреро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1" name="Picture 7" descr="http://j.livelib.ru/boocover/1000286741/l/b2bf/Sergej_Mihalkov__Sergej_Mihalkov._Skazki._Pesy._Stihi._V_treh_knigah._Kniga_2.jpg"/>
          <p:cNvPicPr/>
          <p:nvPr/>
        </p:nvPicPr>
        <p:blipFill>
          <a:blip r:embed="rId1"/>
          <a:stretch/>
        </p:blipFill>
        <p:spPr>
          <a:xfrm>
            <a:off x="571680" y="3929040"/>
            <a:ext cx="1643040" cy="2193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http://j.livelib.ru/boocover/1000286740/l/7e30/Sergej_Mihalkov__Sergej_Mihalkov._Skazki._Pesy._Stihi._V_treh_knigah._Kniga_1.jpg"/>
          <p:cNvPicPr/>
          <p:nvPr/>
        </p:nvPicPr>
        <p:blipFill>
          <a:blip r:embed="rId2"/>
          <a:stretch/>
        </p:blipFill>
        <p:spPr>
          <a:xfrm>
            <a:off x="2643120" y="4500720"/>
            <a:ext cx="1643040" cy="21445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1" descr="http://static.ozone.ru/multimedia/books_covers/c200/1000616150.jpg"/>
          <p:cNvPicPr/>
          <p:nvPr/>
        </p:nvPicPr>
        <p:blipFill>
          <a:blip r:embed="rId3"/>
          <a:stretch/>
        </p:blipFill>
        <p:spPr>
          <a:xfrm>
            <a:off x="6786720" y="4214880"/>
            <a:ext cx="2357280" cy="2357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3" descr="http://torrentline.net/uploads/posts/2013-01/sombrero-1959.jpg"/>
          <p:cNvPicPr/>
          <p:nvPr/>
        </p:nvPicPr>
        <p:blipFill>
          <a:blip r:embed="rId4"/>
          <a:stretch/>
        </p:blipFill>
        <p:spPr>
          <a:xfrm>
            <a:off x="6929280" y="1643040"/>
            <a:ext cx="1665360" cy="2428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7" descr="http://trackermedia.ru/ccc/6/11715.jpg"/>
          <p:cNvPicPr/>
          <p:nvPr/>
        </p:nvPicPr>
        <p:blipFill>
          <a:blip r:embed="rId5"/>
          <a:stretch/>
        </p:blipFill>
        <p:spPr>
          <a:xfrm>
            <a:off x="4857840" y="4143240"/>
            <a:ext cx="1714320" cy="2467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1" descr="http://zateevo.ru/userfiles/image/Geroi%20Rossii/MihalkovSV/mihalkov_s03.jpg"/>
          <p:cNvPicPr/>
          <p:nvPr/>
        </p:nvPicPr>
        <p:blipFill>
          <a:blip r:embed="rId6"/>
          <a:stretch/>
        </p:blipFill>
        <p:spPr>
          <a:xfrm>
            <a:off x="214200" y="192888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Стихи о Дяде Стёпе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2765520" cy="36399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2928960" y="2286000"/>
            <a:ext cx="3127320" cy="4114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http://bouquiniste.appee.ru/media/cardim894.jpg"/>
          <p:cNvPicPr/>
          <p:nvPr/>
        </p:nvPicPr>
        <p:blipFill>
          <a:blip r:embed="rId3"/>
          <a:stretch/>
        </p:blipFill>
        <p:spPr>
          <a:xfrm>
            <a:off x="5929200" y="1643040"/>
            <a:ext cx="2857680" cy="371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16df"/>
                </a:solidFill>
                <a:latin typeface="Times New Roman"/>
              </a:rPr>
              <a:t>А теперь попробуйте ответить на вопросы викторины: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4319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1.В одном переулке                            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Стояли дом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В одном из домо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Жил  упрямый…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365360" cy="43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«Овощи»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7500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Times New Roman"/>
              </a:rPr>
              <a:t>Хозяйка однажды с базара пришл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Times New Roman"/>
              </a:rPr>
              <a:t>Хозяйка с базара домой принесл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(Картошку, капусту, морковку, горох, петрушку и свёклу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6" name="Picture 5" descr="http://img.labirint.ru/images/comments_pic/0835/01labfgvt1219847204.jpg"/>
          <p:cNvPicPr/>
          <p:nvPr/>
        </p:nvPicPr>
        <p:blipFill>
          <a:blip r:embed="rId1"/>
          <a:stretch/>
        </p:blipFill>
        <p:spPr>
          <a:xfrm>
            <a:off x="2143080" y="3071880"/>
            <a:ext cx="5202360" cy="346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14200" y="2071800"/>
            <a:ext cx="4826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383ad"/>
                </a:solidFill>
                <a:latin typeface="Times New Roman"/>
              </a:rPr>
              <a:t> </a:t>
            </a:r>
            <a:r>
              <a:rPr b="1" lang="ru-RU" sz="2200" spc="-1" strike="noStrike">
                <a:solidFill>
                  <a:srgbClr val="3a09c3"/>
                </a:solidFill>
                <a:latin typeface="Times New Roman"/>
              </a:rPr>
              <a:t>      </a:t>
            </a:r>
            <a:r>
              <a:rPr b="1" lang="ru-RU" sz="2200" spc="-1" strike="noStrike">
                <a:solidFill>
                  <a:srgbClr val="3a09c3"/>
                </a:solidFill>
                <a:latin typeface="Times New Roman"/>
              </a:rPr>
              <a:t>За участие в Великой Отечественной войне, где писатель был военным корреспондентом, С. Михалков награждён орденами “Красной звезды”, “Боевого красного знамени” и медалями. Несмотря на многообразие творческих интересов,  сам Михалков главным делом своей жизни считал поэзию для детей</a:t>
            </a:r>
            <a:r>
              <a:rPr b="1" lang="ru-RU" sz="2400" spc="-1" strike="noStrike">
                <a:solidFill>
                  <a:srgbClr val="3a09c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5149800" y="981000"/>
            <a:ext cx="3743280" cy="511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1.Остановка  «Дворик».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539640" y="2852640"/>
            <a:ext cx="352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9c3"/>
                </a:solidFill>
                <a:latin typeface="Arial"/>
              </a:rPr>
              <a:t>Вы послушайте, ребята                   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9c3"/>
                </a:solidFill>
                <a:latin typeface="Arial"/>
              </a:rPr>
              <a:t>Я хочу вам рассказать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9c3"/>
                </a:solidFill>
                <a:latin typeface="Arial"/>
              </a:rPr>
              <a:t>Родились у  нас котята –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9c3"/>
                </a:solidFill>
                <a:latin typeface="Arial"/>
              </a:rPr>
              <a:t>Их по счёту ровно …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9c3"/>
                </a:solidFill>
                <a:latin typeface="Arial"/>
              </a:rPr>
              <a:t>Мы решали, мы гадал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9c3"/>
                </a:solidFill>
                <a:latin typeface="Arial"/>
              </a:rPr>
              <a:t>Как же нам котят назвать?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9c3"/>
                </a:solidFill>
                <a:latin typeface="Arial"/>
              </a:rPr>
              <a:t>Наконец, мы их назвали …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6" name="Picture 9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344664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16df"/>
                </a:solidFill>
                <a:latin typeface="Times New Roman"/>
              </a:rPr>
              <a:t>Стихотворение «А  что  у  вас?».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672000" cy="50133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7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826920" y="999000"/>
            <a:ext cx="360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  <a:ea typeface="Times New Roman"/>
              </a:rPr>
              <a:t>Кто на лавочке сидел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  <a:ea typeface="Times New Roman"/>
              </a:rPr>
              <a:t>Кто на улицу глядел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  <a:ea typeface="Times New Roman"/>
              </a:rPr>
              <a:t>Толя пел,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  <a:ea typeface="Times New Roman"/>
              </a:rPr>
              <a:t>Борис молчал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  <a:ea typeface="Times New Roman"/>
              </a:rPr>
              <a:t>Николай ногой качал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  <a:ea typeface="Times New Roman"/>
              </a:rPr>
              <a:t>Дело  было  вечером,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  <a:ea typeface="Times New Roman"/>
              </a:rPr>
              <a:t>Делать  было  нечего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e16df"/>
                </a:solidFill>
                <a:latin typeface="Times New Roman"/>
                <a:ea typeface="Times New Roman"/>
              </a:rPr>
              <a:t>Кто  из  вас  вспомнит, 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e16df"/>
                </a:solidFill>
                <a:latin typeface="Times New Roman"/>
                <a:ea typeface="Times New Roman"/>
              </a:rPr>
              <a:t>чем  же  хвастались 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e16df"/>
                </a:solidFill>
                <a:latin typeface="Times New Roman"/>
                <a:ea typeface="Times New Roman"/>
              </a:rPr>
              <a:t>ребята, сидевшие  «без дела»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61" name="А ЧТО У ВАС (С. Михалков) Читает Э.Виторган (audiopoisk.com).mp3" descr=""/>
          <p:cNvPicPr/>
          <p:nvPr/>
        </p:nvPicPr>
        <p:blipFill>
          <a:blip r:embed="rId2"/>
          <a:stretch/>
        </p:blipFill>
        <p:spPr>
          <a:xfrm>
            <a:off x="464328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«Песенка друзей»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3672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Мы едем, едем, едем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В далёкие края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Хорошие соседи,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Счастливые друзья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Нам весело живётся,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Мы песенку поём,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А в песенке поётся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О том, как мы живём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Тра-та-та, тра-та-та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Мы везём с собой кота,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Чижика, собаку,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Петьку-забияку,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Обезьяну, попугая –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Вот компания какая!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4" name="Picture 5" descr="http://img2.labirint.ru/books/32172/big.jpg"/>
          <p:cNvPicPr/>
          <p:nvPr/>
        </p:nvPicPr>
        <p:blipFill>
          <a:blip r:embed="rId1"/>
          <a:stretch/>
        </p:blipFill>
        <p:spPr>
          <a:xfrm>
            <a:off x="5219640" y="1484280"/>
            <a:ext cx="2978280" cy="4600440"/>
          </a:xfrm>
          <a:prstGeom prst="rect">
            <a:avLst/>
          </a:prstGeom>
          <a:ln w="0">
            <a:noFill/>
          </a:ln>
        </p:spPr>
      </p:pic>
      <p:pic>
        <p:nvPicPr>
          <p:cNvPr id="365" name="Детские песни - Мы едем едем едем (audiopoisk.com).mp3" descr=""/>
          <p:cNvPicPr/>
          <p:nvPr/>
        </p:nvPicPr>
        <p:blipFill>
          <a:blip r:embed="rId2"/>
          <a:stretch/>
        </p:blipFill>
        <p:spPr>
          <a:xfrm>
            <a:off x="457200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9278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Остановка «Школа».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5222880" y="1773360"/>
            <a:ext cx="3311640" cy="4535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6"/>
          <p:cNvSpPr/>
          <p:nvPr/>
        </p:nvSpPr>
        <p:spPr>
          <a:xfrm>
            <a:off x="179280" y="2637000"/>
            <a:ext cx="47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Arial"/>
              </a:rPr>
              <a:t>Что случилось?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Arial"/>
              </a:rPr>
              <a:t>Что случилось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Arial"/>
              </a:rPr>
              <a:t>С печки азбука свалилась! 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  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«Чистописание»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446256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</a:rPr>
              <a:t>Писать красиво нелегко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</a:rPr>
              <a:t>«Даёт корова молоко»                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</a:rPr>
              <a:t>За буквой буква,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</a:rPr>
              <a:t>К слогу слог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</a:rPr>
              <a:t>Ну, хоть бы кто-нибудь помог!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308400" cy="51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16df"/>
                </a:solidFill>
                <a:latin typeface="Times New Roman"/>
              </a:rPr>
              <a:t>«Прививка»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1928880" y="1214280"/>
            <a:ext cx="5719680" cy="38577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2928960" y="4619880"/>
            <a:ext cx="331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Я вхожу один из первых     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В медицинский кабинет.   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У меня стальные  нервы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Или вовсе нервов нет!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«36,5»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855960" cy="482436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5"/>
          <p:cNvSpPr/>
          <p:nvPr/>
        </p:nvSpPr>
        <p:spPr>
          <a:xfrm>
            <a:off x="468360" y="2586600"/>
            <a:ext cx="4535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Я быстро градусник беру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И меж ладоней долго тру,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Я на него дышу, дышу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И про себя прошу, прошу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Родная миленькая ртуть,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Ну, поднимись ещё чуть-чуть!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«Чудесные таблетки от лени»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446256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Times New Roman"/>
              </a:rPr>
              <a:t>Появись лекарство это,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Times New Roman"/>
              </a:rPr>
              <a:t>Я купил бы два пакета,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Times New Roman"/>
              </a:rPr>
              <a:t>Нет, не два, а целых три,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Times New Roman"/>
              </a:rPr>
              <a:t>Нужно, что ни говори!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0" name="Picture 5" descr="http://stolicadetstva.com/images/text/e86763b0d8cb9552b7aeaa98c5077942.jpg"/>
          <p:cNvPicPr/>
          <p:nvPr/>
        </p:nvPicPr>
        <p:blipFill>
          <a:blip r:embed="rId1"/>
          <a:stretch/>
        </p:blipFill>
        <p:spPr>
          <a:xfrm>
            <a:off x="5286240" y="1714680"/>
            <a:ext cx="272124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0:18:22Z</dcterms:created>
  <dc:creator>Customer</dc:creator>
  <dc:description/>
  <dc:language>en-US</dc:language>
  <cp:lastModifiedBy>user</cp:lastModifiedBy>
  <dcterms:modified xsi:type="dcterms:W3CDTF">2019-11-24T12:15:21Z</dcterms:modified>
  <cp:revision>49</cp:revision>
  <dc:subject/>
  <dc:title>Библиотечный урок       по произведениям С.В.Михалкова       «Мои любимые детские книжки»</dc:title>
</cp:coreProperties>
</file>