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9E4D-0BB6-4204-8EED-E8DF0A2E5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419-ADA7-444C-97F0-5B99FDC0CCA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7C9-AB8A-4435-B305-A65032262F31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CAD-ADED-4C51-AC6D-F9508895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B5D-F3B2-40F8-8C87-C575854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E02-7E26-4226-B64F-B4266CA2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3CB-B976-40F7-BCE5-203DCC51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28A5-7E97-450A-8D88-05088FD1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26D-C172-4E63-9BE2-98DF66A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E9EC-F5E9-4634-AA76-66689C3D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B9BF-73D8-4224-9CA3-CE319573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5E1-6E27-41CC-82BB-6639C30D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0B5-7338-4198-A7F9-12E9433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F3C4-38BE-403B-86DF-7789AA54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D0B-D948-4A76-A5A2-9862168C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48DF-A187-4027-AD90-AB80864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6BF-ED10-4F1C-8F89-CC09B9E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EEE5-64DC-4AE4-B502-6B715AC9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AB0E-A009-4AC6-A95E-B473840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35BE-3DD1-4B27-A5B3-E07FCD88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141-7553-445C-9D3E-77BF7D3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3BC-67D8-4962-B852-B3011D9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B81-AC8E-4D4E-B633-D3E14E56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087-D480-4FAB-BC91-3D0E776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431-CBD4-4822-AE70-74A18E5B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4D5-3BE3-4937-9C0A-7F930CE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DA7-C95F-4ED9-AC97-BD3D8B2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BA8F-2FF5-4D11-A46E-403245C818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C68-B2B2-4609-87E7-EB589780EE7A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16df"/>
                </a:solidFill>
                <a:latin typeface="Times New Roman"/>
              </a:rPr>
              <a:t>«Мои любимые детские книжки» </a:t>
            </a:r>
            <a:br>
              <a:rPr sz="3200"/>
            </a:br>
            <a:r>
              <a:rPr b="1" i="1" lang="ru-RU" sz="3200" spc="-1" strike="noStrike">
                <a:solidFill>
                  <a:srgbClr val="ee16df"/>
                </a:solidFill>
                <a:latin typeface="Times New Roman"/>
              </a:rPr>
              <a:t>по произведениям С.В.Михалкова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57520" cy="42483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250920" y="287676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Чтобы  стать  герое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Нужно  быть  отважны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 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Честным  в  деле  каждо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Скромным  в  слове  каждо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 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Слабому  -  опорой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 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В  поединке  смелым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Преданным  народу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   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Мыслями  и  делом.   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0" y="5749920"/>
            <a:ext cx="27860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Подготовила: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педагог-библиотекарь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МБОУ Аннинская СОШ № 3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ee16df"/>
                </a:solidFill>
                <a:latin typeface="Arial"/>
              </a:rPr>
              <a:t>Бондарь Светлана Николаевна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Мой щенок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973600" cy="4103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395280" y="1986480"/>
            <a:ext cx="475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Я сегодня сбилась с ног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У меня пропал щенок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Два часа его звал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Два часа его ждала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За уроки не садилась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Arial"/>
              </a:rPr>
              <a:t>И обедать не могла.</a:t>
            </a: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Arial"/>
              </a:rPr>
              <a:t>Что же натворил этот щенок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4" name="Sergey-Mihalkov-Moy-schenok---muzykal_nyy-stih(muzofon.com).mp3" descr=""/>
          <p:cNvPicPr/>
          <p:nvPr/>
        </p:nvPicPr>
        <p:blipFill>
          <a:blip r:embed="rId2"/>
          <a:stretch/>
        </p:blipFill>
        <p:spPr>
          <a:xfrm>
            <a:off x="500076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37352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Трезор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619440" cy="4762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324000" y="2001240"/>
            <a:ext cx="4608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На дверях висел замок.                                                                   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заперти сидел щенок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се ушли и одного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в доме заперли его.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Arial"/>
              </a:rPr>
              <a:t>А что же натворил этот щенок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8" name="Sergey-Mihalkov---Kotyata-04Trezor(muzofon.com).mp3" descr=""/>
          <p:cNvPicPr/>
          <p:nvPr/>
        </p:nvPicPr>
        <p:blipFill>
          <a:blip r:embed="rId2"/>
          <a:stretch/>
        </p:blipFill>
        <p:spPr>
          <a:xfrm>
            <a:off x="450072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16df"/>
                </a:solidFill>
                <a:latin typeface="Times New Roman"/>
              </a:rPr>
              <a:t>Пьесы С. В. Михалко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357280" y="1571760"/>
            <a:ext cx="395784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Зайка-Зазнайка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Три поросёнка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Я хочу домой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Дорогой мальчик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«Сомбреро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7" descr="http://j.livelib.ru/boocover/1000286741/l/b2bf/Sergej_Mihalkov__Sergej_Mihalkov._Skazki._Pesy._Stihi._V_treh_knigah._Kniga_2.jpg"/>
          <p:cNvPicPr/>
          <p:nvPr/>
        </p:nvPicPr>
        <p:blipFill>
          <a:blip r:embed="rId1"/>
          <a:stretch/>
        </p:blipFill>
        <p:spPr>
          <a:xfrm>
            <a:off x="571680" y="3929040"/>
            <a:ext cx="1643040" cy="2193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http://j.livelib.ru/boocover/1000286740/l/7e30/Sergej_Mihalkov__Sergej_Mihalkov._Skazki._Pesy._Stihi._V_treh_knigah._Kniga_1.jpg"/>
          <p:cNvPicPr/>
          <p:nvPr/>
        </p:nvPicPr>
        <p:blipFill>
          <a:blip r:embed="rId2"/>
          <a:stretch/>
        </p:blipFill>
        <p:spPr>
          <a:xfrm>
            <a:off x="2643120" y="4500720"/>
            <a:ext cx="1643040" cy="2144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http://static.ozone.ru/multimedia/books_covers/c200/1000616150.jpg"/>
          <p:cNvPicPr/>
          <p:nvPr/>
        </p:nvPicPr>
        <p:blipFill>
          <a:blip r:embed="rId3"/>
          <a:stretch/>
        </p:blipFill>
        <p:spPr>
          <a:xfrm>
            <a:off x="6786720" y="421488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http://torrentline.net/uploads/posts/2013-01/sombrero-1959.jpg"/>
          <p:cNvPicPr/>
          <p:nvPr/>
        </p:nvPicPr>
        <p:blipFill>
          <a:blip r:embed="rId4"/>
          <a:stretch/>
        </p:blipFill>
        <p:spPr>
          <a:xfrm>
            <a:off x="6929280" y="1643040"/>
            <a:ext cx="1665360" cy="2428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" descr="http://trackermedia.ru/ccc/6/11715.jpg"/>
          <p:cNvPicPr/>
          <p:nvPr/>
        </p:nvPicPr>
        <p:blipFill>
          <a:blip r:embed="rId5"/>
          <a:stretch/>
        </p:blipFill>
        <p:spPr>
          <a:xfrm>
            <a:off x="4857840" y="4143240"/>
            <a:ext cx="1714320" cy="2467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1" descr="http://zateevo.ru/userfiles/image/Geroi%20Rossii/MihalkovSV/mihalkov_s03.jpg"/>
          <p:cNvPicPr/>
          <p:nvPr/>
        </p:nvPicPr>
        <p:blipFill>
          <a:blip r:embed="rId6"/>
          <a:stretch/>
        </p:blipFill>
        <p:spPr>
          <a:xfrm>
            <a:off x="214200" y="192888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Стихи о Дяде Стёп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765520" cy="3639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3127320" cy="4114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://bouquiniste.appee.ru/media/cardim894.jpg"/>
          <p:cNvPicPr/>
          <p:nvPr/>
        </p:nvPicPr>
        <p:blipFill>
          <a:blip r:embed="rId3"/>
          <a:stretch/>
        </p:blipFill>
        <p:spPr>
          <a:xfrm>
            <a:off x="5929200" y="1643040"/>
            <a:ext cx="2857680" cy="371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А теперь попробуйте ответить на вопросы викторины: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4319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1.В одном переулке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Стояли дом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В одном из дом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9c3"/>
                </a:solidFill>
                <a:latin typeface="Times New Roman"/>
              </a:rPr>
              <a:t>Жил  упрямый…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65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Овощи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7500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Хозяйка однажды с базара пришл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Хозяйка с базара домой принесл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(Картошку, капусту, морковку, горох, петрушку и свёклу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6" name="Picture 5" descr="http://img.labirint.ru/images/comments_pic/0835/01labfgvt1219847204.jpg"/>
          <p:cNvPicPr/>
          <p:nvPr/>
        </p:nvPicPr>
        <p:blipFill>
          <a:blip r:embed="rId1"/>
          <a:stretch/>
        </p:blipFill>
        <p:spPr>
          <a:xfrm>
            <a:off x="2143080" y="3071880"/>
            <a:ext cx="5202360" cy="34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4826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383ad"/>
                </a:solidFill>
                <a:latin typeface="Times New Roman"/>
              </a:rPr>
              <a:t> </a:t>
            </a:r>
            <a:r>
              <a:rPr b="1" lang="ru-RU" sz="2200" spc="-1" strike="noStrike">
                <a:solidFill>
                  <a:srgbClr val="3a09c3"/>
                </a:solidFill>
                <a:latin typeface="Times New Roman"/>
              </a:rPr>
              <a:t>      </a:t>
            </a:r>
            <a:r>
              <a:rPr b="1" lang="ru-RU" sz="2200" spc="-1" strike="noStrike">
                <a:solidFill>
                  <a:srgbClr val="3a09c3"/>
                </a:solidFill>
                <a:latin typeface="Times New Roman"/>
              </a:rPr>
              <a:t>За участие в Великой Отечественной войне, где писатель был военным корреспондентом, С. Михалков награждён орденами “Красной звезды”, “Боевого красного знамени” и медалями. Несмотря на многообразие творческих интересов,  сам Михалков главным делом своей жизни считал поэзию для детей</a:t>
            </a: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5149800" y="981000"/>
            <a:ext cx="3743280" cy="511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1.Остановка  «Дворик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539640" y="2852640"/>
            <a:ext cx="35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Вы послушайте, ребята                   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Я хочу вам рассказать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Родились у  нас котята –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Их по счёту ровно 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Мы решали, мы гадал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Как же нам котят назвать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9c3"/>
                </a:solidFill>
                <a:latin typeface="Arial"/>
              </a:rPr>
              <a:t>Наконец, мы их назвали …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6" name="Picture 9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44664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Стихотворение «А  что  у  вас?».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13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826920" y="999000"/>
            <a:ext cx="36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Кто на лавочке сиде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Кто на улицу гляде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Толя пел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Борис молчал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Николай ногой качал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Дело  было  вечером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  <a:ea typeface="Times New Roman"/>
              </a:rPr>
              <a:t>Делать  было  нечего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Кто  из  вас  вспомнит, 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чем  же  хвастались 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e16df"/>
                </a:solidFill>
                <a:latin typeface="Times New Roman"/>
                <a:ea typeface="Times New Roman"/>
              </a:rPr>
              <a:t>ребята, сидевшие  «без дела»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1" name="А ЧТО У ВАС (С. Михалков) Читает Э.Виторган (audiopoisk.com).mp3" descr=""/>
          <p:cNvPicPr/>
          <p:nvPr/>
        </p:nvPicPr>
        <p:blipFill>
          <a:blip r:embed="rId2"/>
          <a:stretch/>
        </p:blipFill>
        <p:spPr>
          <a:xfrm>
            <a:off x="464328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Песенка друзей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367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едем, едем, едем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В далёкие кра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Хорошие соседи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Счастливые друзь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Нам весело живётся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песенку поём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А в песенке поётся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О том, как мы живём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Тра-та-та, тра-та-т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Мы везём с собой кота,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Чижика, собаку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Петьку-забияку,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Обезьяну, попугая –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Times New Roman"/>
              </a:rPr>
              <a:t>Вот компания какая!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Picture 5" descr="http://img2.labirint.ru/books/32172/big.jpg"/>
          <p:cNvPicPr/>
          <p:nvPr/>
        </p:nvPicPr>
        <p:blipFill>
          <a:blip r:embed="rId1"/>
          <a:stretch/>
        </p:blipFill>
        <p:spPr>
          <a:xfrm>
            <a:off x="5219640" y="1484280"/>
            <a:ext cx="2978280" cy="4600440"/>
          </a:xfrm>
          <a:prstGeom prst="rect">
            <a:avLst/>
          </a:prstGeom>
          <a:ln w="0">
            <a:noFill/>
          </a:ln>
        </p:spPr>
      </p:pic>
      <p:pic>
        <p:nvPicPr>
          <p:cNvPr id="365" name="Детские песни - Мы едем едем едем (audiopoisk.com).mp3" descr=""/>
          <p:cNvPicPr/>
          <p:nvPr/>
        </p:nvPicPr>
        <p:blipFill>
          <a:blip r:embed="rId2"/>
          <a:stretch/>
        </p:blipFill>
        <p:spPr>
          <a:xfrm>
            <a:off x="457200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9278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Остановка «Школа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5222880" y="1773360"/>
            <a:ext cx="3311640" cy="4535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179280" y="2637000"/>
            <a:ext cx="47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Что случилось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Что случилось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Arial"/>
              </a:rPr>
              <a:t>С печки азбука свалилась! </a:t>
            </a: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Чистописание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446256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Писать красиво нелегко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«Даёт корова молоко»                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За буквой буква,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К слогу слог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09c3"/>
                </a:solidFill>
                <a:latin typeface="Times New Roman"/>
              </a:rPr>
              <a:t>Ну, хоть бы кто-нибудь помог!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30840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16df"/>
                </a:solidFill>
                <a:latin typeface="Times New Roman"/>
              </a:rPr>
              <a:t>«Прививка»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1928880" y="1214280"/>
            <a:ext cx="5719680" cy="38577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2928960" y="4619880"/>
            <a:ext cx="331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вхожу один из первых  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В медицинский кабинет.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У меня стальные  нервы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ли вовсе нервов нет!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36,5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855960" cy="4824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468360" y="2586600"/>
            <a:ext cx="45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быстро градусник беру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 меж ладоней долго тру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Я на него дышу, дышу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И про себя прошу, прошу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Родная миленькая ртуть,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c3"/>
                </a:solidFill>
                <a:latin typeface="Arial"/>
              </a:rPr>
              <a:t>Ну, поднимись ещё чуть-чуть!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16df"/>
                </a:solidFill>
                <a:latin typeface="Times New Roman"/>
              </a:rPr>
              <a:t>«Чудесные таблетки от лени»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44625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Появись лекарство это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Я купил бы два пакета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Нет, не два, а целых три,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9c3"/>
                </a:solidFill>
                <a:latin typeface="Times New Roman"/>
              </a:rPr>
              <a:t>Нужно, что ни говори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0" name="Picture 5" descr="http://stolicadetstva.com/images/text/e86763b0d8cb9552b7aeaa98c5077942.jpg"/>
          <p:cNvPicPr/>
          <p:nvPr/>
        </p:nvPicPr>
        <p:blipFill>
          <a:blip r:embed="rId1"/>
          <a:stretch/>
        </p:blipFill>
        <p:spPr>
          <a:xfrm>
            <a:off x="5286240" y="1714680"/>
            <a:ext cx="2721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18:22Z</dcterms:created>
  <dc:creator>Customer</dc:creator>
  <dc:description/>
  <dc:language>en-US</dc:language>
  <cp:lastModifiedBy>user</cp:lastModifiedBy>
  <dcterms:modified xsi:type="dcterms:W3CDTF">2019-11-24T12:15:21Z</dcterms:modified>
  <cp:revision>49</cp:revision>
  <dc:subject/>
  <dc:title>Библиотечный урок       по произведениям С.В.Михалкова       «Мои любимые детские книжки»</dc:title>
</cp:coreProperties>
</file>