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12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29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7AA793-96CB-4BB5-92BB-1E31A3C09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02893F-090D-471B-895B-F8103F8A5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CA7D86-E6DB-4279-8F12-F356D8AC1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DA9A14-D3E5-48A3-9BBE-23A5452B8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43E4E-C538-44F1-9A22-91E2A72F0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47D4B-49D2-43C9-A9E9-51B1A3AA2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ECF94-AE7E-4E8F-9314-2C4D323C8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A59EA-A0F5-4339-8963-95D859C91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88CC0-509C-48D2-8797-82377A1EB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FD308-23A9-4A40-A814-E65B86725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A56BB-07A2-4BEB-BFD6-B67B4946C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3F9330-CC87-42D4-B13C-EBB3D71B6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58E9D-9DE2-4B4C-8E05-0589B3E34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5CF83-F489-4E44-94C2-69F208F03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C206D-F2B0-4293-9AFE-845591C01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E2773-53B3-4BC0-AB0E-A1F1CA2D7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7793B-2823-4430-B154-3C6DD2D51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AF5886-3B88-4823-88DD-0FC38CE7E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A165E9-E695-4A77-943C-E39BDB630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1FB0A8-3723-4D40-A3B2-A91CEA6C0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D44881-1FDA-4FB2-A027-34DF8323B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B7D472-BF6C-4D20-951E-5F9EC791C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BD2FEB-B397-427F-ABBE-E9BF6233B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1F352-B81C-4F10-9BDE-ECABAEB4A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9B895-9616-4285-83FE-E429F627B68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BD0FE-F2A1-4C39-B68F-6F0E7826A2B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e5e5ff"/>
                </a:solidFill>
                <a:latin typeface="Garamond"/>
              </a:rPr>
              <a:t>«Чтобы помнили…»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858920" y="1915920"/>
            <a:ext cx="3498840" cy="32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Жизнь и творчество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Анатолия Игнатьевич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Приставкин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2" name="Picture 4" descr="KMO_040896_00536_1_t208"/>
          <p:cNvPicPr/>
          <p:nvPr/>
        </p:nvPicPr>
        <p:blipFill>
          <a:blip r:embed="rId1"/>
          <a:stretch/>
        </p:blipFill>
        <p:spPr>
          <a:xfrm>
            <a:off x="900000" y="1484280"/>
            <a:ext cx="3297240" cy="5040360"/>
          </a:xfrm>
          <a:prstGeom prst="rect">
            <a:avLst/>
          </a:prstGeom>
          <a:ln w="0">
            <a:noFill/>
          </a:ln>
        </p:spPr>
      </p:pic>
      <p:sp>
        <p:nvSpPr>
          <p:cNvPr id="103" name="Прямоугольник 6"/>
          <p:cNvSpPr/>
          <p:nvPr/>
        </p:nvSpPr>
        <p:spPr>
          <a:xfrm>
            <a:off x="5214960" y="5429160"/>
            <a:ext cx="3000240" cy="14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bb6ec"/>
                </a:solidFill>
                <a:latin typeface="Garamond"/>
              </a:rPr>
              <a:t>Подготовила: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bb6ec"/>
                </a:solidFill>
                <a:latin typeface="Garamond"/>
              </a:rPr>
              <a:t>педагог-библиотекарь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bb6ec"/>
                </a:solidFill>
                <a:latin typeface="Garamond"/>
              </a:rPr>
              <a:t>МБОУ Аннинская СОШ № 3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bb6ec"/>
                </a:solidFill>
                <a:latin typeface="Garamond"/>
              </a:rPr>
              <a:t> </a:t>
            </a:r>
            <a:r>
              <a:rPr b="1" lang="ru-RU" sz="1400" spc="-1" strike="noStrike">
                <a:solidFill>
                  <a:srgbClr val="cbb6ec"/>
                </a:solidFill>
                <a:latin typeface="Garamond"/>
              </a:rPr>
              <a:t>Бондарь Светлана Николаевна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Рассказ « Золотая рыбка»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4" name="Picture 7" descr="i?id=c9e1ea3b7d2a2622fb159822944eaff1&amp;n=33&amp;h=215&amp;w=382"/>
          <p:cNvPicPr/>
          <p:nvPr/>
        </p:nvPicPr>
        <p:blipFill>
          <a:blip r:embed="rId1"/>
          <a:stretch/>
        </p:blipFill>
        <p:spPr>
          <a:xfrm>
            <a:off x="1116000" y="1916280"/>
            <a:ext cx="6696000" cy="37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Летописец современности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708000" y="1599840"/>
            <a:ext cx="525636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 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В 1959 году, после окончания института, Приставкин отправился строить Братскую ГЭС. Позже он работал корреспондентов в «Литературной газете». В 1961 году  Анатолий Приставкин стал членом Союза писателей. «Костры в тайге», «Страна Лэпия», «Записки моего современника» - все эти книги, вышедшие из-под пера автора, посвящены Тайге. В те времена Анатолия Приставкина назвали «летописцем современности», а за повесть «Ангара-река» присвоили премию Союза писателей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7" name="Picture 5" descr="Картинки по запросу страна лэпия книга  приставкин"/>
          <p:cNvPicPr/>
          <p:nvPr/>
        </p:nvPicPr>
        <p:blipFill>
          <a:blip r:embed="rId1"/>
          <a:stretch/>
        </p:blipFill>
        <p:spPr>
          <a:xfrm>
            <a:off x="684360" y="1268280"/>
            <a:ext cx="1742760" cy="261936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AutoShape 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0" name="Picture 15" descr="Картинки по запросу ангара река книга  приставкин"/>
          <p:cNvPicPr/>
          <p:nvPr/>
        </p:nvPicPr>
        <p:blipFill>
          <a:blip r:embed="rId2"/>
          <a:stretch/>
        </p:blipFill>
        <p:spPr>
          <a:xfrm>
            <a:off x="2124000" y="3573360"/>
            <a:ext cx="169092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«Солдат и мальчик»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995280" y="1844640"/>
            <a:ext cx="469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В 1970-е годы писатель напечатал военный рассказ «Солдат и мальчик». В этой повести он показывает другую сторону войны, ту, о которой фронтовики либо не знали, либо просто не хотели говорить. Это беспризорщина и была она в годы военные и послевоенные явлением массовым. В одном только Подмосковье насчитывалось двести детских домов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3" name="Picture 5" descr="Картинки по запросу солдат и мальчик книга  приставкин"/>
          <p:cNvPicPr/>
          <p:nvPr/>
        </p:nvPicPr>
        <p:blipFill>
          <a:blip r:embed="rId1"/>
          <a:stretch/>
        </p:blipFill>
        <p:spPr>
          <a:xfrm>
            <a:off x="684360" y="1773360"/>
            <a:ext cx="295884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5e5ff"/>
                </a:solidFill>
                <a:latin typeface="Garamond"/>
              </a:rPr>
              <a:t>Голос сверстника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Franklin Gothic Medium Cond"/>
              </a:rPr>
              <a:t>Уже два дня не устаю всем советовать: "Если не читали - прочтите обязательно"! Пока не дочитаете, не сможете отложить в сторонку. Потому что не сможете оставить без внимания двух очень хороших людей, попавших в беду. Детдомовца Ваську и солдата Андрея…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Franklin Gothic Medium Cond"/>
              </a:rPr>
              <a:t>Я узнала о писателе А.Приставкине, о котором до сегодняшнего дня ничего не знала. Я представила, как сложно жить сиротой, что значит для писателя близкий человек. Это дорогого стоит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Franklin Gothic Medium Cond"/>
              </a:rPr>
              <a:t>История страны вдруг открылась мне так ясно. Я поняла, как трудно было жить в то время, как люди теряли своих близких и несмотря на это сами оставались людьми. Большое мужество требовалось от каждого. Тем более дорожили своими близкими, оставшимися в живых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«Ночевала тучка золотая»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708000" y="1600200"/>
            <a:ext cx="497844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Но настоящий успех пришел к нему после того, как в 1988 году он получил звание лауреата Государственной премии СССР за повесть «Ночевала тучка золотая», работу над которой писатель начал еще в начале восьмидесятых. Эта, исполненная трагизма и обнаженной правды, книга рассказала миру о том, что довелось пережить самому в детстве, о том, что обожгло его сердце. Воистину, мир не имеет права на существование, если в нем убивают детей. 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AutoShape 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1" name="AutoShape 11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AutoShape 1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AutoShape 1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4" name="Picture 17" descr="Картинки по запросу ночевала тучка золотая книга  приставкин"/>
          <p:cNvPicPr/>
          <p:nvPr/>
        </p:nvPicPr>
        <p:blipFill>
          <a:blip r:embed="rId1"/>
          <a:stretch/>
        </p:blipFill>
        <p:spPr>
          <a:xfrm>
            <a:off x="250920" y="1700280"/>
            <a:ext cx="328284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284360" y="836640"/>
            <a:ext cx="454644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Действие повести А.Приставкина «Ночевала тучка золотая» начинается как раз в 1944 году. Страна измучена войной. Сирот, собранных  по разным детским домам Подмосковья, везут на Кавказ для заселения чеченского края. Среди них одиннадцатилетние Кузьмины Колька и Сашка. По словам взрослых там, на Кавказе, они смогут оправиться от постоянно преследующего их голода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6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AutoShape 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AutoShape 11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9" name="Picture 13" descr="Картинки по запросу повесть ночевала тучка золотая"/>
          <p:cNvPicPr/>
          <p:nvPr/>
        </p:nvPicPr>
        <p:blipFill>
          <a:blip r:embed="rId1"/>
          <a:stretch/>
        </p:blipFill>
        <p:spPr>
          <a:xfrm>
            <a:off x="395280" y="2133720"/>
            <a:ext cx="40338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2" name="Picture 5" descr="1345980960_nochevala-tuchka-zolotaya"/>
          <p:cNvPicPr/>
          <p:nvPr/>
        </p:nvPicPr>
        <p:blipFill>
          <a:blip r:embed="rId1"/>
          <a:stretch/>
        </p:blipFill>
        <p:spPr>
          <a:xfrm>
            <a:off x="324000" y="3240"/>
            <a:ext cx="8388360" cy="68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4" name="Picture 7" descr="i?id=93ec1443628dc74db28ebd4f24d4e325&amp;n=33&amp;h=215&amp;w=334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58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7" name="Picture 5" descr="personid56069_1"/>
          <p:cNvPicPr/>
          <p:nvPr/>
        </p:nvPicPr>
        <p:blipFill>
          <a:blip r:embed="rId1"/>
          <a:stretch/>
        </p:blipFill>
        <p:spPr>
          <a:xfrm>
            <a:off x="395280" y="3240"/>
            <a:ext cx="8244000" cy="68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5e5ff"/>
                </a:solidFill>
                <a:latin typeface="Garamond"/>
              </a:rPr>
              <a:t>Голос сверстника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Одно из самых знаковых произведений о Великой Отечественной войне для школьников О беспризорных детях войны и искореженных войной детских судьбах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Эта повесть о правде. О детской боли, о печали юной души. От таких книг замирает сердце. А под конец - щемящая пустота. И лишь в горле комок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Прочитав эту книгу Вы обязательно заплачете.. и не забудете её никогда. И пусть. Ведь "слёзы не оставляют пятен".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356000" y="1557000"/>
            <a:ext cx="433080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Анатолий Игнатьевич родился семнадцатого октября 1931 года в подмосковном городе Люберцы. 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5" name="Picture 5" descr="2933623"/>
          <p:cNvPicPr/>
          <p:nvPr/>
        </p:nvPicPr>
        <p:blipFill>
          <a:blip r:embed="rId1"/>
          <a:stretch/>
        </p:blipFill>
        <p:spPr>
          <a:xfrm>
            <a:off x="468360" y="692280"/>
            <a:ext cx="365580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356000" y="1557360"/>
            <a:ext cx="43308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Главное достоинство повести в том, что именно детское сознание и поступки детдомовского ребёнка, над которым измывалась целая когорта всякого рода воспитателей, оказываются чище, благороднее и мудрее сознания и поступков тысяч взрослых людей, ослеплённых яростью и безжалостно уничтожающих друг друга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3" name="Picture 9" descr="nochevala-tuchka-zolotaya-scen"/>
          <p:cNvPicPr/>
          <p:nvPr/>
        </p:nvPicPr>
        <p:blipFill>
          <a:blip r:embed="rId1"/>
          <a:stretch/>
        </p:blipFill>
        <p:spPr>
          <a:xfrm>
            <a:off x="250920" y="2421000"/>
            <a:ext cx="41767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4500720" y="1600200"/>
            <a:ext cx="418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В 1988 году повесть «Ночевала тучка золотая» была отмечена Государственной премией СССР. Повесть получила и мировое признание — в течение нескольких лет после выхода она была переведена более чем на 30 языков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6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7" name="Picture 9" descr="Картинки по запросу повесть ночевала тучка золотая"/>
          <p:cNvPicPr/>
          <p:nvPr/>
        </p:nvPicPr>
        <p:blipFill>
          <a:blip r:embed="rId1"/>
          <a:stretch/>
        </p:blipFill>
        <p:spPr>
          <a:xfrm>
            <a:off x="1042920" y="1268280"/>
            <a:ext cx="318780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«Кукушата»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140000" y="1341000"/>
            <a:ext cx="500364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В 1989 году появилась повесть «Кукушата» . В ней А.Приставкин рассказал о детдомовских детях, которые волей судьбы стали «врагами народа».   Это дети репрессированных родителей, и поэтому живут они не просто в детдоме, а в спец режимном детдоме, где условия для жизни мало чем отличаются от жизни лагерной. Им сменили фамилии – все они стали Кукушкиными, «кукушкины дети» – случайно появившиеся на свет.  Волею судьбы они становятся преступниками, но эти дети с искалеченными судьбами вызывают бурю смешанных чувств жалости и сострадания, горести и любви у каждого, кто откроет эту книгу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0" name="Picture 5" descr="Картинки по запросу повесть кукушата золотая"/>
          <p:cNvPicPr/>
          <p:nvPr/>
        </p:nvPicPr>
        <p:blipFill>
          <a:blip r:embed="rId1"/>
          <a:stretch/>
        </p:blipFill>
        <p:spPr>
          <a:xfrm>
            <a:off x="250920" y="2492280"/>
            <a:ext cx="4033800" cy="26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4572000" y="1341000"/>
            <a:ext cx="41148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За повесть «Кукушата» в 1992 году писатель получил общегерманскую национальную премию по детской литературе. 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2" name="Picture 5" descr="preview"/>
          <p:cNvPicPr/>
          <p:nvPr/>
        </p:nvPicPr>
        <p:blipFill>
          <a:blip r:embed="rId1"/>
          <a:stretch/>
        </p:blipFill>
        <p:spPr>
          <a:xfrm>
            <a:off x="468360" y="1989000"/>
            <a:ext cx="396072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Роман «Рязанка»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788000" y="1600200"/>
            <a:ext cx="40320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В 1990 году вышел роман «Рязанка», в котором автор показал беспросветную, полуголодную жизнь простого человека, представляющую собой цепь унижений и безрадостной борьбы за существование. Название романа, состоящего из новелл, дано по имени железной дороги из детства писателя. Отец Анатолия становится одним из главных героев романа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6" name="Picture 7" descr="Картинки по запросу анатолий приставкин рязанка"/>
          <p:cNvPicPr/>
          <p:nvPr/>
        </p:nvPicPr>
        <p:blipFill>
          <a:blip r:embed="rId1"/>
          <a:stretch/>
        </p:blipFill>
        <p:spPr>
          <a:xfrm>
            <a:off x="324000" y="2276640"/>
            <a:ext cx="4032000" cy="30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Народный заступник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140000" y="1600200"/>
            <a:ext cx="482436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Роман «Рязанка» закрепляет за Приставкиным образ народного заступника. С 1992 года Анатолий Приставкин — Председатель Комиссии по помилованиям при президенте РФ, а с декабря 2001 года — советник президента РФ по вопросам помилования. Анатолию Приставкину удалось смягчить приговор 57-ми тысячам заключенных, а почти 13-ти тысячам смертная казнь была заменена пожизненным заключением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9" name="Picture 7" descr="preview"/>
          <p:cNvPicPr/>
          <p:nvPr/>
        </p:nvPicPr>
        <p:blipFill>
          <a:blip r:embed="rId1"/>
          <a:stretch/>
        </p:blipFill>
        <p:spPr>
          <a:xfrm>
            <a:off x="395280" y="2133720"/>
            <a:ext cx="3887640" cy="34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Книги Анатолия Приставкин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1" name="AutoShape 5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2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3" name="AutoShape 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4" name="AutoShape 11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5" name="AutoShape 1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6" name="AutoShape 1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" name="AutoShape 1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8" name="AutoShape 1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9" name="Picture 21" descr="Картинки по запросу анатолий приставкин книги"/>
          <p:cNvPicPr/>
          <p:nvPr/>
        </p:nvPicPr>
        <p:blipFill>
          <a:blip r:embed="rId1"/>
          <a:stretch/>
        </p:blipFill>
        <p:spPr>
          <a:xfrm>
            <a:off x="1042920" y="1484280"/>
            <a:ext cx="1398600" cy="21607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23" descr="Картинки по запросу анатолий приставкин книги"/>
          <p:cNvPicPr/>
          <p:nvPr/>
        </p:nvPicPr>
        <p:blipFill>
          <a:blip r:embed="rId2"/>
          <a:stretch/>
        </p:blipFill>
        <p:spPr>
          <a:xfrm>
            <a:off x="2843280" y="1484280"/>
            <a:ext cx="1523880" cy="21337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25" descr="Картинки по запросу анатолий приставкин книги"/>
          <p:cNvPicPr/>
          <p:nvPr/>
        </p:nvPicPr>
        <p:blipFill>
          <a:blip r:embed="rId3"/>
          <a:stretch/>
        </p:blipFill>
        <p:spPr>
          <a:xfrm>
            <a:off x="1979640" y="3933720"/>
            <a:ext cx="1423800" cy="237672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27" descr="Картинки по запросу анатолий приставкин книги"/>
          <p:cNvPicPr/>
          <p:nvPr/>
        </p:nvPicPr>
        <p:blipFill>
          <a:blip r:embed="rId4"/>
          <a:stretch/>
        </p:blipFill>
        <p:spPr>
          <a:xfrm>
            <a:off x="250920" y="3933720"/>
            <a:ext cx="1584360" cy="23749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31" descr="Картинки по запросу анатолий приставкин книги"/>
          <p:cNvPicPr/>
          <p:nvPr/>
        </p:nvPicPr>
        <p:blipFill>
          <a:blip r:embed="rId5"/>
          <a:stretch/>
        </p:blipFill>
        <p:spPr>
          <a:xfrm>
            <a:off x="3564000" y="3933720"/>
            <a:ext cx="1569960" cy="237672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76360" y="1197000"/>
            <a:ext cx="38991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Приставкин издал более 25 книг, его романы и повести переведены на многие языки мира. В 2005 году были опубликованы повести «Судный день», «Первый день – последний день творенья» и «Вагончик мой дальний». В 2008 году, незадолго до смерти, Приставкин дописал роман «Король Монпасье Мармелажка Первый». 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4356000" y="836280"/>
            <a:ext cx="43308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Его повести и романы – это память детского, изломанного, но не растоптанного войной сиротского сердца. Каждая его книга наполнена болью и ответственностью за судьбу своей земли, за каждого её гражданина, пусть маленького, но человека, имеющего право на своё имя, фамилию и Родину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6" name="Picture 5" descr="Картинки по запросу приставкин"/>
          <p:cNvPicPr/>
          <p:nvPr/>
        </p:nvPicPr>
        <p:blipFill>
          <a:blip r:embed="rId1"/>
          <a:stretch/>
        </p:blipFill>
        <p:spPr>
          <a:xfrm>
            <a:off x="395280" y="1557360"/>
            <a:ext cx="400068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4500720" y="1628280"/>
            <a:ext cx="41860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Анатолий Приставкин скончался 11 июля 2008 года в Москве после тяжелой болезни. 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Похоронен на Троекуровском кладбище в Москве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8" name="Picture 5" descr="preview"/>
          <p:cNvPicPr/>
          <p:nvPr/>
        </p:nvPicPr>
        <p:blipFill>
          <a:blip r:embed="rId1"/>
          <a:stretch/>
        </p:blipFill>
        <p:spPr>
          <a:xfrm>
            <a:off x="539640" y="1125360"/>
            <a:ext cx="3848040" cy="501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68360" y="292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Спасибо за внимание!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Детство писателя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924000" y="1628280"/>
            <a:ext cx="476244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Родился в рабочей семье. Во время войны он остался сиротой. Его мать умерла от туберкулеза, а отец был убит на фронте.  Воспитывался мальчик в детском доме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8" name="Picture 7" descr="Картинки по запросу  Анатолий Приставкин в детстве"/>
          <p:cNvPicPr/>
          <p:nvPr/>
        </p:nvPicPr>
        <p:blipFill>
          <a:blip r:embed="rId1"/>
          <a:stretch/>
        </p:blipFill>
        <p:spPr>
          <a:xfrm>
            <a:off x="468360" y="2492280"/>
            <a:ext cx="3456000" cy="26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Детство, опалённое войной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42920" y="1413000"/>
            <a:ext cx="41864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«В самой середине войны тыл представлял  собой фантастическую картину: военные и беженцы, спекулянты и инвалиды, женщины и подростки, выстоявшие по нескольку смен у станков, беспризорные и жулики…Мы были детьми войны и в этой пёстрой среде чувствовали себя как мальки в воде. Мы всё умели, всё понимали и , в общем-то, ничего не боялись, особенно, когда нас было много».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                            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Анатолий Приставкин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                                                 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1" name="Picture 4" descr="Картинки по запросу беспризорники фото"/>
          <p:cNvPicPr/>
          <p:nvPr/>
        </p:nvPicPr>
        <p:blipFill>
          <a:blip r:embed="rId1"/>
          <a:stretch/>
        </p:blipFill>
        <p:spPr>
          <a:xfrm>
            <a:off x="395280" y="2205000"/>
            <a:ext cx="4175280" cy="28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Трудная юность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50920" y="1352160"/>
            <a:ext cx="497988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 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Работать Анатолию Приставкину пришлось начать очень рано – в двенадцать лет. В четырнадцать, когда он очутился на Кавказе, то на консервном заводе мальчику пришлось мыть банки. В пятнадцать – на авиационном заводе он уже трудился в радиолаборатории. И это место стало для него почти родным, стало почти домом…  Всё это время главную надежду на то, что, когда-нибудь жизнь станет лучше, давали Анатолию книги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4" name="Picture 5" descr="Картинки по запросу Анатолий Приставкин юность"/>
          <p:cNvPicPr/>
          <p:nvPr/>
        </p:nvPicPr>
        <p:blipFill>
          <a:blip r:embed="rId1"/>
          <a:stretch/>
        </p:blipFill>
        <p:spPr>
          <a:xfrm>
            <a:off x="324000" y="2205000"/>
            <a:ext cx="3728880" cy="31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Первые шаги к творчеству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716360" y="1196640"/>
            <a:ext cx="417672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Куда бы не забрасывала судьба будущего писателя, нигде он не расставался с книгой. Постепенно и сам стал пробовать свои силы в творчестве.  После службы в армии Приставкин поступил в Литературный институт им. А. М. Горького, где занимался в семинаре Льва Ошанина. В 1959 году вышел в свет его сборник рассказов под названием «Трудное детство»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AutoShape 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0" name="Picture 13" descr="Картинки по запросу страна лэпия книга  приставкин"/>
          <p:cNvPicPr/>
          <p:nvPr/>
        </p:nvPicPr>
        <p:blipFill>
          <a:blip r:embed="rId1"/>
          <a:stretch/>
        </p:blipFill>
        <p:spPr>
          <a:xfrm>
            <a:off x="826920" y="3860640"/>
            <a:ext cx="4032360" cy="27608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6" descr="preview"/>
          <p:cNvPicPr/>
          <p:nvPr/>
        </p:nvPicPr>
        <p:blipFill>
          <a:blip r:embed="rId2"/>
          <a:stretch/>
        </p:blipFill>
        <p:spPr>
          <a:xfrm>
            <a:off x="250920" y="1341360"/>
            <a:ext cx="3512880" cy="27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Рассказ «Портрет отца»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3" name="Рисунок 3" descr="Картинки по запросу приставкина"/>
          <p:cNvPicPr/>
          <p:nvPr/>
        </p:nvPicPr>
        <p:blipFill>
          <a:blip r:embed="rId1"/>
          <a:stretch/>
        </p:blipFill>
        <p:spPr>
          <a:xfrm>
            <a:off x="684360" y="2295360"/>
            <a:ext cx="7869240" cy="31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211280" y="907920"/>
            <a:ext cx="4475160" cy="55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«Эти рассказы были написаны быстро, до легкомыслия быстро. После них я не возвращался к этой теме лет десять. Она становилась для меня всё труднее и труднее. Воспоминания тяжелы, а написать – это второй раз пережить»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      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Из воспоминаний А.Приставкина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6" name="Picture 6" descr="Картинки по запросу рассказы книга  приставкин"/>
          <p:cNvPicPr/>
          <p:nvPr/>
        </p:nvPicPr>
        <p:blipFill>
          <a:blip r:embed="rId1"/>
          <a:stretch/>
        </p:blipFill>
        <p:spPr>
          <a:xfrm>
            <a:off x="1042920" y="1484280"/>
            <a:ext cx="27082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А.Приставкин «Фотографии»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8" name="Picture 5" descr="9502421652010042_5d70beca"/>
          <p:cNvPicPr/>
          <p:nvPr/>
        </p:nvPicPr>
        <p:blipFill>
          <a:blip r:embed="rId1"/>
          <a:stretch/>
        </p:blipFill>
        <p:spPr>
          <a:xfrm rot="1233000">
            <a:off x="539640" y="1988640"/>
            <a:ext cx="3479760" cy="25196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6314-1"/>
          <p:cNvPicPr/>
          <p:nvPr/>
        </p:nvPicPr>
        <p:blipFill>
          <a:blip r:embed="rId2"/>
          <a:stretch/>
        </p:blipFill>
        <p:spPr>
          <a:xfrm rot="20697000">
            <a:off x="3276720" y="1557360"/>
            <a:ext cx="2152440" cy="29527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1" descr="181477590_e55c83ae1e377e161566292f88e12d66_800"/>
          <p:cNvPicPr/>
          <p:nvPr/>
        </p:nvPicPr>
        <p:blipFill>
          <a:blip r:embed="rId3"/>
          <a:stretch/>
        </p:blipFill>
        <p:spPr>
          <a:xfrm rot="990000">
            <a:off x="5076360" y="1916280"/>
            <a:ext cx="3706920" cy="23763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3" descr="article304946"/>
          <p:cNvPicPr/>
          <p:nvPr/>
        </p:nvPicPr>
        <p:blipFill>
          <a:blip r:embed="rId4"/>
          <a:stretch/>
        </p:blipFill>
        <p:spPr>
          <a:xfrm rot="20844600">
            <a:off x="4211280" y="4005000"/>
            <a:ext cx="3429000" cy="23428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5" descr="306eca9098c5"/>
          <p:cNvPicPr/>
          <p:nvPr/>
        </p:nvPicPr>
        <p:blipFill>
          <a:blip r:embed="rId5"/>
          <a:stretch/>
        </p:blipFill>
        <p:spPr>
          <a:xfrm rot="1794000">
            <a:off x="1618920" y="3644640"/>
            <a:ext cx="194472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07T05:51:48Z</dcterms:created>
  <dc:creator>ws</dc:creator>
  <dc:description/>
  <dc:language>en-US</dc:language>
  <cp:lastModifiedBy>user</cp:lastModifiedBy>
  <dcterms:modified xsi:type="dcterms:W3CDTF">2019-11-24T12:40:48Z</dcterms:modified>
  <cp:revision>14</cp:revision>
  <dc:subject/>
  <dc:title>Слайд 1</dc:title>
</cp:coreProperties>
</file>