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317A-2058-4B89-8588-538D95C0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B118-D639-4118-A9F8-E513B8F3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DCC2-FF02-4C36-8DDA-1D7DCC32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3BED-F7EA-4220-BB83-79BCA993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443-233E-4D66-BA02-E65C3B0C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A817-ACCF-460F-9EE6-6C885CE3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0682-2819-474C-B470-A1EE7757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337A-6695-4CA3-9CFC-7F9F0336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2452-F22B-4AA8-B5D9-D594290F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72EF-8985-43AD-BDDF-B4CB88B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B75C-3123-43B8-80D7-2623D083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12AB-5719-465C-84A4-C4C0B3C3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8598-A0A7-45B8-B49E-F40BED4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14AC-9816-4D13-B7EE-8E07D19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A763-AF4C-4534-B0EF-1C29C177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91C5-863E-4351-AB26-F4EAC248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3FE-1ABA-4780-ADD4-274438E5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5B80-218A-4200-B474-1C66343E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60DD-A5D0-4332-B296-27F50432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4D65-74C2-49F6-9BA5-7D5F9E84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E59E-20C2-4F6C-BD73-76B5FB0F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B321-B27C-4ADF-8FF7-C106FF7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057F-D25B-4680-90F7-20D7EB6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497E-F8A7-4D0D-ABDD-8B00BA16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B9CD-9DD7-420F-B003-03DB57E913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A8CF-4CBA-4A96-BB35-E98C3017F0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«Чтобы помнили…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58920" y="1915920"/>
            <a:ext cx="349884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знь и творчеств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натолия Игнатьевич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риставки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KMO_040896_00536_1_t208"/>
          <p:cNvPicPr/>
          <p:nvPr/>
        </p:nvPicPr>
        <p:blipFill>
          <a:blip r:embed="rId1"/>
          <a:stretch/>
        </p:blipFill>
        <p:spPr>
          <a:xfrm>
            <a:off x="900000" y="1484280"/>
            <a:ext cx="3297240" cy="5040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5214960" y="5429160"/>
            <a:ext cx="30002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педагог-библиотекарь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МБОУ Аннинская СОШ № 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Бондарь Светлана Николаев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 « Золотая рыб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7" descr="i?id=c9e1ea3b7d2a2622fb159822944eaff1&amp;n=33&amp;h=215&amp;w=382"/>
          <p:cNvPicPr/>
          <p:nvPr/>
        </p:nvPicPr>
        <p:blipFill>
          <a:blip r:embed="rId1"/>
          <a:stretch/>
        </p:blipFill>
        <p:spPr>
          <a:xfrm>
            <a:off x="1116000" y="1916280"/>
            <a:ext cx="669600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тописец соврем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525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1959 году, после окончания института, Приставкин отправился строить Братскую ГЭС. Позже он работал корреспондентов в «Литературной газете». В 1961 году  Анатолий Приставкин стал членом Союза писателей. «Костры в тайге», «Страна Лэпия», «Записки моего современника» - все эти книги, вышедшие из-под пера автора, посвящены Тайге. В те времена Анатолия Приставкина назвали «летописцем современности», а за повесть «Ангара-река» присвоили премию Союза писате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Картинки по запросу страна лэпия книга  приставкин"/>
          <p:cNvPicPr/>
          <p:nvPr/>
        </p:nvPicPr>
        <p:blipFill>
          <a:blip r:embed="rId1"/>
          <a:stretch/>
        </p:blipFill>
        <p:spPr>
          <a:xfrm>
            <a:off x="684360" y="126828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15" descr="Картинки по запросу ангара река книга  приставкин"/>
          <p:cNvPicPr/>
          <p:nvPr/>
        </p:nvPicPr>
        <p:blipFill>
          <a:blip r:embed="rId2"/>
          <a:stretch/>
        </p:blipFill>
        <p:spPr>
          <a:xfrm>
            <a:off x="2124000" y="3573360"/>
            <a:ext cx="1690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Солдат и мальчик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1970-е годы писатель напечатал военный рассказ «Солдат и мальчик». В этой повести он показывает другую сторону войны, ту, о которой фронтовики либо не знали, либо просто не хотели говорить. Это беспризорщина и была она в годы военные и послевоенные явлением массовым. В одном только Подмосковье насчитывалось двести детских дом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Картинки по запросу солдат и мальчик книга  приставкин"/>
          <p:cNvPicPr/>
          <p:nvPr/>
        </p:nvPicPr>
        <p:blipFill>
          <a:blip r:embed="rId1"/>
          <a:stretch/>
        </p:blipFill>
        <p:spPr>
          <a:xfrm>
            <a:off x="684360" y="1773360"/>
            <a:ext cx="295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Голос сверстни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Franklin Gothic Medium Cond"/>
              </a:rPr>
              <a:t>Уже два дня не устаю всем советовать: "Если не читали - прочтите обязательно"! Пока не дочитаете, не сможете отложить в сторонку. Потому что не сможете оставить без внимания двух очень хороших людей, попавших в беду. Детдомовца Ваську и солдата Андрея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Franklin Gothic Medium Cond"/>
              </a:rPr>
              <a:t>Я узнала о писателе А.Приставкине, о котором до сегодняшнего дня ничего не знала. Я представила, как сложно жить сиротой, что значит для писателя близкий человек. Это дорогого стои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Franklin Gothic Medium Cond"/>
              </a:rPr>
              <a:t>История страны вдруг открылась мне так ясно. Я поняла, как трудно было жить в то время, как люди теряли своих близких и несмотря на это сами оставались людьми. Большое мужество требовалось от каждого. Тем более дорожили своими близкими, оставшимися в жив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Ночевала тучка золотая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 настоящий успех пришел к нему после того, как в 1988 году он получил звание лауреата Государственной премии СССР за повесть «Ночевала тучка золотая», работу над которой писатель начал еще в начале восьмидесятых. Эта, исполненная трагизма и обнаженной правды, книга рассказала миру о том, что довелось пережить самому в детстве, о том, что обожгло его сердце. Воистину, мир не имеет права на существование, если в нем убивают детей.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17" descr="Картинки по запросу ночевала тучка золотая книга  приставкин"/>
          <p:cNvPicPr/>
          <p:nvPr/>
        </p:nvPicPr>
        <p:blipFill>
          <a:blip r:embed="rId1"/>
          <a:stretch/>
        </p:blipFill>
        <p:spPr>
          <a:xfrm>
            <a:off x="250920" y="1700280"/>
            <a:ext cx="32828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284360" y="836640"/>
            <a:ext cx="4546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йствие повести А.Приставкина «Ночевала тучка золотая» начинается как раз в 1944 году. Страна измучена войной. Сирот, собранных  по разным детским домам Подмосковья, везут на Кавказ для заселения чеченского края. Среди них одиннадцатилетние Кузьмины Колька и Сашка. По словам взрослых там, на Кавказе, они смогут оправиться от постоянно преследующего их гол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3" descr="Картинки по запросу повесть ночевала тучка золотая"/>
          <p:cNvPicPr/>
          <p:nvPr/>
        </p:nvPicPr>
        <p:blipFill>
          <a:blip r:embed="rId1"/>
          <a:stretch/>
        </p:blipFill>
        <p:spPr>
          <a:xfrm>
            <a:off x="395280" y="2133720"/>
            <a:ext cx="4033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5" descr="1345980960_nochevala-tuchka-zolotaya"/>
          <p:cNvPicPr/>
          <p:nvPr/>
        </p:nvPicPr>
        <p:blipFill>
          <a:blip r:embed="rId1"/>
          <a:stretch/>
        </p:blipFill>
        <p:spPr>
          <a:xfrm>
            <a:off x="324000" y="3240"/>
            <a:ext cx="8388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i?id=93ec1443628dc74db28ebd4f24d4e325&amp;n=33&amp;h=215&amp;w=33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5" descr="personid56069_1"/>
          <p:cNvPicPr/>
          <p:nvPr/>
        </p:nvPicPr>
        <p:blipFill>
          <a:blip r:embed="rId1"/>
          <a:stretch/>
        </p:blipFill>
        <p:spPr>
          <a:xfrm>
            <a:off x="395280" y="3240"/>
            <a:ext cx="82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Голос сверстни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 из самых знаковых произведений о Великой Отечественной войне для школьников О беспризорных детях войны и искореженных войной детских судьб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та повесть о правде. О детской боли, о печали юной души. От таких книг замирает сердце. А под конец - щемящая пустота. И лишь в горле комо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читав эту книгу Вы обязательно заплачете.. и не забудете её никогда. И пусть. Ведь "слёзы не оставляют пятен"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56000" y="1557000"/>
            <a:ext cx="433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натолий Игнатьевич родился семнадцатого октября 1931 года в подмосковном городе Люберцы.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2933623"/>
          <p:cNvPicPr/>
          <p:nvPr/>
        </p:nvPicPr>
        <p:blipFill>
          <a:blip r:embed="rId1"/>
          <a:stretch/>
        </p:blipFill>
        <p:spPr>
          <a:xfrm>
            <a:off x="468360" y="692280"/>
            <a:ext cx="3655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356000" y="1557360"/>
            <a:ext cx="4330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лавное достоинство повести в том, что именно детское сознание и поступки детдомовского ребёнка, над которым измывалась целая когорта всякого рода воспитателей, оказываются чище, благороднее и мудрее сознания и поступков тысяч взрослых людей, ослеплённых яростью и безжалостно уничтожающих друг друг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9" descr="nochevala-tuchka-zolotaya-scen"/>
          <p:cNvPicPr/>
          <p:nvPr/>
        </p:nvPicPr>
        <p:blipFill>
          <a:blip r:embed="rId1"/>
          <a:stretch/>
        </p:blipFill>
        <p:spPr>
          <a:xfrm>
            <a:off x="250920" y="2421000"/>
            <a:ext cx="41767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1988 году повесть «Ночевала тучка золотая» была отмечена Государственной премией СССР. Повесть получила и мировое признание — в течение нескольких лет после выхода она была переведена более чем на 30 язык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9" descr="Картинки по запросу повесть ночевала тучка золотая"/>
          <p:cNvPicPr/>
          <p:nvPr/>
        </p:nvPicPr>
        <p:blipFill>
          <a:blip r:embed="rId1"/>
          <a:stretch/>
        </p:blipFill>
        <p:spPr>
          <a:xfrm>
            <a:off x="1042920" y="1268280"/>
            <a:ext cx="318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Кукушат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5003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1989 году появилась повесть «Кукушата» . В ней А.Приставкин рассказал о детдомовских детях, которые волей судьбы стали «врагами народа».   Это дети репрессированных родителей, и поэтому живут они не просто в детдоме, а в спец режимном детдоме, где условия для жизни мало чем отличаются от жизни лагерной. Им сменили фамилии – все они стали Кукушкиными, «кукушкины дети» – случайно появившиеся на свет.  Волею судьбы они становятся преступниками, но эти дети с искалеченными судьбами вызывают бурю смешанных чувств жалости и сострадания, горести и любви у каждого, кто откроет эту книг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5" descr="Картинки по запросу повесть кукушата золотая"/>
          <p:cNvPicPr/>
          <p:nvPr/>
        </p:nvPicPr>
        <p:blipFill>
          <a:blip r:embed="rId1"/>
          <a:stretch/>
        </p:blipFill>
        <p:spPr>
          <a:xfrm>
            <a:off x="250920" y="2492280"/>
            <a:ext cx="40338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0" y="1341000"/>
            <a:ext cx="4114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а повесть «Кукушата» в 1992 году писатель получил общегерманскую национальную премию по детской литературе.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5" descr="preview"/>
          <p:cNvPicPr/>
          <p:nvPr/>
        </p:nvPicPr>
        <p:blipFill>
          <a:blip r:embed="rId1"/>
          <a:stretch/>
        </p:blipFill>
        <p:spPr>
          <a:xfrm>
            <a:off x="468360" y="1989000"/>
            <a:ext cx="3960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ман «Рязан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1990 году вышел роман «Рязанка», в котором автор показал беспросветную, полуголодную жизнь простого человека, представляющую собой цепь унижений и безрадостной борьбы за существование. Название романа, состоящего из новелл, дано по имени железной дороги из детства писателя. Отец Анатолия становится одним из главных героев рома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7" descr="Картинки по запросу анатолий приставкин рязанка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родный заступни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ман «Рязанка» закрепляет за Приставкиным образ народного заступника. С 1992 года Анатолий Приставкин — Председатель Комиссии по помилованиям при президенте РФ, а с декабря 2001 года — советник президента РФ по вопросам помилования. Анатолию Приставкину удалось смягчить приговор 57-ми тысячам заключенных, а почти 13-ти тысячам смертная казнь была заменена пожизненным заключение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7" descr="preview"/>
          <p:cNvPicPr/>
          <p:nvPr/>
        </p:nvPicPr>
        <p:blipFill>
          <a:blip r:embed="rId1"/>
          <a:stretch/>
        </p:blipFill>
        <p:spPr>
          <a:xfrm>
            <a:off x="395280" y="2133720"/>
            <a:ext cx="38876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ниги Анатолия Приставк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9" name="Picture 21" descr="Картинки по запросу анатолий приставкин книги"/>
          <p:cNvPicPr/>
          <p:nvPr/>
        </p:nvPicPr>
        <p:blipFill>
          <a:blip r:embed="rId1"/>
          <a:stretch/>
        </p:blipFill>
        <p:spPr>
          <a:xfrm>
            <a:off x="1042920" y="1484280"/>
            <a:ext cx="1398600" cy="21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Картинки по запросу анатолий приставкин книги"/>
          <p:cNvPicPr/>
          <p:nvPr/>
        </p:nvPicPr>
        <p:blipFill>
          <a:blip r:embed="rId2"/>
          <a:stretch/>
        </p:blipFill>
        <p:spPr>
          <a:xfrm>
            <a:off x="2843280" y="14842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Картинки по запросу анатолий приставкин книги"/>
          <p:cNvPicPr/>
          <p:nvPr/>
        </p:nvPicPr>
        <p:blipFill>
          <a:blip r:embed="rId3"/>
          <a:stretch/>
        </p:blipFill>
        <p:spPr>
          <a:xfrm>
            <a:off x="1979640" y="3933720"/>
            <a:ext cx="1423800" cy="237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Картинки по запросу анатолий приставкин книги"/>
          <p:cNvPicPr/>
          <p:nvPr/>
        </p:nvPicPr>
        <p:blipFill>
          <a:blip r:embed="rId4"/>
          <a:stretch/>
        </p:blipFill>
        <p:spPr>
          <a:xfrm>
            <a:off x="250920" y="3933720"/>
            <a:ext cx="1584360" cy="237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Картинки по запросу анатолий приставкин книги"/>
          <p:cNvPicPr/>
          <p:nvPr/>
        </p:nvPicPr>
        <p:blipFill>
          <a:blip r:embed="rId5"/>
          <a:stretch/>
        </p:blipFill>
        <p:spPr>
          <a:xfrm>
            <a:off x="3564000" y="3933720"/>
            <a:ext cx="1569960" cy="2376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899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ставкин издал более 25 книг, его романы и повести переведены на многие языки мира. В 2005 году были опубликованы повести «Судный день», «Первый день – последний день творенья» и «Вагончик мой дальний». В 2008 году, незадолго до смерти, Приставкин дописал роман «Король Монпасье Мармелажка Первый».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356000" y="836280"/>
            <a:ext cx="433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Его повести и романы – это память детского, изломанного, но не растоптанного войной сиротского сердца. Каждая его книга наполнена болью и ответственностью за судьбу своей земли, за каждого её гражданина, пусть маленького, но человека, имеющего право на своё имя, фамилию и Роди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5" descr="Картинки по запросу приставкин"/>
          <p:cNvPicPr/>
          <p:nvPr/>
        </p:nvPicPr>
        <p:blipFill>
          <a:blip r:embed="rId1"/>
          <a:stretch/>
        </p:blipFill>
        <p:spPr>
          <a:xfrm>
            <a:off x="395280" y="155736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00720" y="1628280"/>
            <a:ext cx="4186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натолий Приставкин скончался 11 июля 2008 года в Москве после тяжелой болезни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хоронен на Троекуровском кладбище в Москв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5" descr="preview"/>
          <p:cNvPicPr/>
          <p:nvPr/>
        </p:nvPicPr>
        <p:blipFill>
          <a:blip r:embed="rId1"/>
          <a:stretch/>
        </p:blipFill>
        <p:spPr>
          <a:xfrm>
            <a:off x="539640" y="1125360"/>
            <a:ext cx="384804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тство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28280"/>
            <a:ext cx="476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одился в рабочей семье. Во время войны он остался сиротой. Его мать умерла от туберкулеза, а отец был убит на фронте.  Воспитывался мальчик в детском дом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Картинки по запросу  Анатолий Приставкин в детстве"/>
          <p:cNvPicPr/>
          <p:nvPr/>
        </p:nvPicPr>
        <p:blipFill>
          <a:blip r:embed="rId1"/>
          <a:stretch/>
        </p:blipFill>
        <p:spPr>
          <a:xfrm>
            <a:off x="468360" y="2492280"/>
            <a:ext cx="3456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тство, опалённое вой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4186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В самой середине войны тыл представлял  собой фантастическую картину: военные и беженцы, спекулянты и инвалиды, женщины и подростки, выстоявшие по нескольку смен у станков, беспризорные и жулики…Мы были детьми войны и в этой пёстрой среде чувствовали себя как мальки в воде. Мы всё умели, всё понимали и , в общем-то, ничего не боялись, особенно, когда нас было много»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Анатолий Приставки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Картинки по запросу беспризорники фото"/>
          <p:cNvPicPr/>
          <p:nvPr/>
        </p:nvPicPr>
        <p:blipFill>
          <a:blip r:embed="rId1"/>
          <a:stretch/>
        </p:blipFill>
        <p:spPr>
          <a:xfrm>
            <a:off x="395280" y="2205000"/>
            <a:ext cx="4175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удная ю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0920" y="1352160"/>
            <a:ext cx="4979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ботать Анатолию Приставкину пришлось начать очень рано – в двенадцать лет. В четырнадцать, когда он очутился на Кавказе, то на консервном заводе мальчику пришлось мыть банки. В пятнадцать – на авиационном заводе он уже трудился в радиолаборатории. И это место стало для него почти родным, стало почти домом…  Всё это время главную надежду на то, что, когда-нибудь жизнь станет лучше, давали Анатолию книг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Картинки по запросу Анатолий Приставкин юность"/>
          <p:cNvPicPr/>
          <p:nvPr/>
        </p:nvPicPr>
        <p:blipFill>
          <a:blip r:embed="rId1"/>
          <a:stretch/>
        </p:blipFill>
        <p:spPr>
          <a:xfrm>
            <a:off x="324000" y="2205000"/>
            <a:ext cx="37288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вые шаги к творчеств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уда бы не забрасывала судьба будущего писателя, нигде он не расставался с книгой. Постепенно и сам стал пробовать свои силы в творчестве.  После службы в армии Приставкин поступил в Литературный институт им. А. М. Горького, где занимался в семинаре Льва Ошанина. В 1959 году вышел в свет его сборник рассказов под названием «Трудное детство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13" descr="Картинки по запросу страна лэпия книга  приставкин"/>
          <p:cNvPicPr/>
          <p:nvPr/>
        </p:nvPicPr>
        <p:blipFill>
          <a:blip r:embed="rId1"/>
          <a:stretch/>
        </p:blipFill>
        <p:spPr>
          <a:xfrm>
            <a:off x="826920" y="3860640"/>
            <a:ext cx="4032360" cy="276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preview"/>
          <p:cNvPicPr/>
          <p:nvPr/>
        </p:nvPicPr>
        <p:blipFill>
          <a:blip r:embed="rId2"/>
          <a:stretch/>
        </p:blipFill>
        <p:spPr>
          <a:xfrm>
            <a:off x="250920" y="1341360"/>
            <a:ext cx="35128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 «Портрет отц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Рисунок 3" descr="Картинки по запросу приставкина"/>
          <p:cNvPicPr/>
          <p:nvPr/>
        </p:nvPicPr>
        <p:blipFill>
          <a:blip r:embed="rId1"/>
          <a:stretch/>
        </p:blipFill>
        <p:spPr>
          <a:xfrm>
            <a:off x="684360" y="2295360"/>
            <a:ext cx="78692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11280" y="907920"/>
            <a:ext cx="4475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«Эти рассказы были написаны быстро, до легкомыслия быстро. После них я не возвращался к этой теме лет десять. Она становилась для меня всё труднее и труднее. Воспоминания тяжелы, а написать – это второй раз пережит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 воспоминаний А.Приставк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Картинки по запросу рассказы книга  приставкин"/>
          <p:cNvPicPr/>
          <p:nvPr/>
        </p:nvPicPr>
        <p:blipFill>
          <a:blip r:embed="rId1"/>
          <a:stretch/>
        </p:blipFill>
        <p:spPr>
          <a:xfrm>
            <a:off x="1042920" y="1484280"/>
            <a:ext cx="2708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.Приставкин «Фотографи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5" descr="9502421652010042_5d70beca"/>
          <p:cNvPicPr/>
          <p:nvPr/>
        </p:nvPicPr>
        <p:blipFill>
          <a:blip r:embed="rId1"/>
          <a:stretch/>
        </p:blipFill>
        <p:spPr>
          <a:xfrm rot="1233000">
            <a:off x="539640" y="1988640"/>
            <a:ext cx="3479760" cy="25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6314-1"/>
          <p:cNvPicPr/>
          <p:nvPr/>
        </p:nvPicPr>
        <p:blipFill>
          <a:blip r:embed="rId2"/>
          <a:stretch/>
        </p:blipFill>
        <p:spPr>
          <a:xfrm rot="20697000">
            <a:off x="3276720" y="1557360"/>
            <a:ext cx="215244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181477590_e55c83ae1e377e161566292f88e12d66_800"/>
          <p:cNvPicPr/>
          <p:nvPr/>
        </p:nvPicPr>
        <p:blipFill>
          <a:blip r:embed="rId3"/>
          <a:stretch/>
        </p:blipFill>
        <p:spPr>
          <a:xfrm rot="990000">
            <a:off x="5076360" y="1916280"/>
            <a:ext cx="370692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article304946"/>
          <p:cNvPicPr/>
          <p:nvPr/>
        </p:nvPicPr>
        <p:blipFill>
          <a:blip r:embed="rId4"/>
          <a:stretch/>
        </p:blipFill>
        <p:spPr>
          <a:xfrm rot="20844600">
            <a:off x="4211280" y="4005000"/>
            <a:ext cx="3429000" cy="234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306eca9098c5"/>
          <p:cNvPicPr/>
          <p:nvPr/>
        </p:nvPicPr>
        <p:blipFill>
          <a:blip r:embed="rId5"/>
          <a:stretch/>
        </p:blipFill>
        <p:spPr>
          <a:xfrm rot="1794000">
            <a:off x="1618920" y="3644640"/>
            <a:ext cx="19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7T05:51:48Z</dcterms:created>
  <dc:creator>ws</dc:creator>
  <dc:description/>
  <dc:language>en-US</dc:language>
  <cp:lastModifiedBy>user</cp:lastModifiedBy>
  <dcterms:modified xsi:type="dcterms:W3CDTF">2019-11-24T12:40:48Z</dcterms:modified>
  <cp:revision>14</cp:revision>
  <dc:subject/>
  <dc:title>Слайд 1</dc:title>
</cp:coreProperties>
</file>