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94C-0B2A-4D56-9682-217BE643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FED-7364-4911-AA2E-570B6D2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EB7-4E45-44DB-93C6-5F5890EA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97F-1360-48D9-AA28-0E3531F3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5A2-EE82-4A39-883A-FE0C58B1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BC4-8CF9-4C90-9F46-D4D6F105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F2A-3C4F-4B3E-9E50-BE009F61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A18-A9C5-4486-AAD0-E8D85B54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510-E1EB-4F62-9FFA-6F23A163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936-47A2-474F-AE47-49EF0568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493-049F-4F4D-AE50-55915A6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E9F-5D94-443F-A580-DF89CB0E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ABA4-7EC7-4EB2-940A-76FDF0FD09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2009-09/1253872479_veselii-zajaz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gratulatorycard.ru/frameforphoto/3/1745foto29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arilka.ru/uploads/posts/2009-06/1244884772_345654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wer.ru/files/u374211/______________3_0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ngratulatorycard.ru/frameforphoto/3/1942foto17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signbank.ru/uploads/posts/2009-10/1254747506_timon-pumba-i-simba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5 из 6328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3"/>
          <a:stretch/>
        </p:blipFill>
        <p:spPr>
          <a:xfrm>
            <a:off x="2835360" y="1127160"/>
            <a:ext cx="4198680" cy="278604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1738440" y="3643200"/>
            <a:ext cx="69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Клуб веселых физ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Картинка 536 из 3158"/>
          <p:cNvPicPr/>
          <p:nvPr/>
        </p:nvPicPr>
        <p:blipFill>
          <a:blip r:embed="rId1"/>
          <a:stretch/>
        </p:blipFill>
        <p:spPr>
          <a:xfrm>
            <a:off x="0" y="0"/>
            <a:ext cx="909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405 из 31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3"/>
          <a:stretch/>
        </p:blipFill>
        <p:spPr>
          <a:xfrm>
            <a:off x="2212920" y="1620720"/>
            <a:ext cx="47005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а 57 из 6328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3"/>
          <a:stretch/>
        </p:blipFill>
        <p:spPr>
          <a:xfrm>
            <a:off x="755640" y="1262160"/>
            <a:ext cx="6656400" cy="1457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1897200" y="2500200"/>
            <a:ext cx="443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название ком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дев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эмбл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капитаны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Картинка 103 из 6328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3"/>
          <a:stretch/>
        </p:blipFill>
        <p:spPr>
          <a:xfrm>
            <a:off x="1798560" y="1944720"/>
            <a:ext cx="61866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Картинка 215 из 31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3"/>
          <a:stretch/>
        </p:blipFill>
        <p:spPr>
          <a:xfrm>
            <a:off x="1103400" y="2998800"/>
            <a:ext cx="6918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а 134 из 31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4" descr=""/>
          <p:cNvPicPr/>
          <p:nvPr/>
        </p:nvPicPr>
        <p:blipFill>
          <a:blip r:embed="rId3"/>
          <a:stretch/>
        </p:blipFill>
        <p:spPr>
          <a:xfrm>
            <a:off x="36360" y="1212840"/>
            <a:ext cx="7602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Картинка 357 из 6328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427400" y="2214720"/>
            <a:ext cx="448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Monotype Corsiva"/>
              </a:rPr>
              <a:t>Домашне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e46c0a"/>
                </a:solidFill>
                <a:latin typeface="Monotype Corsiva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артинка 389 из 6328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4" descr=""/>
          <p:cNvPicPr/>
          <p:nvPr/>
        </p:nvPicPr>
        <p:blipFill>
          <a:blip r:embed="rId2"/>
          <a:stretch/>
        </p:blipFill>
        <p:spPr>
          <a:xfrm>
            <a:off x="639720" y="0"/>
            <a:ext cx="379260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3"/>
          <a:stretch/>
        </p:blipFill>
        <p:spPr>
          <a:xfrm>
            <a:off x="139680" y="2279520"/>
            <a:ext cx="3828960" cy="19749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4"/>
          <a:stretch/>
        </p:blipFill>
        <p:spPr>
          <a:xfrm>
            <a:off x="212760" y="4138560"/>
            <a:ext cx="38289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артинка 405 из 3158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6" descr=""/>
          <p:cNvPicPr/>
          <p:nvPr/>
        </p:nvPicPr>
        <p:blipFill>
          <a:blip r:embed="rId2"/>
          <a:stretch/>
        </p:blipFill>
        <p:spPr>
          <a:xfrm>
            <a:off x="1901880" y="1438200"/>
            <a:ext cx="5437080" cy="209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1453320" y="3571920"/>
            <a:ext cx="63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Команда под названием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5:19:05Z</dcterms:created>
  <dc:creator>GEG</dc:creator>
  <dc:description/>
  <dc:language>en-US</dc:language>
  <cp:lastModifiedBy>леново</cp:lastModifiedBy>
  <cp:lastPrinted>2015-05-14T07:18:37Z</cp:lastPrinted>
  <dcterms:modified xsi:type="dcterms:W3CDTF">2015-05-14T07:19:10Z</dcterms:modified>
  <cp:revision>10</cp:revision>
  <dc:subject/>
  <dc:title>Слайд 1</dc:title>
</cp:coreProperties>
</file>