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1D8-1A3C-41A4-8A89-BE7167B0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E18-B6D8-40CA-BD11-FC6264C6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125-FFD1-4AFD-85A8-5D95F76F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C01-A911-43C7-890A-213B631F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18D-B017-4146-9F2A-92498076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C60-3AF9-411B-936A-44F73DFF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F9A-82A6-4F53-B226-4D4E484C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50D-BEDB-4092-A8A2-F9CAC39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2FD-EA51-4699-94D8-F11789C6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FB3-D88A-4C63-92A0-39AFC8F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144-8E79-4F17-9DE3-BD003F4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016-8ADD-463F-87CC-83B1D84E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90F4-A2A2-4502-A28D-BF3804E428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2009-09/1253872479_veselii-zajaz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gratulatorycard.ru/frameforphoto/3/1745foto29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rilka.ru/uploads/posts/2009-06/1244884772_345654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wer.ru/files/u374211/______________3_0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ngratulatorycard.ru/frameforphoto/3/1942foto17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signbank.ru/uploads/posts/2009-10/1254747506_timon-pumba-i-simba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5 из 632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2835360" y="1127160"/>
            <a:ext cx="419868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1738440" y="3643200"/>
            <a:ext cx="69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Клуб веселых физ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а 536 из 3158"/>
          <p:cNvPicPr/>
          <p:nvPr/>
        </p:nvPicPr>
        <p:blipFill>
          <a:blip r:embed="rId1"/>
          <a:stretch/>
        </p:blipFill>
        <p:spPr>
          <a:xfrm>
            <a:off x="0" y="0"/>
            <a:ext cx="909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405 из 31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3"/>
          <a:stretch/>
        </p:blipFill>
        <p:spPr>
          <a:xfrm>
            <a:off x="2212920" y="1620720"/>
            <a:ext cx="47005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57 из 632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3"/>
          <a:stretch/>
        </p:blipFill>
        <p:spPr>
          <a:xfrm>
            <a:off x="755640" y="1262160"/>
            <a:ext cx="6656400" cy="1457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1897200" y="2500200"/>
            <a:ext cx="443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название 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дев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эм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Monotype Corsiva"/>
              </a:rPr>
              <a:t>капитаны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а 103 из 632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3"/>
          <a:stretch/>
        </p:blipFill>
        <p:spPr>
          <a:xfrm>
            <a:off x="1798560" y="1944720"/>
            <a:ext cx="61866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Картинка 215 из 31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3"/>
          <a:stretch/>
        </p:blipFill>
        <p:spPr>
          <a:xfrm>
            <a:off x="1103400" y="2998800"/>
            <a:ext cx="6918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а 134 из 31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4" descr=""/>
          <p:cNvPicPr/>
          <p:nvPr/>
        </p:nvPicPr>
        <p:blipFill>
          <a:blip r:embed="rId3"/>
          <a:stretch/>
        </p:blipFill>
        <p:spPr>
          <a:xfrm>
            <a:off x="36360" y="1212840"/>
            <a:ext cx="7602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артинка 357 из 6328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427400" y="2214720"/>
            <a:ext cx="448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Monotype Corsiva"/>
              </a:rPr>
              <a:t>Домашне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46c0a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e46c0a"/>
                </a:solidFill>
                <a:latin typeface="Monotype Corsiva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артинка 389 из 6328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2"/>
          <a:stretch/>
        </p:blipFill>
        <p:spPr>
          <a:xfrm>
            <a:off x="639720" y="0"/>
            <a:ext cx="379260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3"/>
          <a:stretch/>
        </p:blipFill>
        <p:spPr>
          <a:xfrm>
            <a:off x="139680" y="2279520"/>
            <a:ext cx="3828960" cy="19749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4"/>
          <a:stretch/>
        </p:blipFill>
        <p:spPr>
          <a:xfrm>
            <a:off x="212760" y="4138560"/>
            <a:ext cx="38289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а 405 из 3158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6" descr=""/>
          <p:cNvPicPr/>
          <p:nvPr/>
        </p:nvPicPr>
        <p:blipFill>
          <a:blip r:embed="rId2"/>
          <a:stretch/>
        </p:blipFill>
        <p:spPr>
          <a:xfrm>
            <a:off x="1901880" y="1438200"/>
            <a:ext cx="5437080" cy="209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1453320" y="3571920"/>
            <a:ext cx="63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Команда под название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5:19:05Z</dcterms:created>
  <dc:creator>GEG</dc:creator>
  <dc:description/>
  <dc:language>en-US</dc:language>
  <cp:lastModifiedBy>леново</cp:lastModifiedBy>
  <cp:lastPrinted>2015-05-14T07:18:37Z</cp:lastPrinted>
  <dcterms:modified xsi:type="dcterms:W3CDTF">2015-05-14T07:19:10Z</dcterms:modified>
  <cp:revision>10</cp:revision>
  <dc:subject/>
  <dc:title>Слайд 1</dc:title>
</cp:coreProperties>
</file>