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96E-00C6-4832-906E-46AB5650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DCB-6879-46DC-A0CB-79A1BFD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34D1E-AEF0-4E18-A493-ECDF88F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FF028-AA3F-4465-B789-DE8AF17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AFE33-2981-468E-ADAD-C17E3279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1D7A8-2529-4F9B-99E1-D5F7B5A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16261-BE2A-4548-921E-07F0211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268DB-BA39-43DE-AD37-499886A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28A8E-1805-4D87-94A9-8B8F64F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0B35B-69F4-44A2-BE70-5C00F0D1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B404A-2999-4FAA-97BC-686B60B7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39A-E70A-4FE0-A83D-4C01ECCC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AA4-0493-40EF-ADA4-DFA6FB5D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8C8E-932C-4DE2-9A5D-BCC26734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C2F4-5E6B-4702-B3AB-915B2B2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0D8B-8C2E-40C1-B0C0-FBE83E2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2B86-D51C-48FD-B7B7-104BDA02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BD98-6BD4-45D0-86C4-490686B2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61E7-A045-4ECF-BEFC-7B7C4156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CC67-9E68-45AE-987C-E45C7F3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7B2-64A4-4E43-B5E4-8F76FEA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35D-E0A4-48AE-B3D5-CCE5FCD9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5FF8-1F0F-4E04-985F-50A7A9A1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37F1-4011-4D72-A370-BA1BF39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EB38-DBA8-4FC1-AA54-0D702F6E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533D-6E98-4E35-AD70-A6A24AC5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0A77-0F83-43DD-880B-9CC8D2CB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B9A5-E24B-45C9-A6F1-19206F5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FAA8-B0D1-40A6-B371-84EFAECA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8B56-5425-4D7E-8674-B4A90C50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CCC3-2277-4DDA-BB60-ADA0D95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A0F-F201-4501-B33C-C4FF05A2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D953-143D-4F5F-B07D-D725818D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F860-4D4C-483E-BA5B-157963AE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6450-15C1-4B01-8D70-E52A0594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C820-730F-4573-95A9-7475DFB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2A7A-62DC-4BE5-AA5D-EB25C11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1727-96F3-474A-A0CB-9B90BD2C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7EDB-CE08-4171-BB7E-7CD94335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C203-B52F-4C64-8B6B-CE32D1CE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E516A-9A74-4C1D-BE0C-0DBAB627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C98B-E7B4-4D41-844A-1F7F3A86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8FD-56D6-488B-A6D6-6A1CAD1F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6D8E-D4EF-40C5-9215-139B88C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7273-DD49-455B-B596-5B9BBDC6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0497-AB41-4819-83F0-D37CA50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725F8-DC4A-4D62-99D5-D27A92A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2F2C-5414-4778-9338-C211AF9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CD89-A6C7-4B67-AA58-8FCA813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6B3D-0065-45B0-B409-96536F5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9940-503E-4E0A-8BCF-5062B22E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3F00-FC22-480F-837B-58E39D1F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4AECC-DF96-4D8A-9B90-7ECA14A7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9BA-3120-4BAB-831B-711DEDC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32A5-9EBD-4B37-A216-FAF148A6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8800-4F69-49B9-A500-ADF04BD2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A0F9A-28E6-41DC-A7C7-180E865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539DA-819D-4922-B17A-5F5D5919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5C53-761E-43DE-ABD0-3312213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EED6A-D9AF-4C06-9F89-413AB87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154E-AB39-46D6-BF12-23C6B0F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9579C-3B06-47B0-A53D-DC1E05E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EBB9-35D0-42EC-A95D-5D26D467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EF82-00ED-4262-A437-7107478C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7BE-FF02-4DF2-94AA-0C0ECB4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4451-A40D-45F9-9C2C-1C1E4699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DBE5C-008E-435E-BC38-77DE1DF3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CD12-B495-4F05-8002-0D8E60E0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0FCD-255C-4EF0-9B86-18112C87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84C31-0D05-440D-9702-BC0D6AB2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6F903-C80C-4B60-B031-5FAB0B70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A625-83BB-4DA2-BB44-0A36605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C3AF-2780-44DC-9FC8-B5CF451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7025-E37B-4D44-8353-D499462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0D92-6217-487A-9A0F-42458C9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2E2-4B6B-4C28-A658-7E8A8E3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68A5-4677-4196-9289-D0310688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17BE-7354-4F47-A0E9-38FEE305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416DF-1058-43A9-AB5B-DAE23A9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30B57-964D-4B58-933A-1AB53179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753F1-BD16-409F-AC6B-2F24CA40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4351-DFB9-4498-853C-E58C515A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AF28-0708-425A-82F3-70C99562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4D89-504C-4AFA-BD31-91756A1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735A-B27A-4E16-9E04-C66A4D2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06B91-CCEE-46FB-BB12-CE6C915D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ABC-9779-491C-A788-CA6CF83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05F2-1998-40A5-AF34-E26FE3AD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890E-02F4-4382-BFA7-CE44DCD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E7FFB-948A-4FC0-874B-21D9508E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43E62-09C9-4103-B4F2-F11CDFC4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F84A-F0E8-4E45-AB49-75A0944B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AC15B-04D5-45BE-AD46-29236F82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6442-AD33-4F1F-8426-A74BE74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B8C5A-16B7-4BA7-B12B-E5EB144B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496A-A29F-4CAC-8CC6-4DBCF8F1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123C6-D676-41EF-8CA4-9891FBB5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5F6-B36A-4AD8-A969-B09D812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CF5AD-1470-46E9-9576-62407FD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B3359-625E-4057-A158-0D21B582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ED7B5-4457-46BB-B8A0-A78A1CB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76BA7-6436-4ED1-ACAF-F2AC47E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F0FC7-2467-4AB2-BEBB-7D599F87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5E5C1-BD75-4070-9170-5C17EE85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A413-088D-47B9-B41A-5D19F0A1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78061-2C33-4338-846D-6511833B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93E0C-C36F-403A-96D2-081640C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054F-BE0D-4DD3-87A1-7E187CDD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CA61-87E0-46E8-B7F9-12AA49D1A264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97B8-C884-497C-9263-0E614990085E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A5A3-9DBE-4D78-90B0-832CAF936593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8471-9FB7-48AB-8F91-D513AC80ED46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D41C-2842-43E4-A9D6-CBD51CF053C5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221C-0717-4474-B277-751CA7B0D46F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1FAE-3985-4CD0-95E8-7130BE1F1B23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8CCF-43DE-4347-ADCD-073C364EBDF6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7E8-28E8-47B5-A2E0-3F00BE02DAE9}" type="slidenum">
              <a:rPr b="0" lang="ru-RU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49320" y="1785960"/>
            <a:ext cx="9021960" cy="1835280"/>
          </a:xfrm>
          <a:prstGeom prst="rect">
            <a:avLst/>
          </a:prstGeom>
          <a:ln w="0">
            <a:noFill/>
          </a:ln>
        </p:spPr>
      </p:pic>
      <p:sp>
        <p:nvSpPr>
          <p:cNvPr id="400" name="Управляющая кнопка: настраиваемая 2">
            <a:hlinkClick r:id="rId2" action="ppaction://hlinksldjump"/>
          </p:cNvPr>
          <p:cNvSpPr/>
          <p:nvPr/>
        </p:nvSpPr>
        <p:spPr>
          <a:xfrm>
            <a:off x="8072280" y="6215040"/>
            <a:ext cx="500400" cy="357120"/>
          </a:xfrm>
          <a:custGeom>
            <a:avLst/>
            <a:gdLst>
              <a:gd name="textAreaLeft" fmla="*/ 23040 w 500400"/>
              <a:gd name="textAreaRight" fmla="*/ 477360 w 500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57" h="21600">
                <a:moveTo>
                  <a:pt x="0" y="0"/>
                </a:moveTo>
                <a:lnTo>
                  <a:pt x="30257" y="0"/>
                </a:lnTo>
                <a:lnTo>
                  <a:pt x="30257" y="21600"/>
                </a:lnTo>
                <a:lnTo>
                  <a:pt x="0" y="21600"/>
                </a:lnTo>
                <a:close/>
              </a:path>
              <a:path fill="lightenLess" w="30257" h="21600">
                <a:moveTo>
                  <a:pt x="0" y="0"/>
                </a:moveTo>
                <a:lnTo>
                  <a:pt x="30257" y="0"/>
                </a:lnTo>
                <a:lnTo>
                  <a:pt x="28857" y="1400"/>
                </a:lnTo>
                <a:lnTo>
                  <a:pt x="1400" y="1400"/>
                </a:lnTo>
                <a:close/>
              </a:path>
              <a:path fill="darken" w="30257" h="21600">
                <a:moveTo>
                  <a:pt x="30257" y="0"/>
                </a:moveTo>
                <a:lnTo>
                  <a:pt x="30257" y="21600"/>
                </a:lnTo>
                <a:lnTo>
                  <a:pt x="28857" y="20200"/>
                </a:lnTo>
                <a:lnTo>
                  <a:pt x="28857" y="1400"/>
                </a:lnTo>
                <a:close/>
              </a:path>
              <a:path fill="darkenLess" w="30257" h="21600">
                <a:moveTo>
                  <a:pt x="302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7" y="20200"/>
                </a:lnTo>
                <a:close/>
              </a:path>
              <a:path fill="lighten" w="302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-49320" y="1785960"/>
            <a:ext cx="9150480" cy="2919240"/>
          </a:xfrm>
          <a:prstGeom prst="rect">
            <a:avLst/>
          </a:prstGeom>
          <a:ln w="0">
            <a:noFill/>
          </a:ln>
        </p:spPr>
      </p:pic>
      <p:sp>
        <p:nvSpPr>
          <p:cNvPr id="428" name="Управляющая кнопка: настраиваемая 2"/>
          <p:cNvSpPr/>
          <p:nvPr/>
        </p:nvSpPr>
        <p:spPr>
          <a:xfrm>
            <a:off x="7500960" y="621504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-122400" y="1646280"/>
            <a:ext cx="9169560" cy="3511440"/>
          </a:xfrm>
          <a:prstGeom prst="rect">
            <a:avLst/>
          </a:prstGeom>
          <a:ln w="0">
            <a:noFill/>
          </a:ln>
        </p:spPr>
      </p:pic>
      <p:sp>
        <p:nvSpPr>
          <p:cNvPr id="430" name="Управляющая кнопка: настраиваемая 2"/>
          <p:cNvSpPr/>
          <p:nvPr/>
        </p:nvSpPr>
        <p:spPr>
          <a:xfrm>
            <a:off x="7143840" y="607212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340000" y="6237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-49320" y="1011240"/>
            <a:ext cx="9021960" cy="4761000"/>
          </a:xfrm>
          <a:prstGeom prst="rect">
            <a:avLst/>
          </a:prstGeom>
          <a:ln w="0">
            <a:noFill/>
          </a:ln>
        </p:spPr>
      </p:pic>
      <p:sp>
        <p:nvSpPr>
          <p:cNvPr id="433" name="Управляющая кнопка: настраиваемая 2"/>
          <p:cNvSpPr/>
          <p:nvPr/>
        </p:nvSpPr>
        <p:spPr>
          <a:xfrm>
            <a:off x="7358040" y="5857920"/>
            <a:ext cx="785880" cy="500040"/>
          </a:xfrm>
          <a:custGeom>
            <a:avLst/>
            <a:gdLst>
              <a:gd name="textAreaLeft" fmla="*/ 32400 w 785880"/>
              <a:gd name="textAreaRight" fmla="*/ 753480 w 785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-49320" y="1359000"/>
            <a:ext cx="9021960" cy="3792600"/>
          </a:xfrm>
          <a:prstGeom prst="rect">
            <a:avLst/>
          </a:prstGeom>
          <a:ln w="0">
            <a:noFill/>
          </a:ln>
        </p:spPr>
      </p:pic>
      <p:sp>
        <p:nvSpPr>
          <p:cNvPr id="435" name="Управляющая кнопка: настраиваемая 2"/>
          <p:cNvSpPr/>
          <p:nvPr/>
        </p:nvSpPr>
        <p:spPr>
          <a:xfrm>
            <a:off x="7072200" y="5929200"/>
            <a:ext cx="714600" cy="500040"/>
          </a:xfrm>
          <a:custGeom>
            <a:avLst/>
            <a:gdLst>
              <a:gd name="textAreaLeft" fmla="*/ 32400 w 714600"/>
              <a:gd name="textAreaRight" fmla="*/ 682200 w 7146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62" h="21600">
                <a:moveTo>
                  <a:pt x="0" y="0"/>
                </a:moveTo>
                <a:lnTo>
                  <a:pt x="30862" y="0"/>
                </a:lnTo>
                <a:lnTo>
                  <a:pt x="30862" y="21600"/>
                </a:lnTo>
                <a:lnTo>
                  <a:pt x="0" y="21600"/>
                </a:lnTo>
                <a:close/>
              </a:path>
              <a:path fill="lightenLess" w="30862" h="21600">
                <a:moveTo>
                  <a:pt x="0" y="0"/>
                </a:moveTo>
                <a:lnTo>
                  <a:pt x="30862" y="0"/>
                </a:lnTo>
                <a:lnTo>
                  <a:pt x="29462" y="1400"/>
                </a:lnTo>
                <a:lnTo>
                  <a:pt x="1400" y="1400"/>
                </a:lnTo>
                <a:close/>
              </a:path>
              <a:path fill="darken" w="30862" h="21600">
                <a:moveTo>
                  <a:pt x="30862" y="0"/>
                </a:moveTo>
                <a:lnTo>
                  <a:pt x="30862" y="21600"/>
                </a:lnTo>
                <a:lnTo>
                  <a:pt x="29462" y="20200"/>
                </a:lnTo>
                <a:lnTo>
                  <a:pt x="29462" y="1400"/>
                </a:lnTo>
                <a:close/>
              </a:path>
              <a:path fill="darkenLess" w="30862" h="21600">
                <a:moveTo>
                  <a:pt x="30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2" y="20200"/>
                </a:lnTo>
                <a:close/>
              </a:path>
              <a:path fill="lighten" w="30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49320" y="1573200"/>
            <a:ext cx="9060120" cy="3413160"/>
          </a:xfrm>
          <a:prstGeom prst="rect">
            <a:avLst/>
          </a:prstGeom>
          <a:ln w="0">
            <a:noFill/>
          </a:ln>
        </p:spPr>
      </p:pic>
      <p:sp>
        <p:nvSpPr>
          <p:cNvPr id="437" name="Управляющая кнопка: настраиваемая 2"/>
          <p:cNvSpPr/>
          <p:nvPr/>
        </p:nvSpPr>
        <p:spPr>
          <a:xfrm>
            <a:off x="6858000" y="5929200"/>
            <a:ext cx="1071720" cy="642960"/>
          </a:xfrm>
          <a:custGeom>
            <a:avLst/>
            <a:gdLst>
              <a:gd name="textAreaLeft" fmla="*/ 41400 w 1071720"/>
              <a:gd name="textAreaRight" fmla="*/ 1030320 w 10717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996" h="21600">
                <a:moveTo>
                  <a:pt x="0" y="0"/>
                </a:moveTo>
                <a:lnTo>
                  <a:pt x="35996" y="0"/>
                </a:lnTo>
                <a:lnTo>
                  <a:pt x="35996" y="21600"/>
                </a:lnTo>
                <a:lnTo>
                  <a:pt x="0" y="21600"/>
                </a:lnTo>
                <a:close/>
              </a:path>
              <a:path fill="lightenLess" w="35996" h="21600">
                <a:moveTo>
                  <a:pt x="0" y="0"/>
                </a:moveTo>
                <a:lnTo>
                  <a:pt x="35996" y="0"/>
                </a:lnTo>
                <a:lnTo>
                  <a:pt x="34596" y="1400"/>
                </a:lnTo>
                <a:lnTo>
                  <a:pt x="1400" y="1400"/>
                </a:lnTo>
                <a:close/>
              </a:path>
              <a:path fill="darken" w="35996" h="21600">
                <a:moveTo>
                  <a:pt x="35996" y="0"/>
                </a:moveTo>
                <a:lnTo>
                  <a:pt x="35996" y="21600"/>
                </a:lnTo>
                <a:lnTo>
                  <a:pt x="34596" y="20200"/>
                </a:lnTo>
                <a:lnTo>
                  <a:pt x="34596" y="1400"/>
                </a:lnTo>
                <a:close/>
              </a:path>
              <a:path fill="darkenLess" w="35996" h="21600">
                <a:moveTo>
                  <a:pt x="35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6" y="20200"/>
                </a:lnTo>
                <a:close/>
              </a:path>
              <a:path fill="lighten" w="35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2268360" y="6165720"/>
            <a:ext cx="1008360" cy="432000"/>
          </a:xfrm>
          <a:custGeom>
            <a:avLst/>
            <a:gdLst>
              <a:gd name="textAreaLeft" fmla="*/ 27720 w 1008360"/>
              <a:gd name="textAreaRight" fmla="*/ 980640 w 100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94" h="21600">
                <a:moveTo>
                  <a:pt x="0" y="0"/>
                </a:moveTo>
                <a:lnTo>
                  <a:pt x="50394" y="0"/>
                </a:lnTo>
                <a:lnTo>
                  <a:pt x="50394" y="21600"/>
                </a:lnTo>
                <a:lnTo>
                  <a:pt x="0" y="21600"/>
                </a:lnTo>
                <a:close/>
              </a:path>
              <a:path fill="lightenLess" w="50394" h="21600">
                <a:moveTo>
                  <a:pt x="0" y="0"/>
                </a:moveTo>
                <a:lnTo>
                  <a:pt x="50394" y="0"/>
                </a:lnTo>
                <a:lnTo>
                  <a:pt x="48994" y="1400"/>
                </a:lnTo>
                <a:lnTo>
                  <a:pt x="1400" y="1400"/>
                </a:lnTo>
                <a:close/>
              </a:path>
              <a:path fill="darken" w="50394" h="21600">
                <a:moveTo>
                  <a:pt x="50394" y="0"/>
                </a:moveTo>
                <a:lnTo>
                  <a:pt x="50394" y="21600"/>
                </a:lnTo>
                <a:lnTo>
                  <a:pt x="48994" y="20200"/>
                </a:lnTo>
                <a:lnTo>
                  <a:pt x="48994" y="1400"/>
                </a:lnTo>
                <a:close/>
              </a:path>
              <a:path fill="darkenLess" w="50394" h="21600">
                <a:moveTo>
                  <a:pt x="50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94" y="20200"/>
                </a:lnTo>
                <a:close/>
              </a:path>
              <a:path fill="lighten" w="50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-49320" y="1427040"/>
            <a:ext cx="9144000" cy="3986280"/>
          </a:xfrm>
          <a:prstGeom prst="rect">
            <a:avLst/>
          </a:prstGeom>
          <a:ln w="0">
            <a:noFill/>
          </a:ln>
        </p:spPr>
      </p:pic>
      <p:sp>
        <p:nvSpPr>
          <p:cNvPr id="440" name="Управляющая кнопка: настраиваемая 2"/>
          <p:cNvSpPr/>
          <p:nvPr/>
        </p:nvSpPr>
        <p:spPr>
          <a:xfrm>
            <a:off x="6858000" y="5786280"/>
            <a:ext cx="785880" cy="57168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9688" h="21600">
                <a:moveTo>
                  <a:pt x="0" y="0"/>
                </a:moveTo>
                <a:lnTo>
                  <a:pt x="29688" y="0"/>
                </a:lnTo>
                <a:lnTo>
                  <a:pt x="29688" y="21600"/>
                </a:lnTo>
                <a:lnTo>
                  <a:pt x="0" y="21600"/>
                </a:lnTo>
                <a:close/>
              </a:path>
              <a:path fill="lightenLess" w="29688" h="21600">
                <a:moveTo>
                  <a:pt x="0" y="0"/>
                </a:moveTo>
                <a:lnTo>
                  <a:pt x="29688" y="0"/>
                </a:lnTo>
                <a:lnTo>
                  <a:pt x="28288" y="1400"/>
                </a:lnTo>
                <a:lnTo>
                  <a:pt x="1400" y="1400"/>
                </a:lnTo>
                <a:close/>
              </a:path>
              <a:path fill="darken" w="29688" h="21600">
                <a:moveTo>
                  <a:pt x="29688" y="0"/>
                </a:moveTo>
                <a:lnTo>
                  <a:pt x="29688" y="21600"/>
                </a:lnTo>
                <a:lnTo>
                  <a:pt x="28288" y="20200"/>
                </a:lnTo>
                <a:lnTo>
                  <a:pt x="28288" y="1400"/>
                </a:lnTo>
                <a:close/>
              </a:path>
              <a:path fill="darkenLess" w="29688" h="21600">
                <a:moveTo>
                  <a:pt x="29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88" y="20200"/>
                </a:lnTo>
                <a:close/>
              </a:path>
              <a:path fill="lighten" w="29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2195640" y="623736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9280" y="148428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3892680"/>
            <a:ext cx="86868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Arial"/>
              </a:rPr>
              <a:t>прямоугольный    тупоугольный  остроугольный</a:t>
            </a:r>
            <a:endParaRPr b="0" lang="en-US" sz="28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826920" y="1916280"/>
            <a:ext cx="2089440" cy="1296720"/>
          </a:xfrm>
          <a:prstGeom prst="rtTriangle">
            <a:avLst/>
          </a:prstGeom>
          <a:solidFill>
            <a:srgbClr val="dde9ec"/>
          </a:solidFill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8"/>
          <p:cNvCxnSpPr>
            <a:stCxn id="443" idx="0"/>
            <a:endCxn id="443" idx="0"/>
          </p:cNvCxnSpPr>
          <p:nvPr/>
        </p:nvCxnSpPr>
        <p:spPr>
          <a:xfrm>
            <a:off x="4522320" y="148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Line 9"/>
          <p:cNvSpPr/>
          <p:nvPr/>
        </p:nvSpPr>
        <p:spPr>
          <a:xfrm>
            <a:off x="2916360" y="1773360"/>
            <a:ext cx="1079280" cy="122400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V="1">
            <a:off x="3995640" y="2923920"/>
            <a:ext cx="1368360" cy="7308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916360" y="1773360"/>
            <a:ext cx="2447640" cy="115092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3"/>
          <p:cNvSpPr/>
          <p:nvPr/>
        </p:nvSpPr>
        <p:spPr>
          <a:xfrm flipH="1">
            <a:off x="6587640" y="1773360"/>
            <a:ext cx="576360" cy="143964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>
            <a:off x="7164360" y="1773360"/>
            <a:ext cx="360360" cy="136836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 flipV="1">
            <a:off x="6588000" y="3141720"/>
            <a:ext cx="936720" cy="71280"/>
          </a:xfrm>
          <a:prstGeom prst="line">
            <a:avLst/>
          </a:prstGeom>
          <a:ln w="9360">
            <a:solidFill>
              <a:srgbClr val="20a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9"/>
          <p:cNvSpPr/>
          <p:nvPr/>
        </p:nvSpPr>
        <p:spPr>
          <a:xfrm>
            <a:off x="7308720" y="5734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3640" y="2332080"/>
            <a:ext cx="426708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64653"/>
                </a:solidFill>
                <a:uFillTx/>
                <a:latin typeface="Arial"/>
              </a:rPr>
              <a:t>Площадь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Arial"/>
              </a:rPr>
              <a:t>5 * 5 = 25 (см.кв.)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32000" y="2332080"/>
            <a:ext cx="38876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64653"/>
                </a:solidFill>
                <a:uFillTx/>
                <a:latin typeface="Arial"/>
              </a:rPr>
              <a:t>Периметр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Arial"/>
              </a:rPr>
              <a:t>5 * 4 = 20 см</a:t>
            </a:r>
            <a:endParaRPr b="0" lang="en-US" sz="36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7093080" y="595008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40 500 006</a:t>
            </a:r>
            <a:endParaRPr b="0" lang="en-US" sz="4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7524720" y="5877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ед. = 1 дес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дес. = 1 сот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сот. = 1 тыс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0 тыс. = 1 дес. тыс.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7164360" y="580536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15920" y="2066760"/>
            <a:ext cx="9021600" cy="2114640"/>
          </a:xfrm>
          <a:prstGeom prst="rect">
            <a:avLst/>
          </a:prstGeom>
          <a:ln w="0">
            <a:noFill/>
          </a:ln>
        </p:spPr>
      </p:pic>
      <p:sp>
        <p:nvSpPr>
          <p:cNvPr id="402" name="Управляющая кнопка: настраиваемая 2">
            <a:hlinkClick r:id="rId2" action="ppaction://hlinksldjump"/>
          </p:cNvPr>
          <p:cNvSpPr/>
          <p:nvPr/>
        </p:nvSpPr>
        <p:spPr>
          <a:xfrm>
            <a:off x="7715160" y="62866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>
            <a:hlinkClick r:id="rId3" action="ppaction://hlinksldjump"/>
          </p:cNvPr>
          <p:cNvSpPr/>
          <p:nvPr/>
        </p:nvSpPr>
        <p:spPr>
          <a:xfrm>
            <a:off x="2124000" y="638172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2060280"/>
            <a:ext cx="86868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Самое большое  999 999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Самое маленькое 100 000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7308720" y="5877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2421000"/>
            <a:ext cx="4267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1-й способ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95:5-17 = 2</a:t>
            </a:r>
            <a:endParaRPr b="0" lang="en-US" sz="40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24280" y="1554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2-й способ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(х + 17) * 5 = 9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5х +85 = 9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5х = 95 -8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5х =10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Х= 10 : 5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х = 2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709308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64653"/>
                </a:solidFill>
                <a:latin typeface="Arial"/>
              </a:rPr>
              <a:t>а + 0 = а</a:t>
            </a:r>
            <a:endParaRPr b="0" lang="en-US" sz="72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6804000" y="558972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4653"/>
                </a:solidFill>
                <a:latin typeface="Arial"/>
              </a:rPr>
              <a:t>( 26 – 20 ) : 2 = 3 руб.</a:t>
            </a:r>
            <a:endParaRPr b="0" lang="en-US" sz="48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7596360" y="6021360"/>
            <a:ext cx="863280" cy="43200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-122400" y="1925640"/>
            <a:ext cx="9021960" cy="2433600"/>
          </a:xfrm>
          <a:prstGeom prst="rect">
            <a:avLst/>
          </a:prstGeom>
          <a:ln w="0">
            <a:noFill/>
          </a:ln>
        </p:spPr>
      </p:pic>
      <p:sp>
        <p:nvSpPr>
          <p:cNvPr id="405" name="Управляющая кнопка: настраиваемая 2">
            <a:hlinkClick r:id="rId2" action="ppaction://hlinksldjump"/>
          </p:cNvPr>
          <p:cNvSpPr/>
          <p:nvPr/>
        </p:nvSpPr>
        <p:spPr>
          <a:xfrm>
            <a:off x="8001000" y="642924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>
            <a:hlinkClick r:id="rId3" action="ppaction://hlinksldjump"/>
          </p:cNvPr>
          <p:cNvSpPr/>
          <p:nvPr/>
        </p:nvSpPr>
        <p:spPr>
          <a:xfrm>
            <a:off x="234000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30240" y="457200"/>
            <a:ext cx="9021960" cy="1719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09" name="Параллелограмм 3"/>
          <p:cNvSpPr/>
          <p:nvPr/>
        </p:nvSpPr>
        <p:spPr>
          <a:xfrm>
            <a:off x="1143000" y="2214720"/>
            <a:ext cx="7429680" cy="3357360"/>
          </a:xfrm>
          <a:prstGeom prst="parallelogram">
            <a:avLst>
              <a:gd name="adj" fmla="val 24998"/>
            </a:avLst>
          </a:prstGeom>
          <a:solidFill>
            <a:srgbClr val="ffffff"/>
          </a:solidFill>
          <a:ln w="2556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17"/>
          <p:cNvSpPr/>
          <p:nvPr/>
        </p:nvSpPr>
        <p:spPr>
          <a:xfrm flipV="1">
            <a:off x="1143000" y="2214720"/>
            <a:ext cx="7429680" cy="3357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19"/>
          <p:cNvSpPr/>
          <p:nvPr/>
        </p:nvSpPr>
        <p:spPr>
          <a:xfrm>
            <a:off x="1561320" y="3894120"/>
            <a:ext cx="659124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Управляющая кнопка: настраиваемая 6"/>
          <p:cNvSpPr/>
          <p:nvPr/>
        </p:nvSpPr>
        <p:spPr>
          <a:xfrm>
            <a:off x="7358040" y="614376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3760" y="2073240"/>
            <a:ext cx="9023400" cy="2187720"/>
          </a:xfrm>
          <a:prstGeom prst="rect">
            <a:avLst/>
          </a:prstGeom>
          <a:ln w="0">
            <a:noFill/>
          </a:ln>
        </p:spPr>
      </p:pic>
      <p:sp>
        <p:nvSpPr>
          <p:cNvPr id="414" name="Управляющая кнопка: настраиваемая 2"/>
          <p:cNvSpPr/>
          <p:nvPr/>
        </p:nvSpPr>
        <p:spPr>
          <a:xfrm>
            <a:off x="7643880" y="614376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241128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12760" y="1225440"/>
            <a:ext cx="8686800" cy="3840120"/>
          </a:xfrm>
          <a:prstGeom prst="rect">
            <a:avLst/>
          </a:prstGeom>
          <a:ln w="0">
            <a:noFill/>
          </a:ln>
        </p:spPr>
      </p:pic>
      <p:sp>
        <p:nvSpPr>
          <p:cNvPr id="417" name="Управляющая кнопка: настраиваемая 2"/>
          <p:cNvSpPr/>
          <p:nvPr/>
        </p:nvSpPr>
        <p:spPr>
          <a:xfrm>
            <a:off x="7380360" y="616572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2268360" y="6237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-92160" y="1762200"/>
            <a:ext cx="9328320" cy="2676600"/>
          </a:xfrm>
          <a:prstGeom prst="rect">
            <a:avLst/>
          </a:prstGeom>
          <a:ln w="0">
            <a:noFill/>
          </a:ln>
        </p:spPr>
      </p:pic>
      <p:sp>
        <p:nvSpPr>
          <p:cNvPr id="420" name="Управляющая кнопка: настраиваемая 2"/>
          <p:cNvSpPr/>
          <p:nvPr/>
        </p:nvSpPr>
        <p:spPr>
          <a:xfrm>
            <a:off x="7451640" y="6237360"/>
            <a:ext cx="714600" cy="42840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18" h="21600">
                <a:moveTo>
                  <a:pt x="0" y="0"/>
                </a:moveTo>
                <a:lnTo>
                  <a:pt x="36018" y="0"/>
                </a:lnTo>
                <a:lnTo>
                  <a:pt x="36018" y="21600"/>
                </a:lnTo>
                <a:lnTo>
                  <a:pt x="0" y="21600"/>
                </a:lnTo>
                <a:close/>
              </a:path>
              <a:path fill="lightenLess" w="36018" h="21600">
                <a:moveTo>
                  <a:pt x="0" y="0"/>
                </a:moveTo>
                <a:lnTo>
                  <a:pt x="36018" y="0"/>
                </a:lnTo>
                <a:lnTo>
                  <a:pt x="34618" y="1400"/>
                </a:lnTo>
                <a:lnTo>
                  <a:pt x="1400" y="1400"/>
                </a:lnTo>
                <a:close/>
              </a:path>
              <a:path fill="darken" w="36018" h="21600">
                <a:moveTo>
                  <a:pt x="36018" y="0"/>
                </a:moveTo>
                <a:lnTo>
                  <a:pt x="36018" y="21600"/>
                </a:lnTo>
                <a:lnTo>
                  <a:pt x="34618" y="20200"/>
                </a:lnTo>
                <a:lnTo>
                  <a:pt x="34618" y="1400"/>
                </a:lnTo>
                <a:close/>
              </a:path>
              <a:path fill="darkenLess" w="36018" h="21600">
                <a:moveTo>
                  <a:pt x="36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8" y="20200"/>
                </a:lnTo>
                <a:close/>
              </a:path>
              <a:path fill="lighten" w="36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2268360" y="6237360"/>
            <a:ext cx="648000" cy="43164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18" h="21600">
                <a:moveTo>
                  <a:pt x="0" y="0"/>
                </a:moveTo>
                <a:lnTo>
                  <a:pt x="32418" y="0"/>
                </a:lnTo>
                <a:lnTo>
                  <a:pt x="32418" y="21600"/>
                </a:lnTo>
                <a:lnTo>
                  <a:pt x="0" y="21600"/>
                </a:lnTo>
                <a:close/>
              </a:path>
              <a:path fill="lightenLess" w="32418" h="21600">
                <a:moveTo>
                  <a:pt x="0" y="0"/>
                </a:moveTo>
                <a:lnTo>
                  <a:pt x="32418" y="0"/>
                </a:lnTo>
                <a:lnTo>
                  <a:pt x="31018" y="1400"/>
                </a:lnTo>
                <a:lnTo>
                  <a:pt x="1400" y="1400"/>
                </a:lnTo>
                <a:close/>
              </a:path>
              <a:path fill="darken" w="32418" h="21600">
                <a:moveTo>
                  <a:pt x="32418" y="0"/>
                </a:moveTo>
                <a:lnTo>
                  <a:pt x="32418" y="21600"/>
                </a:lnTo>
                <a:lnTo>
                  <a:pt x="31018" y="20200"/>
                </a:lnTo>
                <a:lnTo>
                  <a:pt x="31018" y="1400"/>
                </a:lnTo>
                <a:close/>
              </a:path>
              <a:path fill="darkenLess" w="32418" h="21600">
                <a:moveTo>
                  <a:pt x="3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8" y="20200"/>
                </a:lnTo>
                <a:close/>
              </a:path>
              <a:path fill="lighten" w="3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-49320" y="1481040"/>
            <a:ext cx="9296640" cy="3389400"/>
          </a:xfrm>
          <a:prstGeom prst="rect">
            <a:avLst/>
          </a:prstGeom>
          <a:ln w="0">
            <a:noFill/>
          </a:ln>
        </p:spPr>
      </p:pic>
      <p:sp>
        <p:nvSpPr>
          <p:cNvPr id="423" name="Управляющая кнопка: настраиваемая 2"/>
          <p:cNvSpPr/>
          <p:nvPr/>
        </p:nvSpPr>
        <p:spPr>
          <a:xfrm>
            <a:off x="7500960" y="614376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2556000" y="616572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1212840"/>
            <a:ext cx="8686800" cy="3719520"/>
          </a:xfrm>
          <a:prstGeom prst="rect">
            <a:avLst/>
          </a:prstGeom>
          <a:ln w="0">
            <a:noFill/>
          </a:ln>
        </p:spPr>
      </p:pic>
      <p:sp>
        <p:nvSpPr>
          <p:cNvPr id="426" name="Управляющая кнопка: настраиваемая 2"/>
          <p:cNvSpPr/>
          <p:nvPr/>
        </p:nvSpPr>
        <p:spPr>
          <a:xfrm>
            <a:off x="7643880" y="607212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3:45:11Z</dcterms:created>
  <dc:creator>Иван</dc:creator>
  <dc:description/>
  <dc:language>en-US</dc:language>
  <cp:lastModifiedBy>Acer</cp:lastModifiedBy>
  <dcterms:modified xsi:type="dcterms:W3CDTF">2019-11-24T09:43:31Z</dcterms:modified>
  <cp:revision>22</cp:revision>
  <dc:subject/>
  <dc:title>Считай, думай, рассуждай!</dc:title>
</cp:coreProperties>
</file>