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564-EC50-4785-9D1B-0971E7F7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780-AF3D-4389-AA1C-C69EFA82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112A9-0FE1-47CC-9B1C-AF546323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023D9-009F-4FAA-A451-60210997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548ED-D4AA-40C2-BE4D-2585EE82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0DCAB-2789-46D6-BF72-86D4FF44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59B6B-B7DB-4904-B67F-CE194BD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28367-E715-4340-8111-97CCC92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764A4-3A25-427D-912D-DB7E7916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95544-C79E-463C-BCEC-025B74F9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029ED-BB16-479D-B412-2BB65651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645-F15C-40B1-AC11-44A67904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5E8-9514-450C-8ADD-3A29112F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718-C5EB-4757-9063-69DAE777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574E-E49F-44AB-A7E8-64E5D573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FBF4-4E79-4B97-AF89-FF391493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E87F-9F65-4865-9E9E-7BE321B9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E7C1-115B-427C-8A93-C6E5CBC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A4B9-4D7D-4550-B6C0-B961F1B9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C78-09DF-48CB-BD8B-A41AC40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4EE-8424-4828-A21F-73FCB86A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404A-0F84-4C75-86C0-917DFC1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F0CC-A5F7-4E62-A35D-B3FA389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B668-57FA-4161-8650-95C83B45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871E-F3EB-4B43-B28F-455F7ADC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ED8B-7878-4B69-880E-E36039E0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AC65-0591-4A81-B947-932DA023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EE8B-6B2E-4C80-9831-B0E107E6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62D0-F5E2-4286-A2B5-984372BE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4D5F-CED1-4C67-A5BF-947A8D53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9C55-6BB7-41E3-8402-CA07F206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EED-C3D9-459B-B9A4-390A360B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4EBB-2BA5-4A20-8198-C16E79A4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C903-A1A5-42CA-AAB5-F7139F95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5DDD-4172-455A-A56E-1890696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63F5-34F2-497F-A79E-7F102FA6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9FAD-3BA1-4DD6-B885-D546FBFC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E144-4CAC-4AE6-8E01-5308B7A5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1144-EC44-4A7B-8770-70242754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F189-A3E7-4354-B30F-5B52574C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050B-8408-424E-8434-4838ABB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17AB-14D4-45D5-A378-BF9A4B5C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FD8-2E82-460C-83C7-B06F2C0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1130-6CBE-4495-A7EF-A528CDB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AECB-29F3-49C8-B687-ACD3D6B9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2EA2-21F0-439D-A9A2-D37646E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95B1-32BC-44B2-A0B1-85D69E5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C9B3-B5F0-44BF-B307-D7F44F4A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A4B6-4DF7-4333-ACAB-F9E00A7B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000CB-0026-4E90-AF0F-45C954EF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27F9-7442-475F-9A73-C0BD6DCF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B813-0D6E-4E6D-9ACC-B5F6E3A7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52F5-B44A-45FB-B087-B72397DC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AAB-6910-40EB-832E-D6BFB62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2A51-13F7-43CF-907B-703E8FED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4CA2D-F620-458D-87D2-554FF4AD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61AA-BDB0-4908-838E-59C4014C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23CBE-4897-4CBC-8598-A8F84DF0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2574-25AA-4D58-A494-5F3E82B1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8992-D8EA-436C-8405-1944D1D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FB02-1491-46A7-B1F3-3C661B6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CF45-F9F6-4317-BB9F-98D56E1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56A5-B953-4797-8524-8CE5A736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5EB14-DFD6-4764-BC9D-A43AD0C8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F3B-0256-4808-BBE9-455910C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BE59-DEF7-4FB1-A7FC-18D2BFDF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9A9F5-541B-4BBD-B7ED-CCCE068D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66285-58F5-4086-9B9F-DFABFCB9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43FC6-E7EA-477F-AF02-2FB96F21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9D5C8-3C7F-4A72-94E2-10B8A78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5AA7-A32F-439C-BEE7-DF11D347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570D-8DBF-49CE-96F3-6EAB1C87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D0455-3CB3-4464-A4C2-FF9C681F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A9BED-AC1D-4C36-8457-2533E62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AA261-9571-4A6B-A5F9-9048329D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987-3C70-41A7-A480-294DB97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2C9D-F05B-4E2C-AAC6-CD8B62C8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776C2-02F8-4B05-8944-6BD2CBAE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CA7B-085B-47D9-B0A3-B48124E1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EA8A4-8BF6-46E2-8B01-9210D6D4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ADD7-126D-4B11-88DE-7C9AF7DE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A825-C85C-4881-961D-0817698E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73CB-4345-457C-9371-5C9643A1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6C9E6-DA92-4CEC-94C4-699294B8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6C52A-0E58-4094-B174-148BC9F0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6731C-90FB-4CDD-A5A4-51FB0B0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A14-6F8E-4C74-9645-59F6BEA8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480D4-F6D3-41A0-9778-72C8C92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54F06-BCEB-480D-9A98-38E33C2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D3CF-FFC0-4618-8245-4E969C0A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377B-5CBF-4C5E-99B1-898027F3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5735-4692-44BB-8B6F-77277A66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128F-DC9B-411E-ABFB-763C4487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2AF0-4158-4163-A113-0E20DE4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E627-C047-4278-A154-B215892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11370-08A9-41FA-BCD6-0F12A263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96C6F-1639-4EF6-A60A-438E24AB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3F0-55C1-4B12-98B3-633DA6C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AE61A-4AD3-4DC3-ADA9-5232FA4D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B82A9-5FC0-4D41-B633-BAD572EF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808D5-7B74-4CA7-B610-1E39DDF0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399E5-BC6D-4B99-8A32-E8D43DE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A65D-0EED-454A-A41D-81E55DC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33531-7D62-4DFE-ADA5-FB8E9164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B3429-D177-4201-BC14-29D02EDF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C2874-191F-4177-ACEE-5B69160B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36FAC-91AE-4504-8993-87710A3D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27326-8A17-4C69-A0F5-6AC1419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6475-113C-4E9A-A706-A8CDBACF1B8D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5B38-67CF-4B67-8326-B615A58B271E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5AED-CB5D-4F69-A96A-C0F9F87E1ECE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5DBC-4B6E-4DF0-B3A2-7C018C150E48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C932-6383-46CA-B879-84254C15DC49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0CA5-5846-4877-B480-457CF5E5703D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1E15-F971-4BFB-9AC1-7B8EE5F81BB8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7D82-B130-4132-8C49-85AA7B23A365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0F40-B2EE-4104-BD5B-B4BEABF760F5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49320" y="1785960"/>
            <a:ext cx="9021960" cy="1835280"/>
          </a:xfrm>
          <a:prstGeom prst="rect">
            <a:avLst/>
          </a:prstGeom>
          <a:ln w="0">
            <a:noFill/>
          </a:ln>
        </p:spPr>
      </p:pic>
      <p:sp>
        <p:nvSpPr>
          <p:cNvPr id="400" name="Управляющая кнопка: настраиваемая 2">
            <a:hlinkClick r:id="rId2" action="ppaction://hlinksldjump"/>
          </p:cNvPr>
          <p:cNvSpPr/>
          <p:nvPr/>
        </p:nvSpPr>
        <p:spPr>
          <a:xfrm>
            <a:off x="8072280" y="6215040"/>
            <a:ext cx="500400" cy="357120"/>
          </a:xfrm>
          <a:custGeom>
            <a:avLst/>
            <a:gdLst>
              <a:gd name="textAreaLeft" fmla="*/ 23040 w 500400"/>
              <a:gd name="textAreaRight" fmla="*/ 477360 w 500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57" h="21600">
                <a:moveTo>
                  <a:pt x="0" y="0"/>
                </a:moveTo>
                <a:lnTo>
                  <a:pt x="30257" y="0"/>
                </a:lnTo>
                <a:lnTo>
                  <a:pt x="30257" y="21600"/>
                </a:lnTo>
                <a:lnTo>
                  <a:pt x="0" y="21600"/>
                </a:lnTo>
                <a:close/>
              </a:path>
              <a:path fill="lightenLess" w="30257" h="21600">
                <a:moveTo>
                  <a:pt x="0" y="0"/>
                </a:moveTo>
                <a:lnTo>
                  <a:pt x="30257" y="0"/>
                </a:lnTo>
                <a:lnTo>
                  <a:pt x="28857" y="1400"/>
                </a:lnTo>
                <a:lnTo>
                  <a:pt x="1400" y="1400"/>
                </a:lnTo>
                <a:close/>
              </a:path>
              <a:path fill="darken" w="30257" h="21600">
                <a:moveTo>
                  <a:pt x="30257" y="0"/>
                </a:moveTo>
                <a:lnTo>
                  <a:pt x="30257" y="21600"/>
                </a:lnTo>
                <a:lnTo>
                  <a:pt x="28857" y="20200"/>
                </a:lnTo>
                <a:lnTo>
                  <a:pt x="28857" y="1400"/>
                </a:lnTo>
                <a:close/>
              </a:path>
              <a:path fill="darkenLess" w="30257" h="21600">
                <a:moveTo>
                  <a:pt x="302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7" y="20200"/>
                </a:lnTo>
                <a:close/>
              </a:path>
              <a:path fill="lighten" w="302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-49320" y="1785960"/>
            <a:ext cx="9150480" cy="2919240"/>
          </a:xfrm>
          <a:prstGeom prst="rect">
            <a:avLst/>
          </a:prstGeom>
          <a:ln w="0">
            <a:noFill/>
          </a:ln>
        </p:spPr>
      </p:pic>
      <p:sp>
        <p:nvSpPr>
          <p:cNvPr id="428" name="Управляющая кнопка: настраиваемая 2"/>
          <p:cNvSpPr/>
          <p:nvPr/>
        </p:nvSpPr>
        <p:spPr>
          <a:xfrm>
            <a:off x="7500960" y="621504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-122400" y="1646280"/>
            <a:ext cx="9169560" cy="351144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настраиваемая 2"/>
          <p:cNvSpPr/>
          <p:nvPr/>
        </p:nvSpPr>
        <p:spPr>
          <a:xfrm>
            <a:off x="7143840" y="607212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34000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-49320" y="1011240"/>
            <a:ext cx="9021960" cy="4761000"/>
          </a:xfrm>
          <a:prstGeom prst="rect">
            <a:avLst/>
          </a:prstGeom>
          <a:ln w="0">
            <a:noFill/>
          </a:ln>
        </p:spPr>
      </p:pic>
      <p:sp>
        <p:nvSpPr>
          <p:cNvPr id="433" name="Управляющая кнопка: настраиваемая 2"/>
          <p:cNvSpPr/>
          <p:nvPr/>
        </p:nvSpPr>
        <p:spPr>
          <a:xfrm>
            <a:off x="7358040" y="5857920"/>
            <a:ext cx="785880" cy="500040"/>
          </a:xfrm>
          <a:custGeom>
            <a:avLst/>
            <a:gdLst>
              <a:gd name="textAreaLeft" fmla="*/ 32400 w 785880"/>
              <a:gd name="textAreaRight" fmla="*/ 753480 w 785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-49320" y="1359000"/>
            <a:ext cx="9021960" cy="3792600"/>
          </a:xfrm>
          <a:prstGeom prst="rect">
            <a:avLst/>
          </a:prstGeom>
          <a:ln w="0">
            <a:noFill/>
          </a:ln>
        </p:spPr>
      </p:pic>
      <p:sp>
        <p:nvSpPr>
          <p:cNvPr id="435" name="Управляющая кнопка: настраиваемая 2"/>
          <p:cNvSpPr/>
          <p:nvPr/>
        </p:nvSpPr>
        <p:spPr>
          <a:xfrm>
            <a:off x="7072200" y="592920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49320" y="1573200"/>
            <a:ext cx="9060120" cy="341316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настраиваемая 2"/>
          <p:cNvSpPr/>
          <p:nvPr/>
        </p:nvSpPr>
        <p:spPr>
          <a:xfrm>
            <a:off x="6858000" y="5929200"/>
            <a:ext cx="1071720" cy="642960"/>
          </a:xfrm>
          <a:custGeom>
            <a:avLst/>
            <a:gdLst>
              <a:gd name="textAreaLeft" fmla="*/ 41400 w 1071720"/>
              <a:gd name="textAreaRight" fmla="*/ 1030320 w 10717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996" h="21600">
                <a:moveTo>
                  <a:pt x="0" y="0"/>
                </a:moveTo>
                <a:lnTo>
                  <a:pt x="35996" y="0"/>
                </a:lnTo>
                <a:lnTo>
                  <a:pt x="35996" y="21600"/>
                </a:lnTo>
                <a:lnTo>
                  <a:pt x="0" y="21600"/>
                </a:lnTo>
                <a:close/>
              </a:path>
              <a:path fill="lightenLess" w="35996" h="21600">
                <a:moveTo>
                  <a:pt x="0" y="0"/>
                </a:moveTo>
                <a:lnTo>
                  <a:pt x="35996" y="0"/>
                </a:lnTo>
                <a:lnTo>
                  <a:pt x="34596" y="1400"/>
                </a:lnTo>
                <a:lnTo>
                  <a:pt x="1400" y="1400"/>
                </a:lnTo>
                <a:close/>
              </a:path>
              <a:path fill="darken" w="35996" h="21600">
                <a:moveTo>
                  <a:pt x="35996" y="0"/>
                </a:moveTo>
                <a:lnTo>
                  <a:pt x="35996" y="21600"/>
                </a:lnTo>
                <a:lnTo>
                  <a:pt x="34596" y="20200"/>
                </a:lnTo>
                <a:lnTo>
                  <a:pt x="34596" y="1400"/>
                </a:lnTo>
                <a:close/>
              </a:path>
              <a:path fill="darkenLess" w="35996" h="21600">
                <a:moveTo>
                  <a:pt x="35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6" y="20200"/>
                </a:lnTo>
                <a:close/>
              </a:path>
              <a:path fill="lighten" w="35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2268360" y="6165720"/>
            <a:ext cx="1008360" cy="432000"/>
          </a:xfrm>
          <a:custGeom>
            <a:avLst/>
            <a:gdLst>
              <a:gd name="textAreaLeft" fmla="*/ 27720 w 1008360"/>
              <a:gd name="textAreaRight" fmla="*/ 980640 w 100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94" h="21600">
                <a:moveTo>
                  <a:pt x="0" y="0"/>
                </a:moveTo>
                <a:lnTo>
                  <a:pt x="50394" y="0"/>
                </a:lnTo>
                <a:lnTo>
                  <a:pt x="50394" y="21600"/>
                </a:lnTo>
                <a:lnTo>
                  <a:pt x="0" y="21600"/>
                </a:lnTo>
                <a:close/>
              </a:path>
              <a:path fill="lightenLess" w="50394" h="21600">
                <a:moveTo>
                  <a:pt x="0" y="0"/>
                </a:moveTo>
                <a:lnTo>
                  <a:pt x="50394" y="0"/>
                </a:lnTo>
                <a:lnTo>
                  <a:pt x="48994" y="1400"/>
                </a:lnTo>
                <a:lnTo>
                  <a:pt x="1400" y="1400"/>
                </a:lnTo>
                <a:close/>
              </a:path>
              <a:path fill="darken" w="50394" h="21600">
                <a:moveTo>
                  <a:pt x="50394" y="0"/>
                </a:moveTo>
                <a:lnTo>
                  <a:pt x="50394" y="21600"/>
                </a:lnTo>
                <a:lnTo>
                  <a:pt x="48994" y="20200"/>
                </a:lnTo>
                <a:lnTo>
                  <a:pt x="48994" y="1400"/>
                </a:lnTo>
                <a:close/>
              </a:path>
              <a:path fill="darkenLess" w="50394" h="21600">
                <a:moveTo>
                  <a:pt x="50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94" y="20200"/>
                </a:lnTo>
                <a:close/>
              </a:path>
              <a:path fill="lighten" w="50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-49320" y="1427040"/>
            <a:ext cx="9144000" cy="3986280"/>
          </a:xfrm>
          <a:prstGeom prst="rect">
            <a:avLst/>
          </a:prstGeom>
          <a:ln w="0">
            <a:noFill/>
          </a:ln>
        </p:spPr>
      </p:pic>
      <p:sp>
        <p:nvSpPr>
          <p:cNvPr id="440" name="Управляющая кнопка: настраиваемая 2"/>
          <p:cNvSpPr/>
          <p:nvPr/>
        </p:nvSpPr>
        <p:spPr>
          <a:xfrm>
            <a:off x="6858000" y="5786280"/>
            <a:ext cx="785880" cy="57168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9688" h="21600">
                <a:moveTo>
                  <a:pt x="0" y="0"/>
                </a:moveTo>
                <a:lnTo>
                  <a:pt x="29688" y="0"/>
                </a:lnTo>
                <a:lnTo>
                  <a:pt x="29688" y="21600"/>
                </a:lnTo>
                <a:lnTo>
                  <a:pt x="0" y="21600"/>
                </a:lnTo>
                <a:close/>
              </a:path>
              <a:path fill="lightenLess" w="29688" h="21600">
                <a:moveTo>
                  <a:pt x="0" y="0"/>
                </a:moveTo>
                <a:lnTo>
                  <a:pt x="29688" y="0"/>
                </a:lnTo>
                <a:lnTo>
                  <a:pt x="28288" y="1400"/>
                </a:lnTo>
                <a:lnTo>
                  <a:pt x="1400" y="1400"/>
                </a:lnTo>
                <a:close/>
              </a:path>
              <a:path fill="darken" w="29688" h="21600">
                <a:moveTo>
                  <a:pt x="29688" y="0"/>
                </a:moveTo>
                <a:lnTo>
                  <a:pt x="29688" y="21600"/>
                </a:lnTo>
                <a:lnTo>
                  <a:pt x="28288" y="20200"/>
                </a:lnTo>
                <a:lnTo>
                  <a:pt x="28288" y="1400"/>
                </a:lnTo>
                <a:close/>
              </a:path>
              <a:path fill="darkenLess" w="29688" h="21600">
                <a:moveTo>
                  <a:pt x="29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88" y="20200"/>
                </a:lnTo>
                <a:close/>
              </a:path>
              <a:path fill="lighten" w="29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2195640" y="623736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9280" y="148428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3892680"/>
            <a:ext cx="86868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Arial"/>
              </a:rPr>
              <a:t>прямоугольный    тупоугольный  остроугольный</a:t>
            </a:r>
            <a:endParaRPr b="0" lang="en-US" sz="28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826920" y="1916280"/>
            <a:ext cx="2089440" cy="1296720"/>
          </a:xfrm>
          <a:prstGeom prst="rtTriangle">
            <a:avLst/>
          </a:prstGeom>
          <a:solidFill>
            <a:srgbClr val="dde9ec"/>
          </a:solidFill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8"/>
          <p:cNvCxnSpPr>
            <a:stCxn id="443" idx="0"/>
            <a:endCxn id="443" idx="0"/>
          </p:cNvCxnSpPr>
          <p:nvPr/>
        </p:nvCxnSpPr>
        <p:spPr>
          <a:xfrm>
            <a:off x="4522320" y="148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Line 9"/>
          <p:cNvSpPr/>
          <p:nvPr/>
        </p:nvSpPr>
        <p:spPr>
          <a:xfrm>
            <a:off x="2916360" y="1773360"/>
            <a:ext cx="1079280" cy="122400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3995640" y="2923920"/>
            <a:ext cx="1368360" cy="7308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916360" y="1773360"/>
            <a:ext cx="2447640" cy="115092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3"/>
          <p:cNvSpPr/>
          <p:nvPr/>
        </p:nvSpPr>
        <p:spPr>
          <a:xfrm flipH="1">
            <a:off x="6587640" y="1773360"/>
            <a:ext cx="576360" cy="143964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>
            <a:off x="7164360" y="1773360"/>
            <a:ext cx="360360" cy="136836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 flipV="1">
            <a:off x="6588000" y="3141720"/>
            <a:ext cx="936720" cy="7128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9"/>
          <p:cNvSpPr/>
          <p:nvPr/>
        </p:nvSpPr>
        <p:spPr>
          <a:xfrm>
            <a:off x="7308720" y="5734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3640" y="2332080"/>
            <a:ext cx="426708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64653"/>
                </a:solidFill>
                <a:uFillTx/>
                <a:latin typeface="Arial"/>
              </a:rPr>
              <a:t>Площадь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Arial"/>
              </a:rPr>
              <a:t>5 * 5 = 25 (см.кв.)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32000" y="2332080"/>
            <a:ext cx="38876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64653"/>
                </a:solidFill>
                <a:uFillTx/>
                <a:latin typeface="Arial"/>
              </a:rPr>
              <a:t>Периметр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Arial"/>
              </a:rPr>
              <a:t>5 * 4 = 20 см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7093080" y="595008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40 500 006</a:t>
            </a:r>
            <a:endParaRPr b="0" lang="en-US" sz="4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7524720" y="5877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ед. = 1 дес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дес. = 1 сот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сот. = 1 тыс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тыс. = 1 дес. тыс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7164360" y="580536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15920" y="2066760"/>
            <a:ext cx="9021600" cy="2114640"/>
          </a:xfrm>
          <a:prstGeom prst="rect">
            <a:avLst/>
          </a:prstGeom>
          <a:ln w="0">
            <a:noFill/>
          </a:ln>
        </p:spPr>
      </p:pic>
      <p:sp>
        <p:nvSpPr>
          <p:cNvPr id="402" name="Управляющая кнопка: настраиваемая 2">
            <a:hlinkClick r:id="rId2" action="ppaction://hlinksldjump"/>
          </p:cNvPr>
          <p:cNvSpPr/>
          <p:nvPr/>
        </p:nvSpPr>
        <p:spPr>
          <a:xfrm>
            <a:off x="771516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>
            <a:hlinkClick r:id="rId3" action="ppaction://hlinksldjump"/>
          </p:cNvPr>
          <p:cNvSpPr/>
          <p:nvPr/>
        </p:nvSpPr>
        <p:spPr>
          <a:xfrm>
            <a:off x="2124000" y="638172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2060280"/>
            <a:ext cx="86868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Самое большое  999 999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Самое маленькое 100 000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7308720" y="5877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2421000"/>
            <a:ext cx="4267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-й способ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95:5-17 = 2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24280" y="1554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2-й способ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(х + 17) * 5 = 9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5х +85 = 9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5х = 95 -8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5х =10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Х= 10 : 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х = 2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709308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64653"/>
                </a:solidFill>
                <a:latin typeface="Arial"/>
              </a:rPr>
              <a:t>а + 0 = а</a:t>
            </a:r>
            <a:endParaRPr b="0" lang="en-US" sz="72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6804000" y="558972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4653"/>
                </a:solidFill>
                <a:latin typeface="Arial"/>
              </a:rPr>
              <a:t>( 26 – 20 ) : 2 = 3 руб.</a:t>
            </a:r>
            <a:endParaRPr b="0" lang="en-US" sz="48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7596360" y="6021360"/>
            <a:ext cx="863280" cy="43200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-122400" y="1925640"/>
            <a:ext cx="9021960" cy="2433600"/>
          </a:xfrm>
          <a:prstGeom prst="rect">
            <a:avLst/>
          </a:prstGeom>
          <a:ln w="0">
            <a:noFill/>
          </a:ln>
        </p:spPr>
      </p:pic>
      <p:sp>
        <p:nvSpPr>
          <p:cNvPr id="405" name="Управляющая кнопка: настраиваемая 2">
            <a:hlinkClick r:id="rId2" action="ppaction://hlinksldjump"/>
          </p:cNvPr>
          <p:cNvSpPr/>
          <p:nvPr/>
        </p:nvSpPr>
        <p:spPr>
          <a:xfrm>
            <a:off x="8001000" y="64292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>
            <a:hlinkClick r:id="rId3" action="ppaction://hlinksldjump"/>
          </p:cNvPr>
          <p:cNvSpPr/>
          <p:nvPr/>
        </p:nvSpPr>
        <p:spPr>
          <a:xfrm>
            <a:off x="234000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30240" y="457200"/>
            <a:ext cx="9021960" cy="1719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09" name="Параллелограмм 3"/>
          <p:cNvSpPr/>
          <p:nvPr/>
        </p:nvSpPr>
        <p:spPr>
          <a:xfrm>
            <a:off x="1143000" y="2214720"/>
            <a:ext cx="7429680" cy="3357360"/>
          </a:xfrm>
          <a:prstGeom prst="parallelogram">
            <a:avLst>
              <a:gd name="adj" fmla="val 24998"/>
            </a:avLst>
          </a:prstGeom>
          <a:solidFill>
            <a:srgbClr val="ffffff"/>
          </a:solidFill>
          <a:ln w="2556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17"/>
          <p:cNvSpPr/>
          <p:nvPr/>
        </p:nvSpPr>
        <p:spPr>
          <a:xfrm flipV="1">
            <a:off x="1143000" y="2214720"/>
            <a:ext cx="7429680" cy="3357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19"/>
          <p:cNvSpPr/>
          <p:nvPr/>
        </p:nvSpPr>
        <p:spPr>
          <a:xfrm>
            <a:off x="1561320" y="3894120"/>
            <a:ext cx="659124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Управляющая кнопка: настраиваемая 6"/>
          <p:cNvSpPr/>
          <p:nvPr/>
        </p:nvSpPr>
        <p:spPr>
          <a:xfrm>
            <a:off x="7358040" y="614376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3760" y="2073240"/>
            <a:ext cx="9023400" cy="2187720"/>
          </a:xfrm>
          <a:prstGeom prst="rect">
            <a:avLst/>
          </a:prstGeom>
          <a:ln w="0">
            <a:noFill/>
          </a:ln>
        </p:spPr>
      </p:pic>
      <p:sp>
        <p:nvSpPr>
          <p:cNvPr id="414" name="Управляющая кнопка: настраиваемая 2"/>
          <p:cNvSpPr/>
          <p:nvPr/>
        </p:nvSpPr>
        <p:spPr>
          <a:xfrm>
            <a:off x="764388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241128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12760" y="1225440"/>
            <a:ext cx="8686800" cy="3840120"/>
          </a:xfrm>
          <a:prstGeom prst="rect">
            <a:avLst/>
          </a:prstGeom>
          <a:ln w="0">
            <a:noFill/>
          </a:ln>
        </p:spPr>
      </p:pic>
      <p:sp>
        <p:nvSpPr>
          <p:cNvPr id="417" name="Управляющая кнопка: настраиваемая 2"/>
          <p:cNvSpPr/>
          <p:nvPr/>
        </p:nvSpPr>
        <p:spPr>
          <a:xfrm>
            <a:off x="7380360" y="616572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2268360" y="6237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-92160" y="1762200"/>
            <a:ext cx="9328320" cy="2676600"/>
          </a:xfrm>
          <a:prstGeom prst="rect">
            <a:avLst/>
          </a:prstGeom>
          <a:ln w="0">
            <a:noFill/>
          </a:ln>
        </p:spPr>
      </p:pic>
      <p:sp>
        <p:nvSpPr>
          <p:cNvPr id="420" name="Управляющая кнопка: настраиваемая 2"/>
          <p:cNvSpPr/>
          <p:nvPr/>
        </p:nvSpPr>
        <p:spPr>
          <a:xfrm>
            <a:off x="7451640" y="6237360"/>
            <a:ext cx="714600" cy="42840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18" h="21600">
                <a:moveTo>
                  <a:pt x="0" y="0"/>
                </a:moveTo>
                <a:lnTo>
                  <a:pt x="36018" y="0"/>
                </a:lnTo>
                <a:lnTo>
                  <a:pt x="36018" y="21600"/>
                </a:lnTo>
                <a:lnTo>
                  <a:pt x="0" y="21600"/>
                </a:lnTo>
                <a:close/>
              </a:path>
              <a:path fill="lightenLess" w="36018" h="21600">
                <a:moveTo>
                  <a:pt x="0" y="0"/>
                </a:moveTo>
                <a:lnTo>
                  <a:pt x="36018" y="0"/>
                </a:lnTo>
                <a:lnTo>
                  <a:pt x="34618" y="1400"/>
                </a:lnTo>
                <a:lnTo>
                  <a:pt x="1400" y="1400"/>
                </a:lnTo>
                <a:close/>
              </a:path>
              <a:path fill="darken" w="36018" h="21600">
                <a:moveTo>
                  <a:pt x="36018" y="0"/>
                </a:moveTo>
                <a:lnTo>
                  <a:pt x="36018" y="21600"/>
                </a:lnTo>
                <a:lnTo>
                  <a:pt x="34618" y="20200"/>
                </a:lnTo>
                <a:lnTo>
                  <a:pt x="34618" y="1400"/>
                </a:lnTo>
                <a:close/>
              </a:path>
              <a:path fill="darkenLess" w="36018" h="21600">
                <a:moveTo>
                  <a:pt x="36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8" y="20200"/>
                </a:lnTo>
                <a:close/>
              </a:path>
              <a:path fill="lighten" w="36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2268360" y="6237360"/>
            <a:ext cx="648000" cy="43164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18" h="21600">
                <a:moveTo>
                  <a:pt x="0" y="0"/>
                </a:moveTo>
                <a:lnTo>
                  <a:pt x="32418" y="0"/>
                </a:lnTo>
                <a:lnTo>
                  <a:pt x="32418" y="21600"/>
                </a:lnTo>
                <a:lnTo>
                  <a:pt x="0" y="21600"/>
                </a:lnTo>
                <a:close/>
              </a:path>
              <a:path fill="lightenLess" w="32418" h="21600">
                <a:moveTo>
                  <a:pt x="0" y="0"/>
                </a:moveTo>
                <a:lnTo>
                  <a:pt x="32418" y="0"/>
                </a:lnTo>
                <a:lnTo>
                  <a:pt x="31018" y="1400"/>
                </a:lnTo>
                <a:lnTo>
                  <a:pt x="1400" y="1400"/>
                </a:lnTo>
                <a:close/>
              </a:path>
              <a:path fill="darken" w="32418" h="21600">
                <a:moveTo>
                  <a:pt x="32418" y="0"/>
                </a:moveTo>
                <a:lnTo>
                  <a:pt x="32418" y="21600"/>
                </a:lnTo>
                <a:lnTo>
                  <a:pt x="31018" y="20200"/>
                </a:lnTo>
                <a:lnTo>
                  <a:pt x="31018" y="1400"/>
                </a:lnTo>
                <a:close/>
              </a:path>
              <a:path fill="darkenLess" w="32418" h="21600">
                <a:moveTo>
                  <a:pt x="3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8" y="20200"/>
                </a:lnTo>
                <a:close/>
              </a:path>
              <a:path fill="lighten" w="3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-49320" y="1481040"/>
            <a:ext cx="9296640" cy="3389400"/>
          </a:xfrm>
          <a:prstGeom prst="rect">
            <a:avLst/>
          </a:prstGeom>
          <a:ln w="0">
            <a:noFill/>
          </a:ln>
        </p:spPr>
      </p:pic>
      <p:sp>
        <p:nvSpPr>
          <p:cNvPr id="423" name="Управляющая кнопка: настраиваемая 2"/>
          <p:cNvSpPr/>
          <p:nvPr/>
        </p:nvSpPr>
        <p:spPr>
          <a:xfrm>
            <a:off x="7500960" y="614376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2556000" y="616572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686800" cy="371952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настраиваемая 2"/>
          <p:cNvSpPr/>
          <p:nvPr/>
        </p:nvSpPr>
        <p:spPr>
          <a:xfrm>
            <a:off x="7643880" y="607212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3:45:11Z</dcterms:created>
  <dc:creator>Иван</dc:creator>
  <dc:description/>
  <dc:language>en-US</dc:language>
  <cp:lastModifiedBy>Acer</cp:lastModifiedBy>
  <dcterms:modified xsi:type="dcterms:W3CDTF">2019-11-24T09:43:31Z</dcterms:modified>
  <cp:revision>22</cp:revision>
  <dc:subject/>
  <dc:title>Считай, думай, рассуждай!</dc:title>
</cp:coreProperties>
</file>