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7.png" ContentType="image/png"/>
  <Override PartName="/ppt/media/image16.gif" ContentType="image/gif"/>
  <Override PartName="/ppt/media/image2.png" ContentType="image/png"/>
  <Override PartName="/ppt/media/image18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8712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5592240" y="-360"/>
            <a:ext cx="4278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3249720" y="504360"/>
            <a:ext cx="3373200" cy="25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87480" y="3201480"/>
            <a:ext cx="7897680" cy="30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0" y="640368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5592240" y="6403680"/>
            <a:ext cx="4278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97B0-B3AC-41BD-82F2-BE32AD5B1E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249720" y="504720"/>
            <a:ext cx="3373200" cy="25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87480" y="3201480"/>
            <a:ext cx="7897680" cy="30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44F6-68F7-489E-94A4-7152B858C559}" type="slidenum">
              <a:rPr b="0" lang="ru-RU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E7E-3C3F-43D3-903D-B5090CA7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3AF-6587-4BDD-921C-939066D4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630-2372-49F3-9823-26E24687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5FE6-D4F9-48D0-9C3A-F912DAE6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029B-011B-43D1-939F-A4A58DC4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2726-5D1E-4860-9621-0591D4D2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C3D4-1446-44DB-A458-FC28BFAA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1E94-9A2F-466D-B868-F8C37EB9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5AA0-913E-47CC-9066-5C1EABD3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FBF2-27B9-47AA-9F22-D0E18679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BB82-D433-414C-BC13-6B528A0C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6EC-8711-4236-AC08-60206FE5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3C48-7694-40FE-8821-56A66405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2146-8000-400F-A5AC-13760923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E167-4E58-4CAF-978B-CB9581BD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DD6A-CC89-4D84-A318-A89FC79C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996A-2A4B-4A9D-988F-4E584CE8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D6E28-8244-4FEF-A661-869E7162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0C919-D1BC-4FCB-B6A7-615C4E13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A9784-F890-41A1-99CB-F79EABF9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4D35-70A7-49F9-9990-24CEB4A5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05A89-90D7-46DD-AAB1-73F16B00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6FE-EBA0-471A-8032-FF86610D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F409D-C14A-4E8D-9E42-8631F245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C1805-52B7-427D-A64E-6EA5296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7FBFA-3A4F-4AF8-BA48-818FF0E6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1884B-D80A-40F8-8AA5-096553B1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6B77-2108-42B5-99A2-CCAC5C80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D2357-4F36-45FC-B200-A1BB8E7A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E307E-7A04-477C-AB46-076C2386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34EA6-6A7B-41E5-ACFE-D66142F1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BE11E-840D-43B5-8558-CD5521EA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A7434-0B36-4530-A995-E87CE2C4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E45-87BF-49A5-BB37-C9E09BB5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B0159-46AA-4937-8EE4-BF4A852E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F54AA-0D92-4AA9-81D6-8805B082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66080-6DAF-4527-A5A6-5F681A6D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7F294-E887-4391-8E56-8D0E22BA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A235D-E58E-4F9F-9627-6DCA21A1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431FD-AB80-4573-BE2B-B9E0AE7A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241B6-46BE-48F7-BDFD-9F7A28E6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3F88C-7A1F-4919-9173-67D62251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CFDE0-9E3D-4C90-B350-D38AE591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B3293-0DC7-4E3B-8BEA-32EEACF7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CFD-98F8-4101-849B-0AE5D214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D1CA1-460B-4BE8-BD57-64DA947C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CD173-4BF7-47CB-94D5-C3D4E0D5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7818C-7BAD-4E01-AFAA-C5ACEE40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E0DFF-926C-4BDE-ABCF-D43301E9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1B59B-79F9-45E0-86C2-7D39A6D1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790A9-63B1-4BC6-B373-4CD3282A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72B56-EAE3-444E-B076-1A43E738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D0156-CAC4-45F3-BA0E-4C2D5A31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05821-F4E2-4B7E-AA72-464164D8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D972F-D5B9-4C1F-8301-8B70215C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AD3-7EEC-484F-B8D3-3AC0C30B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E6437-685A-4954-9C17-7DB2C2AD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965-83CE-4859-BDB7-83A588B2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8B3-433D-4F89-97D3-3ECE279C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4B4-E6CA-4753-B9F7-22C7C9E5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6c52"/>
            </a:gs>
            <a:gs pos="100000">
              <a:srgbClr val="ffa37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88D5-9A27-4C3B-B0A3-4B05CEB1DC7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6c52"/>
            </a:gs>
            <a:gs pos="100000">
              <a:srgbClr val="ffa37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8D73-321E-4754-BD4C-5D3A829D694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6c52"/>
            </a:gs>
            <a:gs pos="100000">
              <a:srgbClr val="ffa37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1CDF-5418-4322-8F51-5F3D673BE4C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6c52"/>
            </a:gs>
            <a:gs pos="100000">
              <a:srgbClr val="ffa37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7427-DB62-4805-A3CE-688C99574C1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6c52"/>
            </a:gs>
            <a:gs pos="100000">
              <a:srgbClr val="ffa37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0E07-81C8-4A9E-AD88-CA3C3DE342A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1060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-324000" y="1729080"/>
            <a:ext cx="968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Электроскоп.</a:t>
            </a:r>
            <a:endParaRPr b="0" lang="en-US" sz="35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 </a:t>
            </a:r>
            <a:endParaRPr b="0" lang="en-US" sz="35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3"/>
          <p:cNvSpPr/>
          <p:nvPr/>
        </p:nvSpPr>
        <p:spPr>
          <a:xfrm>
            <a:off x="179280" y="285840"/>
            <a:ext cx="878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490"/>
                </a:solidFill>
                <a:latin typeface="Times New Roman"/>
                <a:ea typeface="Times New Roman"/>
              </a:rPr>
              <a:t>Электроскопы  или  электрометры </a:t>
            </a: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4" name="Прямоугольник 4"/>
          <p:cNvSpPr/>
          <p:nvPr/>
        </p:nvSpPr>
        <p:spPr>
          <a:xfrm>
            <a:off x="366840" y="1700280"/>
            <a:ext cx="8410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ктроскоп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36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прибор для обнаружения наэлектризованных тел. Принцип его действия основан на отталкивании одноименно заряженных тел.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16000" y="195120"/>
            <a:ext cx="1116000" cy="162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http://www.fizika.ru/theory/tema-09/09a-i2.gif"/>
          <p:cNvPicPr/>
          <p:nvPr/>
        </p:nvPicPr>
        <p:blipFill>
          <a:blip r:embed="rId1"/>
          <a:stretch/>
        </p:blipFill>
        <p:spPr>
          <a:xfrm>
            <a:off x="171360" y="1103400"/>
            <a:ext cx="3273480" cy="54007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"/>
          <p:cNvSpPr/>
          <p:nvPr/>
        </p:nvSpPr>
        <p:spPr>
          <a:xfrm>
            <a:off x="3456000" y="1562400"/>
            <a:ext cx="568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1. цилиндрический корпус;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2. стекло;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3. металлический стержень; 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4. легкоподвижные лепестки; 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5. пластмассовая втулка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1403280" y="19512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электроскопа</a:t>
            </a:r>
            <a:endParaRPr b="0" lang="en-US" sz="40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1332000" y="54936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Передача заряда электроскопу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70" name="Picture 2" descr="468px-F8"/>
          <p:cNvPicPr/>
          <p:nvPr/>
        </p:nvPicPr>
        <p:blipFill>
          <a:blip r:embed="rId1"/>
          <a:stretch/>
        </p:blipFill>
        <p:spPr>
          <a:xfrm>
            <a:off x="-1440" y="1916280"/>
            <a:ext cx="9037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3"/>
          <p:cNvSpPr/>
          <p:nvPr/>
        </p:nvSpPr>
        <p:spPr>
          <a:xfrm>
            <a:off x="2411280" y="33336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ктрометр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72" name="Picture 6" descr="ANd9GcR_xmx2IbnFZU5UcIekG9SQGnaMOART_d52aS3FJrEWiJ_IiqqH4w"/>
          <p:cNvPicPr/>
          <p:nvPr/>
        </p:nvPicPr>
        <p:blipFill>
          <a:blip r:embed="rId1"/>
          <a:stretch/>
        </p:blipFill>
        <p:spPr>
          <a:xfrm>
            <a:off x="539640" y="1282680"/>
            <a:ext cx="8207640" cy="5456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92240" y="1659960"/>
            <a:ext cx="878652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одники </a:t>
            </a:r>
            <a:r>
              <a:rPr b="1" lang="ru-RU" sz="3600" spc="-1" strike="noStrike">
                <a:solidFill>
                  <a:srgbClr val="005490"/>
                </a:solidFill>
                <a:latin typeface="Times New Roman"/>
                <a:ea typeface="Times New Roman"/>
              </a:rPr>
              <a:t>–</a:t>
            </a:r>
            <a:r>
              <a:rPr b="1" lang="ru-RU" sz="3600" spc="-1" strike="noStrike">
                <a:solidFill>
                  <a:srgbClr val="00386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тела и вещества, в которых существуют свободные заряженные частицы; они могут перемещаться, перенося заряд в другие части тела или к другим телам. 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1332000" y="4711320"/>
            <a:ext cx="871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5" name="TextBox 1"/>
          <p:cNvSpPr/>
          <p:nvPr/>
        </p:nvSpPr>
        <p:spPr>
          <a:xfrm>
            <a:off x="20520" y="309600"/>
            <a:ext cx="878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одники и непроводники элекричества</a:t>
            </a:r>
            <a:endParaRPr b="0" lang="en-US" sz="40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7961400" y="4869000"/>
            <a:ext cx="1017360" cy="176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31680" y="1484280"/>
            <a:ext cx="929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электрики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– вещества, не имеющие свободных зарядов и, поэтому, не позволяющие заряду одного тела "перетекать" на другие тела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7496280" y="4076640"/>
            <a:ext cx="12762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142920" y="-39960"/>
            <a:ext cx="9001080" cy="71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иц-опрос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860"/>
              </a:buClr>
              <a:buFont typeface="Times New Roman"/>
              <a:buAutoNum type="arabicPeriod"/>
              <a:tabLst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0038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Наэлектризованный предмет способен притягивать не только твердые тела, но и...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1c1911"/>
              </a:buClr>
              <a:buFont typeface="Times New Roman"/>
              <a:buAutoNum type="arabicPeriod"/>
              <a:tabLst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Как ведут себя два тела, одно из которых наэлектризовано, а второе - нет?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1c1911"/>
              </a:buClr>
              <a:buFont typeface="Times New Roman"/>
              <a:buAutoNum type="arabicPeriod"/>
              <a:tabLst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Как проявляется электрическое взаимодействие наэлектризовавшейся одежды?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1c1911"/>
              </a:buClr>
              <a:buFont typeface="Times New Roman"/>
              <a:buAutoNum type="arabicPeriod"/>
              <a:tabLst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Как называются приборы, предназначенные для обнаружения наэлектризованных тел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" name="TextBox 2"/>
          <p:cNvSpPr/>
          <p:nvPr/>
        </p:nvSpPr>
        <p:spPr>
          <a:xfrm>
            <a:off x="142920" y="255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 материала                                                                    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395280" y="392040"/>
            <a:ext cx="1028880" cy="99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179280" y="692280"/>
            <a:ext cx="87854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5. Какой существует еще вид электризации, кроме электризации трением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6. Как взаимодействуют эбонит и шерсть, наэлектризованные друг о друга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7. Как взаимодействуют стекло и шелк, наэлектризованные друг о друга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8. Что является единицей измерения заряда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9. Почему заряд тела нельзя делить бесконечно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7451640" y="27478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108000" y="766800"/>
            <a:ext cx="8856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8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§ 27; стр. 63 – вопросы</a:t>
            </a:r>
            <a:endParaRPr b="0" lang="en-US" sz="48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Составить кроссворд со словом электричество</a:t>
            </a:r>
            <a:endParaRPr b="0" lang="en-US" sz="4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5" descr="animals4"/>
          <p:cNvPicPr/>
          <p:nvPr/>
        </p:nvPicPr>
        <p:blipFill>
          <a:blip r:embed="rId1"/>
          <a:stretch/>
        </p:blipFill>
        <p:spPr>
          <a:xfrm>
            <a:off x="0" y="4727520"/>
            <a:ext cx="2082960" cy="1874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b1"/>
          <p:cNvPicPr/>
          <p:nvPr/>
        </p:nvPicPr>
        <p:blipFill>
          <a:blip r:embed="rId2"/>
          <a:stretch/>
        </p:blipFill>
        <p:spPr>
          <a:xfrm>
            <a:off x="7559640" y="4834080"/>
            <a:ext cx="1584360" cy="1662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logo"/>
          <p:cNvPicPr/>
          <p:nvPr/>
        </p:nvPicPr>
        <p:blipFill>
          <a:blip r:embed="rId3"/>
          <a:stretch/>
        </p:blipFill>
        <p:spPr>
          <a:xfrm>
            <a:off x="339840" y="189000"/>
            <a:ext cx="2160360" cy="1620720"/>
          </a:xfrm>
          <a:prstGeom prst="rect">
            <a:avLst/>
          </a:prstGeom>
          <a:ln w="0">
            <a:noFill/>
          </a:ln>
        </p:spPr>
      </p:pic>
      <p:grpSp>
        <p:nvGrpSpPr>
          <p:cNvPr id="288" name="Вертикальный свиток 12"/>
          <p:cNvGrpSpPr/>
          <p:nvPr/>
        </p:nvGrpSpPr>
        <p:grpSpPr>
          <a:xfrm>
            <a:off x="2766960" y="1006560"/>
            <a:ext cx="5176800" cy="4095720"/>
            <a:chOff x="2766960" y="1006560"/>
            <a:chExt cx="5176800" cy="4095720"/>
          </a:xfrm>
        </p:grpSpPr>
        <p:pic>
          <p:nvPicPr>
            <p:cNvPr id="289" name="Вертикальный свиток 12" descr=""/>
            <p:cNvPicPr/>
            <p:nvPr/>
          </p:nvPicPr>
          <p:blipFill>
            <a:blip r:embed="rId4"/>
            <a:stretch/>
          </p:blipFill>
          <p:spPr>
            <a:xfrm>
              <a:off x="2766960" y="1006560"/>
              <a:ext cx="517680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282840" y="1521000"/>
              <a:ext cx="4146840" cy="33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df0eb"/>
                  </a:solidFill>
                  <a:latin typeface="Courier New"/>
                  <a:ea typeface="Courier New"/>
                </a:rPr>
                <a:t>Всем всего доброго!</a:t>
              </a:r>
              <a:endParaRPr b="0" lang="en-US" sz="40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291" name="TextBox 5"/>
          <p:cNvSpPr/>
          <p:nvPr/>
        </p:nvSpPr>
        <p:spPr>
          <a:xfrm>
            <a:off x="3924000" y="4187880"/>
            <a:ext cx="28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e0d7"/>
                </a:solidFill>
                <a:latin typeface="Courier New"/>
                <a:ea typeface="Courier New"/>
              </a:rPr>
              <a:t>Спасибо</a:t>
            </a:r>
            <a:r>
              <a:rPr b="0" lang="ru-RU" sz="4400" spc="-1" strike="noStrike">
                <a:solidFill>
                  <a:srgbClr val="fbe0d7"/>
                </a:solidFill>
                <a:latin typeface="Courier New"/>
                <a:ea typeface="Courier New"/>
              </a:rPr>
              <a:t>.</a:t>
            </a: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757080" y="1540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ка домашнего задания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0" y="981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1c19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Как было открыто явление электризации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c19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Только ли янтарь обладает свойством притягивать к себе мелкие частички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3. Кто создал первую электростатическую машину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4. Какие виды зарядов вы знаете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5. Как ведут себя заряженные тела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c19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7308720" y="4924440"/>
            <a:ext cx="1584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2"/>
          <p:cNvSpPr/>
          <p:nvPr/>
        </p:nvSpPr>
        <p:spPr>
          <a:xfrm>
            <a:off x="187200" y="1628640"/>
            <a:ext cx="87854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оза застала в поле – садись на землю</a:t>
            </a: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54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Почему?</a:t>
            </a:r>
            <a:endParaRPr b="0" lang="en-US" sz="54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6372360" y="4869000"/>
            <a:ext cx="238572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886120" y="115920"/>
            <a:ext cx="3773520" cy="569124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"/>
          <p:cNvSpPr/>
          <p:nvPr/>
        </p:nvSpPr>
        <p:spPr>
          <a:xfrm>
            <a:off x="3348000" y="565632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К. Е. Маковский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2124000" y="6102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Дети, бегущие от грозы (1872 г.)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108000" y="333360"/>
            <a:ext cx="770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кошку не гладь, все искры летят.</a:t>
            </a:r>
            <a:endParaRPr b="0" lang="en-US" sz="66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Почему?</a:t>
            </a:r>
            <a:endParaRPr b="0" lang="en-US" sz="54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3130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395280" y="76500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жа с искорками, все вон повыскакали.</a:t>
            </a:r>
            <a:endParaRPr b="0" lang="en-US" sz="66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От чего бы искрам выскакивать?</a:t>
            </a:r>
            <a:endParaRPr b="0" lang="en-US" sz="54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7440480" y="4149720"/>
            <a:ext cx="13780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0" y="105264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дальним селам, городам</a:t>
            </a:r>
            <a:endParaRPr b="0" lang="en-US" sz="60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идет по проводам?</a:t>
            </a:r>
            <a:endParaRPr b="0" lang="en-US" sz="60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етлое величество!</a:t>
            </a:r>
            <a:endParaRPr b="0" lang="en-US" sz="60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…</a:t>
            </a:r>
            <a:endParaRPr b="0" lang="en-US" sz="60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7518240" y="4437000"/>
            <a:ext cx="123372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http://www.fizika.ru/theory/tema-09/09e-i1.gif"/>
          <p:cNvPicPr/>
          <p:nvPr/>
        </p:nvPicPr>
        <p:blipFill>
          <a:blip r:embed="rId1"/>
          <a:stretch/>
        </p:blipFill>
        <p:spPr>
          <a:xfrm>
            <a:off x="360360" y="1504800"/>
            <a:ext cx="3718080" cy="231804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2" descr="Бумажки и расческа"/>
          <p:cNvPicPr/>
          <p:nvPr/>
        </p:nvPicPr>
        <p:blipFill>
          <a:blip r:embed="rId2"/>
          <a:stretch/>
        </p:blipFill>
        <p:spPr>
          <a:xfrm>
            <a:off x="5005440" y="1487520"/>
            <a:ext cx="3340080" cy="23097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"/>
          <p:cNvSpPr/>
          <p:nvPr/>
        </p:nvSpPr>
        <p:spPr>
          <a:xfrm>
            <a:off x="611280" y="4155480"/>
            <a:ext cx="426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Эбонитовая палочка, потертая о шерсть притягивает листочки фольги</a:t>
            </a:r>
            <a:r>
              <a:rPr b="0" lang="ru-RU" sz="2400" spc="-1" strike="noStrike">
                <a:solidFill>
                  <a:srgbClr val="1c1911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5003640" y="422064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Расческа потертая о волосы притягивает мелкие листочки бумаги</a:t>
            </a:r>
            <a:r>
              <a:rPr b="0" lang="ru-RU" sz="24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900000" y="184320"/>
            <a:ext cx="744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Электризация тел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ANd9GcQCovnrIIIV58sJjDVep7tUJN2GgpDnJ8X0xl_IDVM34NhB5Ob6"/>
          <p:cNvPicPr/>
          <p:nvPr/>
        </p:nvPicPr>
        <p:blipFill>
          <a:blip r:embed="rId1"/>
          <a:stretch/>
        </p:blipFill>
        <p:spPr>
          <a:xfrm>
            <a:off x="117360" y="1844640"/>
            <a:ext cx="8960040" cy="30970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1405080" y="3333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Опыт с гильзой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757080" y="5253120"/>
            <a:ext cx="70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Чем объяснить это явление?</a:t>
            </a: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37:59Z</dcterms:created>
  <dc:creator>Надежда</dc:creator>
  <dc:description/>
  <dc:language>en-US</dc:language>
  <cp:lastModifiedBy>Admin</cp:lastModifiedBy>
  <cp:lastPrinted>2015-04-09T11:02:23Z</cp:lastPrinted>
  <dcterms:modified xsi:type="dcterms:W3CDTF">2015-10-11T20:57:56Z</dcterms:modified>
  <cp:revision>74</cp:revision>
  <dc:subject/>
  <dc:title>Урок</dc:title>
</cp:coreProperties>
</file>