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7.png" ContentType="image/png"/>
  <Override PartName="/ppt/media/image16.gif" ContentType="image/gif"/>
  <Override PartName="/ppt/media/image2.png" ContentType="image/png"/>
  <Override PartName="/ppt/media/image18.png" ContentType="image/png"/>
  <Override PartName="/ppt/media/image15.gif" ContentType="image/gif"/>
  <Override PartName="/ppt/media/image1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8712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6"/>
          </p:nvPr>
        </p:nvSpPr>
        <p:spPr>
          <a:xfrm>
            <a:off x="5592240" y="-360"/>
            <a:ext cx="42786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3249720" y="504360"/>
            <a:ext cx="3373200" cy="25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987480" y="3201480"/>
            <a:ext cx="7897680" cy="30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7"/>
          </p:nvPr>
        </p:nvSpPr>
        <p:spPr>
          <a:xfrm>
            <a:off x="0" y="640368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18"/>
          </p:nvPr>
        </p:nvSpPr>
        <p:spPr>
          <a:xfrm>
            <a:off x="5592240" y="6403680"/>
            <a:ext cx="42786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3BA2-EEE5-4445-8040-B38A52C1DF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3249720" y="504720"/>
            <a:ext cx="3373200" cy="25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87480" y="3201480"/>
            <a:ext cx="7897680" cy="30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96EB-F34D-4464-B77C-9452747094F7}" type="slidenum">
              <a:rPr b="0" lang="ru-RU" sz="12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66B-02F7-4C78-9B37-B82D73FD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4352-DB4B-4AAE-AFB9-A8A6E695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A2DB-3615-483D-B19F-341642F0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7FCA-0DD7-471E-B060-5BDBB06F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3BCF-EB34-47BA-AADE-AACBEF3C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CD81-299C-423E-9B9E-A97D1BFC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4A9C-1408-48A1-ABFE-8A0F1E46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2535-14C2-4E3D-94D6-10D8C44B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9973-2DC0-458D-A522-DE5BB38A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95FB-32D1-44EE-98EE-2B80D5E4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E44B-6E8E-42B6-AC74-708F9274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7980-D1DF-4E37-A2CA-D9B60916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AF97-43A4-41F4-B9E3-E6FCB40D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4C00-B672-4C69-ADE0-93BF9B96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1A05-9AE8-4FCD-8473-3153F6B7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7B47-0D0E-483E-8CB7-E7D5487E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5F79-B47D-47A8-ACCF-F5D0F299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D2571-0054-4F71-A7AC-DA302F8E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1D50A-A71F-4796-91C4-35A401FE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A06C6-4EB0-40DE-8481-F95D41C7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659CE-3686-4156-B2D0-0460EEDA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B7C38-0C0B-44DB-B064-42F5534A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70D9-B5BA-47AE-BA8C-E3C1C2F5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9BCF7-DAAC-4F4B-88E7-F28D4187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ED742-4491-44F8-B3EF-C7F16AA7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9B7BA-BC1B-461B-BFD2-7FD6D85D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EBE49-7640-48AB-8A45-6349D809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B7F09-F4EE-49D5-A467-EE8EB4C2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58AD3-51A9-42B9-9C0D-3B1AF5F3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FD7AD-F9D0-43F3-B7F0-51391844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00FE8-B3BB-4702-BDA2-2B465C13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EF6E7-24F6-469E-9A44-590F747B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455A5-D776-4B14-94D8-9308AD3C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1A39-2BFA-433E-A5AD-D918C00E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FC57D-B0EE-439E-96CF-232DFC43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D7213-18B1-4417-AF10-91B154BD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7940E-4B8D-4927-B10F-298F12BA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BB673-2BDC-46F0-9502-E5E541A5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E1432-262F-457F-AC23-BC92204C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85C6D-BCD8-4241-9B49-B40D8606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FC360-01CB-4981-B476-8862B078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6EFF7-EC03-4175-A8BD-E447C0AF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5A0B1-8D10-4A5F-829F-3A620522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3BB54-E4A9-48E7-B8F6-242AD161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63F-9616-4377-AB92-903B6C7B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D1A3A-B8EC-405A-BB4C-24C0AC5A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C4E4B-F6AC-47FC-A234-8C0B48C3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1A77F-AF64-4A7A-8173-633C9419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F87CC-5BED-4A07-A5BE-26E737E4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F0707-C801-4751-AFC4-64DC5D3D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65BB5-2C5A-4F82-AC1F-5514864C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C5C11-EB50-4DC8-BAEB-FA28804D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52393-3C0D-43F6-95A2-D38B4F75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D2694-459D-44E6-BE0C-69EC807A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7AE34-C5B8-445D-BFFA-D187A700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DC91-D3D8-4FAE-B9AA-AAE19E43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B974D-09A8-4BD2-9379-45CEBC63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0D6C-B639-4383-AEDE-F52BC697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D4A-BE8A-41C8-9008-7C678787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C157-0CC3-4640-8F63-895579CE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6c52"/>
            </a:gs>
            <a:gs pos="100000">
              <a:srgbClr val="ffa37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70c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70c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0A36-D9B8-466C-83DF-ED452A6D3DA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6c52"/>
            </a:gs>
            <a:gs pos="100000">
              <a:srgbClr val="ffa37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70c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70c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D527-37D6-400B-A91C-BC03E1992AE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6c52"/>
            </a:gs>
            <a:gs pos="100000">
              <a:srgbClr val="ffa37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94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97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70c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70c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F13E-7755-4800-A175-6875465B881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6c52"/>
            </a:gs>
            <a:gs pos="100000">
              <a:srgbClr val="ffa37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4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70c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70c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4BC8-9A9E-4C03-A958-3D8EBE7C7FD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6c52"/>
            </a:gs>
            <a:gs pos="100000">
              <a:srgbClr val="ffa37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70c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70c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EFFC-6F04-4085-8F99-0623160D68C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21060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  <p:sp>
        <p:nvSpPr>
          <p:cNvPr id="240" name="Rectangle 1"/>
          <p:cNvSpPr/>
          <p:nvPr/>
        </p:nvSpPr>
        <p:spPr>
          <a:xfrm>
            <a:off x="-324000" y="1729080"/>
            <a:ext cx="9684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Электроскоп.</a:t>
            </a:r>
            <a:endParaRPr b="0" lang="en-US" sz="3500" spc="-1" strike="noStrike">
              <a:solidFill>
                <a:srgbClr val="0070c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 </a:t>
            </a:r>
            <a:endParaRPr b="0" lang="en-US" sz="35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3"/>
          <p:cNvSpPr/>
          <p:nvPr/>
        </p:nvSpPr>
        <p:spPr>
          <a:xfrm>
            <a:off x="179280" y="285840"/>
            <a:ext cx="878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490"/>
                </a:solidFill>
                <a:latin typeface="Times New Roman"/>
                <a:ea typeface="Times New Roman"/>
              </a:rPr>
              <a:t>Электроскопы  или  электрометры </a:t>
            </a: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4" name="Прямоугольник 4"/>
          <p:cNvSpPr/>
          <p:nvPr/>
        </p:nvSpPr>
        <p:spPr>
          <a:xfrm>
            <a:off x="366840" y="1700280"/>
            <a:ext cx="8410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лектроскоп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36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прибор для обнаружения наэлектризованных тел. Принцип его действия основан на отталкивании одноименно заряженных тел.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216000" y="195120"/>
            <a:ext cx="1116000" cy="1627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1" descr="http://www.fizika.ru/theory/tema-09/09a-i2.gif"/>
          <p:cNvPicPr/>
          <p:nvPr/>
        </p:nvPicPr>
        <p:blipFill>
          <a:blip r:embed="rId1"/>
          <a:stretch/>
        </p:blipFill>
        <p:spPr>
          <a:xfrm>
            <a:off x="171360" y="1103400"/>
            <a:ext cx="3273480" cy="54007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"/>
          <p:cNvSpPr/>
          <p:nvPr/>
        </p:nvSpPr>
        <p:spPr>
          <a:xfrm>
            <a:off x="3456000" y="1562400"/>
            <a:ext cx="568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1. цилиндрический корпус;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2. стекло;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3. металлический стержень; 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4. легкоподвижные лепестки; 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5. пластмассовая втулка.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1403280" y="19512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электроскопа</a:t>
            </a:r>
            <a:endParaRPr b="0" lang="en-US" sz="40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"/>
          <p:cNvSpPr/>
          <p:nvPr/>
        </p:nvSpPr>
        <p:spPr>
          <a:xfrm>
            <a:off x="1332000" y="54936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Передача заряда электроскопу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270" name="Picture 2" descr="468px-F8"/>
          <p:cNvPicPr/>
          <p:nvPr/>
        </p:nvPicPr>
        <p:blipFill>
          <a:blip r:embed="rId1"/>
          <a:stretch/>
        </p:blipFill>
        <p:spPr>
          <a:xfrm>
            <a:off x="-1440" y="1916280"/>
            <a:ext cx="90374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3"/>
          <p:cNvSpPr/>
          <p:nvPr/>
        </p:nvSpPr>
        <p:spPr>
          <a:xfrm>
            <a:off x="2411280" y="33336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лектрометр</a:t>
            </a: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272" name="Picture 6" descr="ANd9GcR_xmx2IbnFZU5UcIekG9SQGnaMOART_d52aS3FJrEWiJ_IiqqH4w"/>
          <p:cNvPicPr/>
          <p:nvPr/>
        </p:nvPicPr>
        <p:blipFill>
          <a:blip r:embed="rId1"/>
          <a:stretch/>
        </p:blipFill>
        <p:spPr>
          <a:xfrm>
            <a:off x="539640" y="1282680"/>
            <a:ext cx="8207640" cy="5456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92240" y="1659960"/>
            <a:ext cx="878652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одники </a:t>
            </a:r>
            <a:r>
              <a:rPr b="1" lang="ru-RU" sz="3600" spc="-1" strike="noStrike">
                <a:solidFill>
                  <a:srgbClr val="005490"/>
                </a:solidFill>
                <a:latin typeface="Times New Roman"/>
                <a:ea typeface="Times New Roman"/>
              </a:rPr>
              <a:t>–</a:t>
            </a:r>
            <a:r>
              <a:rPr b="1" lang="ru-RU" sz="3600" spc="-1" strike="noStrike">
                <a:solidFill>
                  <a:srgbClr val="00386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тела и вещества, в которых существуют свободные заряженные частицы; они могут перемещаться, перенося заряд в другие части тела или к другим телам. 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1332000" y="4711320"/>
            <a:ext cx="871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5" name="TextBox 1"/>
          <p:cNvSpPr/>
          <p:nvPr/>
        </p:nvSpPr>
        <p:spPr>
          <a:xfrm>
            <a:off x="20520" y="309600"/>
            <a:ext cx="878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одники и непроводники элекричества</a:t>
            </a:r>
            <a:endParaRPr b="0" lang="en-US" sz="40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7961400" y="4869000"/>
            <a:ext cx="1017360" cy="17697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31680" y="1484280"/>
            <a:ext cx="929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электрики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– вещества, не имеющие свободных зарядов и, поэтому, не позволяющие заряду одного тела "перетекать" на другие тела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7496280" y="4076640"/>
            <a:ext cx="12762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142920" y="-39960"/>
            <a:ext cx="9001080" cy="71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лиц-опрос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860"/>
              </a:buClr>
              <a:buFont typeface="Times New Roman"/>
              <a:buAutoNum type="arabicPeriod"/>
              <a:tabLst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800" spc="-1" strike="noStrike">
                <a:solidFill>
                  <a:srgbClr val="0038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Наэлектризованный предмет способен притягивать не только твердые тела, но и... 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1c1911"/>
              </a:buClr>
              <a:buFont typeface="Times New Roman"/>
              <a:buAutoNum type="arabicPeriod"/>
              <a:tabLst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Как ведут себя два тела, одно из которых наэлектризовано, а второе - нет? 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1c1911"/>
              </a:buClr>
              <a:buFont typeface="Times New Roman"/>
              <a:buAutoNum type="arabicPeriod"/>
              <a:tabLst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Как проявляется электрическое взаимодействие наэлектризовавшейся одежды? 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1c1911"/>
              </a:buClr>
              <a:buFont typeface="Times New Roman"/>
              <a:buAutoNum type="arabicPeriod"/>
              <a:tabLst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Как называются приборы, предназначенные для обнаружения наэлектризованных тел?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0" name="TextBox 2"/>
          <p:cNvSpPr/>
          <p:nvPr/>
        </p:nvSpPr>
        <p:spPr>
          <a:xfrm>
            <a:off x="142920" y="2556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репление материала                                                                    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395280" y="392040"/>
            <a:ext cx="1028880" cy="99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179280" y="692280"/>
            <a:ext cx="878544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5. Какой существует еще вид электризации, кроме электризации трением?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6. Как взаимодействуют эбонит и шерсть, наэлектризованные друг о друга?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7. Как взаимодействуют стекло и шелк, наэлектризованные друг о друга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8. Что является единицей измерения заряда?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9. Почему заряд тела нельзя делить бесконечно?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7451640" y="2747880"/>
            <a:ext cx="1297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1"/>
          <p:cNvSpPr/>
          <p:nvPr/>
        </p:nvSpPr>
        <p:spPr>
          <a:xfrm>
            <a:off x="108000" y="766800"/>
            <a:ext cx="8856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800" spc="-1" strike="noStrike">
              <a:solidFill>
                <a:srgbClr val="0070c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0c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§ 27; стр. 63 – вопросы</a:t>
            </a:r>
            <a:endParaRPr b="0" lang="en-US" sz="4800" spc="-1" strike="noStrike">
              <a:solidFill>
                <a:srgbClr val="0070c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Составить кроссворд со словом электричество</a:t>
            </a:r>
            <a:endParaRPr b="0" lang="en-US" sz="48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5" descr="animals4"/>
          <p:cNvPicPr/>
          <p:nvPr/>
        </p:nvPicPr>
        <p:blipFill>
          <a:blip r:embed="rId1"/>
          <a:stretch/>
        </p:blipFill>
        <p:spPr>
          <a:xfrm>
            <a:off x="0" y="4727520"/>
            <a:ext cx="2082960" cy="1874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b1"/>
          <p:cNvPicPr/>
          <p:nvPr/>
        </p:nvPicPr>
        <p:blipFill>
          <a:blip r:embed="rId2"/>
          <a:stretch/>
        </p:blipFill>
        <p:spPr>
          <a:xfrm>
            <a:off x="7559640" y="4834080"/>
            <a:ext cx="1584360" cy="16621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logo"/>
          <p:cNvPicPr/>
          <p:nvPr/>
        </p:nvPicPr>
        <p:blipFill>
          <a:blip r:embed="rId3"/>
          <a:stretch/>
        </p:blipFill>
        <p:spPr>
          <a:xfrm>
            <a:off x="339840" y="189000"/>
            <a:ext cx="2160360" cy="1620720"/>
          </a:xfrm>
          <a:prstGeom prst="rect">
            <a:avLst/>
          </a:prstGeom>
          <a:ln w="0">
            <a:noFill/>
          </a:ln>
        </p:spPr>
      </p:pic>
      <p:grpSp>
        <p:nvGrpSpPr>
          <p:cNvPr id="288" name="Вертикальный свиток 12"/>
          <p:cNvGrpSpPr/>
          <p:nvPr/>
        </p:nvGrpSpPr>
        <p:grpSpPr>
          <a:xfrm>
            <a:off x="2766960" y="1006560"/>
            <a:ext cx="5176800" cy="4095720"/>
            <a:chOff x="2766960" y="1006560"/>
            <a:chExt cx="5176800" cy="4095720"/>
          </a:xfrm>
        </p:grpSpPr>
        <p:pic>
          <p:nvPicPr>
            <p:cNvPr id="289" name="Вертикальный свиток 12" descr=""/>
            <p:cNvPicPr/>
            <p:nvPr/>
          </p:nvPicPr>
          <p:blipFill>
            <a:blip r:embed="rId4"/>
            <a:stretch/>
          </p:blipFill>
          <p:spPr>
            <a:xfrm>
              <a:off x="2766960" y="1006560"/>
              <a:ext cx="517680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3282840" y="1521000"/>
              <a:ext cx="4146840" cy="33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df0eb"/>
                  </a:solidFill>
                  <a:latin typeface="Courier New"/>
                  <a:ea typeface="Courier New"/>
                </a:rPr>
                <a:t>Всем всего доброго!</a:t>
              </a:r>
              <a:endParaRPr b="0" lang="en-US" sz="4000" spc="-1" strike="noStrike">
                <a:solidFill>
                  <a:srgbClr val="0070c0"/>
                </a:solidFill>
                <a:latin typeface="Arial"/>
              </a:endParaRPr>
            </a:p>
          </p:txBody>
        </p:sp>
      </p:grpSp>
      <p:sp>
        <p:nvSpPr>
          <p:cNvPr id="291" name="TextBox 5"/>
          <p:cNvSpPr/>
          <p:nvPr/>
        </p:nvSpPr>
        <p:spPr>
          <a:xfrm>
            <a:off x="3924000" y="4187880"/>
            <a:ext cx="28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e0d7"/>
                </a:solidFill>
                <a:latin typeface="Courier New"/>
                <a:ea typeface="Courier New"/>
              </a:rPr>
              <a:t>Спасибо</a:t>
            </a:r>
            <a:r>
              <a:rPr b="0" lang="ru-RU" sz="4400" spc="-1" strike="noStrike">
                <a:solidFill>
                  <a:srgbClr val="fbe0d7"/>
                </a:solidFill>
                <a:latin typeface="Courier New"/>
                <a:ea typeface="Courier New"/>
              </a:rPr>
              <a:t>.</a:t>
            </a: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757080" y="1540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ка домашнего задания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0" y="9810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1c19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Как было открыто явление электризации?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c19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Только ли янтарь обладает свойством притягивать к себе мелкие частички?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3. Кто создал первую электростатическую машину?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4. Какие виды зарядов вы знаете?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5. Как ведут себя заряженные тела?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c19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7308720" y="4924440"/>
            <a:ext cx="1584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2"/>
          <p:cNvSpPr/>
          <p:nvPr/>
        </p:nvSpPr>
        <p:spPr>
          <a:xfrm>
            <a:off x="187200" y="1628640"/>
            <a:ext cx="87854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оза застала в поле – садись на землю</a:t>
            </a:r>
            <a:r>
              <a:rPr b="0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5400" spc="-1" strike="noStrike">
              <a:solidFill>
                <a:srgbClr val="0070c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Почему?</a:t>
            </a:r>
            <a:endParaRPr b="0" lang="en-US" sz="54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6372360" y="4869000"/>
            <a:ext cx="238572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2886120" y="115920"/>
            <a:ext cx="3773520" cy="569124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1"/>
          <p:cNvSpPr/>
          <p:nvPr/>
        </p:nvSpPr>
        <p:spPr>
          <a:xfrm>
            <a:off x="3348000" y="565632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К. Е. Маковский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2124000" y="6102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Дети, бегущие от грозы (1872 г.)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108000" y="333360"/>
            <a:ext cx="770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лько кошку не гладь, все искры летят.</a:t>
            </a:r>
            <a:endParaRPr b="0" lang="en-US" sz="6600" spc="-1" strike="noStrike">
              <a:solidFill>
                <a:srgbClr val="0070c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Почему?</a:t>
            </a:r>
            <a:endParaRPr b="0" lang="en-US" sz="54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31308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395280" y="765000"/>
            <a:ext cx="842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яжа с искорками, все вон повыскакали.</a:t>
            </a:r>
            <a:endParaRPr b="0" lang="en-US" sz="6600" spc="-1" strike="noStrike">
              <a:solidFill>
                <a:srgbClr val="0070c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От чего бы искрам выскакивать?</a:t>
            </a:r>
            <a:endParaRPr b="0" lang="en-US" sz="54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7440480" y="4149720"/>
            <a:ext cx="13780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0" y="105264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дальним селам, городам</a:t>
            </a:r>
            <a:endParaRPr b="0" lang="en-US" sz="6000" spc="-1" strike="noStrike">
              <a:solidFill>
                <a:srgbClr val="0070c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идет по проводам?</a:t>
            </a:r>
            <a:endParaRPr b="0" lang="en-US" sz="6000" spc="-1" strike="noStrike">
              <a:solidFill>
                <a:srgbClr val="0070c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етлое величество!</a:t>
            </a:r>
            <a:endParaRPr b="0" lang="en-US" sz="6000" spc="-1" strike="noStrike">
              <a:solidFill>
                <a:srgbClr val="0070c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…</a:t>
            </a:r>
            <a:endParaRPr b="0" lang="en-US" sz="6000" spc="-1" strike="noStrike">
              <a:solidFill>
                <a:srgbClr val="0070c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7518240" y="4437000"/>
            <a:ext cx="123372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1" descr="http://www.fizika.ru/theory/tema-09/09e-i1.gif"/>
          <p:cNvPicPr/>
          <p:nvPr/>
        </p:nvPicPr>
        <p:blipFill>
          <a:blip r:embed="rId1"/>
          <a:stretch/>
        </p:blipFill>
        <p:spPr>
          <a:xfrm>
            <a:off x="360360" y="1504800"/>
            <a:ext cx="3718080" cy="231804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2" descr="Бумажки и расческа"/>
          <p:cNvPicPr/>
          <p:nvPr/>
        </p:nvPicPr>
        <p:blipFill>
          <a:blip r:embed="rId2"/>
          <a:stretch/>
        </p:blipFill>
        <p:spPr>
          <a:xfrm>
            <a:off x="5005440" y="1487520"/>
            <a:ext cx="3340080" cy="23097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"/>
          <p:cNvSpPr/>
          <p:nvPr/>
        </p:nvSpPr>
        <p:spPr>
          <a:xfrm>
            <a:off x="611280" y="4155480"/>
            <a:ext cx="426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Эбонитовая палочка, потертая о шерсть притягивает листочки фольги</a:t>
            </a:r>
            <a:r>
              <a:rPr b="0" lang="ru-RU" sz="2400" spc="-1" strike="noStrike">
                <a:solidFill>
                  <a:srgbClr val="1c1911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5003640" y="422064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Расческа потертая о волосы притягивает мелкие листочки бумаги</a:t>
            </a:r>
            <a:r>
              <a:rPr b="0" lang="ru-RU" sz="24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900000" y="184320"/>
            <a:ext cx="744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Электризация тел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ANd9GcQCovnrIIIV58sJjDVep7tUJN2GgpDnJ8X0xl_IDVM34NhB5Ob6"/>
          <p:cNvPicPr/>
          <p:nvPr/>
        </p:nvPicPr>
        <p:blipFill>
          <a:blip r:embed="rId1"/>
          <a:stretch/>
        </p:blipFill>
        <p:spPr>
          <a:xfrm>
            <a:off x="117360" y="1844640"/>
            <a:ext cx="8960040" cy="309708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1405080" y="33336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Опыт с гильзой</a:t>
            </a:r>
            <a:endParaRPr b="0" lang="en-US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757080" y="5253120"/>
            <a:ext cx="70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911"/>
                </a:solidFill>
                <a:latin typeface="Times New Roman"/>
                <a:ea typeface="Times New Roman"/>
              </a:rPr>
              <a:t>Чем объяснить это явление?</a:t>
            </a: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37:59Z</dcterms:created>
  <dc:creator>Надежда</dc:creator>
  <dc:description/>
  <dc:language>en-US</dc:language>
  <cp:lastModifiedBy>Admin</cp:lastModifiedBy>
  <cp:lastPrinted>2015-04-09T11:02:23Z</cp:lastPrinted>
  <dcterms:modified xsi:type="dcterms:W3CDTF">2015-10-11T20:57:56Z</dcterms:modified>
  <cp:revision>74</cp:revision>
  <dc:subject/>
  <dc:title>Урок</dc:title>
</cp:coreProperties>
</file>