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40E-6DAC-4C9D-89A3-9D3F0F47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E59-6A13-4D3C-B051-7807DA88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20A-D026-41B5-BD92-C88890C2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3F3-87A9-4A58-8B59-918EFEB1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894-FB07-4733-9BE0-DCC7D767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753-CC9F-4B5C-99AD-C8BDE5FA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E88-14A4-4636-ACDB-3867279C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F12-5A2D-483B-B6CF-D061B306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70A-E8FD-4883-9060-E57AAE77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2AD-D77C-4D1A-AEAF-A4D592C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6FC-FA55-4D22-88C3-DEB52E0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C5C-D76A-487F-A9A8-F93CF17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D6B1-9C28-48BA-B656-40C941B4BB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2;&#208;&#183;&#208;&#190;&#208;&#177;&#209;&#128;&#208;&#176;&#208;&#182;&#208;&#181;&#208;&#189;&#208;&#184;&#208;&#181;:Rotavirus_Reconstruction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rudition.ru/referat/printref/id.33926_1.html" TargetMode="External"/><Relationship Id="rId2" Type="http://schemas.openxmlformats.org/officeDocument/2006/relationships/hyperlink" Target="http://schools.keldysh.ru/school1413/bio/vilegzh/index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models/fag/fag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Вирус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987640" y="1989000"/>
            <a:ext cx="4172040" cy="21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РУСЫ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E_02.WAV" descr=""/>
          <p:cNvPicPr/>
          <p:nvPr/>
        </p:nvPicPr>
        <p:blipFill>
          <a:blip r:embed="rId3"/>
          <a:srcRect l="85124" t="85124" r="0" b="0"/>
          <a:stretch/>
        </p:blipFill>
        <p:spPr>
          <a:xfrm>
            <a:off x="8604360" y="6811920"/>
            <a:ext cx="46080" cy="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82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Times New Roman"/>
              </a:rPr>
              <a:t>Вирусные заболевани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biotech1_ВИЧ"/>
          <p:cNvPicPr/>
          <p:nvPr/>
        </p:nvPicPr>
        <p:blipFill>
          <a:blip r:embed="rId1"/>
          <a:stretch/>
        </p:blipFill>
        <p:spPr>
          <a:xfrm>
            <a:off x="5105520" y="2527200"/>
            <a:ext cx="3504960" cy="336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ivlifecycle"/>
          <p:cNvPicPr/>
          <p:nvPr/>
        </p:nvPicPr>
        <p:blipFill>
          <a:blip r:embed="rId2"/>
          <a:stretch/>
        </p:blipFill>
        <p:spPr>
          <a:xfrm>
            <a:off x="762120" y="2209680"/>
            <a:ext cx="3581280" cy="2984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066680" y="1447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ирус иммунодефицит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Продуктивная инфекция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75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2050920" y="1364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енный цикл в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Этапы  Ж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1484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Вирус проникает в кл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етку 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хоз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яина- инфицирова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страивает метаболический аппарат хозяина на воспроизведение вирио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Множество новых вирусов покидают кл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ет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При этом кл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етка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 либо </a:t>
            </a:r>
            <a:r>
              <a:rPr b="1" lang="ru-RU" sz="3000" spc="-1" strike="noStrike">
                <a:solidFill>
                  <a:srgbClr val="000099"/>
                </a:solidFill>
                <a:latin typeface="Calibri"/>
              </a:rPr>
              <a:t>погибает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, либо остается жи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ict16"/>
          <p:cNvPicPr/>
          <p:nvPr/>
        </p:nvPicPr>
        <p:blipFill>
          <a:blip r:embed="rId1"/>
          <a:srcRect l="0" t="0" r="0" b="17470"/>
          <a:stretch/>
        </p:blipFill>
        <p:spPr>
          <a:xfrm>
            <a:off x="3203640" y="1484280"/>
            <a:ext cx="3419280" cy="3921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3564720" y="5013360"/>
            <a:ext cx="2773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, больной ос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ict20"/>
          <p:cNvPicPr/>
          <p:nvPr/>
        </p:nvPicPr>
        <p:blipFill>
          <a:blip r:embed="rId2"/>
          <a:stretch/>
        </p:blipFill>
        <p:spPr>
          <a:xfrm>
            <a:off x="6588000" y="3573360"/>
            <a:ext cx="2556000" cy="328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217656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324000" y="692280"/>
            <a:ext cx="6302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ирусы являются возбудителями многих опасных болезней  человека, животных и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24000" y="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Значение виру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зшс3"/>
          <p:cNvPicPr/>
          <p:nvPr/>
        </p:nvPicPr>
        <p:blipFill>
          <a:blip r:embed="rId3"/>
          <a:stretch/>
        </p:blipFill>
        <p:spPr>
          <a:xfrm>
            <a:off x="0" y="2924280"/>
            <a:ext cx="3203640" cy="335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015_06"/>
          <p:cNvPicPr/>
          <p:nvPr/>
        </p:nvPicPr>
        <p:blipFill>
          <a:blip r:embed="rId4"/>
          <a:stretch/>
        </p:blipFill>
        <p:spPr>
          <a:xfrm>
            <a:off x="6084720" y="981000"/>
            <a:ext cx="3059280" cy="2519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9"/>
          <p:cNvSpPr/>
          <p:nvPr/>
        </p:nvSpPr>
        <p:spPr>
          <a:xfrm>
            <a:off x="6019200" y="3141720"/>
            <a:ext cx="3120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ной простым герпе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начение вир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пользование в генетике и в селе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вакцин против вирусных заболев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ничтожения насекомых – вредителей сельского хозяйства и сорных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70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056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971640" y="2421000"/>
            <a:ext cx="876276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ЗА ВНИМАНИЕ!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500040" y="137232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Медицинская микробиология (под ред. В.И. Покровского и О.К. Поздеева). М.: Гэотар Медицина,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Маянский А.Н. Микробиология. Нижний Новгород: Издательство НГМА, 199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Тейлор Д., Грин Н., Стаут У. Биология: В 3-х т. Т.1: Пер. с англ./Под ред. Р.Сопера – 3-е изд. – М.: Ми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://www.erudition.ru/referat/printref/id.33926_1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Эрудиция. Электронная российская библиот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http://schools.keldysh.ru/school1413/bio/vilegzh/index.ht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 Вирусы и их роль в жизн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599840"/>
            <a:ext cx="512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98 году голландец Бейеринк ввел термин «вирус» (от латинского – «яд»). Этим он обозначил инфекционную природу определенных профильтрованных растительных жидк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Beijerinck"/>
          <p:cNvPicPr/>
          <p:nvPr/>
        </p:nvPicPr>
        <p:blipFill>
          <a:blip r:embed="rId1"/>
          <a:stretch/>
        </p:blipFill>
        <p:spPr>
          <a:xfrm>
            <a:off x="5810400" y="1557360"/>
            <a:ext cx="3333600" cy="4822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835280" y="260280"/>
            <a:ext cx="55450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тория изучения вирусов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4"/>
          <p:cNvSpPr/>
          <p:nvPr/>
        </p:nvSpPr>
        <p:spPr>
          <a:xfrm>
            <a:off x="5638680" y="5105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7772400" cy="54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Понятие вируса.</a:t>
            </a: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000099"/>
                </a:solidFill>
                <a:uFillTx/>
                <a:latin typeface="Calibri"/>
              </a:rPr>
              <a:t>Вирус</a:t>
            </a: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(с лат. «яд»)-неклеточная форма жизни. Они являются</a:t>
            </a:r>
            <a:r>
              <a:rPr b="0" i="1" lang="ru-RU" sz="3600" spc="-1" strike="noStrike">
                <a:solidFill>
                  <a:srgbClr val="000099"/>
                </a:solidFill>
                <a:latin typeface="Calibri"/>
              </a:rPr>
              <a:t> облигатными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(обязательными) внутриклеточными паразитами,     т. е. функционирующие только при попадании внутрь бактериальной или эукариотической клетки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942240"/>
        </p:xfrm>
        <a:graphic>
          <a:graphicData uri="http://schemas.openxmlformats.org/drawingml/2006/table">
            <a:tbl>
              <a:tblPr/>
              <a:tblGrid>
                <a:gridCol w="2987640"/>
                <a:gridCol w="3108240"/>
                <a:gridCol w="304812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Сходство с живыми организ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тличие от живых организ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Спецефически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к размнож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нешней среде имеют форму кристаллов, не проявляя никаких свойств жив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маленькие 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требляют пи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рганизации (НК + бел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рабатывают энерг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раничное положение  между живой и неживой природ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яемость к условиям окружающ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ст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скорость размн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обмена ве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К или 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 неклеточное 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троение бактериофаг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f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5977080" cy="518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443640" y="1052640"/>
            <a:ext cx="270036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6443640" y="3645000"/>
            <a:ext cx="270036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6661800" y="649116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ктериоф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Organization Chart 5"/>
          <p:cNvGrpSpPr/>
          <p:nvPr/>
        </p:nvGrpSpPr>
        <p:grpSpPr>
          <a:xfrm>
            <a:off x="468360" y="1231560"/>
            <a:ext cx="8228520" cy="4881600"/>
            <a:chOff x="468360" y="1231560"/>
            <a:chExt cx="8228520" cy="4881600"/>
          </a:xfrm>
        </p:grpSpPr>
        <p:cxnSp>
          <p:nvCxnSpPr>
            <p:cNvPr id="57" name="_s1028"/>
            <p:cNvCxnSpPr>
              <a:stCxn id="58" idx="0"/>
              <a:endCxn id="59" idx="2"/>
            </p:cNvCxnSpPr>
            <p:nvPr/>
          </p:nvCxnSpPr>
          <p:spPr>
            <a:xfrm flipV="1" rot="16200000">
              <a:off x="5572080" y="787320"/>
              <a:ext cx="234720" cy="2214000"/>
            </a:xfrm>
            <a:prstGeom prst="bentConnector3">
              <a:avLst>
                <a:gd name="adj1" fmla="val 496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29"/>
            <p:cNvCxnSpPr>
              <a:stCxn id="61" idx="0"/>
              <a:endCxn id="59" idx="2"/>
            </p:cNvCxnSpPr>
            <p:nvPr/>
          </p:nvCxnSpPr>
          <p:spPr>
            <a:xfrm flipH="1" flipV="1" rot="5400000">
              <a:off x="3358440" y="787680"/>
              <a:ext cx="234720" cy="2214000"/>
            </a:xfrm>
            <a:prstGeom prst="bentConnector3">
              <a:avLst>
                <a:gd name="adj1" fmla="val 496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1030"/>
            <p:cNvSpPr/>
            <p:nvPr/>
          </p:nvSpPr>
          <p:spPr>
            <a:xfrm>
              <a:off x="2681640" y="1231560"/>
              <a:ext cx="3801960" cy="5461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Виру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468360" y="2012040"/>
              <a:ext cx="3796920" cy="4101120"/>
            </a:xfrm>
            <a:custGeom>
              <a:avLst/>
              <a:gdLst>
                <a:gd name="textAreaLeft" fmla="*/ 185040 w 3796920"/>
                <a:gd name="textAreaRight" fmla="*/ 3611880 w 3796920"/>
                <a:gd name="textAreaTop" fmla="*/ 185040 h 4101120"/>
                <a:gd name="textAreaBottom" fmla="*/ 3916080 h 4101120"/>
              </a:gdLst>
              <a:ahLst/>
              <a:rect l="textAreaLeft" t="textAreaTop" r="textAreaRight" b="textAreaBottom"/>
              <a:pathLst>
                <a:path w="21600" h="23330">
                  <a:moveTo>
                    <a:pt x="3600" y="0"/>
                  </a:moveTo>
                  <a:arcTo wR="3600" hR="3600" stAng="16200000" swAng="-5400000"/>
                  <a:lnTo>
                    <a:pt x="0" y="19730"/>
                  </a:lnTo>
                  <a:arcTo wR="3600" hR="3600" stAng="10800000" swAng="-5400000"/>
                  <a:lnTo>
                    <a:pt x="18000" y="23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НК-содержа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ирус осп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ерпес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актериофаги Т-групп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епатит B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апилломовиру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(бородавки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4898880" y="2012040"/>
              <a:ext cx="3798000" cy="4101120"/>
            </a:xfrm>
            <a:custGeom>
              <a:avLst/>
              <a:gdLst>
                <a:gd name="textAreaLeft" fmla="*/ 185400 w 3798000"/>
                <a:gd name="textAreaRight" fmla="*/ 3612600 w 3798000"/>
                <a:gd name="textAreaTop" fmla="*/ 185400 h 4101120"/>
                <a:gd name="textAreaBottom" fmla="*/ 3915720 h 4101120"/>
              </a:gdLst>
              <a:ahLst/>
              <a:rect l="textAreaLeft" t="textAreaTop" r="textAreaRight" b="textAreaBottom"/>
              <a:pathLst>
                <a:path w="21600" h="23324">
                  <a:moveTo>
                    <a:pt x="3600" y="0"/>
                  </a:moveTo>
                  <a:arcTo wR="3600" hR="3600" stAng="16200000" swAng="-5400000"/>
                  <a:lnTo>
                    <a:pt x="0" y="19724"/>
                  </a:lnTo>
                  <a:arcTo wR="3600" hR="3600" stAng="10800000" swAng="-5400000"/>
                  <a:lnTo>
                    <a:pt x="18000" y="23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Times New Roman"/>
                </a:rPr>
                <a:t>РНК-содержащие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вирус кори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бешенства,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грипп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лиомиелита,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гепатита A,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ОРЗ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желтой лихорадки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3"/>
          <p:cNvSpPr/>
          <p:nvPr/>
        </p:nvSpPr>
        <p:spPr>
          <a:xfrm>
            <a:off x="1769040" y="260280"/>
            <a:ext cx="6445800" cy="703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виру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имеры вир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Клетки иммунной системы, на которой видны мелкие красные частицы 'оккупантов' - вируса СПИД"/>
          <p:cNvPicPr/>
          <p:nvPr/>
        </p:nvPicPr>
        <p:blipFill>
          <a:blip r:embed="rId1"/>
          <a:stretch/>
        </p:blipFill>
        <p:spPr>
          <a:xfrm>
            <a:off x="250920" y="1844640"/>
            <a:ext cx="3529080" cy="2808360"/>
          </a:xfrm>
          <a:prstGeom prst="rect">
            <a:avLst/>
          </a:prstGeom>
          <a:ln w="0">
            <a:noFill/>
          </a:ln>
        </p:spPr>
      </p:pic>
      <p:pic>
        <p:nvPicPr>
          <p:cNvPr id="65" name="smena" descr="15769"/>
          <p:cNvPicPr/>
          <p:nvPr/>
        </p:nvPicPr>
        <p:blipFill>
          <a:blip r:embed="rId2"/>
          <a:stretch/>
        </p:blipFill>
        <p:spPr>
          <a:xfrm>
            <a:off x="468360" y="441000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321120" y="4508640"/>
            <a:ext cx="289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ехмерное изображение 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01010301"/>
          <p:cNvPicPr/>
          <p:nvPr/>
        </p:nvPicPr>
        <p:blipFill>
          <a:blip r:embed="rId3"/>
          <a:stretch/>
        </p:blipFill>
        <p:spPr>
          <a:xfrm>
            <a:off x="3276720" y="4535640"/>
            <a:ext cx="3024000" cy="232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3926520" y="1773360"/>
            <a:ext cx="2041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213440" y="4437000"/>
            <a:ext cx="1591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4"/>
          <a:stretch/>
        </p:blipFill>
        <p:spPr>
          <a:xfrm>
            <a:off x="6300720" y="1484280"/>
            <a:ext cx="284328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5"/>
          <p:cNvSpPr/>
          <p:nvPr/>
        </p:nvSpPr>
        <p:spPr>
          <a:xfrm>
            <a:off x="6765840" y="1052640"/>
            <a:ext cx="23781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томегаллови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vir003"/>
          <p:cNvPicPr/>
          <p:nvPr/>
        </p:nvPicPr>
        <p:blipFill>
          <a:blip r:embed="rId5"/>
          <a:stretch/>
        </p:blipFill>
        <p:spPr>
          <a:xfrm>
            <a:off x="3780000" y="2205000"/>
            <a:ext cx="2520720" cy="214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6"/>
          <a:stretch/>
        </p:blipFill>
        <p:spPr>
          <a:xfrm>
            <a:off x="6372360" y="4581360"/>
            <a:ext cx="2771640" cy="2276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8"/>
          <p:cNvSpPr/>
          <p:nvPr/>
        </p:nvSpPr>
        <p:spPr>
          <a:xfrm>
            <a:off x="6372000" y="4581360"/>
            <a:ext cx="190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рус лейке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2052720" y="1484280"/>
            <a:ext cx="6501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Times New Roman"/>
              </a:rPr>
              <a:t>Вирусные заболевания растений</a:t>
            </a:r>
            <a:br>
              <a:rPr sz="4000"/>
            </a:b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Вирус табачной моза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ВТМ"/>
          <p:cNvPicPr/>
          <p:nvPr/>
        </p:nvPicPr>
        <p:blipFill>
          <a:blip r:embed="rId1"/>
          <a:stretch/>
        </p:blipFill>
        <p:spPr>
          <a:xfrm>
            <a:off x="762120" y="1905120"/>
            <a:ext cx="3300120" cy="4190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4-7lg"/>
          <p:cNvPicPr/>
          <p:nvPr/>
        </p:nvPicPr>
        <p:blipFill>
          <a:blip r:embed="rId2"/>
          <a:stretch/>
        </p:blipFill>
        <p:spPr>
          <a:xfrm>
            <a:off x="5105520" y="1905120"/>
            <a:ext cx="3495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Times New Roman"/>
              </a:rPr>
              <a:t>Вирусные заболевани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hepatitisb"/>
          <p:cNvPicPr/>
          <p:nvPr/>
        </p:nvPicPr>
        <p:blipFill>
          <a:blip r:embed="rId1"/>
          <a:stretch/>
        </p:blipFill>
        <p:spPr>
          <a:xfrm>
            <a:off x="380880" y="1143000"/>
            <a:ext cx="3810240" cy="3246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1" name="Picture 4" descr="01"/>
          <p:cNvPicPr/>
          <p:nvPr/>
        </p:nvPicPr>
        <p:blipFill>
          <a:blip r:embed="rId2"/>
          <a:stretch/>
        </p:blipFill>
        <p:spPr>
          <a:xfrm>
            <a:off x="4724280" y="1828800"/>
            <a:ext cx="3924360" cy="3844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441972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 гепат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 гри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Вот такой он, вирус!"/>
          <p:cNvPicPr/>
          <p:nvPr/>
        </p:nvPicPr>
        <p:blipFill>
          <a:blip r:embed="rId3"/>
          <a:stretch/>
        </p:blipFill>
        <p:spPr>
          <a:xfrm>
            <a:off x="228600" y="914400"/>
            <a:ext cx="1905120" cy="190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9:49:35Z</dcterms:created>
  <dc:creator>Соколов ДА</dc:creator>
  <dc:description/>
  <dc:language>en-US</dc:language>
  <cp:lastModifiedBy>Eldorado</cp:lastModifiedBy>
  <dcterms:modified xsi:type="dcterms:W3CDTF">2019-11-24T20:08:25Z</dcterms:modified>
  <cp:revision>45</cp:revision>
  <dc:subject/>
  <dc:title>Слайд 1</dc:title>
</cp:coreProperties>
</file>