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743-BBC5-4E5A-96EB-9A6B65E7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F6A-7CA7-4266-99AB-05BF036F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9C7-8794-4EBE-BAC1-FC5CAFEE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2BB-FF32-44F9-ADF9-BE239B25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B2C1-32A4-4EF1-8ED0-E3037DD0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3AF1-5636-443B-AFD3-18D29176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3D1C-92D1-4C79-A4E0-74C6430A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BC6D-D6B0-4E1B-9978-467CDEB5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7360-F0A1-42A4-900C-9F5C15EB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4988-AA4B-4AF8-B194-EACBAE99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3F51-5893-41D8-BA70-15C40C94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27F-1AC5-4DA9-9915-A1E3AD73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F5E5-3E19-4AE9-8B8F-A192F5D9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BD2C-A778-4436-8F8F-FBFACCDA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EEAD-3C4A-42C2-9579-DE7904DE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3DF6-E2D1-4935-8773-BFD207AD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CA0C-59D1-4FB3-B12A-898E0855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569-1228-435A-8B56-61B8CE0F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EB0-FEE1-4982-844F-FBD02881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771-D75C-4200-97A8-CDBA4817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4C0-FA15-4D9D-8599-E27DF79E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53B-3CC1-4886-BA84-5F4C5698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894-6142-4DF2-82FB-94E253FF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160-4456-4CF2-AD5D-672F6C48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3A2A-3642-41D6-B457-57F4E688CA2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E5F4-C0DE-4D7C-92F9-D4E50ACE3CB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898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Задача 1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460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Смысловая нить ДНК соответствующая  гену вазопрессина  (гормона  гипофиза, повышающего  кровяное давление), содержит следующую  последовательность нуклеотидов: АЦААТААААЦТТЦТААЦАГГАГЦАЦЦА 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Определите: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1. Последовательность нуклеотидов во второй нити ДНК;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2. Последовательность нуклеотидов в и-РНК, соответствующей гену вазопрессина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3. число аминокислот, входящих в состав вазопрессин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Задача № 2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Укажите  изменения в строении пептида, если в кодирующей цепи ДНК (ГТА-ГЦТ-ААА-ГГГ) гуанин из положения 1 перешел в 8 положени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Таблица № 1. Вещества и структуры клетки, участвующие в синтезе белковой молекулы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Вещества и структуры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Функции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1. ДН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2.И-РН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3. т-РН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4. Рибосом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5. Фермент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6. Аминокислот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7. АТ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Сравнение анаболизма и катаболизм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44640" y="1943280"/>
          <a:ext cx="7299360" cy="3854160"/>
        </p:xfrm>
        <a:graphic>
          <a:graphicData uri="http://schemas.openxmlformats.org/drawingml/2006/table">
            <a:tbl>
              <a:tblPr/>
              <a:tblGrid>
                <a:gridCol w="2433600"/>
                <a:gridCol w="2432160"/>
                <a:gridCol w="2433600"/>
              </a:tblGrid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ризнаки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наболиз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атаболиз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адача процесс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имические соединени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Энерги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ТФ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Установите последовательность процессов биосинтеза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) поступление И-РНК к рибосомам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) полисомы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) присоединение аминокислоты к т-РНК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Г) взаимодействие кодона с антикодоном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) появление на рибосоме одного из кодонов УАА, УАГ, УГ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Установите последовательность процессов биосинтеза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) синтез и-РНК на ДН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) репликация ДН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) выход и-РНК в цитоплазм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) присоединение аминокислоты к т-РН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) взаимодействие т-РНК и и-РН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Е) образование полипептида и его отрыв от рибосом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Установите соответствие между процессом и местом, в котором он проходи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28640"/>
          <a:ext cx="8229600" cy="4556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Место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Процесс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А-митохондрии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1- транскрипция-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Б- полисом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2-  репликация ДНК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В-ядр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3- синтез полипепдит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4. присоединение аминокислот к т-РНК5-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5- синтез АТФ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8:33:25Z</dcterms:created>
  <dc:creator>User</dc:creator>
  <dc:description/>
  <dc:language>en-US</dc:language>
  <cp:lastModifiedBy>User</cp:lastModifiedBy>
  <dcterms:modified xsi:type="dcterms:W3CDTF">2009-12-16T18:52:07Z</dcterms:modified>
  <cp:revision>2</cp:revision>
  <dc:subject/>
  <dc:title>Задача 1.    Смысловая нить ДНК соответствующая  гену вазопрессина  (гормона  гипофиза, повышающего  кровяное давление), содержит следующую  последовательность нуклеотидов: АЦААТААААЦТТЦТААЦАГГАГЦАЦЦА    Определите:  1. Последовательность нуклеотидов во второй нити ДНК;  2. Последовательность нуклеотидов в и-РНК, соответствующей гену вазопрессина 3. число аминокислот, входящих в состав вазопрессина.</dc:title>
</cp:coreProperties>
</file>