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F65-BF6E-49D1-A16F-E6EAFED3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738-594A-4586-A6FE-372D9EDF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A8C-6DBD-4F35-862F-89E6AD98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B02-1B7E-4168-8911-69C5FCF7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C22C-B2C4-4A82-B5F6-15CEC4B9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AFEB-7127-4E0D-8477-DF6A26C8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62F2-EFC4-4BB6-9D0A-D4851D38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1789-B2FE-410A-85A5-118FE06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EA6B-CF9C-49D3-88CB-3439E9E4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31E3-7EE7-49E1-ADF3-2BC8E204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7C74-20ED-4272-B147-0B5A02E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3C6-475F-4F78-B593-D129B38A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2E5B-DF6A-47E3-A0A2-29CCC8D7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77C6-F98F-4F34-A941-B7FE497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8156-F286-431C-B09C-3CF7E322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F1B9-D7B8-4AC4-9C11-030E8327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9900-DB04-4117-BD1B-79161704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AFA-031F-4C1F-9952-8400EAF4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3E9-AFED-44CB-B6BB-9D37C91B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EEF-6F14-47A7-9FDC-7AAF4E0E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3C2-5FB2-42A9-BCF2-C93A3286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C1B-513D-4BDB-9B7D-D54D479B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4EB-1B47-4F20-AA6D-7B9D65E8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6DD-EA12-4440-BE7E-22DCBE9D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C438-2E8A-40F8-8C19-F2D9734A6C6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68A3-E73D-4FA2-A985-AE387103040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89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Задача 1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460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Смысловая нить ДНК соответствующая  гену вазопрессина  (гормона  гипофиза, повышающего  кровяное давление), содержит следующую  последовательность нуклеотидов: АЦААТААААЦТТЦТААЦАГГАГЦАЦЦА 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Определите: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1. Последовательность нуклеотидов во второй нити ДНК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2. Последовательность нуклеотидов в и-РНК, соответствующей гену вазопрессина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3. число аминокислот, входящих в состав вазопресси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Задача № 2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кажите  изменения в строении пептида, если в кодирующей цепи ДНК (ГТА-ГЦТ-ААА-ГГГ) гуанин из положения 1 перешел в 8 положени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Таблица № 1. Вещества и структуры клетки, участвующие в синтезе белковой молекулы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ещества и структуры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Функции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. ДН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2.И-РН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3. т-РН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4. Рибосом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5. Фермент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6. Аминокислот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7. АТ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Сравнение анаболизма и катаболизм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44640" y="1943280"/>
          <a:ext cx="7299360" cy="3854160"/>
        </p:xfrm>
        <a:graphic>
          <a:graphicData uri="http://schemas.openxmlformats.org/drawingml/2006/table">
            <a:tbl>
              <a:tblPr/>
              <a:tblGrid>
                <a:gridCol w="2433600"/>
                <a:gridCol w="2432160"/>
                <a:gridCol w="243360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изнаки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наболиз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таболиз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адача процесс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имические соединен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нерг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ТФ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Установите последовательность процессов биосинтеза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) поступление И-РНК к рибосомам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) полисомы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) присоединение аминокислоты к т-РНК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Г) взаимодействие кодона с антикодоном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) появление на рибосоме одного из кодонов УАА, УАГ, УГ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становите последовательность процессов биосинтеза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) синтез и-РНК на ДН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) репликация ДН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) выход и-РНК в цитоплазм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) присоединение аминокислоты к т-РН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) взаимодействие т-РНК и и-РН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) образование полипептида и его отрыв от рибосом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Установите соответствие между процессом и местом, в котором он проходи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28640"/>
          <a:ext cx="8229600" cy="45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Место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Проце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А-митохондри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- транскрипция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Б- полисом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2-  репликация ДН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-ядр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3- синтез полипепдит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4. присоединение аминокислот к т-РНК5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5- синтез АТ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33:25Z</dcterms:created>
  <dc:creator>User</dc:creator>
  <dc:description/>
  <dc:language>en-US</dc:language>
  <cp:lastModifiedBy>User</cp:lastModifiedBy>
  <dcterms:modified xsi:type="dcterms:W3CDTF">2009-12-16T18:52:07Z</dcterms:modified>
  <cp:revision>2</cp:revision>
  <dc:subject/>
  <dc:title>Задача 1.    Смысловая нить ДНК соответствующая  гену вазопрессина  (гормона  гипофиза, повышающего  кровяное давление), содержит следующую  последовательность нуклеотидов: АЦААТААААЦТТЦТААЦАГГАГЦАЦЦА    Определите:  1. Последовательность нуклеотидов во второй нити ДНК;  2. Последовательность нуклеотидов в и-РНК, соответствующей гену вазопрессина 3. число аминокислот, входящих в состав вазопрессина.</dc:title>
</cp:coreProperties>
</file>