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DB3-3B96-4D5D-ACEF-9B7F09D6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430-3F7F-4F0D-B0B9-03C215E8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3D2-ED7C-4C91-9F3C-D64B317A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BBD-F9AA-4DE8-834C-A206793E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D88-1AA8-4213-BCE2-3A8AA831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FD5-1DE4-4292-8B12-413BBC50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9CD-8C5D-4ADD-B32E-753570C5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363-B6A5-49D7-9D7F-32A7944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B28-8E88-4804-A185-5A82DBFA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955-775F-4E7C-81A3-C3EF50B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634-0601-4629-9438-A07EB5F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022-EE12-4300-8E56-82DCDB56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1523-0722-42D8-A9BB-DAC428B6E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2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рные слова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5013000"/>
            <a:ext cx="63579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чебнику Н.Г. Галунчиковой, Э.В. Якубовской «Русский язык» учебник для специальных (коррекционных) образовательных учреждений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III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ида Москва «Просвещение»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1401840" y="3591000"/>
            <a:ext cx="4584600" cy="7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КОМП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Караганда-НМ.KZ - Показать сообщение отдельно - Болталка"/>
          <p:cNvPicPr/>
          <p:nvPr/>
        </p:nvPicPr>
        <p:blipFill>
          <a:blip r:embed="rId1"/>
          <a:stretch/>
        </p:blipFill>
        <p:spPr>
          <a:xfrm>
            <a:off x="1835280" y="1557360"/>
            <a:ext cx="565308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НАМ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Я,Е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http://im0-tub-ru.yandex.net/i?id=29c51767352268db59c92522237d6560-105-144&amp;n=21"/>
          <p:cNvPicPr/>
          <p:nvPr/>
        </p:nvPicPr>
        <p:blipFill>
          <a:blip r:embed="rId1"/>
          <a:stretch/>
        </p:blipFill>
        <p:spPr>
          <a:xfrm>
            <a:off x="2050920" y="1484280"/>
            <a:ext cx="522144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В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http://im1-tub-ru.yandex.net/i?id=3ad52c26b9b5287018e84e32eb87526f-26-144&amp;n=21"/>
          <p:cNvPicPr/>
          <p:nvPr/>
        </p:nvPicPr>
        <p:blipFill>
          <a:blip r:embed="rId1"/>
          <a:stretch/>
        </p:blipFill>
        <p:spPr>
          <a:xfrm>
            <a:off x="1979640" y="1268280"/>
            <a:ext cx="514836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Т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http://im1-tub-ru.yandex.net/i?id=279b4c9c6b1d0f838a82662b2b6f2c54-15-144&amp;n=21"/>
          <p:cNvPicPr/>
          <p:nvPr/>
        </p:nvPicPr>
        <p:blipFill>
          <a:blip r:embed="rId1"/>
          <a:stretch/>
        </p:blipFill>
        <p:spPr>
          <a:xfrm>
            <a:off x="1476360" y="1268280"/>
            <a:ext cx="644364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http://im1-tub-ru.yandex.net/i?id=be2f82d4fad68d3875dc259e2b79ff29-122-144&amp;n=21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СС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Ж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im3-tub-ru.yandex.net/i?id=505566a90b9312adfff121a0b368b2ca-75-144&amp;n=21"/>
          <p:cNvPicPr/>
          <p:nvPr/>
        </p:nvPicPr>
        <p:blipFill>
          <a:blip r:embed="rId1"/>
          <a:stretch/>
        </p:blipFill>
        <p:spPr>
          <a:xfrm>
            <a:off x="1476360" y="1341360"/>
            <a:ext cx="6299280" cy="478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КОСМ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http://im1-tub-ru.yandex.net/i?id=9c31dce29c68eb732ed5237331703aa7-60-144&amp;n=21"/>
          <p:cNvPicPr/>
          <p:nvPr/>
        </p:nvPicPr>
        <p:blipFill>
          <a:blip r:embed="rId1"/>
          <a:stretch/>
        </p:blipFill>
        <p:spPr>
          <a:xfrm>
            <a:off x="1403280" y="1268280"/>
            <a:ext cx="637236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99760" y="57132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 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2071800" y="1500120"/>
            <a:ext cx="4286160" cy="43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это пособие поможет                       вам запомнить написание слов с непроверяемыми орфограмм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крытие значения слова путём показа предм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b0f0"/>
                </a:solidFill>
                <a:latin typeface="Calibri"/>
              </a:rPr>
              <a:t>ДОРОГИЕ   ДРУЗЬЯ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(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,И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)Р Б Л Ю 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s://im0-tub-ru.yandex.net/i?id=5f5130cfc7eb22bd249607043d07133f-63-144&amp;n=21"/>
          <p:cNvPicPr/>
          <p:nvPr/>
        </p:nvPicPr>
        <p:blipFill>
          <a:blip r:embed="rId1"/>
          <a:stretch/>
        </p:blipFill>
        <p:spPr>
          <a:xfrm>
            <a:off x="2411280" y="1844640"/>
            <a:ext cx="4319640" cy="406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Б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,Е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БЛ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,Е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О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s://im3-tub-ru.yandex.net/i?id=c0ec8eda831b6a6d0b402d99e84c77e7-11-144&amp;n=21"/>
          <p:cNvPicPr/>
          <p:nvPr/>
        </p:nvPicPr>
        <p:blipFill>
          <a:blip r:embed="rId1"/>
          <a:stretch/>
        </p:blipFill>
        <p:spPr>
          <a:xfrm>
            <a:off x="1835280" y="1413000"/>
            <a:ext cx="561636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Г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,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s://im2-tub-ru.yandex.net/i?id=60fd58c845ffded531c9c3459bcd0248-37-144&amp;n=21"/>
          <p:cNvPicPr/>
          <p:nvPr/>
        </p:nvPicPr>
        <p:blipFill>
          <a:blip r:embed="rId1"/>
          <a:stretch/>
        </p:blipFill>
        <p:spPr>
          <a:xfrm>
            <a:off x="1692360" y="1484280"/>
            <a:ext cx="57592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ГРАМ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http://im1-tub-ru.yandex.net/i?id=6b04d55c22c073924f5c2d0f8780ae84-98-144&amp;n=21"/>
          <p:cNvPicPr/>
          <p:nvPr/>
        </p:nvPicPr>
        <p:blipFill>
          <a:blip r:embed="rId1"/>
          <a:stretch/>
        </p:blipFill>
        <p:spPr>
          <a:xfrm>
            <a:off x="2124000" y="1341360"/>
            <a:ext cx="460692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Х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im1-tub-ru.yandex.net/i?id=5db25cf8edad9c27666b5342de330ae0-93-144&amp;n=21"/>
          <p:cNvPicPr/>
          <p:nvPr/>
        </p:nvPicPr>
        <p:blipFill>
          <a:blip r:embed="rId1"/>
          <a:stretch/>
        </p:blipFill>
        <p:spPr>
          <a:xfrm>
            <a:off x="1258920" y="1341360"/>
            <a:ext cx="651672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РД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,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Русский Коллекционер. Форум о военном антиквариате."/>
          <p:cNvPicPr/>
          <p:nvPr/>
        </p:nvPicPr>
        <p:blipFill>
          <a:blip r:embed="rId1"/>
          <a:stretch/>
        </p:blipFill>
        <p:spPr>
          <a:xfrm>
            <a:off x="1979640" y="1268280"/>
            <a:ext cx="5292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,Э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НСТРУ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http://im1-tub-ru.yandex.net/i?id=50823adb087096a1c24e2f3c703f1120-136-144&amp;n=21"/>
          <p:cNvPicPr/>
          <p:nvPr/>
        </p:nvPicPr>
        <p:blipFill>
          <a:blip r:embed="rId1"/>
          <a:stretch/>
        </p:blipFill>
        <p:spPr>
          <a:xfrm>
            <a:off x="1908000" y="1484280"/>
            <a:ext cx="5328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45:16Z</dcterms:created>
  <dc:creator>Ольга</dc:creator>
  <dc:description/>
  <dc:language>en-US</dc:language>
  <cp:lastModifiedBy>Пользователь</cp:lastModifiedBy>
  <dcterms:modified xsi:type="dcterms:W3CDTF">2016-08-12T17:33:26Z</dcterms:modified>
  <cp:revision>32</cp:revision>
  <dc:subject/>
  <dc:title>Словарные слова 1 класс</dc:title>
</cp:coreProperties>
</file>