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F7F-DD89-41C9-BDDC-8616BFD4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C71-0CF1-4374-A36D-D8490859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39D-EBB3-4156-A8D3-E9D5763D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58E-BD25-4DB5-8687-0731DCC3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4AE-4521-4EE4-BCBD-9FA9CB9E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D02-7412-4BBA-8B5D-FE28E740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058-1B1A-403B-992D-AF9F3ED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625-D937-4E0C-80B6-108246E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15E-DE0A-48EF-BDFE-039524F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1D6-FDEA-4166-99E1-54D33E6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A50-3EEF-4CE1-925E-0694934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616-182E-4CC8-BD65-EE10192E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AC5-B839-4873-8AAF-EDBA7B071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2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рные слова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5013000"/>
            <a:ext cx="63579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чебнику Н.Г. Галунчиковой, Э.В. Якубовской «Русский язык» учебник для специальных (коррекционных) образовательных учреждений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III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ида Москва «Просвещение»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1401840" y="3591000"/>
            <a:ext cx="4584600" cy="7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КОМП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Караганда-НМ.KZ - Показать сообщение отдельно - Болталка"/>
          <p:cNvPicPr/>
          <p:nvPr/>
        </p:nvPicPr>
        <p:blipFill>
          <a:blip r:embed="rId1"/>
          <a:stretch/>
        </p:blipFill>
        <p:spPr>
          <a:xfrm>
            <a:off x="1835280" y="1557360"/>
            <a:ext cx="565308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НАМ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Я,Е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http://im0-tub-ru.yandex.net/i?id=29c51767352268db59c92522237d6560-105-144&amp;n=21"/>
          <p:cNvPicPr/>
          <p:nvPr/>
        </p:nvPicPr>
        <p:blipFill>
          <a:blip r:embed="rId1"/>
          <a:stretch/>
        </p:blipFill>
        <p:spPr>
          <a:xfrm>
            <a:off x="2050920" y="1484280"/>
            <a:ext cx="522144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ТВ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http://im1-tub-ru.yandex.net/i?id=3ad52c26b9b5287018e84e32eb87526f-26-144&amp;n=21"/>
          <p:cNvPicPr/>
          <p:nvPr/>
        </p:nvPicPr>
        <p:blipFill>
          <a:blip r:embed="rId1"/>
          <a:stretch/>
        </p:blipFill>
        <p:spPr>
          <a:xfrm>
            <a:off x="1979640" y="1268280"/>
            <a:ext cx="514836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Т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http://im1-tub-ru.yandex.net/i?id=279b4c9c6b1d0f838a82662b2b6f2c54-15-144&amp;n=21"/>
          <p:cNvPicPr/>
          <p:nvPr/>
        </p:nvPicPr>
        <p:blipFill>
          <a:blip r:embed="rId1"/>
          <a:stretch/>
        </p:blipFill>
        <p:spPr>
          <a:xfrm>
            <a:off x="1476360" y="1268280"/>
            <a:ext cx="644364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К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http://im1-tub-ru.yandex.net/i?id=be2f82d4fad68d3875dc259e2b79ff29-122-144&amp;n=21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СС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,О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Ж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im3-tub-ru.yandex.net/i?id=505566a90b9312adfff121a0b368b2ca-75-144&amp;n=21"/>
          <p:cNvPicPr/>
          <p:nvPr/>
        </p:nvPicPr>
        <p:blipFill>
          <a:blip r:embed="rId1"/>
          <a:stretch/>
        </p:blipFill>
        <p:spPr>
          <a:xfrm>
            <a:off x="1476360" y="1341360"/>
            <a:ext cx="6299280" cy="478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КОСМ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http://im1-tub-ru.yandex.net/i?id=9c31dce29c68eb732ed5237331703aa7-60-144&amp;n=21"/>
          <p:cNvPicPr/>
          <p:nvPr/>
        </p:nvPicPr>
        <p:blipFill>
          <a:blip r:embed="rId1"/>
          <a:stretch/>
        </p:blipFill>
        <p:spPr>
          <a:xfrm>
            <a:off x="1403280" y="1268280"/>
            <a:ext cx="637236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99760" y="57132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 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Ольга\Рабочий стол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2071800" y="1500120"/>
            <a:ext cx="4286160" cy="43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это пособие поможет                       вам запомнить написание слов с непроверяемыми орфограмм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крытие значения слова путём показа предм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b0f0"/>
                </a:solidFill>
                <a:latin typeface="Calibri"/>
              </a:rPr>
              <a:t>ДОРОГИЕ   ДРУЗЬЯ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(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Е,И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)Р Б Л Ю 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https://im0-tub-ru.yandex.net/i?id=5f5130cfc7eb22bd249607043d07133f-63-144&amp;n=21"/>
          <p:cNvPicPr/>
          <p:nvPr/>
        </p:nvPicPr>
        <p:blipFill>
          <a:blip r:embed="rId1"/>
          <a:stretch/>
        </p:blipFill>
        <p:spPr>
          <a:xfrm>
            <a:off x="2411280" y="1844640"/>
            <a:ext cx="4319640" cy="406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Б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,Е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БЛ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,Е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О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s://im3-tub-ru.yandex.net/i?id=c0ec8eda831b6a6d0b402d99e84c77e7-11-144&amp;n=21"/>
          <p:cNvPicPr/>
          <p:nvPr/>
        </p:nvPicPr>
        <p:blipFill>
          <a:blip r:embed="rId1"/>
          <a:stretch/>
        </p:blipFill>
        <p:spPr>
          <a:xfrm>
            <a:off x="1835280" y="1413000"/>
            <a:ext cx="561636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Г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,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s://im2-tub-ru.yandex.net/i?id=60fd58c845ffded531c9c3459bcd0248-37-144&amp;n=21"/>
          <p:cNvPicPr/>
          <p:nvPr/>
        </p:nvPicPr>
        <p:blipFill>
          <a:blip r:embed="rId1"/>
          <a:stretch/>
        </p:blipFill>
        <p:spPr>
          <a:xfrm>
            <a:off x="1692360" y="1484280"/>
            <a:ext cx="57592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ГРАМ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http://im1-tub-ru.yandex.net/i?id=6b04d55c22c073924f5c2d0f8780ae84-98-144&amp;n=21"/>
          <p:cNvPicPr/>
          <p:nvPr/>
        </p:nvPicPr>
        <p:blipFill>
          <a:blip r:embed="rId1"/>
          <a:stretch/>
        </p:blipFill>
        <p:spPr>
          <a:xfrm>
            <a:off x="2124000" y="1341360"/>
            <a:ext cx="460692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,А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Х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im1-tub-ru.yandex.net/i?id=5db25cf8edad9c27666b5342de330ae0-93-144&amp;n=21"/>
          <p:cNvPicPr/>
          <p:nvPr/>
        </p:nvPicPr>
        <p:blipFill>
          <a:blip r:embed="rId1"/>
          <a:stretch/>
        </p:blipFill>
        <p:spPr>
          <a:xfrm>
            <a:off x="1258920" y="1341360"/>
            <a:ext cx="651672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РД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Е,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Русский Коллекционер. Форум о военном антиквариате."/>
          <p:cNvPicPr/>
          <p:nvPr/>
        </p:nvPicPr>
        <p:blipFill>
          <a:blip r:embed="rId1"/>
          <a:stretch/>
        </p:blipFill>
        <p:spPr>
          <a:xfrm>
            <a:off x="1979640" y="1268280"/>
            <a:ext cx="52927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,Э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)НСТРУ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http://im1-tub-ru.yandex.net/i?id=50823adb087096a1c24e2f3c703f1120-136-144&amp;n=21"/>
          <p:cNvPicPr/>
          <p:nvPr/>
        </p:nvPicPr>
        <p:blipFill>
          <a:blip r:embed="rId1"/>
          <a:stretch/>
        </p:blipFill>
        <p:spPr>
          <a:xfrm>
            <a:off x="1908000" y="1484280"/>
            <a:ext cx="5328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45:16Z</dcterms:created>
  <dc:creator>Ольга</dc:creator>
  <dc:description/>
  <dc:language>en-US</dc:language>
  <cp:lastModifiedBy>Пользователь</cp:lastModifiedBy>
  <dcterms:modified xsi:type="dcterms:W3CDTF">2016-08-12T17:33:26Z</dcterms:modified>
  <cp:revision>32</cp:revision>
  <dc:subject/>
  <dc:title>Словарные слова 1 класс</dc:title>
</cp:coreProperties>
</file>