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A9B-F3DE-4D88-83AF-180C9AE2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C99-EA61-408B-8CD4-195C702E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FCF-D9A4-45B8-B519-02779334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7C2-8267-436D-B7B0-CD260C7B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E5F9-67D8-4AD3-98D5-7AA1B194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C08B-2E14-43B7-94A5-53CE2C76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2BA6-0328-4A6F-A1E1-4E6863A1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D0ED-68C6-4D90-8D6C-36CBE32F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FB53-1B10-46B9-91F1-8497EDAF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939D-4E71-482D-BE09-5F452705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865A-8ADB-42BC-86BB-84FA1B1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6E8-67CA-4981-B3BD-A7B83F40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6586-7155-4213-BE29-EF6C23C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D731-5E15-4135-A9D9-8789327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40EB-7151-4C72-B3F8-151BECE5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4438-AA58-43E7-9FD6-BEE56FAB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B1F5-0B2A-49A0-B3A8-6926925A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1AE7-9FC4-4AC6-8E5A-69EBD762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FDF46-2EE0-44D2-9C7D-1E586BA5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1E86-9584-43D6-BE67-2703D7CC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F71B-DAC1-43CA-A840-F2E6591F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4565-652A-4930-8E82-D30DC2A4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547-05A4-4264-A37F-266D163D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F20C-ACD8-4219-8D56-EB2142B8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17B2-7BA5-4440-8E62-A0751ABF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6A1A-3417-469B-B997-96074B8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8826-6697-4945-96A9-60A3934E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B627C-E5F9-4FE6-9C87-D518BDFC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6391-858E-4FBE-9AD2-0505AAA1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DD4A-1ED6-4C1D-A327-73E26614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7155D-FC47-45DA-99EB-10C44DDA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E7A5-03A1-455D-9F17-86935B4D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2754E-A19C-471D-AD2F-C2069B7D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00F-EEAA-441F-B557-BC8F53C0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F922E-B1FB-4837-87C3-4BDF83FE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4505-9F66-4799-880E-43F3F6B6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192E-F084-4FB8-A04E-C77E943A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C3293-36FC-4A3E-9AB2-EA2BAB4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9754-861D-447B-99C4-AE85E69B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0AFC3-742A-46CD-B739-F76FE7C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19EC-7ED7-4BB8-B657-8F03585B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557B-5D98-47AB-8F1B-2E6AB840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AE192-78E0-4C33-823E-950A7F0B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72951-7603-42D6-86F3-11303788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08F-A9E5-449F-AF9D-C36EF7EF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419E0-1336-45AB-B304-953D87E9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19FBD-9EE3-4F1C-AC14-0807B323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F823-BED7-44ED-95AF-5448DD3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8BD5B-F7FE-4222-B6D8-D6464093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7164-E89B-477D-90B6-9D0A5678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BE7B0-1FE5-4080-A77C-248EE35E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FD0F-55DC-4EE7-B14A-86F5D741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A1AE-A4EE-4A2B-B444-09970603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602A-35C8-4234-9321-73778112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36FA-019B-4102-A9AE-5FA951F1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4FF-3F03-481F-8DCF-1715FC5A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F222-F021-447A-8851-5FD9FAB9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06BA3-42FA-4B79-A7F8-9E128F9C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A48F1-E36A-48E1-AE9F-09FFED4C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52A21-E169-4EE1-B93D-5111BA2B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A82E0-8A0A-4EE7-BFB2-BF01E7D1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30D9A-D699-468D-BA4B-6DD38660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223AF-B83E-4235-A294-B5C19EC6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7C4E4-1B24-46E3-92AD-330C2281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3783F-2FEE-481F-9A67-F7AA2960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E0F92-63BC-4607-AE23-2162BCDB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241-E69E-4DD7-9E82-2FD7BD53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41C91-6A74-459C-8704-7BB49682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611AE-2F4A-4F76-B518-9B1E4275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0C27A-CD04-4542-8CF4-D3DCDE05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8F784-7267-4945-8483-EFC2EB74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D1A9B-9D82-4D0E-BF6E-FDBEE164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20C5D-EE4E-4EA7-A1A8-E0182883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208B5-BDB5-4A05-BAC8-FB79C89E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B80A4-1C10-4FCC-ABB0-8AFB163E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81911-C56B-475F-BE60-BE05BE8F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497DE-A6B5-46C3-9FAA-B63C1E54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177-8AA4-4B39-9403-E4C79875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7D04F-9F3A-45C5-8172-3C4C9314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9AC00-7632-4099-8A88-4EDD48D2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FA0BC-DF41-4825-AC67-517F21ED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F6F72-7220-4801-BEA1-05E66FD0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49FEF-590F-4F8D-BEDC-3D5DEBBA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51F55-2096-4AFF-B703-85A31089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5978A-B342-45FD-B0A7-CE9D5196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73E03-C34F-4E5C-9CC0-D1994B39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278D2-28FE-4C0B-B392-643F8875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108D6-CCE7-49CB-93D4-06514271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2FE-6E3F-426D-A221-82C4EAD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4D8AE-B58D-4695-A299-7BA50A48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F4B9E-7BF4-43BC-9F2B-3CE48A9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E157C-6775-48CC-899D-D4E21BF2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69B2C-394F-4C08-85CA-42BD82D3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A5958-CE81-4978-A4D1-608F9034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B9749-C72F-497E-A134-C32CBA2E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5FB51-7D15-46A1-881E-3E5EA0F0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FFB7-3172-4E58-97A0-10DA60D5B63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975C-17EE-486E-9A96-0F7A2EC090B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2CBF-9D41-4FF9-9B3C-3726ED347E1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FDF5-4123-47DA-A6AB-14053F476B7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7E30-4A5C-45D2-B155-9511147A363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02FD-0E17-40A4-A4E5-A740DF437E9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F253-103D-4D16-9A29-EEC166371E0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7D66-6D95-4166-9E06-15AD738E623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80960" y="701640"/>
            <a:ext cx="7804080" cy="430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285840" y="428616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Докажем, что через точку М можно провести прямую, параллельную прямой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3"/>
          <p:cNvSpPr/>
          <p:nvPr/>
        </p:nvSpPr>
        <p:spPr>
          <a:xfrm>
            <a:off x="1857240" y="928800"/>
            <a:ext cx="5715000" cy="1440"/>
          </a:xfrm>
          <a:prstGeom prst="line">
            <a:avLst/>
          </a:prstGeom>
          <a:ln w="6336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5"/>
          <p:cNvSpPr/>
          <p:nvPr/>
        </p:nvSpPr>
        <p:spPr>
          <a:xfrm>
            <a:off x="1857240" y="2643120"/>
            <a:ext cx="5786640" cy="1800"/>
          </a:xfrm>
          <a:prstGeom prst="line">
            <a:avLst/>
          </a:prstGeom>
          <a:ln w="6336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7"/>
          <p:cNvSpPr/>
          <p:nvPr/>
        </p:nvSpPr>
        <p:spPr>
          <a:xfrm flipH="1">
            <a:off x="4285800" y="500040"/>
            <a:ext cx="1800" cy="3286080"/>
          </a:xfrm>
          <a:prstGeom prst="line">
            <a:avLst/>
          </a:prstGeom>
          <a:ln w="633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9"/>
          <p:cNvSpPr/>
          <p:nvPr/>
        </p:nvSpPr>
        <p:spPr>
          <a:xfrm flipH="1">
            <a:off x="4498560" y="928800"/>
            <a:ext cx="1800" cy="28548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11"/>
          <p:cNvSpPr/>
          <p:nvPr/>
        </p:nvSpPr>
        <p:spPr>
          <a:xfrm>
            <a:off x="4286160" y="1214280"/>
            <a:ext cx="214560" cy="18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3"/>
          <p:cNvSpPr/>
          <p:nvPr/>
        </p:nvSpPr>
        <p:spPr>
          <a:xfrm>
            <a:off x="4286160" y="2357280"/>
            <a:ext cx="214560" cy="18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5"/>
          <p:cNvSpPr/>
          <p:nvPr/>
        </p:nvSpPr>
        <p:spPr>
          <a:xfrm flipH="1">
            <a:off x="4498560" y="2357280"/>
            <a:ext cx="1800" cy="28584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6"/>
          <p:cNvSpPr/>
          <p:nvPr/>
        </p:nvSpPr>
        <p:spPr>
          <a:xfrm>
            <a:off x="4357800" y="4287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7"/>
          <p:cNvSpPr/>
          <p:nvPr/>
        </p:nvSpPr>
        <p:spPr>
          <a:xfrm>
            <a:off x="3857760" y="35002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8"/>
          <p:cNvSpPr/>
          <p:nvPr/>
        </p:nvSpPr>
        <p:spPr>
          <a:xfrm>
            <a:off x="7429680" y="6429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9"/>
          <p:cNvSpPr/>
          <p:nvPr/>
        </p:nvSpPr>
        <p:spPr>
          <a:xfrm>
            <a:off x="7429680" y="22147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Прямоугольник 1"/>
          <p:cNvSpPr/>
          <p:nvPr/>
        </p:nvSpPr>
        <p:spPr>
          <a:xfrm>
            <a:off x="642960" y="28584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Можно ли через точку М провести еще одну прямую, параллельную прямой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3"/>
          <p:cNvSpPr/>
          <p:nvPr/>
        </p:nvSpPr>
        <p:spPr>
          <a:xfrm>
            <a:off x="1500120" y="5000760"/>
            <a:ext cx="6072120" cy="1440"/>
          </a:xfrm>
          <a:prstGeom prst="line">
            <a:avLst/>
          </a:prstGeom>
          <a:ln w="550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4"/>
          <p:cNvSpPr/>
          <p:nvPr/>
        </p:nvSpPr>
        <p:spPr>
          <a:xfrm>
            <a:off x="2357280" y="3857760"/>
            <a:ext cx="6072480" cy="1440"/>
          </a:xfrm>
          <a:prstGeom prst="line">
            <a:avLst/>
          </a:prstGeom>
          <a:ln w="550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6"/>
          <p:cNvSpPr/>
          <p:nvPr/>
        </p:nvSpPr>
        <p:spPr>
          <a:xfrm flipH="1">
            <a:off x="3357720" y="2428920"/>
            <a:ext cx="3000240" cy="1928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ая соединительная линия 8"/>
          <p:cNvSpPr/>
          <p:nvPr/>
        </p:nvSpPr>
        <p:spPr>
          <a:xfrm flipH="1">
            <a:off x="1856880" y="4429080"/>
            <a:ext cx="1428840" cy="928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9"/>
          <p:cNvSpPr/>
          <p:nvPr/>
        </p:nvSpPr>
        <p:spPr>
          <a:xfrm>
            <a:off x="4000680" y="3714840"/>
            <a:ext cx="142560" cy="285840"/>
          </a:xfrm>
          <a:prstGeom prst="ellipse">
            <a:avLst/>
          </a:prstGeom>
          <a:solidFill>
            <a:srgbClr val="ea157a"/>
          </a:solidFill>
          <a:ln w="55080">
            <a:solidFill>
              <a:srgbClr val="ac0c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0"/>
          <p:cNvSpPr/>
          <p:nvPr/>
        </p:nvSpPr>
        <p:spPr>
          <a:xfrm>
            <a:off x="8143920" y="3500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b3d"/>
                </a:solidFill>
                <a:latin typeface="Lucida Sans Unicod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7358040" y="4500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b3d"/>
                </a:solidFill>
                <a:latin typeface="Lucida Sans Unicod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2"/>
          <p:cNvSpPr/>
          <p:nvPr/>
        </p:nvSpPr>
        <p:spPr>
          <a:xfrm>
            <a:off x="6000840" y="2071800"/>
            <a:ext cx="64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b3d"/>
                </a:solidFill>
                <a:latin typeface="Lucida Sans Unicode"/>
              </a:rPr>
              <a:t>в</a:t>
            </a:r>
            <a:r>
              <a:rPr b="1" lang="ru-RU" sz="2400" spc="-1" strike="noStrike" baseline="-25000">
                <a:solidFill>
                  <a:srgbClr val="750b3d"/>
                </a:solidFill>
                <a:latin typeface="Lucida Sans Unicod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3"/>
          <p:cNvSpPr/>
          <p:nvPr/>
        </p:nvSpPr>
        <p:spPr>
          <a:xfrm>
            <a:off x="3643200" y="3071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4"/>
          <p:cNvSpPr/>
          <p:nvPr/>
        </p:nvSpPr>
        <p:spPr>
          <a:xfrm>
            <a:off x="2714760" y="5643720"/>
            <a:ext cx="600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 можно ли это доказ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Прямоугольник 1"/>
          <p:cNvSpPr/>
          <p:nvPr/>
        </p:nvSpPr>
        <p:spPr>
          <a:xfrm>
            <a:off x="2286000" y="0"/>
            <a:ext cx="457200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Monotype Corsiva"/>
              </a:rPr>
              <a:t>Пятый постул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Monotype Corsiva"/>
              </a:rPr>
              <a:t>Евкли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omic Sans MS"/>
              </a:rPr>
              <a:t>1792-18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omic Sans MS"/>
              </a:rPr>
              <a:t>Николай Иванович Лобач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2073240" y="1122480"/>
            <a:ext cx="529740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1"/>
          <p:cNvSpPr/>
          <p:nvPr/>
        </p:nvSpPr>
        <p:spPr>
          <a:xfrm>
            <a:off x="0" y="500040"/>
            <a:ext cx="914400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«Через точку, не лежащую на данной прям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проходит только одна прямая, паралл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данно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6d19"/>
                </a:solidFill>
                <a:latin typeface="Monotype Corsiva"/>
              </a:rPr>
              <a:t>«Через точку, не лежащую на данной прямой, можно провести прямую, параллельную данн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из данных утверждений является аксиом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м отличаются вышеуказанные утверждения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1"/>
          <p:cNvSpPr/>
          <p:nvPr/>
        </p:nvSpPr>
        <p:spPr>
          <a:xfrm>
            <a:off x="571680" y="42876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Аксиома параллельности и следствия из н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"/>
          <p:cNvSpPr/>
          <p:nvPr/>
        </p:nvSpPr>
        <p:spPr>
          <a:xfrm>
            <a:off x="4572000" y="9288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Через точку, не лежащую на д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рямой, проходит только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рямая, параллельная да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Утверждения, которые выводятся из аксиом или теорем, называют следст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едствие 1.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Если прямая пересек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ну из двух паралл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ямых, то она пересекает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уг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едствие 2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   Если две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раллельны третьей прямой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и паралл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II с, b II с      a II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трелка вправо 4"/>
          <p:cNvSpPr/>
          <p:nvPr/>
        </p:nvSpPr>
        <p:spPr>
          <a:xfrm>
            <a:off x="6715080" y="54291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8"/>
          <p:cNvSpPr/>
          <p:nvPr/>
        </p:nvSpPr>
        <p:spPr>
          <a:xfrm flipV="1">
            <a:off x="428760" y="1213920"/>
            <a:ext cx="3429000" cy="1000440"/>
          </a:xfrm>
          <a:prstGeom prst="line">
            <a:avLst/>
          </a:prstGeom>
          <a:ln w="93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9"/>
          <p:cNvSpPr/>
          <p:nvPr/>
        </p:nvSpPr>
        <p:spPr>
          <a:xfrm flipV="1">
            <a:off x="1214280" y="1785960"/>
            <a:ext cx="3429000" cy="1000080"/>
          </a:xfrm>
          <a:prstGeom prst="line">
            <a:avLst/>
          </a:prstGeom>
          <a:ln w="93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1"/>
          <p:cNvSpPr/>
          <p:nvPr/>
        </p:nvSpPr>
        <p:spPr>
          <a:xfrm>
            <a:off x="2500200" y="4929120"/>
            <a:ext cx="2714760" cy="2858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12"/>
          <p:cNvSpPr/>
          <p:nvPr/>
        </p:nvSpPr>
        <p:spPr>
          <a:xfrm>
            <a:off x="1928880" y="5286240"/>
            <a:ext cx="2714400" cy="2858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13"/>
          <p:cNvSpPr/>
          <p:nvPr/>
        </p:nvSpPr>
        <p:spPr>
          <a:xfrm>
            <a:off x="1428840" y="5786280"/>
            <a:ext cx="2714400" cy="2858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15"/>
          <p:cNvSpPr/>
          <p:nvPr/>
        </p:nvSpPr>
        <p:spPr>
          <a:xfrm flipH="1">
            <a:off x="2141640" y="1071720"/>
            <a:ext cx="1440" cy="2214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2500200" y="44290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Lucida Sans Unicode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1785960" y="485784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8"/>
          <p:cNvSpPr/>
          <p:nvPr/>
        </p:nvSpPr>
        <p:spPr>
          <a:xfrm>
            <a:off x="1357200" y="52862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Lucida Sans Unicode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9"/>
          <p:cNvSpPr/>
          <p:nvPr/>
        </p:nvSpPr>
        <p:spPr>
          <a:xfrm>
            <a:off x="1785960" y="10000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Lucida Sans Unicode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20"/>
          <p:cNvSpPr/>
          <p:nvPr/>
        </p:nvSpPr>
        <p:spPr>
          <a:xfrm>
            <a:off x="921960" y="2428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1"/>
          <p:cNvSpPr/>
          <p:nvPr/>
        </p:nvSpPr>
        <p:spPr>
          <a:xfrm>
            <a:off x="285840" y="1714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 Unicode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22"/>
          <p:cNvSpPr/>
          <p:nvPr/>
        </p:nvSpPr>
        <p:spPr>
          <a:xfrm>
            <a:off x="3643200" y="1214280"/>
            <a:ext cx="71640" cy="71640"/>
          </a:xfrm>
          <a:prstGeom prst="ellipse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3571920" y="114300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2"/>
          <p:cNvSpPr/>
          <p:nvPr/>
        </p:nvSpPr>
        <p:spPr>
          <a:xfrm>
            <a:off x="428760" y="-35712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38677"/>
                </a:solidFill>
                <a:latin typeface="Monotype Corsiva"/>
              </a:rPr>
              <a:t>Отметить знаком «+» правильные утверждения и</a:t>
            </a:r>
            <a:r>
              <a:rPr b="1" i="1" lang="en-US" sz="3200" spc="-1" strike="noStrike">
                <a:solidFill>
                  <a:srgbClr val="138677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138677"/>
                </a:solidFill>
                <a:latin typeface="Monotype Corsiva"/>
              </a:rPr>
              <a:t>знаком «-» - ошиб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3"/>
          <p:cNvSpPr/>
          <p:nvPr/>
        </p:nvSpPr>
        <p:spPr>
          <a:xfrm>
            <a:off x="642960" y="1071720"/>
            <a:ext cx="3786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0105c"/>
                </a:solidFill>
                <a:latin typeface="Lucida Sans Unicode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Аксиомой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атематическое утверждение о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войствах геометрических фигур,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бующее доказа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ерез любые две точки проходит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я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На любом луче от начала можно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тложить отрезки, равные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ому, причем сколько угодно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рез точку не лежащую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ой прямой, проходит только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дна прямая, параллельная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Если две прямые параллельны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тьей, то они параллельны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4"/>
          <p:cNvSpPr/>
          <p:nvPr/>
        </p:nvSpPr>
        <p:spPr>
          <a:xfrm>
            <a:off x="4572000" y="1143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0105c"/>
                </a:solidFill>
                <a:latin typeface="Lucida Sans Unicode"/>
              </a:rPr>
              <a:t>Вариан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Аксиомой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атематическое утверждение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войствах геометрических фигу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инимаемое без доказа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ерез любые две точки прох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ямая, и притом только о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ерез точку, не лежащую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ой прямой, проходят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ве прямые, паралл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Если прямая пересекает одну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вух параллельных прямых, то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пендикулярна другой пря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Если прямая пересекает одну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вух параллельных прямых, то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секает и друг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рямоугольник 1" descr=""/>
          <p:cNvPicPr/>
          <p:nvPr/>
        </p:nvPicPr>
        <p:blipFill>
          <a:blip r:embed="rId1"/>
          <a:stretch/>
        </p:blipFill>
        <p:spPr>
          <a:xfrm>
            <a:off x="2279520" y="506520"/>
            <a:ext cx="4870440" cy="447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0" y="395280"/>
            <a:ext cx="91440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336600"/>
                </a:solidFill>
                <a:latin typeface="Monotype Corsiva"/>
                <a:ea typeface="Times New Roman"/>
              </a:rPr>
              <a:t>Закончи предл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73a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73af"/>
                </a:solidFill>
                <a:latin typeface="Times New Roman"/>
                <a:ea typeface="Times New Roman"/>
              </a:rPr>
              <a:t>Прямая х называется секущей по отношению к прямым а и b, ес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2. При пересечении двух прямых секущей образуется … неразвёрнутых уг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3. Если прямые АВ и СD пересечены прямой ВD, то прямая ВD называ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4. Если точки В и D лежат в разных полуплоскостях относительно секущей А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то углы ВАС и DCA называю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5. Если точки В и D лежат в одной полуплоскости относительно секущей АС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углы ВАС и DCA называю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6. Если внутренние накрест лежащие углы одной пары равны, то 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накрест лежащие углы другой пар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357120" y="571680"/>
            <a:ext cx="82155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роверка зад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1.…если она пересекает их в двух точ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2.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3.…секущ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4.…накрест лежащ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5.…односторонн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6.…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2"/>
          <p:cNvSpPr/>
          <p:nvPr/>
        </p:nvSpPr>
        <p:spPr>
          <a:xfrm>
            <a:off x="571680" y="357120"/>
            <a:ext cx="892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Monotype Corsiva"/>
                <a:ea typeface="Times New Roman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3857760" y="16430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) a | | b,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нутренние накр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жащие у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4"/>
          <p:cNvSpPr/>
          <p:nvPr/>
        </p:nvSpPr>
        <p:spPr>
          <a:xfrm>
            <a:off x="6215040" y="30718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) a | | b, так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ответ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глы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6286680" y="4572000"/>
            <a:ext cx="221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) a | | b, так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мма внутрен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дносторон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глов равна 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8"/>
          <p:cNvSpPr/>
          <p:nvPr/>
        </p:nvSpPr>
        <p:spPr>
          <a:xfrm>
            <a:off x="1000080" y="1285920"/>
            <a:ext cx="2857680" cy="14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10"/>
          <p:cNvSpPr/>
          <p:nvPr/>
        </p:nvSpPr>
        <p:spPr>
          <a:xfrm>
            <a:off x="1071720" y="1928880"/>
            <a:ext cx="2786040" cy="14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1571760" y="1000080"/>
            <a:ext cx="2286000" cy="1428840"/>
          </a:xfrm>
          <a:prstGeom prst="line">
            <a:avLst/>
          </a:prstGeom>
          <a:ln w="55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3786120" y="2143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Lucida Sans Unicode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857160" y="1000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5"/>
          <p:cNvSpPr/>
          <p:nvPr/>
        </p:nvSpPr>
        <p:spPr>
          <a:xfrm>
            <a:off x="928800" y="171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7"/>
          <p:cNvSpPr/>
          <p:nvPr/>
        </p:nvSpPr>
        <p:spPr>
          <a:xfrm>
            <a:off x="2428920" y="1285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15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8"/>
          <p:cNvSpPr/>
          <p:nvPr/>
        </p:nvSpPr>
        <p:spPr>
          <a:xfrm>
            <a:off x="3000240" y="16430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3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500040" y="14288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>
            <a:off x="2571840" y="2357280"/>
            <a:ext cx="2286000" cy="1428840"/>
          </a:xfrm>
          <a:prstGeom prst="line">
            <a:avLst/>
          </a:prstGeom>
          <a:ln w="55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>
            <a:off x="1071720" y="2500200"/>
            <a:ext cx="2286000" cy="1428840"/>
          </a:xfrm>
          <a:prstGeom prst="line">
            <a:avLst/>
          </a:prstGeom>
          <a:ln w="55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>
            <a:off x="1214280" y="3214800"/>
            <a:ext cx="3714840" cy="14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5"/>
          <p:cNvSpPr/>
          <p:nvPr/>
        </p:nvSpPr>
        <p:spPr>
          <a:xfrm>
            <a:off x="1000080" y="2500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6"/>
          <p:cNvSpPr/>
          <p:nvPr/>
        </p:nvSpPr>
        <p:spPr>
          <a:xfrm>
            <a:off x="2719440" y="2286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7"/>
          <p:cNvSpPr/>
          <p:nvPr/>
        </p:nvSpPr>
        <p:spPr>
          <a:xfrm>
            <a:off x="457200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Lucida Sans Unicode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8"/>
          <p:cNvSpPr/>
          <p:nvPr/>
        </p:nvSpPr>
        <p:spPr>
          <a:xfrm>
            <a:off x="1357200" y="2928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45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9"/>
          <p:cNvSpPr/>
          <p:nvPr/>
        </p:nvSpPr>
        <p:spPr>
          <a:xfrm>
            <a:off x="3214800" y="2928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45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30"/>
          <p:cNvSpPr/>
          <p:nvPr/>
        </p:nvSpPr>
        <p:spPr>
          <a:xfrm>
            <a:off x="714240" y="2857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1285920" y="4857840"/>
            <a:ext cx="3214800" cy="7160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33"/>
          <p:cNvSpPr/>
          <p:nvPr/>
        </p:nvSpPr>
        <p:spPr>
          <a:xfrm flipH="1">
            <a:off x="1571760" y="4286160"/>
            <a:ext cx="1643040" cy="1214640"/>
          </a:xfrm>
          <a:prstGeom prst="line">
            <a:avLst/>
          </a:prstGeom>
          <a:ln w="55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37"/>
          <p:cNvSpPr/>
          <p:nvPr/>
        </p:nvSpPr>
        <p:spPr>
          <a:xfrm flipH="1">
            <a:off x="2571840" y="4643280"/>
            <a:ext cx="1643040" cy="1214640"/>
          </a:xfrm>
          <a:prstGeom prst="line">
            <a:avLst/>
          </a:prstGeom>
          <a:ln w="55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38"/>
          <p:cNvSpPr/>
          <p:nvPr/>
        </p:nvSpPr>
        <p:spPr>
          <a:xfrm>
            <a:off x="1430640" y="5286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39"/>
          <p:cNvSpPr/>
          <p:nvPr/>
        </p:nvSpPr>
        <p:spPr>
          <a:xfrm>
            <a:off x="2576520" y="571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0"/>
          <p:cNvSpPr/>
          <p:nvPr/>
        </p:nvSpPr>
        <p:spPr>
          <a:xfrm>
            <a:off x="421488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Lucida Sans Unicode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41"/>
          <p:cNvSpPr/>
          <p:nvPr/>
        </p:nvSpPr>
        <p:spPr>
          <a:xfrm>
            <a:off x="1964160" y="514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15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42"/>
          <p:cNvSpPr/>
          <p:nvPr/>
        </p:nvSpPr>
        <p:spPr>
          <a:xfrm>
            <a:off x="2964240" y="5000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15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43"/>
          <p:cNvSpPr/>
          <p:nvPr/>
        </p:nvSpPr>
        <p:spPr>
          <a:xfrm>
            <a:off x="1000080" y="5000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0" y="0"/>
            <a:ext cx="914400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сио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роисходит от греческого «аксиос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что означает «ценный, достойны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оложение, принимаемое б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логического доказательства в с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непосредственной убедитель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истинное исходное положение те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Советский энциклопедический сло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42876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a326"/>
                </a:solidFill>
                <a:latin typeface="Comic Sans MS"/>
              </a:rPr>
              <a:t>Сколько прямых можно провести через любые две</a:t>
            </a:r>
            <a:r>
              <a:rPr b="1" lang="en-US" sz="2800" spc="-1" strike="noStrike">
                <a:solidFill>
                  <a:srgbClr val="5fa326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fa326"/>
                </a:solidFill>
                <a:latin typeface="Comic Sans MS"/>
              </a:rPr>
              <a:t>точки, лежащие на плоск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428760" y="500076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Через любые две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проходит прямая, и при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только од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4"/>
          <p:cNvSpPr/>
          <p:nvPr/>
        </p:nvSpPr>
        <p:spPr>
          <a:xfrm flipV="1">
            <a:off x="1785960" y="2714400"/>
            <a:ext cx="6215040" cy="500040"/>
          </a:xfrm>
          <a:prstGeom prst="line">
            <a:avLst/>
          </a:prstGeom>
          <a:ln w="633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5"/>
          <p:cNvSpPr/>
          <p:nvPr/>
        </p:nvSpPr>
        <p:spPr>
          <a:xfrm>
            <a:off x="3214800" y="3000240"/>
            <a:ext cx="285480" cy="214560"/>
          </a:xfrm>
          <a:prstGeom prst="ellipse">
            <a:avLst/>
          </a:prstGeom>
          <a:solidFill>
            <a:srgbClr val="00addc"/>
          </a:solidFill>
          <a:ln w="5508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6"/>
          <p:cNvSpPr/>
          <p:nvPr/>
        </p:nvSpPr>
        <p:spPr>
          <a:xfrm>
            <a:off x="6072120" y="2786040"/>
            <a:ext cx="214560" cy="214200"/>
          </a:xfrm>
          <a:prstGeom prst="ellipse">
            <a:avLst/>
          </a:prstGeom>
          <a:solidFill>
            <a:srgbClr val="00addc"/>
          </a:solidFill>
          <a:ln w="5508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357120" y="42876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Сколько отрезков данной длины можно отложить от начала луч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"/>
          <p:cNvSpPr/>
          <p:nvPr/>
        </p:nvSpPr>
        <p:spPr>
          <a:xfrm>
            <a:off x="357120" y="435780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любом луче от его начал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жно отложить отрезок,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ый данному,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том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4"/>
          <p:cNvSpPr/>
          <p:nvPr/>
        </p:nvSpPr>
        <p:spPr>
          <a:xfrm>
            <a:off x="1071720" y="1928880"/>
            <a:ext cx="3071520" cy="1440"/>
          </a:xfrm>
          <a:prstGeom prst="line">
            <a:avLst/>
          </a:prstGeom>
          <a:ln w="93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5"/>
          <p:cNvSpPr/>
          <p:nvPr/>
        </p:nvSpPr>
        <p:spPr>
          <a:xfrm>
            <a:off x="1071720" y="1785960"/>
            <a:ext cx="142560" cy="214200"/>
          </a:xfrm>
          <a:prstGeom prst="ellipse">
            <a:avLst/>
          </a:prstGeom>
          <a:gradFill rotWithShape="0">
            <a:gsLst>
              <a:gs pos="0">
                <a:srgbClr val="2f7200"/>
              </a:gs>
              <a:gs pos="100000">
                <a:srgbClr val="82f730"/>
              </a:gs>
            </a:gsLst>
            <a:lin ang="16200000"/>
          </a:gradFill>
          <a:ln w="9360">
            <a:solidFill>
              <a:srgbClr val="7fd13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6"/>
          <p:cNvSpPr/>
          <p:nvPr/>
        </p:nvSpPr>
        <p:spPr>
          <a:xfrm>
            <a:off x="4000680" y="1785960"/>
            <a:ext cx="142560" cy="214200"/>
          </a:xfrm>
          <a:prstGeom prst="ellipse">
            <a:avLst/>
          </a:prstGeom>
          <a:gradFill rotWithShape="0">
            <a:gsLst>
              <a:gs pos="0">
                <a:srgbClr val="2f7200"/>
              </a:gs>
              <a:gs pos="100000">
                <a:srgbClr val="82f730"/>
              </a:gs>
            </a:gsLst>
            <a:lin ang="16200000"/>
          </a:gradFill>
          <a:ln w="9360">
            <a:solidFill>
              <a:srgbClr val="7fd13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8"/>
          <p:cNvSpPr/>
          <p:nvPr/>
        </p:nvSpPr>
        <p:spPr>
          <a:xfrm>
            <a:off x="1214280" y="3286080"/>
            <a:ext cx="7286760" cy="1800"/>
          </a:xfrm>
          <a:prstGeom prst="line">
            <a:avLst/>
          </a:prstGeom>
          <a:ln w="6336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9"/>
          <p:cNvSpPr/>
          <p:nvPr/>
        </p:nvSpPr>
        <p:spPr>
          <a:xfrm>
            <a:off x="1143000" y="3214800"/>
            <a:ext cx="142920" cy="142920"/>
          </a:xfrm>
          <a:prstGeom prst="ellipse">
            <a:avLst/>
          </a:prstGeom>
          <a:solidFill>
            <a:srgbClr val="ea157a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357120" y="57168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Сколько углов равных данному м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отложить от данного луча в заданную полуплоск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0" y="5000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 любого луча в заданную сторону можно отложить угол, равный данному неразвернутому углу, и притом только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4"/>
          <p:cNvSpPr/>
          <p:nvPr/>
        </p:nvSpPr>
        <p:spPr>
          <a:xfrm>
            <a:off x="714240" y="2071800"/>
            <a:ext cx="2428920" cy="785880"/>
          </a:xfrm>
          <a:prstGeom prst="line">
            <a:avLst/>
          </a:prstGeom>
          <a:ln w="55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6"/>
          <p:cNvSpPr/>
          <p:nvPr/>
        </p:nvSpPr>
        <p:spPr>
          <a:xfrm flipH="1">
            <a:off x="928440" y="2856960"/>
            <a:ext cx="2214360" cy="1214280"/>
          </a:xfrm>
          <a:prstGeom prst="line">
            <a:avLst/>
          </a:prstGeom>
          <a:ln w="55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8"/>
          <p:cNvSpPr/>
          <p:nvPr/>
        </p:nvSpPr>
        <p:spPr>
          <a:xfrm flipH="1">
            <a:off x="4000320" y="2714040"/>
            <a:ext cx="3857400" cy="1143000"/>
          </a:xfrm>
          <a:prstGeom prst="line">
            <a:avLst/>
          </a:prstGeom>
          <a:ln w="633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9"/>
          <p:cNvSpPr/>
          <p:nvPr/>
        </p:nvSpPr>
        <p:spPr>
          <a:xfrm>
            <a:off x="7786800" y="2571840"/>
            <a:ext cx="142920" cy="214200"/>
          </a:xfrm>
          <a:prstGeom prst="ellipse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1:37:17Z</dcterms:created>
  <dc:creator>Школа28</dc:creator>
  <dc:description/>
  <dc:language>en-US</dc:language>
  <cp:lastModifiedBy>Любовь</cp:lastModifiedBy>
  <dcterms:modified xsi:type="dcterms:W3CDTF">2016-01-14T14:30:13Z</dcterms:modified>
  <cp:revision>14</cp:revision>
  <dc:subject/>
  <dc:title>Тема: «Аксиома параллельных прямых» 19 февраля 2008 г Урок изучения нового материала Цель: изучить, понять, увидеть применение в простейших ситуациях</dc:title>
</cp:coreProperties>
</file>