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1A2-A9FC-42B6-A841-AC6C8748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098-FB90-4DF6-9566-352FBF45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344-46A9-4EAB-B535-8A6BDA6B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20F-3C7F-4783-AFA6-6CF1ECC7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B8FA-E348-4A65-89ED-5BB2E4C7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FF5F-88EC-40A1-8991-994A9899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D5F6-741F-49CC-938A-AC382914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C598-FC3B-470B-A3B6-2F1F74B5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825C-258E-47D4-8467-B5C4B3CA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FA5E-7BD6-47E9-BF96-269FE76C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7E5B-6363-4BE0-A6D6-55EA37B7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648-5985-456D-AFB4-BF4B073C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C0C1-719A-432C-8A18-92A9788A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F0ED-4559-4FBC-830E-694E4F48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EBBE-7EDB-4E2F-93C0-BB5C37DA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A887-2F55-4C2B-9D50-D87B98C9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56D2-D595-4869-9383-15F977B3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EA7-E74D-4E7E-9829-7C399281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CC3-08D6-4ACD-9925-9609C4E8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0921-9A3A-4086-956E-91F92C07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C33-6D80-4E46-BD24-4D609EA5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AEC-4E7C-4060-B587-031E0B16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3B6-641F-4D1C-A9AE-48654331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460-83C5-48E6-B960-E4E5CF3C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EFA9-04B2-4B2A-982B-5813C388C2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823D-EFEF-4911-AD3D-929DB226B3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Н.М.Карамзин. </a:t>
            </a:r>
            <a:br>
              <a:rPr sz="4100"/>
            </a:b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«Бедная Лиза»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Литература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Алексеева Н.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9. Человек, духовно близкий Лизе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мать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Эраст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повествователь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10. Эраст женился на богатой вдове, потому что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благосостояние для него было важнее любв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не мог продолжать отношения с крестьянкой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в армии проиграл своё имение и остался без средст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11. Картины природы в произведении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являются фоном повествования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показывают смену времён год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передают настроение Лиз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12. Фраза из «Бедной Лизы», ставшая «крылатой»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«Однако ж, Лиза лучше кормиться трудами своими и ничего не брать даром»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«И крестьянки любить умеют!»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«Смерть за Отечество не страшна…»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13. Эпитет «бедная» в названии произведения означает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нищая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обездоленная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несчастна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14. Новаторство Карамзина проявилось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в обличении социального неравенства героев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в осуждении паразитического образа жизни Эраст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в глубоком изображении внутреннего мира героин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Ответы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  2   3   4   5   6   7   8   9  10  11 12  13  1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  б   а   б   в   б   а   б   а   а    в   б   в     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ценк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2 – 14 баллов = «5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8 – 11 баллов = «4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5 – 7 баллов = «3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1. Особенность языка произведений Н.М.Карамзина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писатель приблизил его к живой разговорной реч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писатель использовал только «высокую» лексику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писатель ввёл в активное употребление заимствования из других язык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2. Жанр «Бедной Лизы»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очерк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повесть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рассказ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3. Художественное своеобразие сентиментализма, основоположником которого в России был Карамзин, состоит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в изображении внутреннего мира и чувств человек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в изучении личностных качеств человек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в воспевании внешней красоты человек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4. Задача повествователя в «Бедной Лизе»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осветить события, не выражая своей позици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дать событиям субъективно-эмоциональную оценку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исторически точно передать особенности быта жителей Москвы конца 18 века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5. Портрет Эраста отражает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только внешность героя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отношение автора к герою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внешность, образ жизни героя, особенности его характер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6. Карамзин противопоставляет главных героев – Эраста и Лизу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описывая их внешность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рассказывая об их отношении к труду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повествуя об их родителя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 Black"/>
              </a:rPr>
              <a:t>7. «До сего времени, просыпаясь вместе с птичками, ты вместе с ними веселилась утром, и чистая, радостная душа светилась в глазах твоих, подобно как солнце светится в каплях росы небесной» - пишет Карамзин о Лизе: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как о человеке с чистой душой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с иронией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как о легкомысленной девушк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8. Слова признания в любви к Лизе прозвучали из уст Эраста как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) гром небесный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) как  восхитительная музык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) шелест листье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K-3008</cp:lastModifiedBy>
  <dcterms:modified xsi:type="dcterms:W3CDTF">2018-09-28T03:50:2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