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B2F-F910-4A2C-ADA5-06AEE846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BB4-4271-4DB4-BC0B-0676C0E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BC7-BC6C-4CC1-8721-2204628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691-0DDD-415E-9347-D4C0615B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B923-A29F-42DD-B90F-ED2DB2A0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A438-1A39-4A96-A2B0-975E90F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C077-E521-48B1-AD8A-420A319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071A-D43C-4B01-9F9D-21C1F577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4C4-4643-48EF-B7A5-B9BBEA6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ACD-8855-4530-AB40-36443D91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D0C-A2F8-4617-BA17-5F185FB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0BB-A641-4CA6-ACB3-2955B1C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B6AA-8562-43C3-8280-E44E5F4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5E9E-6EA9-4F5A-9265-21F3336F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A7EE-5F1C-4AEF-AAB7-D6144D3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57A2-A75E-4A3B-B11E-75FBD236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C10-CFEC-40A4-994E-92C24D76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45E-4590-4644-83AD-02F212D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515-BE34-43B5-95BB-D43C87F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AB0-450F-4972-8EFA-D2B3A101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1D4-F82F-4695-920D-89241DCA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778-75EF-4EBE-A4EA-B579751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4FC-BA89-4F30-BA8A-DE22ACB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1D0-0DAE-4F59-A1A5-CC38D5D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F7E2-0043-46CD-8BD6-86CA95733E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89D-4804-4E53-B35A-4FF3D15DCC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Н.М.Карамзин. 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«Бедная Лиза»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ексеева Н.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9. Человек, духовно близкий Лиз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ма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Эраст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овествовател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0. Эраст женился на богатой вдове, потому что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благосостояние для него было важнее любв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не мог продолжать отношения с крестьянк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армии проиграл своё имение и остался без средст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1. Картины природы в произведен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являются фоном повествовани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оказывают смену времён год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ередают настроение Лиз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2. Фраза из «Бедной Лизы», ставшая «крылатой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«Однако ж, Лиза лучше кормиться трудами своими и ничего не брать даром»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«И крестьянки любить умеют!»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«Смерть за Отечество не страшна…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Эпитет «бедная» в названии произведения означает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нища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обездоленна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несчастна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4. Новаторство Карамзина проявилось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в обличении социального неравенства героев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в осуждении паразитического образа жизни Эраст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глубоком изображении внутреннего мира герои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Ответ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  2   3   4   5   6   7   8   9  10  11 12  13  1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  б   а   б   в   б   а   б   а   а    в   б   в     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ценк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2 – 14 баллов = «5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8 – 11 баллов = «4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 – 7 баллов = «3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. Особенность языка произведений Н.М.Карамзин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писатель приблизил его к живой разговорной реч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исатель использовал только «высокую» лекси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исатель ввёл в активное употребление заимствования из других язы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2. Жанр «Бедной Лизы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черк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овес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рассказ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3. Художественное своеобразие сентиментализма, основоположником которого в России был Карамзин, состои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в изображении внутреннего мира и чувств челове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в изучении личностных качеств челове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воспевании внешней красоты челове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4. Задача повествователя в «Бедной Лизе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светить события, не выражая своей пози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дать событиям субъективно-эмоциональную оцен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исторически точно передать особенности быта жителей Москвы конца 18 века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5. Портрет Эраста отражает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только внешность геро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отношение автора к герою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нешность, образ жизни героя, особенности его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6. Карамзин противопоставляет главных героев – Эраста и Лизу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писывая их внешнос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рассказывая об их отношении к труд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овествуя об их родителя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 Black"/>
              </a:rPr>
              <a:t>7. «До сего времени, просыпаясь вместе с птичками, ты вместе с ними веселилась утром, и чистая, радостная душа светилась в глазах твоих, подобно как солнце светится в каплях росы небесной» - пишет Карамзин о Лизе: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как о человеке с чистой душ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с ироние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как о легкомысленной девушк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Слова признания в любви к Лизе прозвучали из уст Эраста как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гром небесны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как  восхитительная музы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шелест листье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K-3008</cp:lastModifiedBy>
  <dcterms:modified xsi:type="dcterms:W3CDTF">2018-09-28T03:50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