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gif" ContentType="image/gif"/>
  <Override PartName="/ppt/media/image4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EF0-8A72-459C-B46F-183B4B7C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E4D-CBB0-4622-9C4C-934DC68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0A7-9CFE-44F6-9B33-50D5CA98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5CC-8019-4376-91ED-C2445A6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ECC-2982-48B6-B37D-5E87A64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8C3-B7C5-4A61-9BA5-DEDEE91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73A-F36E-4365-B7A6-4CB2BCE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C5E-F2C7-4AA2-94D5-7A1B70EE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8BF-6D81-484B-9209-C6F5CFB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58C-E96C-4F4F-997B-674D27C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411-BC33-46E6-A514-665B8E1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C97-A451-4B0A-A097-1A5A7C5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D7D7-CC6A-4ADC-B094-D70D0D6FB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251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12 декабря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День Конститу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4357800"/>
            <a:ext cx="457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«Без Конституции невозможны личная свобода, безопасность человека, семьи, общества и государств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                                 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Валерий Зорьк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4200" y="442908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арантом Конституции является глава нашего государства – президент Путин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214880" y="928800"/>
            <a:ext cx="350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игинал Российской Конституции хранится в библиотеке главы государства в Кр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Pp01137"/>
          <p:cNvPicPr/>
          <p:nvPr/>
        </p:nvPicPr>
        <p:blipFill>
          <a:blip r:embed="rId1"/>
          <a:stretch/>
        </p:blipFill>
        <p:spPr>
          <a:xfrm>
            <a:off x="785880" y="1357200"/>
            <a:ext cx="2689200" cy="29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encrypted-tbn2.gstatic.com/images?q=tbn:ANd9GcSGRg5XUTC0pjQsHQiDkduEoE2RHK2kCnkmgbOK6nYcbQNUgypk"/>
          <p:cNvPicPr/>
          <p:nvPr/>
        </p:nvPicPr>
        <p:blipFill>
          <a:blip r:embed="rId2"/>
          <a:stretch/>
        </p:blipFill>
        <p:spPr>
          <a:xfrm>
            <a:off x="4143240" y="27860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У каждой страны есть государственная символика –герб, гимн, фла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Картинка 98 из 4535"/>
          <p:cNvPicPr/>
          <p:nvPr/>
        </p:nvPicPr>
        <p:blipFill>
          <a:blip r:embed="rId1"/>
          <a:stretch/>
        </p:blipFill>
        <p:spPr>
          <a:xfrm>
            <a:off x="2714760" y="1736640"/>
            <a:ext cx="3714480" cy="486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714240" y="50004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1285920" y="2786040"/>
            <a:ext cx="685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 первой странице Конституции напечатан гимн нашего государства. Гимн -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дин из главных символов страны. Исполняется при вступлении в должность Президента, руководителей местного самоуправления, при открытии и закрытии торжественных собраний, при проведении торжественных мероприятий, воинских ритуалов и спортивных соревнован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этому его исполнение сопровождается знаками наивысшего уважения — все присутствующие встают, а военные отдают честь или салютуют оруж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encrypted-tbn1.gstatic.com/images?q=tbn:ANd9GcRIofvWdsSYozv1R6EFz_6n8BuyzvZYdNX8uI-Tn_q46kdAmzZlzw"/>
          <p:cNvPicPr/>
          <p:nvPr/>
        </p:nvPicPr>
        <p:blipFill>
          <a:blip r:embed="rId1"/>
          <a:stretch/>
        </p:blipFill>
        <p:spPr>
          <a:xfrm>
            <a:off x="1285920" y="642960"/>
            <a:ext cx="6513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143760" y="1428840"/>
            <a:ext cx="228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узыка - Георгия Александр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овый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214280" y="1214280"/>
            <a:ext cx="442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священная наша держа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любимая наша стра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Могучая воля, великая слава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: Славься, Отечество наше свободно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Братских народов союз веков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едками данная мудрость народна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т южных морей до полярного кр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скинулись наши леса и по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дна ты на свете! Одна ты такая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Широкий простор для мечты и для жиз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рядущие нам открывают г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м силу даёт наша верность Отчиз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encrypted-tbn0.gstatic.com/images?q=tbn:ANd9GcSXjhBwCeoE4bhsiBjEyh5Qy4fBc2jAJL1UdzYZk8RoQNVfhK92UA"/>
          <p:cNvPicPr/>
          <p:nvPr/>
        </p:nvPicPr>
        <p:blipFill>
          <a:blip r:embed="rId1"/>
          <a:stretch/>
        </p:blipFill>
        <p:spPr>
          <a:xfrm>
            <a:off x="5614920" y="42148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000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ер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6072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ерб Российской Федерации представляет собой изображение золотого двуглавого орла, помещенного на красном геральдическом щите; над орлом — три исторические короны (над головами — две малые и над ними — одна большего размера); в лапах орла — скипетр и держава; на груди орла на красном щите — всадник. Это Святой Георгий Победоносец – на белом коне, за его плечами развевается синий плащ, в правой руке у него серебряное копье, которым он поражает дракона. Ужасный черный змей – это символ зла. Он повержен героем. Верный конь топчет дракона копы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6442200" y="428760"/>
            <a:ext cx="270180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11" descr=""/>
          <p:cNvPicPr/>
          <p:nvPr/>
        </p:nvPicPr>
        <p:blipFill>
          <a:blip r:embed="rId2"/>
          <a:srcRect l="2759" t="29266" r="49171" b="13361"/>
          <a:stretch/>
        </p:blipFill>
        <p:spPr>
          <a:xfrm>
            <a:off x="6264360" y="4286160"/>
            <a:ext cx="287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3394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белого, синего и красного цв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Картинка 53 из 1294391"/>
          <p:cNvPicPr/>
          <p:nvPr/>
        </p:nvPicPr>
        <p:blipFill>
          <a:blip r:embed="rId1"/>
          <a:stretch/>
        </p:blipFill>
        <p:spPr>
          <a:xfrm>
            <a:off x="4857840" y="3936960"/>
            <a:ext cx="428616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7"/>
          <p:cNvSpPr/>
          <p:nvPr/>
        </p:nvSpPr>
        <p:spPr>
          <a:xfrm>
            <a:off x="428760" y="4429080"/>
            <a:ext cx="5000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 в России отмечается День Государственного флага Российской Федерации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57120" y="714240"/>
            <a:ext cx="4143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нституция – это главный закон, который определяет жизнь нашего государства, права и обязанности граждан.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сновные права и свободы человека принадлежат каждому от р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кими же правами обладает ребен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онституция. Основной закон России: Справочник школьника"/>
          <p:cNvPicPr/>
          <p:nvPr/>
        </p:nvPicPr>
        <p:blipFill>
          <a:blip r:embed="rId1"/>
          <a:stretch/>
        </p:blipFill>
        <p:spPr>
          <a:xfrm>
            <a:off x="4643280" y="-15840"/>
            <a:ext cx="45007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2-конечная звезда 2"/>
          <p:cNvSpPr/>
          <p:nvPr/>
        </p:nvSpPr>
        <p:spPr>
          <a:xfrm>
            <a:off x="2357280" y="1285920"/>
            <a:ext cx="4500720" cy="4143240"/>
          </a:xfrm>
          <a:custGeom>
            <a:avLst/>
            <a:gdLst/>
            <a:ahLst/>
            <a:rect l="l" t="t" r="r" b="b"/>
            <a:pathLst>
              <a:path w="4500562" h="4143375">
                <a:moveTo>
                  <a:pt x="0" y="2071688"/>
                </a:moveTo>
                <a:lnTo>
                  <a:pt x="1356495" y="1851205"/>
                </a:lnTo>
                <a:lnTo>
                  <a:pt x="301480" y="1035844"/>
                </a:lnTo>
                <a:lnTo>
                  <a:pt x="1595984" y="1469319"/>
                </a:lnTo>
                <a:lnTo>
                  <a:pt x="1125141" y="277553"/>
                </a:lnTo>
                <a:lnTo>
                  <a:pt x="2010792" y="1248837"/>
                </a:lnTo>
                <a:lnTo>
                  <a:pt x="2250281" y="0"/>
                </a:lnTo>
                <a:lnTo>
                  <a:pt x="2489770" y="1248837"/>
                </a:lnTo>
                <a:lnTo>
                  <a:pt x="3375422" y="277553"/>
                </a:lnTo>
                <a:lnTo>
                  <a:pt x="2904578" y="1469319"/>
                </a:lnTo>
                <a:lnTo>
                  <a:pt x="4199082" y="1035844"/>
                </a:lnTo>
                <a:lnTo>
                  <a:pt x="3144067" y="1851205"/>
                </a:lnTo>
                <a:lnTo>
                  <a:pt x="4500562" y="2071688"/>
                </a:lnTo>
                <a:lnTo>
                  <a:pt x="3144067" y="2292170"/>
                </a:lnTo>
                <a:lnTo>
                  <a:pt x="4199082" y="3107531"/>
                </a:lnTo>
                <a:lnTo>
                  <a:pt x="2904578" y="2674056"/>
                </a:lnTo>
                <a:lnTo>
                  <a:pt x="3375422" y="3865822"/>
                </a:lnTo>
                <a:lnTo>
                  <a:pt x="2489770" y="2894538"/>
                </a:lnTo>
                <a:lnTo>
                  <a:pt x="2250281" y="4143375"/>
                </a:lnTo>
                <a:lnTo>
                  <a:pt x="2010792" y="2894538"/>
                </a:lnTo>
                <a:lnTo>
                  <a:pt x="1125141" y="3865822"/>
                </a:lnTo>
                <a:lnTo>
                  <a:pt x="1595984" y="2674056"/>
                </a:lnTo>
                <a:lnTo>
                  <a:pt x="301480" y="3107531"/>
                </a:lnTo>
                <a:lnTo>
                  <a:pt x="1356495" y="2292170"/>
                </a:lnTo>
                <a:lnTo>
                  <a:pt x="0" y="2071688"/>
                </a:lnTo>
                <a:close/>
              </a:path>
            </a:pathLst>
          </a:custGeom>
          <a:solidFill>
            <a:srgbClr val="ffff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7760" y="2928960"/>
            <a:ext cx="171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 ребенок, я имею пра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85840" y="292896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хранять свою индивиду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214280" y="5143680"/>
            <a:ext cx="264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защиту от жестокого об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1000080" y="100008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бесплат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s://encrypted-tbn0.gstatic.com/images?q=tbn:ANd9GcQBOUas3IgH8Qi2Orezf_af5voH65j26rM2LjubVP4A5W-R4ccL"/>
          <p:cNvPicPr/>
          <p:nvPr/>
        </p:nvPicPr>
        <p:blipFill>
          <a:blip r:embed="rId1"/>
          <a:stretch/>
        </p:blipFill>
        <p:spPr>
          <a:xfrm>
            <a:off x="3786120" y="285840"/>
            <a:ext cx="704880" cy="990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8"/>
          <p:cNvSpPr/>
          <p:nvPr/>
        </p:nvSpPr>
        <p:spPr>
          <a:xfrm>
            <a:off x="4643280" y="214200"/>
            <a:ext cx="30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Каждый ребенок имеет право на жи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5715000" y="928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С момента рождения ребенок имеет право на имя и на приобретение гражда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6286680" y="3929040"/>
            <a:ext cx="307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Все дети имеют право жить с родителями, за исключением случаев, когда это невозмо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6500880" y="192888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Каждый ребенок имеет право на отдых и дос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6715080" y="278604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ебенок имеет право свободно выражать свое м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3357720" y="571500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ебенок имеет право на свободу мысли, совести и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5786280" y="5000760"/>
            <a:ext cx="28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Все дети имеют право на частную жиз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285840" y="171468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Дети с ограниченными возможностями имеют право на особую з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285840" y="407196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Право на здравоохранение и медицинское обслу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428760" y="217800"/>
            <a:ext cx="84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ряду с правами существую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обязанности,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 которых не должен забывать каждый гражданин нашей страны, в том числе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786280" y="7142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14200" y="1150560"/>
            <a:ext cx="835848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Учащиеся должны (обязаны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облюдать правила, которые разработаны в образовательном учрежд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подчиняться требованиям педаго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заботиться о младш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облюдать правила гигиены, иметь аккуратный ви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поддерживать чистоту в классах, в других помещени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бережно относиться к имуществу образовательного учрежд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Учащимся запрещается совершать определе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носить, передавать или употреблять в школе спиртные напитки, токсическ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наркотические вещества и оружие, табачные издел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менять физическую силу для выяснения отнош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нимать психическое насилие (например, в форме различного вида угроз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заниматься вымогательством, а также осуществлять любые действия, влекущие     за собой опасные последствия для окружающих (например, толкать кого-либо, бить кого-либо или бросать в кого-либо предметы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квернословить в учебных учрежден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опускать обязательные занятия в учебном учреждении без уважительной причины.</a:t>
            </a:r>
            <a:br>
              <a:rPr sz="1800"/>
            </a:br>
            <a:br>
              <a:rPr sz="1100"/>
            </a:b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икторина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857240" y="164304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1.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Что будет, если человек нарушил зак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1928880" y="2214720"/>
            <a:ext cx="600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уволят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дадут прем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отправят на необитаемый о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928880" y="3071880"/>
            <a:ext cx="47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посадят в тюрь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дадут снике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оштраф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000080" y="4286160"/>
            <a:ext cx="6357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2. На изображении орла 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икона Николая Чудотво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 Святой Георгий убивает зм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 икона Божьей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Что такое Конститу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814840" cy="4233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2214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14840" y="1643040"/>
            <a:ext cx="514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ституция Российской Федерации -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 основной закон Российской Федерации. Это главный закон, который определяет жизнь нашего государства, права и обязанности гражда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85880" y="571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3.   Государственные символ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3000240" y="1357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57120" y="30718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В каком порядке располагаются цвета на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57200" y="3643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Бел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Белый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4. Красны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 -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6429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5. Когда в России отмечается День Государственного флаг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857680" y="1500120"/>
            <a:ext cx="32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12 дека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31 дека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1 сен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428760" y="3429000"/>
            <a:ext cx="835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6. Что по Конституции является высшей ценностью нашего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0" y="4214880"/>
            <a:ext cx="78580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Золотой зап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Нефть и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Земля и её 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Человек, его права и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357200" y="357120"/>
            <a:ext cx="657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7.  Федеральные законы приним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214720" y="1500120"/>
            <a:ext cx="5357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1.Родительским  собр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Законодательным Собр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Государственной Ду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Презид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0" y="3286080"/>
            <a:ext cx="857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8. Основные права и свободы человека принадлежат кажд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85880" y="4429080"/>
            <a:ext cx="6429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1. От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При поступлении в 1 класс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При получении паспорта  (14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При достижении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2000160" y="221472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pozdrawlandiya.ru/_ld/13/39283105.gif"/>
          <p:cNvPicPr/>
          <p:nvPr/>
        </p:nvPicPr>
        <p:blipFill>
          <a:blip r:embed="rId1"/>
          <a:stretch/>
        </p:blipFill>
        <p:spPr>
          <a:xfrm rot="10800000">
            <a:off x="2714400" y="5000400"/>
            <a:ext cx="3809880" cy="1323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643120" y="221472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акой сегодня день прекрасный! 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2 декабр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-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акона основного праздник,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Что в обиход введен не зря: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акон любой державе нужен,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Чтоб знать, что можно, что нельзя!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«Закону» буду я послушен: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С Днем Конституции, друз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ttp://pozdrawlandiya.ru/_ld/13/39283105.gif"/>
          <p:cNvPicPr/>
          <p:nvPr/>
        </p:nvPicPr>
        <p:blipFill>
          <a:blip r:embed="rId2"/>
          <a:stretch/>
        </p:blipFill>
        <p:spPr>
          <a:xfrm>
            <a:off x="2786040" y="357120"/>
            <a:ext cx="3809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Что такое зак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000680" y="2928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Закон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это правило, обязательное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970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3160" y="1214280"/>
            <a:ext cx="4500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нашей страны существует ещё одно название –</a:t>
            </a:r>
            <a:br>
              <a:rPr sz="32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Картинка 274 из 1167"/>
          <p:cNvPicPr/>
          <p:nvPr/>
        </p:nvPicPr>
        <p:blipFill>
          <a:blip r:embed="rId1"/>
          <a:stretch/>
        </p:blipFill>
        <p:spPr>
          <a:xfrm>
            <a:off x="428760" y="428760"/>
            <a:ext cx="3143160" cy="6286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4214880" y="35719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ссийская Феде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71720" y="35712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федер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ворит о том, что в государстве объединено много республик, краёв и областей. В них живут люди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s://encrypted-tbn2.gstatic.com/images?q=tbn:ANd9GcRq915O1z5g9MU9dRaMnhALSWpJiXZA4MM40Go7H772XX_cRXN3"/>
          <p:cNvPicPr/>
          <p:nvPr/>
        </p:nvPicPr>
        <p:blipFill>
          <a:blip r:embed="rId1"/>
          <a:stretch/>
        </p:blipFill>
        <p:spPr>
          <a:xfrm>
            <a:off x="2214720" y="1571760"/>
            <a:ext cx="4476600" cy="310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285920" y="500076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народы населяют Россию: русские, татары, башкиры, карелы, коми, удмурты, марийцы и другие. Большую часть населения нашей страны составляют русские.  Все мы живем по законам одной конститу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857160" y="1643040"/>
            <a:ext cx="728676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, как должно быть устроено наше государство и что для него самое главное. Объявляется, что наше государство считает своей обязанностью защищать не только права своих граждан, но и права любого человека, даже если он не гражданин Российской Федерации. В Конституции перечислены основные права и обязанности человека и гражданина, то есть сказано, что можно делать человеку и гражданину Российской Федерации, а что - нельзя. Можно очень многое, а нельзя, по сути, только одно - гражданин Российской Федерации не имеет права нарушать права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071720" y="5000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сказано в Конституции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28840" y="1357200"/>
            <a:ext cx="6000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Конституции сказано: человек, его права и свободы являются высшей ценностью. Это значит, что не человек существует для государства, а государство для человек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encrypted-tbn0.gstatic.com/images?q=tbn:ANd9GcTPgx4igfXpwCLSOySRmLL5ylpO2ysOPye0JtWmnIyML-LJbDaL"/>
          <p:cNvPicPr/>
          <p:nvPr/>
        </p:nvPicPr>
        <p:blipFill>
          <a:blip r:embed="rId1"/>
          <a:stretch/>
        </p:blipFill>
        <p:spPr>
          <a:xfrm>
            <a:off x="1928880" y="3643200"/>
            <a:ext cx="5072040" cy="2714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571760" y="50004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для нашего государства самое гл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71680" y="428760"/>
            <a:ext cx="7286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аждый имеет неотъемлемое право на жизн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значит, что вы никого не можете уби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Достоинство личности охраняется государством. Ничто не может быть основанием для его умаления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значит, что вы ни при каких обстоятельствах никого не имеете права мучить, обижать и униж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Каждый имеет право на личную неприкосновенност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начит, вам нельзя ни к кому прикасаться без разрешения. Причем неважно, как вы собираетесь касаться: кулаком или просто так - погладить по головке. Всё равно, без разрешения - не над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коном вы всегда можете воспользоваться, чтобы себя защитить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428840" y="64296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нституция Российской Федерация была принята всенародным голосованием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12 декабря 1993 года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а по праву считается основным государственным Законом. Именно он определяет права и свободы человека и гражданина, гарантируя их высшую ценность в современном обществе. Федеральные конституционные законы принимаются Государственной Думой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затем одобряются Советом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https://encrypted-tbn2.gstatic.com/images?q=tbn:ANd9GcQvdhgJ2PI7_NbyqE_BF7cQ7APBJ9HEj9aA8_R5i7Zc01OsMlTi"/>
          <p:cNvPicPr/>
          <p:nvPr/>
        </p:nvPicPr>
        <p:blipFill>
          <a:blip r:embed="rId1"/>
          <a:stretch/>
        </p:blipFill>
        <p:spPr>
          <a:xfrm>
            <a:off x="2214720" y="3429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27:18Z</dcterms:created>
  <dc:creator>Татьяна</dc:creator>
  <dc:description/>
  <dc:language>en-US</dc:language>
  <cp:lastModifiedBy>user</cp:lastModifiedBy>
  <dcterms:modified xsi:type="dcterms:W3CDTF">2019-11-25T09:34:48Z</dcterms:modified>
  <cp:revision>91</cp:revision>
  <dc:subject/>
  <dc:title>Слайд 1</dc:title>
</cp:coreProperties>
</file>