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18.gif" ContentType="image/gif"/>
  <Override PartName="/ppt/media/image4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4515-E224-43B9-B695-A0F66EFE7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EAEC-2D4D-4B0A-AE9F-46AB4540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D82E-CA81-4120-9C7F-31748CD42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41B7-FEA9-4ECD-932A-AEC34E798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39FA-9057-461F-A56B-2C5B3645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A0C4-5270-462B-810F-9D98620D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5EB9-28C0-486A-9903-DBCE5EC4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FF89-D6F2-45FB-BCB7-CBC7C3812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532A-C142-45BE-8D40-67A47638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4EE7-8203-4755-86F8-8DE1882F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3644-06A5-4367-8E88-0CD92BF3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6D63-F13C-471F-AA75-84D7CF65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F190-DD92-489C-8F7B-62AD439219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1341360"/>
            <a:ext cx="7488000" cy="2516400"/>
          </a:xfrm>
          <a:prstGeom prst="rect">
            <a:avLst/>
          </a:prstGeom>
          <a:solidFill>
            <a:srgbClr val="000000">
              <a:alpha val="1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Calibri"/>
              </a:rPr>
              <a:t>12 декабря</a:t>
            </a:r>
            <a:br>
              <a:rPr sz="6000"/>
            </a:br>
            <a:r>
              <a:rPr b="0" lang="ru-RU" sz="6000" spc="-1" strike="noStrike">
                <a:solidFill>
                  <a:srgbClr val="ffff00"/>
                </a:solidFill>
                <a:latin typeface="Calibri"/>
              </a:rPr>
              <a:t>День Конституци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42960" y="4357800"/>
            <a:ext cx="45720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Calibri"/>
              </a:rPr>
              <a:t>«Без Конституции невозможны личная свобода, безопасность человека, семьи, общества и государства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Calibri"/>
              </a:rPr>
              <a:t>                                         </a:t>
            </a:r>
            <a:r>
              <a:rPr b="1" lang="ru-RU" sz="2000" spc="-1" strike="noStrike">
                <a:solidFill>
                  <a:srgbClr val="ffc000"/>
                </a:solidFill>
                <a:latin typeface="Calibri"/>
              </a:rPr>
              <a:t>Валерий Зорьк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214200" y="4429080"/>
            <a:ext cx="3857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Гарантом Конституции является глава нашего государства – президент Путин В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4214880" y="928800"/>
            <a:ext cx="3500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ригинал Российской Конституции хранится в библиотеке главы государства в Крем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Pp01137"/>
          <p:cNvPicPr/>
          <p:nvPr/>
        </p:nvPicPr>
        <p:blipFill>
          <a:blip r:embed="rId1"/>
          <a:stretch/>
        </p:blipFill>
        <p:spPr>
          <a:xfrm>
            <a:off x="785880" y="1357200"/>
            <a:ext cx="2689200" cy="2905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https://encrypted-tbn2.gstatic.com/images?q=tbn:ANd9GcSGRg5XUTC0pjQsHQiDkduEoE2RHK2kCnkmgbOK6nYcbQNUgypk"/>
          <p:cNvPicPr/>
          <p:nvPr/>
        </p:nvPicPr>
        <p:blipFill>
          <a:blip r:embed="rId2"/>
          <a:stretch/>
        </p:blipFill>
        <p:spPr>
          <a:xfrm>
            <a:off x="4143240" y="2786040"/>
            <a:ext cx="37148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         </a:t>
            </a: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У каждой страны есть государственная символика –герб, гимн, флаг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Картинка 98 из 4535"/>
          <p:cNvPicPr/>
          <p:nvPr/>
        </p:nvPicPr>
        <p:blipFill>
          <a:blip r:embed="rId1"/>
          <a:stretch/>
        </p:blipFill>
        <p:spPr>
          <a:xfrm>
            <a:off x="2714760" y="1736640"/>
            <a:ext cx="3714480" cy="486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4"/>
          <p:cNvSpPr/>
          <p:nvPr/>
        </p:nvSpPr>
        <p:spPr>
          <a:xfrm>
            <a:off x="714240" y="500040"/>
            <a:ext cx="75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5"/>
          <p:cNvSpPr/>
          <p:nvPr/>
        </p:nvSpPr>
        <p:spPr>
          <a:xfrm>
            <a:off x="1285920" y="2786040"/>
            <a:ext cx="6858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 первой странице Конституции напечатан гимн нашего государства. Гимн -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дин из главных символов страны. Исполняется при вступлении в должность Президента, руководителей местного самоуправления, при открытии и закрытии торжественных собраний, при проведении торжественных мероприятий, воинских ритуалов и спортивных соревнований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этому его исполнение сопровождается знаками наивысшего уважения — все присутствующие встают, а военные отдают честь или салютуют оруж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https://encrypted-tbn1.gstatic.com/images?q=tbn:ANd9GcRIofvWdsSYozv1R6EFz_6n8BuyzvZYdNX8uI-Tn_q46kdAmzZlzw"/>
          <p:cNvPicPr/>
          <p:nvPr/>
        </p:nvPicPr>
        <p:blipFill>
          <a:blip r:embed="rId1"/>
          <a:stretch/>
        </p:blipFill>
        <p:spPr>
          <a:xfrm>
            <a:off x="1285920" y="642960"/>
            <a:ext cx="651348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Гимн Ро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3"/>
          <p:cNvSpPr/>
          <p:nvPr/>
        </p:nvSpPr>
        <p:spPr>
          <a:xfrm>
            <a:off x="6143760" y="1428840"/>
            <a:ext cx="2286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Музыка - Георгия Александро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новый текст - Сергея Михалк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4"/>
          <p:cNvSpPr/>
          <p:nvPr/>
        </p:nvSpPr>
        <p:spPr>
          <a:xfrm>
            <a:off x="1214280" y="1214280"/>
            <a:ext cx="44294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Россия — священная наша держав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Россия — любимая наша страна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Могучая воля, великая слава —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Твоё достоянье на все времен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Пр: Славься, Отечество наше свободно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Братских народов союз вековой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Предками данная мудрость народная!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Славься, страна! Мы гордимся тобо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От южных морей до полярного кра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Раскинулись наши леса и поля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Одна ты на свете! Одна ты такая —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Хранимая Богом родная земл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Широкий простор для мечты и для жизн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Грядущие нам открывают года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Нам силу даёт наша верность Отчизне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Так было, так есть и так будет всегд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https://encrypted-tbn0.gstatic.com/images?q=tbn:ANd9GcSXjhBwCeoE4bhsiBjEyh5Qy4fBc2jAJL1UdzYZk8RoQNVfhK92UA"/>
          <p:cNvPicPr/>
          <p:nvPr/>
        </p:nvPicPr>
        <p:blipFill>
          <a:blip r:embed="rId1"/>
          <a:stretch/>
        </p:blipFill>
        <p:spPr>
          <a:xfrm>
            <a:off x="5614920" y="4214880"/>
            <a:ext cx="35290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99800" y="-360"/>
            <a:ext cx="500076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Герб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6760" y="928440"/>
            <a:ext cx="607212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Герб Российской Федерации представляет собой изображение золотого двуглавого орла, помещенного на красном геральдическом щите; над орлом — три исторические короны (над головами — две малые и над ними — одна большего размера); в лапах орла — скипетр и держава; на груди орла на красном щите — всадник. Это Святой Георгий Победоносец – на белом коне, за его плечами развевается синий плащ, в правой руке у него серебряное копье, которым он поражает дракона. Ужасный черный змей – это символ зла. Он повержен героем. Верный конь топчет дракона копыт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 статьях 3, 5, 6, 7 Конституции  указывается, что герб изображается на печатях, паспортах, документах, денежных знаках, государственных наградах, боевых знаменах воинских час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6" descr="Картинка 1 из 9181"/>
          <p:cNvPicPr/>
          <p:nvPr/>
        </p:nvPicPr>
        <p:blipFill>
          <a:blip r:embed="rId1"/>
          <a:stretch/>
        </p:blipFill>
        <p:spPr>
          <a:xfrm>
            <a:off x="6442200" y="428760"/>
            <a:ext cx="2701800" cy="3571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0" name="Picture 11" descr=""/>
          <p:cNvPicPr/>
          <p:nvPr/>
        </p:nvPicPr>
        <p:blipFill>
          <a:blip r:embed="rId2"/>
          <a:srcRect l="2759" t="29266" r="49171" b="13361"/>
          <a:stretch/>
        </p:blipFill>
        <p:spPr>
          <a:xfrm>
            <a:off x="6264360" y="4286160"/>
            <a:ext cx="28796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339408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Фла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56760" y="1071720"/>
            <a:ext cx="8215560" cy="30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Государственный флаг Российской Федерации представляет собой прямоугольное полотнище из трёх равновеликих горизонтальных полос: белого, синего и красного цвет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Государственный флаг Российской Федерации постоянно поднят на зданиях органов власти нашей страны. Он вывешивается в дни государственных праздников и торжественных церемоний. Поднимается на зданиях дипломатических представительств России за рубежо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Картинка 53 из 1294391"/>
          <p:cNvPicPr/>
          <p:nvPr/>
        </p:nvPicPr>
        <p:blipFill>
          <a:blip r:embed="rId1"/>
          <a:stretch/>
        </p:blipFill>
        <p:spPr>
          <a:xfrm>
            <a:off x="4857840" y="3936960"/>
            <a:ext cx="4286160" cy="292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TextBox 7"/>
          <p:cNvSpPr/>
          <p:nvPr/>
        </p:nvSpPr>
        <p:spPr>
          <a:xfrm>
            <a:off x="428760" y="4429080"/>
            <a:ext cx="50004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Arial"/>
              </a:rPr>
              <a:t>22 августа в России отмечается День Государственного флага Российской Федерации. 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357120" y="714240"/>
            <a:ext cx="41436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Конституция – это главный закон, который определяет жизнь нашего государства, права и обязанности граждан.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Основные права и свободы человека принадлежат каждому от ро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Какими же правами обладает ребено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Конституция. Основной закон России: Справочник школьника"/>
          <p:cNvPicPr/>
          <p:nvPr/>
        </p:nvPicPr>
        <p:blipFill>
          <a:blip r:embed="rId1"/>
          <a:stretch/>
        </p:blipFill>
        <p:spPr>
          <a:xfrm>
            <a:off x="4643280" y="-15840"/>
            <a:ext cx="450072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12-конечная звезда 2"/>
          <p:cNvSpPr/>
          <p:nvPr/>
        </p:nvSpPr>
        <p:spPr>
          <a:xfrm>
            <a:off x="2357280" y="1285920"/>
            <a:ext cx="4500720" cy="4143240"/>
          </a:xfrm>
          <a:custGeom>
            <a:avLst/>
            <a:gdLst/>
            <a:ahLst/>
            <a:rect l="l" t="t" r="r" b="b"/>
            <a:pathLst>
              <a:path w="4500562" h="4143375">
                <a:moveTo>
                  <a:pt x="0" y="2071688"/>
                </a:moveTo>
                <a:lnTo>
                  <a:pt x="1356495" y="1851205"/>
                </a:lnTo>
                <a:lnTo>
                  <a:pt x="301480" y="1035844"/>
                </a:lnTo>
                <a:lnTo>
                  <a:pt x="1595984" y="1469319"/>
                </a:lnTo>
                <a:lnTo>
                  <a:pt x="1125141" y="277553"/>
                </a:lnTo>
                <a:lnTo>
                  <a:pt x="2010792" y="1248837"/>
                </a:lnTo>
                <a:lnTo>
                  <a:pt x="2250281" y="0"/>
                </a:lnTo>
                <a:lnTo>
                  <a:pt x="2489770" y="1248837"/>
                </a:lnTo>
                <a:lnTo>
                  <a:pt x="3375422" y="277553"/>
                </a:lnTo>
                <a:lnTo>
                  <a:pt x="2904578" y="1469319"/>
                </a:lnTo>
                <a:lnTo>
                  <a:pt x="4199082" y="1035844"/>
                </a:lnTo>
                <a:lnTo>
                  <a:pt x="3144067" y="1851205"/>
                </a:lnTo>
                <a:lnTo>
                  <a:pt x="4500562" y="2071688"/>
                </a:lnTo>
                <a:lnTo>
                  <a:pt x="3144067" y="2292170"/>
                </a:lnTo>
                <a:lnTo>
                  <a:pt x="4199082" y="3107531"/>
                </a:lnTo>
                <a:lnTo>
                  <a:pt x="2904578" y="2674056"/>
                </a:lnTo>
                <a:lnTo>
                  <a:pt x="3375422" y="3865822"/>
                </a:lnTo>
                <a:lnTo>
                  <a:pt x="2489770" y="2894538"/>
                </a:lnTo>
                <a:lnTo>
                  <a:pt x="2250281" y="4143375"/>
                </a:lnTo>
                <a:lnTo>
                  <a:pt x="2010792" y="2894538"/>
                </a:lnTo>
                <a:lnTo>
                  <a:pt x="1125141" y="3865822"/>
                </a:lnTo>
                <a:lnTo>
                  <a:pt x="1595984" y="2674056"/>
                </a:lnTo>
                <a:lnTo>
                  <a:pt x="301480" y="3107531"/>
                </a:lnTo>
                <a:lnTo>
                  <a:pt x="1356495" y="2292170"/>
                </a:lnTo>
                <a:lnTo>
                  <a:pt x="0" y="2071688"/>
                </a:lnTo>
                <a:close/>
              </a:path>
            </a:pathLst>
          </a:custGeom>
          <a:solidFill>
            <a:srgbClr val="ffff66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3857760" y="2928960"/>
            <a:ext cx="171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Я ребенок, я имею пра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285840" y="2928960"/>
            <a:ext cx="25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Сохранять свою индивидуаль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3"/>
          <p:cNvSpPr/>
          <p:nvPr/>
        </p:nvSpPr>
        <p:spPr>
          <a:xfrm>
            <a:off x="1214280" y="5143680"/>
            <a:ext cx="264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На защиту от жестокого обращ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7"/>
          <p:cNvSpPr/>
          <p:nvPr/>
        </p:nvSpPr>
        <p:spPr>
          <a:xfrm>
            <a:off x="1000080" y="1000080"/>
            <a:ext cx="264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На бесплатное обра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https://encrypted-tbn0.gstatic.com/images?q=tbn:ANd9GcQBOUas3IgH8Qi2Orezf_af5voH65j26rM2LjubVP4A5W-R4ccL"/>
          <p:cNvPicPr/>
          <p:nvPr/>
        </p:nvPicPr>
        <p:blipFill>
          <a:blip r:embed="rId1"/>
          <a:stretch/>
        </p:blipFill>
        <p:spPr>
          <a:xfrm>
            <a:off x="3786120" y="285840"/>
            <a:ext cx="704880" cy="99036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18"/>
          <p:cNvSpPr/>
          <p:nvPr/>
        </p:nvSpPr>
        <p:spPr>
          <a:xfrm>
            <a:off x="4643280" y="214200"/>
            <a:ext cx="304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Arial"/>
              </a:rPr>
              <a:t>Каждый ребенок имеет право на жиз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9"/>
          <p:cNvSpPr/>
          <p:nvPr/>
        </p:nvSpPr>
        <p:spPr>
          <a:xfrm>
            <a:off x="5715000" y="92880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Arial"/>
              </a:rPr>
              <a:t>С момента рождения ребенок имеет право на имя и на приобретение граждан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20"/>
          <p:cNvSpPr/>
          <p:nvPr/>
        </p:nvSpPr>
        <p:spPr>
          <a:xfrm>
            <a:off x="6286680" y="3929040"/>
            <a:ext cx="307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Arial"/>
              </a:rPr>
              <a:t>Все дети имеют право жить с родителями, за исключением случаев, когда это невозмож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1"/>
          <p:cNvSpPr/>
          <p:nvPr/>
        </p:nvSpPr>
        <p:spPr>
          <a:xfrm>
            <a:off x="6500880" y="1928880"/>
            <a:ext cx="264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Arial"/>
              </a:rPr>
              <a:t>Каждый ребенок имеет право на отдых и дос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2"/>
          <p:cNvSpPr/>
          <p:nvPr/>
        </p:nvSpPr>
        <p:spPr>
          <a:xfrm>
            <a:off x="6715080" y="2786040"/>
            <a:ext cx="2428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Arial"/>
              </a:rPr>
              <a:t>Ребенок имеет право свободно выражать свое мн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3"/>
          <p:cNvSpPr/>
          <p:nvPr/>
        </p:nvSpPr>
        <p:spPr>
          <a:xfrm>
            <a:off x="3357720" y="5715000"/>
            <a:ext cx="292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Arial"/>
              </a:rPr>
              <a:t>Ребенок имеет право на свободу мысли, совести и рели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4"/>
          <p:cNvSpPr/>
          <p:nvPr/>
        </p:nvSpPr>
        <p:spPr>
          <a:xfrm>
            <a:off x="5786280" y="5000760"/>
            <a:ext cx="285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Arial"/>
              </a:rPr>
              <a:t>Все дети имеют право на частную жизн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25"/>
          <p:cNvSpPr/>
          <p:nvPr/>
        </p:nvSpPr>
        <p:spPr>
          <a:xfrm>
            <a:off x="285840" y="1714680"/>
            <a:ext cx="32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Arial"/>
              </a:rPr>
              <a:t>Дети с ограниченными возможностями имеют право на особую забот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6"/>
          <p:cNvSpPr/>
          <p:nvPr/>
        </p:nvSpPr>
        <p:spPr>
          <a:xfrm>
            <a:off x="285840" y="4071960"/>
            <a:ext cx="257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Arial"/>
              </a:rPr>
              <a:t>Право на здравоохранение и медицинское обслужи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428760" y="217800"/>
            <a:ext cx="8429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Наряду с правами существуют </a:t>
            </a:r>
            <a:r>
              <a:rPr b="0" lang="ru-RU" sz="2000" spc="-1" strike="noStrike">
                <a:solidFill>
                  <a:srgbClr val="ffff00"/>
                </a:solidFill>
                <a:latin typeface="Calibri"/>
                <a:ea typeface="Times New Roman"/>
              </a:rPr>
              <a:t>обязанности,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о которых не должен забывать каждый гражданин нашей страны, в том числе ребен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5786280" y="71424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214200" y="1150560"/>
            <a:ext cx="8358480" cy="53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                                         </a:t>
            </a:r>
            <a:r>
              <a:rPr b="1" lang="ru-RU" sz="1800" spc="-1" strike="noStrike">
                <a:solidFill>
                  <a:srgbClr val="ffff00"/>
                </a:solidFill>
                <a:latin typeface="Calibri"/>
                <a:ea typeface="Arial"/>
              </a:rPr>
              <a:t>Учащиеся должны (обязаны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соблюдать правила, которые разработаны в образовательном учрежде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обязаны подчиняться требованиям педагог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заботиться о младших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соблюдать правила гигиены, иметь аккуратный вид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обязаны поддерживать чистоту в классах, в других помещениях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обязаны бережно относиться к имуществу образовательного учреждения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                 </a:t>
            </a:r>
            <a:r>
              <a:rPr b="1" lang="ru-RU" sz="1800" spc="-1" strike="noStrike">
                <a:solidFill>
                  <a:srgbClr val="ffff00"/>
                </a:solidFill>
                <a:latin typeface="Calibri"/>
                <a:ea typeface="Arial"/>
              </a:rPr>
              <a:t>Учащимся запрещается совершать определенные действ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приносить, передавать или употреблять в школе спиртные напитки, токсические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   наркотические вещества и оружие, табачные издел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применять физическую силу для выяснения отношени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принимать психическое насилие (например, в форме различного вида угроз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заниматься вымогательством, а также осуществлять любые действия, влекущие     за собой опасные последствия для окружающих (например, толкать кого-либо, бить кого-либо или бросать в кого-либо предметы и т.п.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сквернословить в учебных учреждения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пропускать обязательные занятия в учебном учреждении без уважительной причины.</a:t>
            </a:r>
            <a:br>
              <a:rPr sz="1800"/>
            </a:br>
            <a:br>
              <a:rPr sz="1100"/>
            </a:b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Викторина</a:t>
            </a: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2"/>
          <p:cNvSpPr/>
          <p:nvPr/>
        </p:nvSpPr>
        <p:spPr>
          <a:xfrm>
            <a:off x="1857240" y="164304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  <a:ea typeface="Arial"/>
              </a:rPr>
              <a:t>1. 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Что будет, если человек нарушил зако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1928880" y="2214720"/>
            <a:ext cx="600084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Arial"/>
              </a:rPr>
              <a:t>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Arial"/>
              </a:rPr>
              <a:t>- уволят с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Arial"/>
              </a:rPr>
              <a:t>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Arial"/>
              </a:rPr>
              <a:t>- дадут прем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Arial"/>
              </a:rPr>
              <a:t>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Arial"/>
              </a:rPr>
              <a:t>- отправят на необитаемый ос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1928880" y="3071880"/>
            <a:ext cx="4714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Arial"/>
              </a:rPr>
              <a:t>- посадят в тюрь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Arial"/>
              </a:rPr>
              <a:t>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Arial"/>
              </a:rPr>
              <a:t>- дадут сникер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Arial"/>
              </a:rPr>
              <a:t>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Arial"/>
              </a:rPr>
              <a:t>- оштрафу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1000080" y="4286160"/>
            <a:ext cx="63579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2. На изображении орла показа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1. икона Николая Чудотвор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         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2. Святой Георгий убивает зме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              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3. икона Божьей Мате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9680" y="285480"/>
            <a:ext cx="70009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          </a:t>
            </a: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Что такое Конституц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500040" y="1643040"/>
            <a:ext cx="2814840" cy="423396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5"/>
          <p:cNvSpPr/>
          <p:nvPr/>
        </p:nvSpPr>
        <p:spPr>
          <a:xfrm>
            <a:off x="4286160" y="2214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6"/>
          <p:cNvSpPr/>
          <p:nvPr/>
        </p:nvSpPr>
        <p:spPr>
          <a:xfrm>
            <a:off x="3714840" y="1643040"/>
            <a:ext cx="5143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Конституция Российской Федерации -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это основной закон Российской Федерации. Это главный закон, который определяет жизнь нашего государства, права и обязанности граждан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785880" y="57168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3.   Государственные символы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3000240" y="1357200"/>
            <a:ext cx="2857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Arial"/>
              </a:rPr>
              <a:t>Гим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Arial"/>
              </a:rPr>
              <a:t>Гер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Arial"/>
              </a:rPr>
              <a:t>Фла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357120" y="3071880"/>
            <a:ext cx="842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4.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В каком порядке располагаются цвета на флаге Российской Федер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1357200" y="3643200"/>
            <a:ext cx="5214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  <a:ea typeface="Arial"/>
              </a:rPr>
              <a:t>Синий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красный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– бел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2. Белый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– 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  <a:ea typeface="Arial"/>
              </a:rPr>
              <a:t>синий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крас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3. Белый –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красный – 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  <a:ea typeface="Arial"/>
              </a:rPr>
              <a:t>си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4. Красный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– белый - 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  <a:ea typeface="Arial"/>
              </a:rPr>
              <a:t>си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285840" y="64296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5. Когда в России отмечается День Государственного флаг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2857680" y="1500120"/>
            <a:ext cx="3214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Arial"/>
              </a:rPr>
              <a:t>12 декаб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Arial"/>
              </a:rPr>
              <a:t>31 декабр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Arial"/>
              </a:rPr>
              <a:t>22 авгу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Arial"/>
              </a:rPr>
              <a:t>1 сентяб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428760" y="3429000"/>
            <a:ext cx="8358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6. Что по Конституции является высшей ценностью нашего государ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0" y="4214880"/>
            <a:ext cx="7858080" cy="17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Золотой запас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2. Нефть и г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3. Земля и её полезные  ископаем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         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4. Человек, его права и своб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1357200" y="357120"/>
            <a:ext cx="6572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7.  Федеральные законы принима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2214720" y="1500120"/>
            <a:ext cx="53575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1.Родительским  собра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2. Законодательным Собра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      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3. Государственной Ду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4. Президен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0" y="3286080"/>
            <a:ext cx="8572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  <a:ea typeface="Arial"/>
              </a:rPr>
              <a:t>8. Основные права и свободы человека принадлежат каждо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785880" y="4429080"/>
            <a:ext cx="64292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1. От ро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2. При поступлении в 1 класс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3. При получении паспорта  (14 л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         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4. При достижении 18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2"/>
          <p:cNvSpPr/>
          <p:nvPr/>
        </p:nvSpPr>
        <p:spPr>
          <a:xfrm>
            <a:off x="2000160" y="2214720"/>
            <a:ext cx="650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http://pozdrawlandiya.ru/_ld/13/39283105.gif"/>
          <p:cNvPicPr/>
          <p:nvPr/>
        </p:nvPicPr>
        <p:blipFill>
          <a:blip r:embed="rId1"/>
          <a:stretch/>
        </p:blipFill>
        <p:spPr>
          <a:xfrm rot="10800000">
            <a:off x="2714400" y="5000400"/>
            <a:ext cx="3809880" cy="1323720"/>
          </a:xfrm>
          <a:prstGeom prst="rect">
            <a:avLst/>
          </a:prstGeom>
          <a:ln w="0">
            <a:noFill/>
          </a:ln>
        </p:spPr>
      </p:pic>
      <p:sp>
        <p:nvSpPr>
          <p:cNvPr id="124" name="TextBox 6"/>
          <p:cNvSpPr/>
          <p:nvPr/>
        </p:nvSpPr>
        <p:spPr>
          <a:xfrm>
            <a:off x="2643120" y="2214720"/>
            <a:ext cx="4071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Какой сегодня день прекрасный! 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12 декабр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- 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Закона основного праздник, 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Что в обиход введен не зря: 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Закон любой державе нужен, 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Чтоб знать, что можно, что нельзя! 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«Закону» буду я послушен: 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С Днем Конституции, друзь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http://pozdrawlandiya.ru/_ld/13/39283105.gif"/>
          <p:cNvPicPr/>
          <p:nvPr/>
        </p:nvPicPr>
        <p:blipFill>
          <a:blip r:embed="rId2"/>
          <a:stretch/>
        </p:blipFill>
        <p:spPr>
          <a:xfrm>
            <a:off x="2786040" y="357120"/>
            <a:ext cx="380988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Что такое закон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2"/>
          <p:cNvSpPr/>
          <p:nvPr/>
        </p:nvSpPr>
        <p:spPr>
          <a:xfrm>
            <a:off x="4000680" y="2928960"/>
            <a:ext cx="542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  <a:ea typeface="Arial"/>
              </a:rPr>
              <a:t>Закон –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Arial"/>
              </a:rPr>
              <a:t>это правило, обязательное для вс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857160" y="1857240"/>
            <a:ext cx="297036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43160" y="1214280"/>
            <a:ext cx="450072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У нашей страны существует ещё одно название –</a:t>
            </a:r>
            <a:br>
              <a:rPr sz="3200"/>
            </a:b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6" descr="Картинка 274 из 1167"/>
          <p:cNvPicPr/>
          <p:nvPr/>
        </p:nvPicPr>
        <p:blipFill>
          <a:blip r:embed="rId1"/>
          <a:stretch/>
        </p:blipFill>
        <p:spPr>
          <a:xfrm>
            <a:off x="428760" y="428760"/>
            <a:ext cx="3143160" cy="628632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4214880" y="3571920"/>
            <a:ext cx="421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Российская Федер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1071720" y="357120"/>
            <a:ext cx="721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лово </a:t>
            </a:r>
            <a:r>
              <a:rPr b="1" i="1" lang="ru-RU" sz="2000" spc="-1" strike="noStrike">
                <a:solidFill>
                  <a:srgbClr val="ffff00"/>
                </a:solidFill>
                <a:latin typeface="Calibri"/>
              </a:rPr>
              <a:t>федерация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говорит о том, что в государстве объединено много республик, краёв и областей. В них живут люди разных националь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https://encrypted-tbn2.gstatic.com/images?q=tbn:ANd9GcRq915O1z5g9MU9dRaMnhALSWpJiXZA4MM40Go7H772XX_cRXN3"/>
          <p:cNvPicPr/>
          <p:nvPr/>
        </p:nvPicPr>
        <p:blipFill>
          <a:blip r:embed="rId1"/>
          <a:stretch/>
        </p:blipFill>
        <p:spPr>
          <a:xfrm>
            <a:off x="2214720" y="1571760"/>
            <a:ext cx="4476600" cy="310032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1285920" y="5000760"/>
            <a:ext cx="6215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Многие народы населяют Россию: русские, татары, башкиры, карелы, коми, удмурты, марийцы и другие. Большую часть населения нашей страны составляют русские.  Все мы живем по законам одной конститу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857160" y="1643040"/>
            <a:ext cx="7286760" cy="39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 Конституции сказано, как должно быть устроено наше государство и что для него самое главное. Объявляется, что наше государство считает своей обязанностью защищать не только права своих граждан, но и права любого человека, даже если он не гражданин Российской Федерации. В Конституции перечислены основные права и обязанности человека и гражданина, то есть сказано, что можно делать человеку и гражданину Российской Федерации, а что - нельзя. Можно очень многое, а нельзя, по сути, только одно - гражданин Российской Федерации не имеет права нарушать права других люд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1071720" y="50004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Что сказано в Конституции Российской Федер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1428840" y="1357200"/>
            <a:ext cx="60008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 Конституции сказано: человек, его права и свободы являются высшей ценностью. Это значит, что не человек существует для государства, а государство для человека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https://encrypted-tbn0.gstatic.com/images?q=tbn:ANd9GcTPgx4igfXpwCLSOySRmLL5ylpO2ysOPye0JtWmnIyML-LJbDaL"/>
          <p:cNvPicPr/>
          <p:nvPr/>
        </p:nvPicPr>
        <p:blipFill>
          <a:blip r:embed="rId1"/>
          <a:stretch/>
        </p:blipFill>
        <p:spPr>
          <a:xfrm>
            <a:off x="1928880" y="3643200"/>
            <a:ext cx="5072040" cy="271476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1571760" y="500040"/>
            <a:ext cx="61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Что для нашего государства самое главно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571680" y="428760"/>
            <a:ext cx="72864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конституции сказа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К</a:t>
            </a:r>
            <a:r>
              <a:rPr b="1" i="1" lang="ru-RU" sz="2000" spc="-1" strike="noStrike">
                <a:solidFill>
                  <a:srgbClr val="ffff00"/>
                </a:solidFill>
                <a:latin typeface="Calibri"/>
              </a:rPr>
              <a:t>аждый имеет неотъемлемое право на жизнь.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Это значит, что вы никого не можете убив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конституции сказа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Calibri"/>
              </a:rPr>
              <a:t>Достоинство личности охраняется государством. Ничто не может быть основанием для его умаления.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Это значит, что вы ни при каких обстоятельствах никого не имеете права мучить, обижать и униж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конституции сказа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Calibri"/>
              </a:rPr>
              <a:t>Каждый имеет право на личную неприкосновенность.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Значит, вам нельзя ни к кому прикасаться без разрешения. Причем неважно, как вы собираетесь касаться: кулаком или просто так - погладить по головке. Всё равно, без разрешения - не над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Законом вы всегда можете воспользоваться, чтобы себя защитить.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1428840" y="642960"/>
            <a:ext cx="6786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Конституция Российской Федерация была принята всенародным голосованием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 12 декабря 1993 года.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на по праву считается основным государственным Законом. Именно он определяет права и свободы человека и гражданина, гарантируя их высшую ценность в современном обществе. Федеральные конституционные законы принимаются Государственной Думой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а затем одобряются Советом Феде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1" descr="https://encrypted-tbn2.gstatic.com/images?q=tbn:ANd9GcQvdhgJ2PI7_NbyqE_BF7cQ7APBJ9HEj9aA8_R5i7Zc01OsMlTi"/>
          <p:cNvPicPr/>
          <p:nvPr/>
        </p:nvPicPr>
        <p:blipFill>
          <a:blip r:embed="rId1"/>
          <a:stretch/>
        </p:blipFill>
        <p:spPr>
          <a:xfrm>
            <a:off x="2214720" y="3429000"/>
            <a:ext cx="464328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7T15:27:18Z</dcterms:created>
  <dc:creator>Татьяна</dc:creator>
  <dc:description/>
  <dc:language>en-US</dc:language>
  <cp:lastModifiedBy>user</cp:lastModifiedBy>
  <dcterms:modified xsi:type="dcterms:W3CDTF">2019-11-25T09:34:48Z</dcterms:modified>
  <cp:revision>91</cp:revision>
  <dc:subject/>
  <dc:title>Слайд 1</dc:title>
</cp:coreProperties>
</file>