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D279-A22D-41CA-B844-F13E1F469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6993-7220-4FA9-ABCC-7E7B09916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2508-6AB8-4B25-BE4C-6400E17BE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8093-C533-4D10-85B0-F14DB9CEA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CB3BD-28F6-4ADA-8563-011EBD9D4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F566E-2935-4271-8D43-AF98AE979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DC6F9-BAE9-448E-9D6E-25DA8F9A2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0CA22-A776-4D43-85EE-9C9BEFB9D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8B3E7-0D40-40FD-ABBC-13F16B41F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69F81-0CDF-40C6-99F9-CEDD9BF07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A0602-4F41-4D56-A97B-81874CFB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0304-0A19-40AF-B102-34ED6C8B6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91DBA-8374-48A7-A40D-8FD02804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FE091-7751-4DF1-9947-4CEAC4DB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85413-4E2C-4FB6-87D3-4481C12A4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D06A1-19B9-4A89-A37A-30669726A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AC1F2-6B94-4C1E-A2D7-A5E617F61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25AC-B58F-498C-8A4D-5405691D7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9A2A-B1E8-4601-987C-BF2DDF562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F196-FC3D-4971-9F7B-64651B543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4A6B-7FB1-4447-9FFD-101F5B293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E0D7-D6BC-41CC-A14C-568C9446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35B7-7B59-4349-A967-C3C25189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301F-0F8A-4537-A33B-9801C2B1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79569-4431-4BEE-9344-BABC645DD97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4872D-6A39-4F88-BF28-71865279450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Г.Р.Державин. Стихотворения.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9 клас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тератур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лексеева Н.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9. В начале стихотворения «Признание» Державин </a:t>
            </a:r>
            <a:br>
              <a:rPr sz="4400"/>
            </a:b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не скрывает, что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26560" y="2707920"/>
            <a:ext cx="7859880" cy="34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А) был обыкновенным человеком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Б) страдал от непонимания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) не умел притворятьс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10. Язык произведений Державина для своего времени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А) простой, доступный, выразительный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Б) усложнённый, выспренный, изящный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) выразительный, торжественный, пафосный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Ответы  и оценк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   3   4   5   6   7   8   9   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   А  В   Б   В  А   А   Б   В    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ценк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9 – 10 баллов = «5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6 – 8 баллов = «4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 – 5 баллов = «3»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71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1.Великий русский поэт, </a:t>
            </a:r>
            <a:br>
              <a:rPr sz="3200"/>
            </a:b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сказавший о Державине:</a:t>
            </a:r>
            <a:br>
              <a:rPr sz="3200"/>
            </a:b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Старик Державин нас заметил</a:t>
            </a:r>
            <a:br>
              <a:rPr sz="4000"/>
            </a:b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  И, в гроб сходя, благословил… - 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3284640"/>
            <a:ext cx="8229600" cy="284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) М.Ю. Лермонто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) А.С. Пушкин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) Ф.И. Тютче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2. Тема стихотворения «Памятник»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А) бессмертие поэта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Б) поэт и власть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) поэт и любовь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3. Державин говорит, что слава его не увянет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) «Доколь в подлунном мире жив будет хоть один пиит»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) «Я буду возрастать повсюду славой, пока великий Рим владеет светом»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) «Доколь славянов род вселенна будет чтить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4. Жанр стихотворения «Властителям и судиям»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А) элегия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Б) сатира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) послани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24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5. В стихотворении «Властителям и судиям» Державин выступает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3068640"/>
            <a:ext cx="8229600" cy="30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А) как политик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Б) как обыватель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) как гражданин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277560"/>
            <a:ext cx="8497800" cy="38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6. Строки произведения «Властителям и судиям»:</a:t>
            </a:r>
            <a:br>
              <a:rPr sz="3200"/>
            </a:br>
            <a:r>
              <a:rPr b="0" lang="ru-RU" sz="3600" spc="-1" strike="noStrike">
                <a:solidFill>
                  <a:srgbClr val="dbbd71"/>
                </a:solidFill>
                <a:latin typeface="Arial"/>
              </a:rPr>
              <a:t>Не внемлют! Видят – и не знают!</a:t>
            </a:r>
            <a:br>
              <a:rPr sz="3600"/>
            </a:br>
            <a:r>
              <a:rPr b="0" lang="ru-RU" sz="3600" spc="-1" strike="noStrike">
                <a:solidFill>
                  <a:srgbClr val="dbbd71"/>
                </a:solidFill>
                <a:latin typeface="Arial"/>
              </a:rPr>
              <a:t>Покрыты мздою очеса:</a:t>
            </a:r>
            <a:br>
              <a:rPr sz="3600"/>
            </a:br>
            <a:r>
              <a:rPr b="0" lang="ru-RU" sz="3600" spc="-1" strike="noStrike">
                <a:solidFill>
                  <a:srgbClr val="dbbd71"/>
                </a:solidFill>
                <a:latin typeface="Arial"/>
              </a:rPr>
              <a:t>Злодейства землю потрясают,</a:t>
            </a:r>
            <a:br>
              <a:rPr sz="3600"/>
            </a:br>
            <a:r>
              <a:rPr b="0" lang="ru-RU" sz="3600" spc="-1" strike="noStrike">
                <a:solidFill>
                  <a:srgbClr val="dbbd71"/>
                </a:solidFill>
                <a:latin typeface="Arial"/>
              </a:rPr>
              <a:t>Неправда зыблет небеса…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 - </a:t>
            </a: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иллюстрируют авторскую позицию, а именно: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          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5280" y="422064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) Державин гневно осуждает властителе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) Державин имеет право говорить прямо и честно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) Державин оправдывает действия вельмож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7. В стихотворении «Признание» Державин говорит, что главным в своём творчестве считал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3141360"/>
            <a:ext cx="8229600" cy="29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А) обращение к уму и сердцу человека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Б) восхваление вельмож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) воспевание чувств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4000" y="277560"/>
            <a:ext cx="83628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8. Строки: </a:t>
            </a:r>
            <a:br>
              <a:rPr sz="4000"/>
            </a:b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«Если я блистал восторгом, </a:t>
            </a:r>
            <a:br>
              <a:rPr sz="4000"/>
            </a:b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   С струн моих огонь летел…» - содержат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2923920"/>
            <a:ext cx="8229600" cy="32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А) гиперболу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Б) метафору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) аллегорию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30T07:18:47Z</dcterms:created>
  <dc:creator>Admin</dc:creator>
  <dc:description/>
  <dc:language>en-US</dc:language>
  <cp:lastModifiedBy>Admin</cp:lastModifiedBy>
  <dcterms:modified xsi:type="dcterms:W3CDTF">2013-09-30T09:14:44Z</dcterms:modified>
  <cp:revision>3</cp:revision>
  <dc:subject/>
  <dc:title>Г.Р.Державин. Стихотворения.</dc:title>
</cp:coreProperties>
</file>