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DF7-36F6-44F8-A384-0362A877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BD77-81F3-42B8-9E3B-05EC7497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044E-DEAF-4C27-9652-AEC3C78C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334-F936-45D8-A015-018E35D1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19A8-FA0B-4B1B-A798-ACF7AB2E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7428-65C4-472C-8E34-F354280D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E733-DADB-46F9-B93F-0553CD51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1B2D-FC47-4086-8194-431ECDF1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B49C-9BB4-4A8D-8638-2CF83E46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1501-779E-487A-BB55-52BC7239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ABE7-246A-4224-99DD-30C4A7B6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FA90-F7A3-4583-9885-C7674440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07AB-C2B4-443A-A2C3-7AC5DE28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B70D-BB4A-4BDD-A181-567A89B6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559A-24A1-4DE4-B701-B21D3990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1684-54D3-486D-898B-9A6E2F98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E6D3-3AC3-4ECD-BF0E-2FAF61D6C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C489-F040-4560-B3C4-983893BD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8125-D924-4BC0-B1F9-08B0BB9F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142F-D379-456B-BFB8-91404AFF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175A-9B49-4B08-965E-C7DFF598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8477-55EE-45AC-90A9-BA27AB82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1184-BF08-4AD1-862D-24C94862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E8FA-46E4-412C-90DE-B4E734E8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A063-DBFD-4BE5-9E5B-18666D6D4C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935A-DCF1-4CB9-B370-BE78C5D296A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Г.Р.Державин. Стихотворения.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тератур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ексеева Н.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9. В начале стихотворения «Признание» Державин </a:t>
            </a:r>
            <a:br>
              <a:rPr sz="4400"/>
            </a:b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не скрывает, что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6560" y="2707920"/>
            <a:ext cx="785988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) был обыкновенным человеком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) страдал от непонимания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) не умел притворятьс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10. Язык произведений Державина для своего времени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) простой, доступный, выразительный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) усложнённый, выспренный, изящный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) выразительный, торжественный, пафосны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Ответы  и оценк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  3   4   5   6   7   8   9  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   А  В   Б   В  А   А   Б   В    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ценк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– 10 баллов = «5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 – 8 баллов = «4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– 5 баллов = «3»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71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1.Великий русский поэт, </a:t>
            </a:r>
            <a:br>
              <a:rPr sz="32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сказавший о Державине:</a:t>
            </a:r>
            <a:br>
              <a:rPr sz="32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тарик Державин нас заметил</a:t>
            </a: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 И, в гроб сходя, благословил… - 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284640"/>
            <a:ext cx="8229600" cy="28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М.Ю. Лермонт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А.С. Пушки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Ф.И. Тютче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2. Тема стихотворения «Памятник»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) бессмертие поэта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) поэт и власть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) поэт и любов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3. Державин говорит, что слава его не увянет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«Доколь в подлунном мире жив будет хоть один пиит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«Я буду возрастать повсюду славой, пока великий Рим владеет светом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«Доколь славянов род вселенна будет чтить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4. Жанр стихотворения «Властителям и судиям»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) элегия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) сатира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) послани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24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5. В стихотворении «Властителям и судиям» Державин выступае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3068640"/>
            <a:ext cx="822960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) как политик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) как обыватель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) как гражданин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277560"/>
            <a:ext cx="8497800" cy="38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6. Строки произведения «Властителям и судиям»:</a:t>
            </a:r>
            <a:br>
              <a:rPr sz="32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Не внемлют! Видят – и не знают!</a:t>
            </a:r>
            <a:br>
              <a:rPr sz="36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Покрыты мздою очеса:</a:t>
            </a:r>
            <a:br>
              <a:rPr sz="36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Злодейства землю потрясают,</a:t>
            </a:r>
            <a:br>
              <a:rPr sz="36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Неправда зыблет небеса…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иллюстрируют авторскую позицию, а именно: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422064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) Державин гневно осуждает властител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) Державин имеет право говорить прямо и честн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) Державин оправдывает действия вельмож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7. В стихотворении «Признание» Державин говорит, что главным в своём творчестве считал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29600" cy="29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) обращение к уму и сердцу человека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) восхваление вельмож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) воспевание чувст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3628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8. Строки: </a:t>
            </a: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«Если я блистал восторгом, </a:t>
            </a: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  С струн моих огонь летел…» - содержат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8229600" cy="32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) гиперболу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) метафору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) аллегорию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30T07:18:47Z</dcterms:created>
  <dc:creator>Admin</dc:creator>
  <dc:description/>
  <dc:language>en-US</dc:language>
  <cp:lastModifiedBy>Admin</cp:lastModifiedBy>
  <dcterms:modified xsi:type="dcterms:W3CDTF">2013-09-30T09:14:44Z</dcterms:modified>
  <cp:revision>3</cp:revision>
  <dc:subject/>
  <dc:title>Г.Р.Державин. Стихотворения.</dc:title>
</cp:coreProperties>
</file>