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DD9-F765-4B15-8297-5C3BF9D2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ABF7-DDC0-4161-9B67-2373D71D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490-5DC0-4C4C-8925-C6254038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4E4-5A22-4079-A13F-A215EF74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799-4128-4D5D-BD29-5A5A7740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19E-27B9-4995-83F5-290B84ED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81B-781F-4BC3-BA09-A6593B8D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BC2-7AAB-4E03-A8FA-02C49DF1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15D-7FFC-4412-9C54-E8185BCF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3FD2-0A95-403A-AB79-A9C0CA9E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EC9-5F56-407F-9720-5541C9A8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E6F-FBDE-435E-B628-51DDBF8B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49B7-A56C-4318-823C-8172EBFA1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83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-174600"/>
            <a:ext cx="9144000" cy="70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0000"/>
                </a:solidFill>
                <a:latin typeface="Tahoma"/>
              </a:rPr>
              <a:t>Детёныши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0000"/>
                </a:solidFill>
                <a:latin typeface="Tahoma"/>
              </a:rPr>
              <a:t>животных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-3049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котё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котенок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614232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-3049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ще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6" descr=""/>
          <p:cNvPicPr/>
          <p:nvPr/>
        </p:nvPicPr>
        <p:blipFill>
          <a:blip r:embed="rId1"/>
          <a:srcRect l="0" t="0" r="0" b="2467"/>
          <a:stretch/>
        </p:blipFill>
        <p:spPr>
          <a:xfrm>
            <a:off x="1752480" y="1380960"/>
            <a:ext cx="5791320" cy="53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228600"/>
            <a:ext cx="91440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ff0000"/>
                </a:solidFill>
                <a:latin typeface="Tahoma"/>
              </a:rPr>
              <a:t>цыплёнок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itlenok%5B1%5D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3740400" cy="51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3049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утё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утята" descr=""/>
          <p:cNvPicPr/>
          <p:nvPr/>
        </p:nvPicPr>
        <p:blipFill>
          <a:blip r:embed="rId1"/>
          <a:srcRect l="0" t="16873" r="0" b="0"/>
          <a:stretch/>
        </p:blipFill>
        <p:spPr>
          <a:xfrm>
            <a:off x="1905120" y="1523880"/>
            <a:ext cx="5790960" cy="51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2286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гусё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гусенок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1528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-3049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поросё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orosja%5B1%5D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ягнё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90720" y="1676520"/>
          <a:ext cx="723888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23888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жеребё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01hors%5B1%5D" descr=""/>
          <p:cNvPicPr/>
          <p:nvPr/>
        </p:nvPicPr>
        <p:blipFill>
          <a:blip r:embed="rId1"/>
          <a:srcRect l="0" t="5151" r="3940" b="15440"/>
          <a:stretch/>
        </p:blipFill>
        <p:spPr>
          <a:xfrm>
            <a:off x="1219320" y="2133720"/>
            <a:ext cx="6840360" cy="43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3049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козлё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козленок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-3049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телё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48%5B1%5D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077160" cy="401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7T18:08:23Z</dcterms:created>
  <dc:creator>Computer</dc:creator>
  <dc:description/>
  <dc:language>en-US</dc:language>
  <cp:lastModifiedBy>Computer</cp:lastModifiedBy>
  <dcterms:modified xsi:type="dcterms:W3CDTF">2001-08-01T10:41:34Z</dcterms:modified>
  <cp:revision>43</cp:revision>
  <dc:subject/>
  <dc:title>Презентация PowerPoint</dc:title>
</cp:coreProperties>
</file>