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E97-314A-46D1-A3DF-E3BA146C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DE1-B8FE-4B58-A33C-88F15169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714-6A28-4A1F-8386-850D2B35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F74-CD10-4D67-A92B-FF99F471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720-BC03-4287-ADD4-C66CC681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9B1-86C7-439E-9BF4-EB65EC38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814-A504-4F2A-A911-18467377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10E-FB78-4B31-B8A7-EE2F3699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C07-DC73-4F38-9508-83F4EE98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240-CB1D-4E78-BA1B-1CBE14F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DBE-03A1-4E95-A643-28CF365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EE6-9B19-44BF-8843-8C39C7C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BBC1-9C5D-456D-8144-C1960BA8C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3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-174600"/>
            <a:ext cx="9144000" cy="70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Tahoma"/>
              </a:rPr>
              <a:t>Детёныши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Tahoma"/>
              </a:rPr>
              <a:t>животных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кот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котенок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14232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ще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6" descr=""/>
          <p:cNvPicPr/>
          <p:nvPr/>
        </p:nvPicPr>
        <p:blipFill>
          <a:blip r:embed="rId1"/>
          <a:srcRect l="0" t="0" r="0" b="2467"/>
          <a:stretch/>
        </p:blipFill>
        <p:spPr>
          <a:xfrm>
            <a:off x="1752480" y="1380960"/>
            <a:ext cx="5791320" cy="53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228600"/>
            <a:ext cx="91440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ff0000"/>
                </a:solidFill>
                <a:latin typeface="Tahoma"/>
              </a:rPr>
              <a:t>цыплёнок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itlenok%5B1%5D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74040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ут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утята" descr=""/>
          <p:cNvPicPr/>
          <p:nvPr/>
        </p:nvPicPr>
        <p:blipFill>
          <a:blip r:embed="rId1"/>
          <a:srcRect l="0" t="16873" r="0" b="0"/>
          <a:stretch/>
        </p:blipFill>
        <p:spPr>
          <a:xfrm>
            <a:off x="1905120" y="1523880"/>
            <a:ext cx="57909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2286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гус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гусенок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31528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порос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orosja%5B1%5D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ягн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90720" y="1676520"/>
          <a:ext cx="723888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жереб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01hors%5B1%5D" descr=""/>
          <p:cNvPicPr/>
          <p:nvPr/>
        </p:nvPicPr>
        <p:blipFill>
          <a:blip r:embed="rId1"/>
          <a:srcRect l="0" t="5151" r="3940" b="15440"/>
          <a:stretch/>
        </p:blipFill>
        <p:spPr>
          <a:xfrm>
            <a:off x="1219320" y="21337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козл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козленок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ahoma"/>
              </a:rPr>
              <a:t>телёно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48%5B1%5D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077160" cy="40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7T18:08:23Z</dcterms:created>
  <dc:creator>Computer</dc:creator>
  <dc:description/>
  <dc:language>en-US</dc:language>
  <cp:lastModifiedBy>Computer</cp:lastModifiedBy>
  <dcterms:modified xsi:type="dcterms:W3CDTF">2001-08-01T10:41:34Z</dcterms:modified>
  <cp:revision>43</cp:revision>
  <dc:subject/>
  <dc:title>Презентация PowerPoint</dc:title>
</cp:coreProperties>
</file>