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881-1360-4408-8D2F-ED23F24F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6AC-1D74-444A-86C4-4543C3B9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66D-51F0-4BE3-8C35-5A5A74CF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29A-78F0-486C-9534-AE7FA95B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6BDD-16B2-4AEB-93AB-7077363E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D452-5DDE-4AEC-9864-B552D897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A80F-5BE7-484B-87C8-CBE59E09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04E1-39C5-40CD-8482-7CE536AB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2E6D-9612-4846-A2BE-243831F2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A9BE-603A-450D-8699-CF0B9C15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CF2D-C14F-4EEA-85F9-6A341C9B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CAF-48F6-4038-B0B8-96C018EE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1C67-38B4-43BA-A54B-F40C1CA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E1A7-4032-4321-868D-5275A078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95EF-EE1F-4921-B87C-FA2126BD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ACF1-187C-4E6B-ACEA-77289AC4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6AE6-2192-4B5E-9A95-CDA9E541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5B96-0072-44A2-B553-07AFB0B5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6D0E9-B7FB-4CCB-AFB5-27AD96A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3429-9E95-4223-961A-F047A1E2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E7ED-FC73-4F49-B1F8-9AD54CA7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B374-53A0-4D3F-AACC-B89B8B37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592-3522-4332-93F5-F83A3E97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5F40-705E-4574-98DC-55EB8451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7A90-C476-446D-8EB7-050B8220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DCEF-46B9-499C-BDA3-E12883F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5DF6-5F73-47FA-9BB0-4D24274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F1CB-D65C-4C88-9818-628A9366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466F-772B-4F53-9381-6D874D05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BC2B-6273-4F6D-ADF0-C22B04D7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060C6-90FC-4748-B06D-408D44FD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F203-255D-4458-B14D-7E74D361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5D841-BB20-4474-9C38-259354E5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130-2767-46CE-BD9A-EDC03B7D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72D8-46CD-43C0-87C4-6311D6FC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B7B51-DDED-4670-B5A1-3DCA0E8B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090F-81C9-40DE-84F8-727F66AF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71C1F-C8DE-4072-A6B0-2DBAC7EA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EE13-7724-4405-986F-EE172B8A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E86E-11B1-4164-9D52-06B7291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36FA9-DA47-4E7E-8C45-B6857ECD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45A7-8DE9-4062-9E8D-CCC29586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5842-602E-4962-A229-866B7F4A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145CF-223C-44CE-96AB-2D2E71C3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D72-1EED-4B8C-937A-E8BD4492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35DC-4B4E-43CE-A52C-01632D7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D5B99-2C1E-4BF5-B470-2D06E0D5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5AC7E-6C60-4C51-975B-895D70B2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26802-7920-4950-BF87-6C27A75E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5DE2A-0D92-4981-AF77-8C9D82D6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DE978-272C-4242-B9EB-485BFF7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5FE1-2DFE-4B5B-8314-9DFA0ED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2E27-F618-4EFA-8160-4CE573BE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9910-7FBE-4D73-AD6F-427F2896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DC272-EDC7-4DB1-A414-609F832D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48C-2E41-4F6F-AE7C-01418102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76BD-0848-4D17-A9BF-2F451CB5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E83C2-AB85-4A14-9E0D-A652B622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B82C-973A-4393-9344-83C94660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45268-EE75-44D0-BE10-B52E4E3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0794C-F83D-4D5C-9B7B-56F6237C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C5020-4E8F-4695-AFE1-E76F455A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5CE77-58EB-413F-A64A-2A90E49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2BE8B-8D2C-474C-896B-6C751588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A926-196F-4819-BC1D-1919039C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28C5-F7A4-4670-B57A-F92877B5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D52-7DF8-48B4-B59F-057BA2F2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1596C-DCDE-4546-9726-42D16DFC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A08F-1805-42FE-BC05-928DAD64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A6FE0-4D07-4103-83D3-3D5D09AF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6B7E-23F2-4D5B-AB9E-7765A35E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431C4-63D0-44F7-B8CA-4A67D5A4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FDB10-4681-4110-BF77-17A6F25A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1E037-C987-4B80-A4BF-C5D79DD8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65F12-7089-48F7-8EAF-3B437B9D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D1C81-376C-4E56-99FC-37C345B8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BBF0-780B-4A4B-B63E-47A93AC8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934-5230-4A10-8034-7E86E917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88EF3-3FE6-4C7B-8EBC-D5B75397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412A4-3EC0-4E79-92FA-3FE369EA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32E4B-4532-4378-8DF2-5DFDDAC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959C-8E31-4628-96DC-145B6AD4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29EAB-C553-4874-BF89-AE361EDF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32C-89D3-4719-99C3-DEDD551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9C20-26A0-4AA6-AFAA-C6A4C44E1A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4D5B-0331-4D70-B80A-D81E65B1C3E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0FD1-DD71-4A88-ABDB-A5A7A4D96B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BD2-F2D5-4F62-9D80-2CF049C117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E192-C28C-456C-8151-6DA5605840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3505-49AA-4FEE-8C84-456C0D1F3B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11AF-2C8E-4AAD-99DA-6CDB742EA0D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89;&#1087;&#1077;&#1082;&#1090;%20&#1091;&#1088;&#1086;&#1082;&#1072;%20&#1087;&#1086;%20&#1084;&#1072;&#1090;&#1077;&#1084;&#1072;&#1090;&#1080;&#1082;&#1077;%204%20&#1082;&#1083;&#1072;&#1089;&#1089;.doc" TargetMode="External"/><Relationship Id="rId2" Type="http://schemas.openxmlformats.org/officeDocument/2006/relationships/hyperlink" Target="file:///&#1082;&#1088;&#1086;&#1089;&#1089;&#1074;&#1086;&#1088;&#1076;%20&#1082;%20&#1091;&#1088;&#1086;&#1082;&#1091;.xl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Конспект урока математики. 4класс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sp>
        <p:nvSpPr>
          <p:cNvPr id="320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250920" y="1341360"/>
            <a:ext cx="861048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ч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до дополнить условие, чтобы чертёж к задаче был таким?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м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 м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76212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76960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762120" y="41148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7"/>
          <p:cNvSpPr/>
          <p:nvPr/>
        </p:nvSpPr>
        <p:spPr>
          <a:xfrm>
            <a:off x="762120" y="4572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24000" y="1413000"/>
            <a:ext cx="8610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до изменить условие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чертёж к задаче был таким?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м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 м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4"/>
          <p:cNvSpPr/>
          <p:nvPr/>
        </p:nvSpPr>
        <p:spPr>
          <a:xfrm flipH="1">
            <a:off x="685800" y="3809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8487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1905120" y="4114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>
            <a:off x="1828800" y="4495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  <a:ea typeface="Times New Roman"/>
              </a:rPr>
              <a:t>5. Домашнее задание.</a:t>
            </a: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Calibri"/>
              </a:rPr>
              <a:t> Учебник №154(с.37)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Calibri"/>
              </a:rPr>
              <a:t> Рабочая тетрадь:№28-30 (с.24)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Times New Roman"/>
              </a:rPr>
              <a:t>6. Итог урок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20e04"/>
                </a:solidFill>
                <a:latin typeface="Times New Roman"/>
              </a:rPr>
              <a:t>Реши для себя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AutoShape 5"/>
          <p:cNvSpPr/>
          <p:nvPr/>
        </p:nvSpPr>
        <p:spPr>
          <a:xfrm>
            <a:off x="0" y="3429000"/>
            <a:ext cx="2971800" cy="27432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AutoShape 6"/>
          <p:cNvSpPr/>
          <p:nvPr/>
        </p:nvSpPr>
        <p:spPr>
          <a:xfrm>
            <a:off x="3048120" y="3276720"/>
            <a:ext cx="2971800" cy="2743200"/>
          </a:xfrm>
          <a:prstGeom prst="smileyFace">
            <a:avLst>
              <a:gd name="adj" fmla="val -465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6172200" y="3352680"/>
            <a:ext cx="2971800" cy="2743200"/>
          </a:xfrm>
          <a:prstGeom prst="smileyFace">
            <a:avLst>
              <a:gd name="adj" fmla="val 27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765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ea typeface="Times New Roman"/>
                <a:hlinkClick r:id="rId1"/>
              </a:rPr>
              <a:t>Конспект урока</a:t>
            </a:r>
            <a:br>
              <a:rPr sz="4300"/>
            </a:br>
            <a:br>
              <a:rPr sz="4300"/>
            </a:b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ea typeface="Times New Roman"/>
                <a:hlinkClick r:id="rId2"/>
              </a:rPr>
              <a:t>Кроссворд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18864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числит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57785 - 70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56000 : 1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0000 + 3000 + 500 + 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384 - 600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0  х 7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930 : 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50 : 5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9000 : 30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1258920" y="83664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93"/>
          <p:cNvSpPr/>
          <p:nvPr/>
        </p:nvSpPr>
        <p:spPr>
          <a:xfrm>
            <a:off x="971640" y="486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 1 м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 1с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 1д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 1 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96"/>
          <p:cNvSpPr/>
          <p:nvPr/>
        </p:nvSpPr>
        <p:spPr>
          <a:xfrm>
            <a:off x="1258920" y="1700280"/>
            <a:ext cx="433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95"/>
          <p:cNvSpPr/>
          <p:nvPr/>
        </p:nvSpPr>
        <p:spPr>
          <a:xfrm>
            <a:off x="2050920" y="2708280"/>
            <a:ext cx="505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94"/>
          <p:cNvSpPr/>
          <p:nvPr/>
        </p:nvSpPr>
        <p:spPr>
          <a:xfrm>
            <a:off x="1979640" y="3573360"/>
            <a:ext cx="7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98"/>
          <p:cNvSpPr/>
          <p:nvPr/>
        </p:nvSpPr>
        <p:spPr>
          <a:xfrm>
            <a:off x="2984400" y="2394000"/>
            <a:ext cx="3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24000" y="765000"/>
          <a:ext cx="4968720" cy="3600720"/>
        </p:xfrm>
        <a:graphic>
          <a:graphicData uri="http://schemas.openxmlformats.org/drawingml/2006/table">
            <a:tbl>
              <a:tblPr/>
              <a:tblGrid>
                <a:gridCol w="496800"/>
                <a:gridCol w="496800"/>
                <a:gridCol w="496800"/>
                <a:gridCol w="495360"/>
                <a:gridCol w="496800"/>
                <a:gridCol w="498600"/>
                <a:gridCol w="496800"/>
                <a:gridCol w="497160"/>
                <a:gridCol w="496800"/>
                <a:gridCol w="4968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994120" y="2403360"/>
          <a:ext cx="295200" cy="517680"/>
        </p:xfrm>
        <a:graphic>
          <a:graphicData uri="http://schemas.openxmlformats.org/drawingml/2006/table">
            <a:tbl>
              <a:tblPr/>
              <a:tblGrid>
                <a:gridCol w="295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WordArt 276"/>
          <p:cNvSpPr txBox="1"/>
          <p:nvPr/>
        </p:nvSpPr>
        <p:spPr>
          <a:xfrm>
            <a:off x="1908000" y="115920"/>
            <a:ext cx="5400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ши    кроссворд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1258920" y="306864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258920" y="3933720"/>
            <a:ext cx="433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050920" y="4797360"/>
            <a:ext cx="505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2050920" y="5661000"/>
            <a:ext cx="7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2984400" y="2394000"/>
            <a:ext cx="3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95280" y="3068640"/>
          <a:ext cx="4968720" cy="3484440"/>
        </p:xfrm>
        <a:graphic>
          <a:graphicData uri="http://schemas.openxmlformats.org/drawingml/2006/table">
            <a:tbl>
              <a:tblPr/>
              <a:tblGrid>
                <a:gridCol w="496800"/>
                <a:gridCol w="497160"/>
                <a:gridCol w="496800"/>
                <a:gridCol w="495360"/>
                <a:gridCol w="496800"/>
                <a:gridCol w="498240"/>
                <a:gridCol w="497160"/>
                <a:gridCol w="496800"/>
                <a:gridCol w="496800"/>
                <a:gridCol w="4968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2994120" y="2403360"/>
          <a:ext cx="295200" cy="517680"/>
        </p:xfrm>
        <a:graphic>
          <a:graphicData uri="http://schemas.openxmlformats.org/drawingml/2006/table">
            <a:tbl>
              <a:tblPr/>
              <a:tblGrid>
                <a:gridCol w="29520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WordArt 61"/>
          <p:cNvSpPr txBox="1"/>
          <p:nvPr/>
        </p:nvSpPr>
        <p:spPr>
          <a:xfrm>
            <a:off x="250920" y="404640"/>
            <a:ext cx="576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ве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0" name="Picture 63" descr="DUCK6"/>
          <p:cNvPicPr/>
          <p:nvPr/>
        </p:nvPicPr>
        <p:blipFill>
          <a:blip r:embed="rId1"/>
          <a:stretch/>
        </p:blipFill>
        <p:spPr>
          <a:xfrm>
            <a:off x="6372360" y="115920"/>
            <a:ext cx="2608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ИЛОМЕТ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ля измерения больших расстояний используют более крупную, чем метр, единицу длины — километ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 км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 000 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23640" y="691920"/>
            <a:ext cx="8135640" cy="576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Times New Roman"/>
              </a:rPr>
              <a:t>1мм  &lt; 1см                   10мм= 1см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Times New Roman"/>
              </a:rPr>
              <a:t>1см&lt;  1дм                    10см= 1дм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Times New Roman"/>
              </a:rPr>
              <a:t>1дм&lt; 1м                      10дм= 1м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Times New Roman"/>
              </a:rPr>
              <a:t>1м &lt; ?                           1000м= ?</a:t>
            </a: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187280" y="126828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c32d2e"/>
                </a:solidFill>
                <a:latin typeface="Tahoma"/>
              </a:rPr>
              <a:t>Допишем таблицу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Объект 5" descr="Радиант Пильмана - Наглядная карта для измерения всего на све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imes New Roman"/>
              </a:rPr>
              <a:t>Где в жизни мы можем встретиться с такой  единицей длины?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Times New Roman"/>
              </a:rPr>
              <a:t>1000м = 1км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Рисунок 2" descr="АРТ ГОРОД Продажа картин, картины и портреты на заказ, копии картин, пейзажи, натюрморты, продажа живописи, картины для интерьер"/>
          <p:cNvPicPr/>
          <p:nvPr/>
        </p:nvPicPr>
        <p:blipFill>
          <a:blip r:embed="rId1"/>
          <a:stretch/>
        </p:blipFill>
        <p:spPr>
          <a:xfrm>
            <a:off x="395280" y="4292640"/>
            <a:ext cx="3332160" cy="24080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3" descr="Все продукты предоставлен Bohui International Freight Surrogate Co., Ltd"/>
          <p:cNvPicPr/>
          <p:nvPr/>
        </p:nvPicPr>
        <p:blipFill>
          <a:blip r:embed="rId2"/>
          <a:stretch/>
        </p:blipFill>
        <p:spPr>
          <a:xfrm>
            <a:off x="6391440" y="5008680"/>
            <a:ext cx="2844720" cy="18493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4" descr="Американцы предложили астероид раскрасить, а русские - взорвать НАУКА И ЖИЗНЬ"/>
          <p:cNvPicPr/>
          <p:nvPr/>
        </p:nvPicPr>
        <p:blipFill>
          <a:blip r:embed="rId3"/>
          <a:stretch/>
        </p:blipFill>
        <p:spPr>
          <a:xfrm>
            <a:off x="-108000" y="2413080"/>
            <a:ext cx="2808360" cy="18000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5" descr="Обои Спутник, луна, космос для рабочего стола - картинка #75…"/>
          <p:cNvPicPr/>
          <p:nvPr/>
        </p:nvPicPr>
        <p:blipFill>
          <a:blip r:embed="rId4"/>
          <a:stretch/>
        </p:blipFill>
        <p:spPr>
          <a:xfrm>
            <a:off x="6391440" y="2708280"/>
            <a:ext cx="2752560" cy="2016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Природа Обои для рабочего стола, cкачать бесплатно обои картинки заставки на рабочий стол"/>
          <p:cNvPicPr/>
          <p:nvPr/>
        </p:nvPicPr>
        <p:blipFill>
          <a:blip r:embed="rId5"/>
          <a:stretch/>
        </p:blipFill>
        <p:spPr>
          <a:xfrm>
            <a:off x="3973680" y="3716280"/>
            <a:ext cx="2519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0" y="2651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228600"/>
            <a:ext cx="8610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ч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двумя автобусными остановками 1км. От этих остановок отошли два пешехода. Один из них  прошёл 140км, а другой-160км. Каким стало расстояние между пешехода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Рисунок 6" descr="С международным днем туризма! Записки на стене"/>
          <p:cNvPicPr/>
          <p:nvPr/>
        </p:nvPicPr>
        <p:blipFill>
          <a:blip r:embed="rId1"/>
          <a:stretch/>
        </p:blipFill>
        <p:spPr>
          <a:xfrm>
            <a:off x="6819840" y="3827520"/>
            <a:ext cx="2013120" cy="27543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Спорт Gif анимация, аватары, скачать анимацию, анимация для …"/>
          <p:cNvPicPr/>
          <p:nvPr/>
        </p:nvPicPr>
        <p:blipFill>
          <a:blip r:embed="rId2"/>
          <a:stretch/>
        </p:blipFill>
        <p:spPr>
          <a:xfrm>
            <a:off x="468360" y="3827520"/>
            <a:ext cx="16858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24:38Z</dcterms:created>
  <dc:creator>Ale][</dc:creator>
  <dc:description/>
  <dc:language>en-US</dc:language>
  <cp:lastModifiedBy>Елена</cp:lastModifiedBy>
  <dcterms:modified xsi:type="dcterms:W3CDTF">2019-11-15T10:42:47Z</dcterms:modified>
  <cp:revision>26</cp:revision>
  <dc:subject/>
  <dc:title>Конспект урока математики. 4класс.</dc:title>
</cp:coreProperties>
</file>