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A92-9528-431C-8FD6-CD46B45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C4E-D1ED-49F5-82ED-54E7D1D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962-BE56-45E4-B787-0FD04C11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873-DEB4-4796-9EBC-AEF4521B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10C5-3D89-4FC3-BCB4-42410301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8B6-5C97-48C9-BDD8-A24AF07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5EEA-5BA5-428C-BF7C-E6A18C1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A3B-92BC-4E69-B201-04D94A87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8453-3492-41E8-AC41-E43EF21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E449-E531-4D1B-96E7-3D13D0A2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AD08-4A67-4606-A194-6A9CD20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ACF-CB1D-4943-AC6F-6D460F5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5C0-42A1-45C6-90ED-A2434A8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E04C-2ECC-479E-B485-B082D32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9380-435B-4313-AC1A-CC533B62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D9B-AC76-4C8B-AF8E-DE795E75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321-1FA7-4785-945B-488E48CF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A6E2-7EB9-4492-AE5F-74823749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E4FC-D689-4226-9B7F-1BD9047B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39B1-8FC6-4275-95FE-2D2B151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9110-8CD1-40C4-B324-ACAE96B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A1D5-003F-43B2-B446-8AE94FEC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232-72CA-4C6F-AFFD-74CA73D3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67E6-EEAE-4CC6-BCE1-37866C9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369B-CBD9-4BC2-B725-5F99C39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1B4D-A414-43BC-859C-72C0A99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B9D0-FE09-431F-9F9B-6B60472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411D-7223-42C5-8E37-7BFB3C3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F64F-FC31-4A9A-B0D7-8DE41122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9AC2-73B5-48E8-841F-0EBCBBE6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52BA-64A9-4416-9496-9FB9707E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1690-E38D-4FED-8189-67F2863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5645-977C-4B65-9C32-B9772865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83F-E106-4975-A601-DCBF2506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EC5B-CC0F-4B24-A3E3-F4C0C8E5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7658-E9FE-4E76-AF64-3FA8068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2885-08D9-420B-8DFE-186BF7E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A6F1-B295-4811-96DF-05487D3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E56C-2198-4CAE-81D0-0CA699C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F945-C673-4A77-8C90-E00F548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F912-1621-46C6-959F-96579DB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9D09-F8CF-48EC-8D9A-C6B36B10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160D-A000-4718-9590-C4D8DD7F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62F8-0CD0-4349-8396-E6DACC6A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120-2DE2-4CE8-A9F8-336726C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678A-E04F-426E-B4FC-4211173E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DF457-8875-4540-9503-48F0A907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F244D-4EF8-402F-BB9C-C2694C57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09D3-39E8-4939-9FE0-137F514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9A7D-74DB-404D-89D4-81126D3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A1E4-3DAA-4F21-84F7-1AB2AD1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798C-3EBE-46E7-8E72-D399DCA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FB42-5AD9-412A-B89C-E70A9E0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5DB80-9ABF-4310-AE6D-7EEEA4E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A69D-DC3D-4B81-8B64-2419C3ED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4AA-C2DB-488F-8783-64BE8FB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8792-CCDA-4BB2-91C8-3759705F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40E8-5572-4E86-85FC-DAE6F4F3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46D7-6116-4060-B6B1-854C45A3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B1D1-B6E6-4A17-BE0D-F870A83F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E3EA-46FB-4FCC-8397-57D5103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D896-8003-4FDC-B88E-062E339F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B0EC-0DAD-4F1D-A604-C112F827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C420-16EF-4E5D-BB27-850062F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F1C7-5A92-431E-B904-F43A52A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50F3-8739-4AE3-B5E9-59B74BC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229-B809-4D85-ACF0-8BFC692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09A3-D9FA-4560-A86C-56681A5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F140-DC85-419A-969C-FCA6367B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17F08-46EF-42A5-88A5-8E699D9F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DAA5-1D84-405E-ADF2-F1FDD30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C029-56BD-49EA-BD59-49DCF7F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D3EC-D394-42A4-AF48-05CF324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E955-2D43-4805-9DCF-3F2ECFD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6DEF-E22F-4B6C-8433-296A675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8AA16-25D4-4254-AD80-35F2678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1DAA-71CF-416C-8DDD-960FD29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09D-02C4-45E7-A43B-C25BD628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D06C-AC29-48A6-9FB8-DC3FBCB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0A29-7379-4347-B477-722290F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CB29-177C-4276-844A-5C44D9D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E271-5336-4AB6-8A10-21AD352F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9A671-7317-4357-96E8-9340ED7C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DF5-CFDB-4AC5-99F0-278FA48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A611-E446-4AC1-91F3-7DF33529A5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BEBE-1B5B-44DA-AA5C-7845E5DEF3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D58C-63B5-48FF-8837-E809115ED7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04E-2BB7-4371-9813-6E108A0DAD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659A-8C3C-46C3-8CF1-DEC0231C67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F16-DD40-48BD-A084-BAD87E8B4F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379-7DF5-442D-AE71-5AE5216213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89;&#1087;&#1077;&#1082;&#1090;%20&#1091;&#1088;&#1086;&#1082;&#1072;%20&#1087;&#1086;%20&#1084;&#1072;&#1090;&#1077;&#1084;&#1072;&#1090;&#1080;&#1082;&#1077;%204%20&#1082;&#1083;&#1072;&#1089;&#1089;.doc" TargetMode="External"/><Relationship Id="rId2" Type="http://schemas.openxmlformats.org/officeDocument/2006/relationships/hyperlink" Target="file:///&#1082;&#1088;&#1086;&#1089;&#1089;&#1074;&#1086;&#1088;&#1076;%20&#1082;%20&#1091;&#1088;&#1086;&#1082;&#1091;.xl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онспект урока математики. 4класс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20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50920" y="1341360"/>
            <a:ext cx="86104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ч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о дополнить условие, чтобы чертёж к задаче был таким?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 м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7621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76960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762120" y="4114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762120" y="4572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24000" y="1413000"/>
            <a:ext cx="86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о изменить услови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чертёж к задаче был таким?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 м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4"/>
          <p:cNvSpPr/>
          <p:nvPr/>
        </p:nvSpPr>
        <p:spPr>
          <a:xfrm flipH="1">
            <a:off x="685800" y="3809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8487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905120" y="4114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828800" y="4495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  <a:ea typeface="Times New Roman"/>
              </a:rPr>
              <a:t>5. Домашнее задание.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Calibri"/>
              </a:rPr>
              <a:t> Учебник №154(с.37)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Calibri"/>
              </a:rPr>
              <a:t> Рабочая тетрадь:№28-30 (с.24)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6. Итог урок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0e04"/>
                </a:solidFill>
                <a:latin typeface="Times New Roman"/>
              </a:rPr>
              <a:t>Реши для себя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0" y="3429000"/>
            <a:ext cx="2971800" cy="27432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3048120" y="3276720"/>
            <a:ext cx="2971800" cy="2743200"/>
          </a:xfrm>
          <a:prstGeom prst="smileyFace">
            <a:avLst>
              <a:gd name="adj" fmla="val -4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6172200" y="3352680"/>
            <a:ext cx="2971800" cy="2743200"/>
          </a:xfrm>
          <a:prstGeom prst="smileyFace">
            <a:avLst>
              <a:gd name="adj" fmla="val 27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ea typeface="Times New Roman"/>
                <a:hlinkClick r:id="rId1"/>
              </a:rPr>
              <a:t>Конспект урока</a:t>
            </a:r>
            <a:br>
              <a:rPr sz="4300"/>
            </a:br>
            <a:br>
              <a:rPr sz="4300"/>
            </a:b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ea typeface="Times New Roman"/>
                <a:hlinkClick r:id="rId2"/>
              </a:rPr>
              <a:t>Кроссворд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ислит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57785 - 7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56000 : 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0000 + 3000 + 500 + 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384 - 60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0  х 7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30 : 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50 : 5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000 : 3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1258920" y="83664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3"/>
          <p:cNvSpPr/>
          <p:nvPr/>
        </p:nvSpPr>
        <p:spPr>
          <a:xfrm>
            <a:off x="971640" y="486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 1 м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1с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 1д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 1 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96"/>
          <p:cNvSpPr/>
          <p:nvPr/>
        </p:nvSpPr>
        <p:spPr>
          <a:xfrm>
            <a:off x="1258920" y="170028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95"/>
          <p:cNvSpPr/>
          <p:nvPr/>
        </p:nvSpPr>
        <p:spPr>
          <a:xfrm>
            <a:off x="2050920" y="2708280"/>
            <a:ext cx="5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94"/>
          <p:cNvSpPr/>
          <p:nvPr/>
        </p:nvSpPr>
        <p:spPr>
          <a:xfrm>
            <a:off x="1979640" y="357336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98"/>
          <p:cNvSpPr/>
          <p:nvPr/>
        </p:nvSpPr>
        <p:spPr>
          <a:xfrm>
            <a:off x="2984400" y="2394000"/>
            <a:ext cx="3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4000" y="765000"/>
          <a:ext cx="4968720" cy="3600720"/>
        </p:xfrm>
        <a:graphic>
          <a:graphicData uri="http://schemas.openxmlformats.org/drawingml/2006/table">
            <a:tbl>
              <a:tblPr/>
              <a:tblGrid>
                <a:gridCol w="496800"/>
                <a:gridCol w="496800"/>
                <a:gridCol w="496800"/>
                <a:gridCol w="495360"/>
                <a:gridCol w="496800"/>
                <a:gridCol w="498600"/>
                <a:gridCol w="496800"/>
                <a:gridCol w="497160"/>
                <a:gridCol w="496800"/>
                <a:gridCol w="4968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994120" y="2403360"/>
          <a:ext cx="295200" cy="517680"/>
        </p:xfrm>
        <a:graphic>
          <a:graphicData uri="http://schemas.openxmlformats.org/drawingml/2006/table">
            <a:tbl>
              <a:tblPr/>
              <a:tblGrid>
                <a:gridCol w="295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WordArt 276"/>
          <p:cNvSpPr txBox="1"/>
          <p:nvPr/>
        </p:nvSpPr>
        <p:spPr>
          <a:xfrm>
            <a:off x="1908000" y="115920"/>
            <a:ext cx="5400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и    кроссворд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258920" y="306864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258920" y="393372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050920" y="4797360"/>
            <a:ext cx="5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2050920" y="566100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984400" y="2394000"/>
            <a:ext cx="3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3068640"/>
          <a:ext cx="4968720" cy="3484440"/>
        </p:xfrm>
        <a:graphic>
          <a:graphicData uri="http://schemas.openxmlformats.org/drawingml/2006/table">
            <a:tbl>
              <a:tblPr/>
              <a:tblGrid>
                <a:gridCol w="496800"/>
                <a:gridCol w="497160"/>
                <a:gridCol w="496800"/>
                <a:gridCol w="495360"/>
                <a:gridCol w="496800"/>
                <a:gridCol w="498240"/>
                <a:gridCol w="497160"/>
                <a:gridCol w="496800"/>
                <a:gridCol w="496800"/>
                <a:gridCol w="4968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994120" y="2403360"/>
          <a:ext cx="295200" cy="517680"/>
        </p:xfrm>
        <a:graphic>
          <a:graphicData uri="http://schemas.openxmlformats.org/drawingml/2006/table">
            <a:tbl>
              <a:tblPr/>
              <a:tblGrid>
                <a:gridCol w="295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WordArt 61"/>
          <p:cNvSpPr txBox="1"/>
          <p:nvPr/>
        </p:nvSpPr>
        <p:spPr>
          <a:xfrm>
            <a:off x="250920" y="404640"/>
            <a:ext cx="576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в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0" name="Picture 63" descr="DUCK6"/>
          <p:cNvPicPr/>
          <p:nvPr/>
        </p:nvPicPr>
        <p:blipFill>
          <a:blip r:embed="rId1"/>
          <a:stretch/>
        </p:blipFill>
        <p:spPr>
          <a:xfrm>
            <a:off x="6372360" y="115920"/>
            <a:ext cx="2608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ЛОМЕТ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ля измерения больших расстояний используют более крупную, чем метр, единицу длины — кило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 км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 000 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23640" y="691920"/>
            <a:ext cx="8135640" cy="576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мм  &lt; 1см                   10мм= 1с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см&lt;  1дм                    10см= 1д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дм&lt; 1м                      10дм= 1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м &lt; ?                           1000м= ?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187280" y="126828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c32d2e"/>
                </a:solidFill>
                <a:latin typeface="Tahoma"/>
              </a:rPr>
              <a:t>Допишем таблиц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Объект 5" descr="Радиант Пильмана - Наглядная карта для измерения всего на све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Где в жизни мы можем встретиться с такой  единицей длины?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1000м = 1км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Рисунок 2" descr="АРТ ГОРОД Продажа картин, картины и портреты на заказ, копии картин, пейзажи, натюрморты, продажа живописи, картины для интерьер"/>
          <p:cNvPicPr/>
          <p:nvPr/>
        </p:nvPicPr>
        <p:blipFill>
          <a:blip r:embed="rId1"/>
          <a:stretch/>
        </p:blipFill>
        <p:spPr>
          <a:xfrm>
            <a:off x="395280" y="4292640"/>
            <a:ext cx="3332160" cy="24080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Все продукты предоставлен Bohui International Freight Surrogate Co., Ltd"/>
          <p:cNvPicPr/>
          <p:nvPr/>
        </p:nvPicPr>
        <p:blipFill>
          <a:blip r:embed="rId2"/>
          <a:stretch/>
        </p:blipFill>
        <p:spPr>
          <a:xfrm>
            <a:off x="6391440" y="5008680"/>
            <a:ext cx="2844720" cy="1849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Американцы предложили астероид раскрасить, а русские - взорвать НАУКА И ЖИЗНЬ"/>
          <p:cNvPicPr/>
          <p:nvPr/>
        </p:nvPicPr>
        <p:blipFill>
          <a:blip r:embed="rId3"/>
          <a:stretch/>
        </p:blipFill>
        <p:spPr>
          <a:xfrm>
            <a:off x="-108000" y="2413080"/>
            <a:ext cx="2808360" cy="18000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Обои Спутник, луна, космос для рабочего стола - картинка #75…"/>
          <p:cNvPicPr/>
          <p:nvPr/>
        </p:nvPicPr>
        <p:blipFill>
          <a:blip r:embed="rId4"/>
          <a:stretch/>
        </p:blipFill>
        <p:spPr>
          <a:xfrm>
            <a:off x="6391440" y="2708280"/>
            <a:ext cx="2752560" cy="201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Природа Обои для рабочего стола, cкачать бесплатно обои картинки заставки на рабочий стол"/>
          <p:cNvPicPr/>
          <p:nvPr/>
        </p:nvPicPr>
        <p:blipFill>
          <a:blip r:embed="rId5"/>
          <a:stretch/>
        </p:blipFill>
        <p:spPr>
          <a:xfrm>
            <a:off x="3973680" y="3716280"/>
            <a:ext cx="2519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22860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ч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двумя автобусными остановками 1км. От этих остановок отошли два пешехода. Один из них  прошёл 140км, а другой-160км. Каким стало расстояние между пешеход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Рисунок 6" descr="С международным днем туризма! Записки на стене"/>
          <p:cNvPicPr/>
          <p:nvPr/>
        </p:nvPicPr>
        <p:blipFill>
          <a:blip r:embed="rId1"/>
          <a:stretch/>
        </p:blipFill>
        <p:spPr>
          <a:xfrm>
            <a:off x="6819840" y="3827520"/>
            <a:ext cx="2013120" cy="2754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Спорт Gif анимация, аватары, скачать анимацию, анимация для …"/>
          <p:cNvPicPr/>
          <p:nvPr/>
        </p:nvPicPr>
        <p:blipFill>
          <a:blip r:embed="rId2"/>
          <a:stretch/>
        </p:blipFill>
        <p:spPr>
          <a:xfrm>
            <a:off x="468360" y="3827520"/>
            <a:ext cx="1685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24:38Z</dcterms:created>
  <dc:creator>Ale][</dc:creator>
  <dc:description/>
  <dc:language>en-US</dc:language>
  <cp:lastModifiedBy>Елена</cp:lastModifiedBy>
  <dcterms:modified xsi:type="dcterms:W3CDTF">2019-11-15T10:42:47Z</dcterms:modified>
  <cp:revision>26</cp:revision>
  <dc:subject/>
  <dc:title>Конспект урока математики. 4класс.</dc:title>
</cp:coreProperties>
</file>