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77B-8846-4381-ABD3-6ECADDF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CAF-37E6-4AD0-9F2E-6D7F34C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69-340F-4534-AC2F-12D04450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126-63B3-4EA6-81DF-412D8E7F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630-2A76-4A52-9FF3-493E5B5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A5B-1F85-490C-9058-45F9C57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ECF-135F-4895-B4C6-BE59474A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32A-A205-4741-835D-0056FB6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597-4302-4722-A4D8-779EC89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AE5-0571-45FA-A989-B0E2352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C72-732B-42D7-8001-556F487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9CE-AEB5-4521-9852-D93C049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8DD-1023-4DDE-8B3A-A98DD085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4716360" cy="188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зни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глубокие впадины, расположенные симметрично с каждой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стороны в верхней части лица непосредственно под л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91628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меют форму четырехгранной пирамиды, основание которой обращено вперед и образует вход в глазницу, вершина вдается спереди назад по направлению к полости чере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ход в глазницу огранич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082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м и наружным краями, оба почти вертик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06864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ерхним и нижним краями, косо направленными сверх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низ и снутри нар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93080" y="458136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03280" y="4724280"/>
            <a:ext cx="2016360" cy="21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5589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ужный кр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156360" y="5157360"/>
            <a:ext cx="72072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43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124000" y="4437000"/>
            <a:ext cx="1440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58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жн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5589360"/>
            <a:ext cx="165600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897440" cy="195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3280" y="47628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хний край образован надглазничным краем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4920" y="692280"/>
            <a:ext cx="158436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112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жний край образован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рхнечелюстной 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1413000"/>
            <a:ext cx="1800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1773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1700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куловой к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24000" y="1916280"/>
            <a:ext cx="14396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49228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ий край образован соединением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55640" y="1196640"/>
            <a:ext cx="93636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141720"/>
            <a:ext cx="49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обного отростка верхнечелюст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863640" cy="1296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29264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ружный край образован соеди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3933720"/>
            <a:ext cx="44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улового отростка лобн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1125360"/>
            <a:ext cx="1800360" cy="2808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5772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обного отростка скуловой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042560" y="1628280"/>
            <a:ext cx="289080" cy="18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65300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енки глазниц являются костными пластинками, принадлежащими лобной кости, клиновидной кости, слезной кости, скуловой кости, верхнечелюстной кости и некоторым друг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55897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5315040"/>
            <a:ext cx="33526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404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198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5382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ершины глазничной впадины находятся отверстия, которые при рассматривании черепа представляются в виде черных впа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3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рительное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835280" y="3573360"/>
            <a:ext cx="2808000" cy="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270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хняя глазничная щ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50920" y="2852640"/>
            <a:ext cx="2376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58136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жняя глазничная щ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627280" y="4292280"/>
            <a:ext cx="201600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2:55Z</dcterms:created>
  <dc:creator>User</dc:creator>
  <dc:description/>
  <dc:language>en-US</dc:language>
  <cp:lastModifiedBy>User</cp:lastModifiedBy>
  <dcterms:modified xsi:type="dcterms:W3CDTF">2007-10-31T20:18:33Z</dcterms:modified>
  <cp:revision>7</cp:revision>
  <dc:subject/>
  <dc:title>Слайд 1</dc:title>
</cp:coreProperties>
</file>