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270-A4AA-4471-93A8-06BF8236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24C-20C3-47EB-B4CC-D737C82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BC3-CFB9-4E52-897F-33B3F507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000-228C-42E8-87E1-08058F91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968-64DE-492F-BD7C-10D3517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AED-7526-40E3-A382-5B51BAA9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759-EA4C-48C8-9742-B3C554C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9A9-9E2B-4827-A8CB-EDF1E948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6DD-933D-44C1-A519-30545D2B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FBC-D3D8-46F8-A9CD-74BE4660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119-DDE3-435E-84D6-1BE4B52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7A3-BA47-45C0-BA1F-5A33282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7AA2-FAF4-405A-9FA9-216A98C8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716360" cy="188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зни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глубокие впадины, расположенные симметрично с каждой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стороны в верхней части лица непосредственно под л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91628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меют форму четырехгранной пирамиды, основание которой обращено вперед и образует вход в глазницу, вершина вдается спереди назад по направлению к полости чере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ход в глазницу огранич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08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м и наружным краями, оба почти вертик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06864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ерхним и нижним краями, косо направленными сверх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низ и снутри нар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93080" y="45813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03280" y="4724280"/>
            <a:ext cx="201636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5589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ужный кр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156360" y="5157360"/>
            <a:ext cx="72072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43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124000" y="4437000"/>
            <a:ext cx="1440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58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ж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5589360"/>
            <a:ext cx="165600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897440" cy="195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3280" y="47628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хний край образован надглазничным краем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4920" y="692280"/>
            <a:ext cx="158436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112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жний край образован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хнечелюстной 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1413000"/>
            <a:ext cx="1800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1773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1700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куловой 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24000" y="1916280"/>
            <a:ext cx="14396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49228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ий край образован соединением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55640" y="1196640"/>
            <a:ext cx="93636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14172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обного отростка верхнечелюст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863640" cy="1296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29264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ружный край образован соеди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3933720"/>
            <a:ext cx="44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улового отростка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1125360"/>
            <a:ext cx="1800360" cy="2808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5772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обного отростка скулов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042560" y="1628280"/>
            <a:ext cx="289080" cy="18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65300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енки глазниц являются костными пластинками, принадлежащими лобной кости, клиновидной кости, слезной кости, скуловой кости, верхнечелюстной кости и некоторым друг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55897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5315040"/>
            <a:ext cx="33526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404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198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5382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ершины глазничной впадины находятся отверстия, которые при рассматривании черепа представляются в виде черных впа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3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рительное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835280" y="3573360"/>
            <a:ext cx="280800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70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яя глазничная щ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50920" y="2852640"/>
            <a:ext cx="2376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58136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жняя глазничная щ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627280" y="4292280"/>
            <a:ext cx="201600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2:55Z</dcterms:created>
  <dc:creator>User</dc:creator>
  <dc:description/>
  <dc:language>en-US</dc:language>
  <cp:lastModifiedBy>User</cp:lastModifiedBy>
  <dcterms:modified xsi:type="dcterms:W3CDTF">2007-10-31T20:18:33Z</dcterms:modified>
  <cp:revision>7</cp:revision>
  <dc:subject/>
  <dc:title>Слайд 1</dc:title>
</cp:coreProperties>
</file>