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595-AB7A-48A6-9DE9-7546F3E1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F78-2591-4CBA-B8D6-9A8DD849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A0D-3A6F-49D5-8C1B-C2E791FA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BA1-4F55-4AFF-9140-D749BFD0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1B0-54E1-40C2-883A-58A31C34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E11-DF8E-41A7-84D7-6F5A7B1A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AB6-0A1C-42F0-94B8-539DA5E6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318-80DF-4BE3-BE12-77AE8BF4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24D-E4EF-4B88-B80C-8106AE44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D8C-A027-449B-BDE4-1589753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49D-21E9-4FA2-B573-95262A53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188-D3B6-4265-B91D-D59767FA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9EDB-23FB-4032-8B5C-03F84556B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3336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Грушевидное отверс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765000"/>
            <a:ext cx="867564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верстие ведущее в полость носа, находится в средней части лицевого череп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же уровня глазн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2516040" cy="2597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5661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изу и по бокам огранич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22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хнечелюстные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186920" y="4436640"/>
            <a:ext cx="7164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763640" y="4292640"/>
            <a:ext cx="72072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4360" y="2781000"/>
            <a:ext cx="8632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340000" y="2852640"/>
            <a:ext cx="503280" cy="24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1557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рху огранич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8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совые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34920" y="2133720"/>
            <a:ext cx="15843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050560" y="2276640"/>
            <a:ext cx="17290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314172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есте соединения двух верхнечелюстных костей, у основания грушевидного отверстия располагается передняя носовая 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08000" y="3933720"/>
            <a:ext cx="288000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f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260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уклость ск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а скуловой к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692280"/>
            <a:ext cx="50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форму звезды с четырьм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ветвями (отростк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675160" cy="289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2205000"/>
            <a:ext cx="309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хняя ветвь – лобно-основный отросток, соединяется со скуловым отростком лобной кости и с клиновидной к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627280" y="2781000"/>
            <a:ext cx="158436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50864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77080" y="2276640"/>
            <a:ext cx="316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няя ветвь – внутренний отросток – образует нижний край глазницы (вместе с верхнечелюстной кость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36572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ружная ветвь – височный отросток соединяется со скуловым отростком височной кости образует скуловую ду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2000" y="2852640"/>
            <a:ext cx="17287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84360" y="3860280"/>
            <a:ext cx="12956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44258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4040" y="4437000"/>
            <a:ext cx="328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ижняя ветвь представ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ливо выступающим крае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торый сливается с т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сти, образуя выпуклость ску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140000" y="4292640"/>
            <a:ext cx="187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80536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нтропологические особенности кости представляют несомненный интерес. Например, у азиатских народов (монголоидная раса) она хорошо развита и придаёт лицу широкий плоский 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7:28:08Z</dcterms:created>
  <dc:creator>User</dc:creator>
  <dc:description/>
  <dc:language>en-US</dc:language>
  <cp:lastModifiedBy>User</cp:lastModifiedBy>
  <dcterms:modified xsi:type="dcterms:W3CDTF">2007-11-13T18:13:01Z</dcterms:modified>
  <cp:revision>2</cp:revision>
  <dc:subject/>
  <dc:title>Слайд 1</dc:title>
</cp:coreProperties>
</file>