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682-E380-4B3E-AEEF-19CA93F4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E13D-C4E7-4D51-85DC-183553AB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42D-C99C-4706-9E8E-321EF828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D3DE-D72C-4742-86EF-C1FD3F37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7E07-1870-43B7-80CB-0976A9C7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67B9-3E86-4201-A724-8114A777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4EB-46C2-4B9A-A663-F98E772C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765-974D-4F66-BA6A-A833FD2F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352-49D4-4AD8-ADFA-03CEA430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654-9DFE-4BCA-8E84-2375F1A9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54D7-58E0-41C0-89A7-EADF8291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D5F1-F026-4EA4-91EF-465E0097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4BDD-5A8A-454B-A1AB-E53FE0F0E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333360"/>
            <a:ext cx="69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Грушевидное отверс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765000"/>
            <a:ext cx="8675640" cy="4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─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верстие ведущее в полость носа, находится в средней части лицевого череп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иже уровня глазн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2516040" cy="2597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5661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изу и по бокам ограниче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5229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хнечелюстные 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1186920" y="4436640"/>
            <a:ext cx="7164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763640" y="4292640"/>
            <a:ext cx="72072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84360" y="2781000"/>
            <a:ext cx="863280" cy="23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340000" y="2852640"/>
            <a:ext cx="503280" cy="24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15573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ерху ограниче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89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совые 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834920" y="2133720"/>
            <a:ext cx="15843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050560" y="2276640"/>
            <a:ext cx="17290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3141720"/>
            <a:ext cx="37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месте соединения двух верхнечелюстных костей, у основания грушевидного отверстия располагается передняя носовая 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908000" y="3933720"/>
            <a:ext cx="288000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76360" y="260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пуклость ск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92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ована скуловой кос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692280"/>
            <a:ext cx="504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ет форму звезды с четырьмя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ветвями (отросткам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2675160" cy="2896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2205000"/>
            <a:ext cx="309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рхняя ветвь – лобно-основный отросток, соединяется со скуловым отростком лобной кости и с клиновидной кост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627280" y="2781000"/>
            <a:ext cx="158436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450864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77080" y="2276640"/>
            <a:ext cx="3166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няя ветвь – внутренний отросток – образует нижний край глазницы (вместе с верхнечелюстной костью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36572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ружная ветвь – височный отросток соединяется со скуловым отростком височной кости образует скуловую ду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2000" y="2852640"/>
            <a:ext cx="17287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484360" y="3860280"/>
            <a:ext cx="129564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44258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64040" y="4437000"/>
            <a:ext cx="328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ижняя ветвь представл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ливо выступающим крае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торый сливается с те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сти, образуя выпуклость скул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4140000" y="4292640"/>
            <a:ext cx="187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805360"/>
            <a:ext cx="849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нтропологические особенности кости представляют несомненный интерес. Например, у азиатских народов (монголоидная раса) она хорошо развита и придаёт лицу широкий плоский в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15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16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1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1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28:08Z</dcterms:created>
  <dc:creator>User</dc:creator>
  <dc:description/>
  <dc:language>en-US</dc:language>
  <cp:lastModifiedBy>User</cp:lastModifiedBy>
  <dcterms:modified xsi:type="dcterms:W3CDTF">2007-11-13T18:13:01Z</dcterms:modified>
  <cp:revision>2</cp:revision>
  <dc:subject/>
  <dc:title>Слайд 1</dc:title>
</cp:coreProperties>
</file>