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748E-6B2F-426D-AFB2-6CD4DD39F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AFE1-B1A5-405F-A551-4C3B18F4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CA0C-A4D7-4628-95E8-9CDF3FFB6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62BD-7AC9-4201-B0F9-DDDD19B75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72C8-0499-4880-A048-A6B7DB981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6B166-E882-49C0-BA0A-9A1D7F4B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9190-427C-4EEE-9943-0DE58BE2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E739-76CF-4C39-83FC-09A43A7E6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1564-5D4F-40C9-A062-C04C9761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ECF2E-8912-4829-8E88-6D957267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CE14-6320-4CF8-87C5-D902A9FC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5923-673D-4894-B77F-AEB3B444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81018-EB6D-4838-828C-78B39468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DC598-2D20-4BBD-9641-14B48F98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E6A7-D3AA-42AA-A72D-7424F8D1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2F3D-FF7E-4469-B023-C57E41B16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3D2C-8BD6-406D-A3F3-0317033C8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3064-1250-4214-94B8-FC49F770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C5FD-3955-4EA0-9F6C-C68BB031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B535-88AE-4A17-A956-38CA053D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9DAB-6CCC-4FA5-9AF8-F43F7942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8818-A0E3-4167-BB59-D5AC7C1C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1CA8-25BF-4271-B7A6-7D76A13F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C396-8155-4F9F-A7FB-FDD1ECDE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4A0F-2ADA-4937-B37B-2D3972BF07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C6D0-C179-41C6-A3F4-C54B10D2ADD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43;&#1088;&#1077;&#1095;&#1077;&#1089;&#1082;&#1080;&#1081;_&#1103;&#1079;&#1099;&#1082;" TargetMode="External"/><Relationship Id="rId2" Type="http://schemas.openxmlformats.org/officeDocument/2006/relationships/hyperlink" Target="https://ru.wikipedia.org/wiki/&#1059;&#1074;&#1077;&#1083;&#1080;&#1095;&#1077;&#1085;&#1080;&#1077;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2879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Исследовательская работа</a:t>
            </a:r>
            <a:br>
              <a:rPr sz="4800"/>
            </a:br>
            <a:br>
              <a:rPr sz="4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«Микроскоп и его возможности»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356000" y="3644640"/>
            <a:ext cx="464040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Narrow"/>
              </a:rPr>
              <a:t>Выполнил учен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ru-RU" sz="1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 3</a:t>
            </a:r>
            <a:r>
              <a:rPr b="1" lang="ru-RU" sz="1200" spc="-1" strike="noStrike">
                <a:solidFill>
                  <a:srgbClr val="ffffff"/>
                </a:solidFill>
                <a:latin typeface="Arial Narrow"/>
              </a:rPr>
              <a:t>«б» класса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2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Narrow"/>
              </a:rPr>
              <a:t>КОГОБУ СШ с УИОП г. Яранс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2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авченко Ром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2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Narrow"/>
              </a:rPr>
              <a:t>Руководители  работы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2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Narrow"/>
              </a:rPr>
              <a:t>Миненкова Маргарита Вениамин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2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авченко Татьяна Александр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1"/>
          <a:stretch/>
        </p:blipFill>
        <p:spPr>
          <a:xfrm>
            <a:off x="1789200" y="3500280"/>
            <a:ext cx="248436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Работа с лабораторным микроскопом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551628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вод: это мощный прибор, с хорошим увеличением, который действительно помогает изучать микроорганизм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4" descr="19-02-2018-5538"/>
          <p:cNvPicPr/>
          <p:nvPr/>
        </p:nvPicPr>
        <p:blipFill>
          <a:blip r:embed="rId1"/>
          <a:stretch/>
        </p:blipFill>
        <p:spPr>
          <a:xfrm>
            <a:off x="1042920" y="2060640"/>
            <a:ext cx="1997280" cy="13302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19-02-2018-5543"/>
          <p:cNvPicPr/>
          <p:nvPr/>
        </p:nvPicPr>
        <p:blipFill>
          <a:blip r:embed="rId2"/>
          <a:stretch/>
        </p:blipFill>
        <p:spPr>
          <a:xfrm>
            <a:off x="6568920" y="3141720"/>
            <a:ext cx="2376720" cy="15825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19-02-2018-5550"/>
          <p:cNvPicPr/>
          <p:nvPr/>
        </p:nvPicPr>
        <p:blipFill>
          <a:blip r:embed="rId3"/>
          <a:stretch/>
        </p:blipFill>
        <p:spPr>
          <a:xfrm>
            <a:off x="3708360" y="2781360"/>
            <a:ext cx="221472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Заключение: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28400" y="1213920"/>
            <a:ext cx="8258040" cy="32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кроскоп – это очень полезный и нужный прибор в современном мире. Он помогает распознавать и предотвращать многие болезни, как среди людей, так и среди животны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кроскоп способствует дальнейшему успеху науки и научным открытиям во всех сфер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2" descr="F:\Микроскоп 1\11-01-2018-5250.JPG"/>
          <p:cNvPicPr/>
          <p:nvPr/>
        </p:nvPicPr>
        <p:blipFill>
          <a:blip r:embed="rId1"/>
          <a:stretch/>
        </p:blipFill>
        <p:spPr>
          <a:xfrm>
            <a:off x="1908000" y="3952800"/>
            <a:ext cx="2519640" cy="16812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F:\Микроскоп 1\11-01-2018-5258.JPG"/>
          <p:cNvPicPr/>
          <p:nvPr/>
        </p:nvPicPr>
        <p:blipFill>
          <a:blip r:embed="rId2"/>
          <a:stretch/>
        </p:blipFill>
        <p:spPr>
          <a:xfrm>
            <a:off x="5724360" y="4071960"/>
            <a:ext cx="2341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Arial"/>
              </a:rPr>
              <a:t>Гипотеза: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йствительно ли в микроскопе можно увидеть микроорганизмы, которые нас окружают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йти информацию в литературе и Интернет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учить историю возникновения микроскопов, их виды и примене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учить пользу использования микроскопов в нашей жизн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анализировать результаты и сделать вывод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42960" y="274680"/>
            <a:ext cx="8043840" cy="122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Микроско́п (</a:t>
            </a:r>
            <a:r>
              <a:rPr b="0" lang="ru-RU" sz="1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греч.</a:t>
            </a: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0" lang="el-GR" sz="1800" spc="-1" strike="noStrike">
                <a:solidFill>
                  <a:srgbClr val="ccecff"/>
                </a:solidFill>
                <a:latin typeface="Arial"/>
              </a:rPr>
              <a:t>μικρός</a:t>
            </a: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 «маленький» + </a:t>
            </a:r>
            <a:r>
              <a:rPr b="0" lang="el-GR" sz="1800" spc="-1" strike="noStrike">
                <a:solidFill>
                  <a:srgbClr val="ccecff"/>
                </a:solidFill>
                <a:latin typeface="Arial"/>
              </a:rPr>
              <a:t>σκοπέω</a:t>
            </a: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 «смотрю») — прибор, предназначенный для получения </a:t>
            </a:r>
            <a:r>
              <a:rPr b="0" lang="ru-RU" sz="18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увеличенных</a:t>
            </a: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 изображений</a:t>
            </a:r>
            <a:br>
              <a:rPr sz="1800"/>
            </a:b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42600" y="785520"/>
            <a:ext cx="76438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2" descr="C:\Users\Set\Desktop\11-01-2018-5239.JPG"/>
          <p:cNvPicPr/>
          <p:nvPr/>
        </p:nvPicPr>
        <p:blipFill>
          <a:blip r:embed="rId3"/>
          <a:stretch/>
        </p:blipFill>
        <p:spPr>
          <a:xfrm>
            <a:off x="5867280" y="2166840"/>
            <a:ext cx="2243160" cy="1495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C:\Users\Set\Desktop\11-01-2018-5255.JPG"/>
          <p:cNvPicPr/>
          <p:nvPr/>
        </p:nvPicPr>
        <p:blipFill>
          <a:blip r:embed="rId4"/>
          <a:stretch/>
        </p:blipFill>
        <p:spPr>
          <a:xfrm>
            <a:off x="-20116800" y="-13030200"/>
            <a:ext cx="7242120" cy="48276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C:\Users\Set\Desktop\11-01-2018-5255.JPG"/>
          <p:cNvPicPr/>
          <p:nvPr/>
        </p:nvPicPr>
        <p:blipFill>
          <a:blip r:embed="rId5"/>
          <a:stretch/>
        </p:blipFill>
        <p:spPr>
          <a:xfrm>
            <a:off x="-19964520" y="-12877920"/>
            <a:ext cx="7242120" cy="48276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F:\Микроскоп 1\11-01-2018-5255.JPG"/>
          <p:cNvPicPr/>
          <p:nvPr/>
        </p:nvPicPr>
        <p:blipFill>
          <a:blip r:embed="rId6"/>
          <a:stretch/>
        </p:blipFill>
        <p:spPr>
          <a:xfrm>
            <a:off x="-16216200" y="-10858680"/>
            <a:ext cx="8557920" cy="5705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C:\Users\Set\Desktop\11-01-2018-5255.JPG"/>
          <p:cNvPicPr/>
          <p:nvPr/>
        </p:nvPicPr>
        <p:blipFill>
          <a:blip r:embed="rId7"/>
          <a:stretch/>
        </p:blipFill>
        <p:spPr>
          <a:xfrm>
            <a:off x="5867280" y="4214880"/>
            <a:ext cx="2562480" cy="17082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F:\Микроскоп 1\11-01-2018-5237.JPG"/>
          <p:cNvPicPr/>
          <p:nvPr/>
        </p:nvPicPr>
        <p:blipFill>
          <a:blip r:embed="rId8"/>
          <a:stretch/>
        </p:blipFill>
        <p:spPr>
          <a:xfrm>
            <a:off x="1589040" y="2141640"/>
            <a:ext cx="2235240" cy="14904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F:\Микроскоп 1\11-01-2018-5233.JPG"/>
          <p:cNvPicPr/>
          <p:nvPr/>
        </p:nvPicPr>
        <p:blipFill>
          <a:blip r:embed="rId9"/>
          <a:stretch/>
        </p:blipFill>
        <p:spPr>
          <a:xfrm>
            <a:off x="1486080" y="4214880"/>
            <a:ext cx="24429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Первый простейший микроскоп был создан З. Янсеном в 16 в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566100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н увеличивал предметы в 10 раз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Картинки по запросу микроскоп янсена"/>
          <p:cNvPicPr/>
          <p:nvPr/>
        </p:nvPicPr>
        <p:blipFill>
          <a:blip r:embed="rId1"/>
          <a:stretch/>
        </p:blipFill>
        <p:spPr>
          <a:xfrm>
            <a:off x="5292720" y="2673360"/>
            <a:ext cx="1681200" cy="1224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Картинки по запросу микроскоп янсена"/>
          <p:cNvPicPr/>
          <p:nvPr/>
        </p:nvPicPr>
        <p:blipFill>
          <a:blip r:embed="rId2"/>
          <a:stretch/>
        </p:blipFill>
        <p:spPr>
          <a:xfrm>
            <a:off x="1913040" y="2349360"/>
            <a:ext cx="10602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Совершенствование прибора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384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ее сложный микроскоп появился в 17 в. благодаря К. Дреббелю. Р. Гук его усовершенствова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следователь А.Левенгук с помощью микроскопа открыл огромный мир микроорганизмо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8" descr="Картинки по запросу микроскоп дреббеля"/>
          <p:cNvPicPr/>
          <p:nvPr/>
        </p:nvPicPr>
        <p:blipFill>
          <a:blip r:embed="rId1"/>
          <a:stretch/>
        </p:blipFill>
        <p:spPr>
          <a:xfrm>
            <a:off x="901800" y="2852640"/>
            <a:ext cx="1073160" cy="1224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hello_html_69102b2c.jpg"/>
          <p:cNvPicPr/>
          <p:nvPr/>
        </p:nvPicPr>
        <p:blipFill>
          <a:blip r:embed="rId2"/>
          <a:stretch/>
        </p:blipFill>
        <p:spPr>
          <a:xfrm>
            <a:off x="3184560" y="4797360"/>
            <a:ext cx="744480" cy="11527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4" descr="hello_html_m741331f6.jpg"/>
          <p:cNvPicPr/>
          <p:nvPr/>
        </p:nvPicPr>
        <p:blipFill>
          <a:blip r:embed="rId3"/>
          <a:stretch/>
        </p:blipFill>
        <p:spPr>
          <a:xfrm>
            <a:off x="5292720" y="3789360"/>
            <a:ext cx="1177920" cy="1386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0" descr="Похожее изображение"/>
          <p:cNvPicPr/>
          <p:nvPr/>
        </p:nvPicPr>
        <p:blipFill>
          <a:blip r:embed="rId4"/>
          <a:stretch/>
        </p:blipFill>
        <p:spPr>
          <a:xfrm>
            <a:off x="1042920" y="4797360"/>
            <a:ext cx="986040" cy="10778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2" descr="Картинки по запросу р. гук картинки"/>
          <p:cNvPicPr/>
          <p:nvPr/>
        </p:nvPicPr>
        <p:blipFill>
          <a:blip r:embed="rId5"/>
          <a:stretch/>
        </p:blipFill>
        <p:spPr>
          <a:xfrm>
            <a:off x="3056040" y="2852640"/>
            <a:ext cx="1104840" cy="1224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6" descr="Похожее изображение"/>
          <p:cNvPicPr/>
          <p:nvPr/>
        </p:nvPicPr>
        <p:blipFill>
          <a:blip r:embed="rId6"/>
          <a:stretch/>
        </p:blipFill>
        <p:spPr>
          <a:xfrm>
            <a:off x="7421400" y="3860640"/>
            <a:ext cx="1314720" cy="13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64960" y="316080"/>
            <a:ext cx="7978680" cy="412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Устройство микроскопа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908000" y="907920"/>
          <a:ext cx="6716880" cy="5699160"/>
        </p:xfrm>
        <a:graphic>
          <a:graphicData uri="http://schemas.openxmlformats.org/drawingml/2006/table">
            <a:tbl>
              <a:tblPr/>
              <a:tblGrid>
                <a:gridCol w="1998720"/>
                <a:gridCol w="471816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ь микроскопа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ля чего нужна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куляр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величивает изображение, которое получено от объектив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ъектив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еспечивает увеличение мелкого предмет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убус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рительная трубка, соединяет объектив и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куляр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нт настрой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нимает и опускает тубус, позволяет приближать и отдалять предмет исследования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метный столи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нём размещается предмет рассмотрения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еркало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могает направлять свет в отверстии на предметном столике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2" name="Picture 60" descr="Похожее изображение"/>
          <p:cNvPicPr/>
          <p:nvPr/>
        </p:nvPicPr>
        <p:blipFill>
          <a:blip r:embed="rId1"/>
          <a:stretch/>
        </p:blipFill>
        <p:spPr>
          <a:xfrm>
            <a:off x="324000" y="115920"/>
            <a:ext cx="85392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Домашние опыты по созданию прибора для увеличения предметов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ыт с прозрачной плёночко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вод: текст увеличивается, но способ не удобен, т.к. капелька все время соскальзывае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523800" y="2060640"/>
            <a:ext cx="2536920" cy="1692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19-02-2018-5524"/>
          <p:cNvPicPr/>
          <p:nvPr/>
        </p:nvPicPr>
        <p:blipFill>
          <a:blip r:embed="rId2"/>
          <a:stretch/>
        </p:blipFill>
        <p:spPr>
          <a:xfrm>
            <a:off x="3633840" y="2349360"/>
            <a:ext cx="2450880" cy="16336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19-02-2018-5526"/>
          <p:cNvPicPr/>
          <p:nvPr/>
        </p:nvPicPr>
        <p:blipFill>
          <a:blip r:embed="rId3"/>
          <a:stretch/>
        </p:blipFill>
        <p:spPr>
          <a:xfrm>
            <a:off x="6740640" y="2997360"/>
            <a:ext cx="22669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57280" y="2952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2. Опыт с лупами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522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вод: одна лупа текст увеличивает, но две дают размытое изображение и перевернутый текс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6" descr="19-02-2018-5531"/>
          <p:cNvPicPr/>
          <p:nvPr/>
        </p:nvPicPr>
        <p:blipFill>
          <a:blip r:embed="rId1"/>
          <a:stretch/>
        </p:blipFill>
        <p:spPr>
          <a:xfrm>
            <a:off x="1757520" y="981000"/>
            <a:ext cx="2598480" cy="17319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19-02-2018-5533"/>
          <p:cNvPicPr/>
          <p:nvPr/>
        </p:nvPicPr>
        <p:blipFill>
          <a:blip r:embed="rId2"/>
          <a:stretch/>
        </p:blipFill>
        <p:spPr>
          <a:xfrm>
            <a:off x="5508720" y="1700280"/>
            <a:ext cx="282420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Работа с ученическим микроскопом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551628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вод: школьный микроскоп не дает полную картину о жизни микроорганизм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4" descr="19-02-2018-5534"/>
          <p:cNvPicPr/>
          <p:nvPr/>
        </p:nvPicPr>
        <p:blipFill>
          <a:blip r:embed="rId1"/>
          <a:stretch/>
        </p:blipFill>
        <p:spPr>
          <a:xfrm>
            <a:off x="3600360" y="1628640"/>
            <a:ext cx="3240000" cy="2160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Похожее изображение"/>
          <p:cNvPicPr/>
          <p:nvPr/>
        </p:nvPicPr>
        <p:blipFill>
          <a:blip r:embed="rId2"/>
          <a:stretch/>
        </p:blipFill>
        <p:spPr>
          <a:xfrm>
            <a:off x="7667640" y="189000"/>
            <a:ext cx="12826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6T10:42:51Z</dcterms:created>
  <dc:creator>Семья Кравченко</dc:creator>
  <dc:description/>
  <dc:language>en-US</dc:language>
  <cp:lastModifiedBy>Rita</cp:lastModifiedBy>
  <dcterms:modified xsi:type="dcterms:W3CDTF">2019-11-25T18:03:31Z</dcterms:modified>
  <cp:revision>23</cp:revision>
  <dc:subject/>
  <dc:title>Исследовательская работа  «Микроскоп и его возможности»</dc:title>
</cp:coreProperties>
</file>