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BA6-A2B0-45A2-9F27-01EBE3E1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127-6DFB-4287-B380-051DF4A8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DAA-A6FF-4A51-9DA4-B9F9B1E4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615-6FF3-492E-94AD-FC204F58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E3C-206A-451A-A2AB-838DCE91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FFAB-2BF0-4C0F-83C1-52D0E3D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40DE-02F0-46B1-BA0D-8A59013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80B5-5E99-449D-823D-99311D9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A42-2645-42E5-AB6A-CE41A3B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59E-CE2C-41A4-82A3-DDF009B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381A-B15F-43A9-A9FD-1AB0729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4F1-115C-44CC-BD13-A6D416A8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753F-1813-4FC2-A16F-4C7C9FF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A8F-9194-41F6-88F9-5E8A1BC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312A-E0DE-4384-8C46-B51E3E6C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198-D837-4454-B45F-AA458CB3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7C96-74E4-4CFB-96FB-1727DB6C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2F1-CFE0-43B0-A4DF-3D14E53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4B1-F46E-4CC0-808E-B568E21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FAF-873E-4101-B157-B2D11CD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2D8-8672-402C-B74B-2FB75E7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0E1-D055-417F-BBE0-0C50BA3A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4E6-6EC8-4120-9855-D2BF93E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553-D6C4-4B50-8D0C-2BFA068A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398-E81D-40AB-8374-66A45571B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7B7F-8727-46D4-8DCF-D8A838E8FF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3;&#1088;&#1077;&#1095;&#1077;&#1089;&#1082;&#1080;&#1081;_&#1103;&#1079;&#1099;&#1082;" TargetMode="External"/><Relationship Id="rId2" Type="http://schemas.openxmlformats.org/officeDocument/2006/relationships/hyperlink" Target="https://ru.wikipedia.org/wiki/&#1059;&#1074;&#1077;&#1083;&#1080;&#1095;&#1077;&#1085;&#1080;&#1077;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сследовательская работа</a:t>
            </a:r>
            <a:br>
              <a:rPr sz="4800"/>
            </a:br>
            <a:br>
              <a:rPr sz="4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«Микроскоп и его возможности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356000" y="3644640"/>
            <a:ext cx="46404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Выполнил учен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 3</a:t>
            </a: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«б» класс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КОГОБУ СШ с УИОП г. Яран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вченко Ром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Руководители  работ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иненкова Маргарита Вениам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вченко Татья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789200" y="3500280"/>
            <a:ext cx="2484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бота с лабораторным микроскопо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это мощный прибор, с хорошим увеличением, который действительно помогает изучать микроорганиз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19-02-2018-5538"/>
          <p:cNvPicPr/>
          <p:nvPr/>
        </p:nvPicPr>
        <p:blipFill>
          <a:blip r:embed="rId1"/>
          <a:stretch/>
        </p:blipFill>
        <p:spPr>
          <a:xfrm>
            <a:off x="1042920" y="2060640"/>
            <a:ext cx="1997280" cy="133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19-02-2018-5543"/>
          <p:cNvPicPr/>
          <p:nvPr/>
        </p:nvPicPr>
        <p:blipFill>
          <a:blip r:embed="rId2"/>
          <a:stretch/>
        </p:blipFill>
        <p:spPr>
          <a:xfrm>
            <a:off x="6568920" y="3141720"/>
            <a:ext cx="2376720" cy="1582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19-02-2018-5550"/>
          <p:cNvPicPr/>
          <p:nvPr/>
        </p:nvPicPr>
        <p:blipFill>
          <a:blip r:embed="rId3"/>
          <a:stretch/>
        </p:blipFill>
        <p:spPr>
          <a:xfrm>
            <a:off x="3708360" y="2781360"/>
            <a:ext cx="2214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ключение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25804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коп – это очень полезный и нужный прибор в современном мире. Он помогает распознавать и предотвращать многие болезни, как среди людей, так и среди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коп способствует дальнейшему успеху науки и научным открытиям во всех сфе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F:\Микроскоп 1\11-01-2018-5250.JPG"/>
          <p:cNvPicPr/>
          <p:nvPr/>
        </p:nvPicPr>
        <p:blipFill>
          <a:blip r:embed="rId1"/>
          <a:stretch/>
        </p:blipFill>
        <p:spPr>
          <a:xfrm>
            <a:off x="1908000" y="3952800"/>
            <a:ext cx="2519640" cy="1681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F:\Микроскоп 1\11-01-2018-5258.JPG"/>
          <p:cNvPicPr/>
          <p:nvPr/>
        </p:nvPicPr>
        <p:blipFill>
          <a:blip r:embed="rId2"/>
          <a:stretch/>
        </p:blipFill>
        <p:spPr>
          <a:xfrm>
            <a:off x="5724360" y="4071960"/>
            <a:ext cx="2341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Гипотеза: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тельно ли в микроскопе можно увидеть микроорганизмы, которые нас окружаю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йти информацию в литературе и Интерне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историю возникновения микроскопов, их виды и приме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льзу использования микроскопов в нашей жиз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анализировать результаты и сделать вы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Микроско́п (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l-GR" sz="1800" spc="-1" strike="noStrike">
                <a:solidFill>
                  <a:srgbClr val="ccecff"/>
                </a:solidFill>
                <a:latin typeface="Arial"/>
              </a:rPr>
              <a:t>μικρός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«маленький» + </a:t>
            </a:r>
            <a:r>
              <a:rPr b="0" lang="el-GR" sz="1800" spc="-1" strike="noStrike">
                <a:solidFill>
                  <a:srgbClr val="ccecff"/>
                </a:solidFill>
                <a:latin typeface="Arial"/>
              </a:rPr>
              <a:t>σκοπέω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«смотрю») — прибор, предназначенный для получения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увеличенных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изображений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42600" y="785520"/>
            <a:ext cx="7643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C:\Users\Set\Desktop\11-01-2018-5239.JPG"/>
          <p:cNvPicPr/>
          <p:nvPr/>
        </p:nvPicPr>
        <p:blipFill>
          <a:blip r:embed="rId3"/>
          <a:stretch/>
        </p:blipFill>
        <p:spPr>
          <a:xfrm>
            <a:off x="5867280" y="2166840"/>
            <a:ext cx="2243160" cy="14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Set\Desktop\11-01-2018-5255.JPG"/>
          <p:cNvPicPr/>
          <p:nvPr/>
        </p:nvPicPr>
        <p:blipFill>
          <a:blip r:embed="rId4"/>
          <a:stretch/>
        </p:blipFill>
        <p:spPr>
          <a:xfrm>
            <a:off x="-20116800" y="-13030200"/>
            <a:ext cx="7242120" cy="4827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Set\Desktop\11-01-2018-5255.JPG"/>
          <p:cNvPicPr/>
          <p:nvPr/>
        </p:nvPicPr>
        <p:blipFill>
          <a:blip r:embed="rId5"/>
          <a:stretch/>
        </p:blipFill>
        <p:spPr>
          <a:xfrm>
            <a:off x="-19964520" y="-12877920"/>
            <a:ext cx="7242120" cy="482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F:\Микроскоп 1\11-01-2018-5255.JPG"/>
          <p:cNvPicPr/>
          <p:nvPr/>
        </p:nvPicPr>
        <p:blipFill>
          <a:blip r:embed="rId6"/>
          <a:stretch/>
        </p:blipFill>
        <p:spPr>
          <a:xfrm>
            <a:off x="-16216200" y="-10858680"/>
            <a:ext cx="8557920" cy="570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Set\Desktop\11-01-2018-5255.JPG"/>
          <p:cNvPicPr/>
          <p:nvPr/>
        </p:nvPicPr>
        <p:blipFill>
          <a:blip r:embed="rId7"/>
          <a:stretch/>
        </p:blipFill>
        <p:spPr>
          <a:xfrm>
            <a:off x="5867280" y="4214880"/>
            <a:ext cx="2562480" cy="1708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F:\Микроскоп 1\11-01-2018-5237.JPG"/>
          <p:cNvPicPr/>
          <p:nvPr/>
        </p:nvPicPr>
        <p:blipFill>
          <a:blip r:embed="rId8"/>
          <a:stretch/>
        </p:blipFill>
        <p:spPr>
          <a:xfrm>
            <a:off x="1589040" y="2141640"/>
            <a:ext cx="2235240" cy="1490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F:\Микроскоп 1\11-01-2018-5233.JPG"/>
          <p:cNvPicPr/>
          <p:nvPr/>
        </p:nvPicPr>
        <p:blipFill>
          <a:blip r:embed="rId9"/>
          <a:stretch/>
        </p:blipFill>
        <p:spPr>
          <a:xfrm>
            <a:off x="1486080" y="4214880"/>
            <a:ext cx="2442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ервый простейший микроскоп был создан З. Янсеном в 16 в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увеличивал предметы в 10 ра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Картинки по запросу микроскоп янсена"/>
          <p:cNvPicPr/>
          <p:nvPr/>
        </p:nvPicPr>
        <p:blipFill>
          <a:blip r:embed="rId1"/>
          <a:stretch/>
        </p:blipFill>
        <p:spPr>
          <a:xfrm>
            <a:off x="5292720" y="267336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Картинки по запросу микроскоп янсена"/>
          <p:cNvPicPr/>
          <p:nvPr/>
        </p:nvPicPr>
        <p:blipFill>
          <a:blip r:embed="rId2"/>
          <a:stretch/>
        </p:blipFill>
        <p:spPr>
          <a:xfrm>
            <a:off x="1913040" y="2349360"/>
            <a:ext cx="1060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вершенствование прибор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сложный микроскоп появился в 17 в. благодаря К. Дреббелю. Р. Гук его усовершенствов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тель А.Левенгук с помощью микроскопа открыл огромный мир микроорганизм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8" descr="Картинки по запросу микроскоп дреббеля"/>
          <p:cNvPicPr/>
          <p:nvPr/>
        </p:nvPicPr>
        <p:blipFill>
          <a:blip r:embed="rId1"/>
          <a:stretch/>
        </p:blipFill>
        <p:spPr>
          <a:xfrm>
            <a:off x="901800" y="2852640"/>
            <a:ext cx="107316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ello_html_69102b2c.jpg"/>
          <p:cNvPicPr/>
          <p:nvPr/>
        </p:nvPicPr>
        <p:blipFill>
          <a:blip r:embed="rId2"/>
          <a:stretch/>
        </p:blipFill>
        <p:spPr>
          <a:xfrm>
            <a:off x="3184560" y="4797360"/>
            <a:ext cx="744480" cy="115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ello_html_m741331f6.jpg"/>
          <p:cNvPicPr/>
          <p:nvPr/>
        </p:nvPicPr>
        <p:blipFill>
          <a:blip r:embed="rId3"/>
          <a:stretch/>
        </p:blipFill>
        <p:spPr>
          <a:xfrm>
            <a:off x="5292720" y="3789360"/>
            <a:ext cx="1177920" cy="13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Похожее изображение"/>
          <p:cNvPicPr/>
          <p:nvPr/>
        </p:nvPicPr>
        <p:blipFill>
          <a:blip r:embed="rId4"/>
          <a:stretch/>
        </p:blipFill>
        <p:spPr>
          <a:xfrm>
            <a:off x="1042920" y="4797360"/>
            <a:ext cx="98604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2" descr="Картинки по запросу р. гук картинки"/>
          <p:cNvPicPr/>
          <p:nvPr/>
        </p:nvPicPr>
        <p:blipFill>
          <a:blip r:embed="rId5"/>
          <a:stretch/>
        </p:blipFill>
        <p:spPr>
          <a:xfrm>
            <a:off x="3056040" y="285264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охожее изображение"/>
          <p:cNvPicPr/>
          <p:nvPr/>
        </p:nvPicPr>
        <p:blipFill>
          <a:blip r:embed="rId6"/>
          <a:stretch/>
        </p:blipFill>
        <p:spPr>
          <a:xfrm>
            <a:off x="7421400" y="3860640"/>
            <a:ext cx="131472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4960" y="316080"/>
            <a:ext cx="797868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Устройство микроскоп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908000" y="907920"/>
          <a:ext cx="6716880" cy="5699160"/>
        </p:xfrm>
        <a:graphic>
          <a:graphicData uri="http://schemas.openxmlformats.org/drawingml/2006/table">
            <a:tbl>
              <a:tblPr/>
              <a:tblGrid>
                <a:gridCol w="1998720"/>
                <a:gridCol w="47181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микроскоп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 чего нужн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ля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ивает изображение, которое получено от объекти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и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печивает увеличение мелкого предме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бу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трубка, соединяет объектив 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ля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нт настр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нимает и опускает тубус, позволяет приближать и отдалять предмет исследова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ный стол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ём размещается предмет рассмотр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гает направлять свет в отверстии на предметном столик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2" name="Picture 60" descr="Похожее изображение"/>
          <p:cNvPicPr/>
          <p:nvPr/>
        </p:nvPicPr>
        <p:blipFill>
          <a:blip r:embed="rId1"/>
          <a:stretch/>
        </p:blipFill>
        <p:spPr>
          <a:xfrm>
            <a:off x="324000" y="115920"/>
            <a:ext cx="8539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Домашние опыты по созданию прибора для увеличения предметов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с прозрачной плёноч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: текст увеличивается, но способ не удобен, т.к. капелька все время соскальзыва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23800" y="2060640"/>
            <a:ext cx="2536920" cy="169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19-02-2018-5524"/>
          <p:cNvPicPr/>
          <p:nvPr/>
        </p:nvPicPr>
        <p:blipFill>
          <a:blip r:embed="rId2"/>
          <a:stretch/>
        </p:blipFill>
        <p:spPr>
          <a:xfrm>
            <a:off x="3633840" y="2349360"/>
            <a:ext cx="2450880" cy="16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19-02-2018-5526"/>
          <p:cNvPicPr/>
          <p:nvPr/>
        </p:nvPicPr>
        <p:blipFill>
          <a:blip r:embed="rId3"/>
          <a:stretch/>
        </p:blipFill>
        <p:spPr>
          <a:xfrm>
            <a:off x="6740640" y="2997360"/>
            <a:ext cx="2266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7280" y="295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 Опыт с луп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: одна лупа текст увеличивает, но две дают размытое изображение и перевернутый тек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19-02-2018-5531"/>
          <p:cNvPicPr/>
          <p:nvPr/>
        </p:nvPicPr>
        <p:blipFill>
          <a:blip r:embed="rId1"/>
          <a:stretch/>
        </p:blipFill>
        <p:spPr>
          <a:xfrm>
            <a:off x="1757520" y="981000"/>
            <a:ext cx="2598480" cy="173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19-02-2018-5533"/>
          <p:cNvPicPr/>
          <p:nvPr/>
        </p:nvPicPr>
        <p:blipFill>
          <a:blip r:embed="rId2"/>
          <a:stretch/>
        </p:blipFill>
        <p:spPr>
          <a:xfrm>
            <a:off x="5508720" y="1700280"/>
            <a:ext cx="28242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Работа с ученическим микроскопо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школьный микроскоп не дает полную картину о жизни микроорганиз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19-02-2018-5534"/>
          <p:cNvPicPr/>
          <p:nvPr/>
        </p:nvPicPr>
        <p:blipFill>
          <a:blip r:embed="rId1"/>
          <a:stretch/>
        </p:blipFill>
        <p:spPr>
          <a:xfrm>
            <a:off x="3600360" y="162864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7667640" y="189000"/>
            <a:ext cx="1282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6T10:42:51Z</dcterms:created>
  <dc:creator>Семья Кравченко</dc:creator>
  <dc:description/>
  <dc:language>en-US</dc:language>
  <cp:lastModifiedBy>Rita</cp:lastModifiedBy>
  <dcterms:modified xsi:type="dcterms:W3CDTF">2019-11-25T18:03:31Z</dcterms:modified>
  <cp:revision>23</cp:revision>
  <dc:subject/>
  <dc:title>Исследовательская работа  «Микроскоп и его возможности»</dc:title>
</cp:coreProperties>
</file>