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757-BB46-49B2-9830-703082BB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360-3BBD-47AB-A03B-324DA16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11E-D8DF-4446-BD43-6D9577FF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268-3338-4FFC-8BE3-08624385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8B2-CE2D-4A8F-A804-BBFA50DD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39C2-0483-4E2C-9B53-FC2DB53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E680-E89E-462C-9B2E-219A30D0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C6D-DE76-4131-BD0E-500DD8C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BBA8-7B18-4D2A-AC27-3004470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7F26-4962-4532-80D9-54332109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87BE-BC86-4133-85F8-8F9EC96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17D-0146-4DD4-AE8F-DE21642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5912-7C47-4667-A619-DA9DF9B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D8D1-A668-4694-80B8-7DBC7EF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27BC-46B0-4C50-B8E5-E180456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A9F5-547E-471C-8DF2-EE3B886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8E64-CBA8-4F73-A321-8433C9EB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B08-7CD5-49E3-97E6-C55112C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BDF-A6F3-4669-B024-6066275C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0FF-95B5-4C0D-BF64-9D19D3F8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B05-2034-420B-B195-D7F3FC8F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BE1-CA77-4C46-B7E8-4B03577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C16-7BAC-49D2-8186-12509653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5C1-38DB-480C-B952-314F67E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4426-C767-426D-8650-3A81D610AA7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B1B6-5F61-4BF1-9B10-3DFC22777BB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1390"/>
          <p:cNvPicPr/>
          <p:nvPr/>
        </p:nvPicPr>
        <p:blipFill>
          <a:blip r:embed="rId1"/>
          <a:stretch/>
        </p:blipFill>
        <p:spPr>
          <a:xfrm>
            <a:off x="1116000" y="620640"/>
            <a:ext cx="7416720" cy="5329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 flipV="1" rot="10800000">
            <a:off x="1402920" y="1254240"/>
            <a:ext cx="66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лёнок увидел множество птиц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images (1)"/>
          <p:cNvPicPr/>
          <p:nvPr/>
        </p:nvPicPr>
        <p:blipFill>
          <a:blip r:embed="rId1"/>
          <a:stretch/>
        </p:blipFill>
        <p:spPr>
          <a:xfrm>
            <a:off x="1332000" y="836640"/>
            <a:ext cx="6696000" cy="532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1743120" y="4128840"/>
            <a:ext cx="62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ёл живёт в одиночестве – такова его доля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743120" y="4417920"/>
            <a:ext cx="62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3" descr="images (2)"/>
          <p:cNvPicPr/>
          <p:nvPr/>
        </p:nvPicPr>
        <p:blipFill>
          <a:blip r:embed="rId1"/>
          <a:stretch/>
        </p:blipFill>
        <p:spPr>
          <a:xfrm>
            <a:off x="1116000" y="836640"/>
            <a:ext cx="6553080" cy="5184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116000" y="49435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й-ай, они украли у нас ед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orel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102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1547640" y="1123920"/>
            <a:ext cx="655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18728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ак бы орёл ни был голоден, он непременно должен поделиться частью своей добычи с птицами, живущими по соседств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2c20ba66ab3b670c1e958255a2dd5175"/>
          <p:cNvPicPr/>
          <p:nvPr/>
        </p:nvPicPr>
        <p:blipFill>
          <a:blip r:embed="rId1"/>
          <a:stretch/>
        </p:blipFill>
        <p:spPr>
          <a:xfrm>
            <a:off x="684360" y="1341360"/>
            <a:ext cx="7991280" cy="5164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684360" y="5403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 такой высоте они не в силах найти себе пропитание, и им следует помогат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684360" y="693720"/>
            <a:ext cx="813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619280" y="1890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6" descr="1320853687_050519-308"/>
          <p:cNvPicPr/>
          <p:nvPr/>
        </p:nvPicPr>
        <p:blipFill>
          <a:blip r:embed="rId1"/>
          <a:stretch/>
        </p:blipFill>
        <p:spPr>
          <a:xfrm>
            <a:off x="1187280" y="2133720"/>
            <a:ext cx="6667560" cy="4314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611280" y="36396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сяк, кто желает иметь верных друзей, должен быть добрым и терпимым, проявляя внимание к чужим нуждам. Почёт и уважение добываются не силой, а великодушием и готовностью поделиться с нуждающимся последним куск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06:58Z</dcterms:created>
  <dc:creator>*</dc:creator>
  <dc:description/>
  <dc:language>en-US</dc:language>
  <cp:lastModifiedBy>Admin</cp:lastModifiedBy>
  <dcterms:modified xsi:type="dcterms:W3CDTF">2019-11-14T06:47:41Z</dcterms:modified>
  <cp:revision>8</cp:revision>
  <dc:subject/>
  <dc:title>Слайд 1</dc:title>
</cp:coreProperties>
</file>