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8024-4A44-4967-8A3A-2424ACDE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49AE-2A4D-47B9-9DDB-EE29F3B9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EC4B-46CE-440B-8867-716A4887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E42-2DC0-45A8-A6B3-A3BBD014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34AF-A013-4E17-AFFE-F462E4D2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83B3-BF10-4E08-95AD-C209704E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AED4-AF18-4488-AE53-9AEDD532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6A68-F407-499C-A844-C2DF77FB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8F43-ECC0-403B-AA50-8612337F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6550-0365-4604-89B7-97C394FA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FB55-4065-47C8-8957-1011EB9C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15A0-FF49-481D-8B6C-092A77CC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66F4-BD12-4F35-90D3-6DF6413E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E04F-D20D-41A4-AD2F-C885DC8A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7551-BC3F-461F-BF75-7DC0175C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DB34-7ACC-4359-8CCB-BBA9E9EF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555D-86F9-4E0B-A146-AD805D5A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7714-2E53-420F-A83D-DFFC4E77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6447-533B-4DE4-8ECC-177FAFFB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9B5-5567-4AEA-AC3E-AC3AF813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4956-DF0C-42F0-862D-2087BF52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2F7F-2F93-4AD6-B6D5-7AD8F095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3BA-9257-45A6-961B-F21B3648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926-37BB-462A-927A-34D23321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6661-FDFE-42DC-A1E2-4B274233EFB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>
                  <a:gd name="textAreaLeft" fmla="*/ 0 w 2116080"/>
                  <a:gd name="textAreaRight" fmla="*/ 2116440 w 211608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3480"/>
                  <a:gd name="textAreaBottom" fmla="*/ 843480 h 8434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8800"/>
                  <a:gd name="textAreaBottom" fmla="*/ 3269520 h 32688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96E8-5B47-4AEC-B214-991CF42DD06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1390"/>
          <p:cNvPicPr/>
          <p:nvPr/>
        </p:nvPicPr>
        <p:blipFill>
          <a:blip r:embed="rId1"/>
          <a:stretch/>
        </p:blipFill>
        <p:spPr>
          <a:xfrm>
            <a:off x="1116000" y="620640"/>
            <a:ext cx="7416720" cy="5329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 flipV="1" rot="10800000">
            <a:off x="1402920" y="1254240"/>
            <a:ext cx="66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Орлёнок увидел множество птиц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images (1)"/>
          <p:cNvPicPr/>
          <p:nvPr/>
        </p:nvPicPr>
        <p:blipFill>
          <a:blip r:embed="rId1"/>
          <a:stretch/>
        </p:blipFill>
        <p:spPr>
          <a:xfrm>
            <a:off x="1332000" y="836640"/>
            <a:ext cx="6696000" cy="53290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4"/>
          <p:cNvSpPr/>
          <p:nvPr/>
        </p:nvSpPr>
        <p:spPr>
          <a:xfrm>
            <a:off x="1743120" y="4128840"/>
            <a:ext cx="621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Орёл живёт в одиночестве – такова его доля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1743120" y="4417920"/>
            <a:ext cx="62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3" descr="images (2)"/>
          <p:cNvPicPr/>
          <p:nvPr/>
        </p:nvPicPr>
        <p:blipFill>
          <a:blip r:embed="rId1"/>
          <a:stretch/>
        </p:blipFill>
        <p:spPr>
          <a:xfrm>
            <a:off x="1116000" y="836640"/>
            <a:ext cx="6553080" cy="5184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1116000" y="49435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Ай-ай, они украли у нас еду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7" descr="orel"/>
          <p:cNvPicPr/>
          <p:nvPr/>
        </p:nvPicPr>
        <p:blipFill>
          <a:blip r:embed="rId1"/>
          <a:stretch/>
        </p:blipFill>
        <p:spPr>
          <a:xfrm>
            <a:off x="755640" y="765000"/>
            <a:ext cx="7777080" cy="51022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8"/>
          <p:cNvSpPr/>
          <p:nvPr/>
        </p:nvSpPr>
        <p:spPr>
          <a:xfrm>
            <a:off x="1547640" y="1123920"/>
            <a:ext cx="655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1187280" y="47628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Как бы орёл ни был голоден, он непременно должен поделиться частью своей добычи с птицами, живущими по соседств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2c20ba66ab3b670c1e958255a2dd5175"/>
          <p:cNvPicPr/>
          <p:nvPr/>
        </p:nvPicPr>
        <p:blipFill>
          <a:blip r:embed="rId1"/>
          <a:stretch/>
        </p:blipFill>
        <p:spPr>
          <a:xfrm>
            <a:off x="684360" y="1341360"/>
            <a:ext cx="7991280" cy="51642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684360" y="540360"/>
            <a:ext cx="81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а такой высоте они не в силах найти себе пропитание, и им следует помогать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684360" y="693720"/>
            <a:ext cx="813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619280" y="18900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6" descr="1320853687_050519-308"/>
          <p:cNvPicPr/>
          <p:nvPr/>
        </p:nvPicPr>
        <p:blipFill>
          <a:blip r:embed="rId1"/>
          <a:stretch/>
        </p:blipFill>
        <p:spPr>
          <a:xfrm>
            <a:off x="1187280" y="2133720"/>
            <a:ext cx="6667560" cy="43146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7"/>
          <p:cNvSpPr/>
          <p:nvPr/>
        </p:nvSpPr>
        <p:spPr>
          <a:xfrm>
            <a:off x="611280" y="363960"/>
            <a:ext cx="820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сяк, кто желает иметь верных друзей, должен быть добрым и терпимым, проявляя внимание к чужим нуждам. Почёт и уважение добываются не силой, а великодушием и готовностью поделиться с нуждающимся последним куско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7:06:58Z</dcterms:created>
  <dc:creator>*</dc:creator>
  <dc:description/>
  <dc:language>en-US</dc:language>
  <cp:lastModifiedBy>Admin</cp:lastModifiedBy>
  <dcterms:modified xsi:type="dcterms:W3CDTF">2019-11-14T06:47:41Z</dcterms:modified>
  <cp:revision>8</cp:revision>
  <dc:subject/>
  <dc:title>Слайд 1</dc:title>
</cp:coreProperties>
</file>