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E5C8-2A3D-4822-AF88-DD5E54E7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EC96-5F5C-4D1C-95B9-5D71E5A4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CC29-64F6-4AC3-AC77-6BC64371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BA63-E856-456D-9CC3-C6A9C689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F50A-A899-4E08-9FCC-56929BE7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9E58-F2A7-4B4D-BAAE-35C83DD2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735E-61C1-43FA-971D-0C524736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0A18-25A6-4634-B205-A8ED057A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698C-07EE-4773-8185-EA000D70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5F1B-F9F4-4644-B451-AC322F91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E0D8-4757-4621-822A-1D7751CE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CE83-3363-4B70-843F-28F5CCB2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5342-503A-496C-AFDF-3A78942F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1B95-C09D-42EB-883A-085310FA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F818-5AA8-4C33-9A74-7ADE11EA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3189-2122-43AE-B223-FDA0D4CC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99CC-FDCF-4F08-8A6F-DE4DB59A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B94A1-ED23-4F44-973D-767DAD94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AEC76-3A9E-476A-9364-8DC1FB2D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311A1-3630-423C-9A7C-8162F028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8422F-85F4-45E6-AE40-DB240A1B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C07F2-3186-4626-BEE2-3D2906D0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6048-55E7-4691-BE50-8D8D8D31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A33E6-8DFC-49BF-BA2C-A8E99D72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A9744-180D-477A-B52B-C26B24D4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F94BD-C797-4753-8F9E-57AE0C62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4EB2D-BB25-480A-B1D6-21194B5B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D8F83-8333-497D-AAC9-9343B44C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0405B-2AFD-4F03-8F49-C63CED23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D8DD8-26DE-4CFA-BCA4-57710969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99AEE-8C5D-4B0F-820B-951A297B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C6669-BC98-4211-9F6D-BB92ECCE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93630-D967-4C3C-834B-E26452D8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3976-2FB5-4A24-8AE0-D55A74B4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E8A92-BE10-4623-BA87-743A0C39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61103-086A-43F1-9198-A69C29C9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673F1-CF6E-44AC-9FE8-E3B39E14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6F178-FDB3-4F6B-9444-93D42E65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03C89-07B8-4DA1-9BBD-A2A37FB5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EB293-EF37-4E92-A875-DB4B100D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9E3D6-6DDC-4CA4-B991-73EF74E4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DA585-868F-4782-AD7C-8ABA90C3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B64F9-E62B-4B20-B0D2-557717B28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5A86-57D2-4466-8A3E-9FD1735F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D1A-1652-437E-A726-188BEDAE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371E-5EE7-4708-8471-F2DCC365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B3CF-FA12-4CCB-A200-B51CFCF8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4A21-27FF-4E3D-8F9E-975722F1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5EE5-6CBC-40A7-8B6A-8419DFB84D77}" type="slidenum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B29C-C367-41F6-BE5E-E30DE4F0518A}" type="slidenum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1E19-E63C-4C30-9E4A-AE41A226B7BA}" type="slidenum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0939-662F-4C21-BD3E-DC9A80DAD103}" type="slidenum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C:\Documents and Settings\Иятта\Рабочий стол\ЭТО СРОЧНО\Новая папка\755ad610193c.png"/>
          <p:cNvPicPr/>
          <p:nvPr/>
        </p:nvPicPr>
        <p:blipFill>
          <a:blip r:embed="rId1"/>
          <a:stretch/>
        </p:blipFill>
        <p:spPr>
          <a:xfrm>
            <a:off x="5357880" y="3000240"/>
            <a:ext cx="3786120" cy="415764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10"/>
          <p:cNvSpPr/>
          <p:nvPr/>
        </p:nvSpPr>
        <p:spPr>
          <a:xfrm>
            <a:off x="209520" y="857160"/>
            <a:ext cx="72421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e3819"/>
                </a:solidFill>
                <a:latin typeface="Book Antiqua"/>
              </a:rPr>
              <a:t>Как определить размер стихотворения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e3819"/>
                </a:solidFill>
                <a:latin typeface="Book Antiqua"/>
              </a:rPr>
              <a:t>Мастер-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1"/>
          <p:cNvSpPr/>
          <p:nvPr/>
        </p:nvSpPr>
        <p:spPr>
          <a:xfrm>
            <a:off x="209520" y="5022720"/>
            <a:ext cx="558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e3819"/>
                </a:solidFill>
                <a:latin typeface="Arial"/>
              </a:rPr>
              <a:t>Аавтор: Миннебаева Гульнара Шамиловн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e3819"/>
                </a:solidFill>
                <a:latin typeface="Arial"/>
              </a:rPr>
              <a:t>Учитель русского языка и литерату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e3819"/>
                </a:solidFill>
                <a:latin typeface="Arial"/>
              </a:rPr>
              <a:t>первой квалификационной категор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e3819"/>
                </a:solidFill>
                <a:latin typeface="Arial"/>
              </a:rPr>
              <a:t>МБОУ «Многопрофильный лицей имени А.М. Булатова п.г.т. Кукмор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Сравните два отрывка </a:t>
            </a:r>
            <a:br>
              <a:rPr sz="4000"/>
            </a:br>
            <a:r>
              <a:rPr b="1" i="1" lang="ru-RU" sz="40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из стихотворений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Мчатся тучи, вьются туч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Невидимкою лу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Освещает снег летуч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Мутно небо, ночь мут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ru-RU" sz="20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А.С. Пушкин  «Бес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Золотистого мёда струя из бутылки текла</a:t>
            </a:r>
            <a:br>
              <a:rPr sz="2000"/>
            </a:br>
            <a:r>
              <a:rPr b="1" lang="ru-RU" sz="20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Так тягуче и долго, что молвить хозяйка успела:</a:t>
            </a:r>
            <a:br>
              <a:rPr sz="2000"/>
            </a:br>
            <a:r>
              <a:rPr b="1" lang="ru-RU" sz="20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Здесь, в печальной Тавриде, куда нас судьба занесла,</a:t>
            </a:r>
            <a:br>
              <a:rPr sz="2000"/>
            </a:br>
            <a:r>
              <a:rPr b="1" lang="ru-RU" sz="20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Мы совсем не скучаем — и через плечо погляде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1" lang="ru-RU" sz="20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О.Мандельшта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2" descr="C:\Documents and Settings\Иятта\Рабочий стол\ЭТО СРОЧНО\Новая папка\чернильница.gif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7308720" y="3314880"/>
            <a:ext cx="161928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:\Documents and Settings\Иятта\Рабочий стол\ЭТО СРОЧНО\Новая папка\чернильница.gif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7164360" y="3213000"/>
            <a:ext cx="1619280" cy="31910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"/>
          <p:cNvSpPr/>
          <p:nvPr/>
        </p:nvSpPr>
        <p:spPr>
          <a:xfrm>
            <a:off x="539640" y="1844640"/>
            <a:ext cx="6985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Стихотворный</a:t>
            </a:r>
            <a:r>
              <a:rPr b="0" lang="ru-RU" sz="4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размер</a:t>
            </a:r>
            <a:r>
              <a:rPr b="0" lang="ru-RU" sz="36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 –это определенный порядок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в котором размещаются в стопе ударные и безударные слог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TextBox 1" descr=""/>
          <p:cNvPicPr/>
          <p:nvPr/>
        </p:nvPicPr>
        <p:blipFill>
          <a:blip r:embed="rId1"/>
          <a:stretch/>
        </p:blipFill>
        <p:spPr>
          <a:xfrm>
            <a:off x="274680" y="146160"/>
            <a:ext cx="6138720" cy="8348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4"/>
          <p:cNvSpPr/>
          <p:nvPr/>
        </p:nvSpPr>
        <p:spPr>
          <a:xfrm>
            <a:off x="312840" y="915840"/>
            <a:ext cx="814680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Ямб -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как бы спускающийся по ступеням (ударяемый слог по тону ниже неударяемого), свободен, ясен, тверд и прекрасно передает человеческую речь, напряженность человеческой вол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Хорей –</a:t>
            </a:r>
            <a:r>
              <a:rPr b="0" lang="ru-RU" sz="24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поднимающийся, окрыленный, всегда взволнован и то растроган, то смешлив, его область — п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Дактиль – </a:t>
            </a:r>
            <a:r>
              <a:rPr b="1" lang="ru-RU" sz="2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опираясь на первый ударяемый слог и качая два неударяемые как пальма свою верхушку, мощен, торжественен, говорит о стихиях в их покое, о деяниях богов и герое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Амфибрахий – </a:t>
            </a:r>
            <a:r>
              <a:rPr b="1" lang="ru-RU" sz="2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баюкающий и прозрачный, говорит о покое божественно легкого и мудрого быт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Анапест -</a:t>
            </a:r>
            <a:r>
              <a:rPr b="0" lang="ru-RU" sz="24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его противоположность, стремителен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порывист, это стихии в движенье, напряжень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нечеловеческой страсти.</a:t>
            </a:r>
            <a:r>
              <a:rPr b="0" lang="ru-RU" sz="24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C:\Documents and Settings\Иятта\Рабочий стол\ЭТО СРОЧНО\Новая папка\чернильница.gif"/>
          <p:cNvPicPr/>
          <p:nvPr/>
        </p:nvPicPr>
        <p:blipFill>
          <a:blip r:embed="rId2">
            <a:lum bright="-40000"/>
          </a:blip>
          <a:stretch/>
        </p:blipFill>
        <p:spPr>
          <a:xfrm>
            <a:off x="7308720" y="3314880"/>
            <a:ext cx="161928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:\Documents and Settings\Иятта\Рабочий стол\ЭТО СРОЧНО\Новая папка\чернильница.gif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7164360" y="3213000"/>
            <a:ext cx="1619280" cy="3191040"/>
          </a:xfrm>
          <a:prstGeom prst="rect">
            <a:avLst/>
          </a:prstGeom>
          <a:ln w="0">
            <a:noFill/>
          </a:ln>
        </p:spPr>
      </p:pic>
      <p:sp>
        <p:nvSpPr>
          <p:cNvPr id="188" name="TextBox 1"/>
          <p:cNvSpPr/>
          <p:nvPr/>
        </p:nvSpPr>
        <p:spPr>
          <a:xfrm>
            <a:off x="250920" y="549360"/>
            <a:ext cx="72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Алгоритм определения стихотворного разме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2"/>
          <p:cNvSpPr/>
          <p:nvPr/>
        </p:nvSpPr>
        <p:spPr>
          <a:xfrm>
            <a:off x="250920" y="2149560"/>
            <a:ext cx="741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934b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Поставьте ударение во всех словах, кроме предлогов и союз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2. Пронумеруйте все гласные в каждой стро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3. Выпишите номера ударных глас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Только четные или только нечетные – двусложный размер </a:t>
            </a:r>
            <a:r>
              <a:rPr b="1" lang="en-US" sz="18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|--|</a:t>
            </a:r>
            <a:r>
              <a:rPr b="1" lang="ru-RU" sz="18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Четные и нечетные вместе – трехсложный размер</a:t>
            </a:r>
            <a:r>
              <a:rPr b="1" lang="en-US" sz="18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 |---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34b2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Обозначьте гласные черточками, поделите в зависимости от сочетаемости четных и нечетных  ударных слог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34b2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Определите размер стихотворения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C:\Documents and Settings\Иятта\Рабочий стол\ЭТО СРОЧНО\Новая папка\свиток.gif"/>
          <p:cNvPicPr/>
          <p:nvPr/>
        </p:nvPicPr>
        <p:blipFill>
          <a:blip r:embed="rId1"/>
          <a:stretch/>
        </p:blipFill>
        <p:spPr>
          <a:xfrm>
            <a:off x="5857920" y="3143160"/>
            <a:ext cx="3029040" cy="3205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C:\Documents and Settings\Иятта\Рабочий стол\ЭТО СРОЧНО\Новая папка\чернильница.gif"/>
          <p:cNvPicPr/>
          <p:nvPr/>
        </p:nvPicPr>
        <p:blipFill>
          <a:blip r:embed="rId2">
            <a:lum bright="-40000"/>
          </a:blip>
          <a:stretch/>
        </p:blipFill>
        <p:spPr>
          <a:xfrm>
            <a:off x="6708600" y="3317760"/>
            <a:ext cx="16192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C:\Documents and Settings\Иятта\Рабочий стол\ЭТО СРОЧНО\Новая папка\свиток.gif"/>
          <p:cNvPicPr/>
          <p:nvPr/>
        </p:nvPicPr>
        <p:blipFill>
          <a:blip r:embed="rId1"/>
          <a:stretch/>
        </p:blipFill>
        <p:spPr>
          <a:xfrm>
            <a:off x="5857920" y="3143160"/>
            <a:ext cx="3029040" cy="3205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C:\Documents and Settings\Иятта\Рабочий стол\ЭТО СРОЧНО\Новая папка\чернильница.gif"/>
          <p:cNvPicPr/>
          <p:nvPr/>
        </p:nvPicPr>
        <p:blipFill>
          <a:blip r:embed="rId2">
            <a:lum bright="-40000"/>
          </a:blip>
          <a:stretch/>
        </p:blipFill>
        <p:spPr>
          <a:xfrm>
            <a:off x="6708600" y="3317760"/>
            <a:ext cx="16192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C:\Documents and Settings\Иятта\Рабочий стол\ЭТО СРОЧНО\Новая папка\чернильница.gif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7072200" y="2714760"/>
            <a:ext cx="1619280" cy="3190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C:\Documents and Settings\Иятта\Рабочий стол\ЭТО СРОЧНО\Новая папка\DSC07710-conv-ok-sq-s-web.jpg"/>
          <p:cNvPicPr/>
          <p:nvPr/>
        </p:nvPicPr>
        <p:blipFill>
          <a:blip r:embed="rId2"/>
          <a:stretch/>
        </p:blipFill>
        <p:spPr>
          <a:xfrm>
            <a:off x="6053040" y="3767040"/>
            <a:ext cx="3103560" cy="310356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"/>
          <p:cNvSpPr/>
          <p:nvPr/>
        </p:nvSpPr>
        <p:spPr>
          <a:xfrm>
            <a:off x="684360" y="2205000"/>
            <a:ext cx="678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7T15:16:29Z</dcterms:created>
  <dc:creator>Iyatta</dc:creator>
  <dc:description/>
  <dc:language>en-US</dc:language>
  <cp:lastModifiedBy>ЛЁША</cp:lastModifiedBy>
  <dcterms:modified xsi:type="dcterms:W3CDTF">2019-11-25T17:14:20Z</dcterms:modified>
  <cp:revision>47</cp:revision>
  <dc:subject/>
  <dc:title>Слайд 1</dc:title>
</cp:coreProperties>
</file>