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054-FECD-4D3F-BD7E-D24D4B54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6AB-A0E9-4E73-8194-9C2FAC93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F76-E010-4BDB-8F7F-8CE84C44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3E1-D254-41DA-BBF4-9DE049CA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751-8D1D-4D14-8FED-BEC3099D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8913-2758-4793-B44F-BDAE6BE7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2ECE-69C6-417B-AF2B-62C28197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C5D-15BD-4D68-85E1-BC7CE463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BC7-6C0F-4EA7-9D39-66DE6478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E93F-B26D-48F0-A209-92FABE29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F5B-F683-4070-8AD9-A191F387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463-C684-4518-BA8F-6EBFC958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E927-37AF-410C-8D33-ECCA8C2AC1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timeout.ru/pix/30090.jpeg&amp;imgrefurl=http://eyange.livejournal.com/tag/%25D1%2581%25D0%25BA%25D0%25B0%25D0%25B7%25D0%25BA%25D0%25B8&amp;h=213&amp;w=263&amp;sz=25&amp;tbnid=lliS0SSiylTrfM:&amp;tbnh=91&amp;tbnw=112&amp;prev=/images%3Fq%3D%25D0%25BA%25D0%25B0%25D1%2580%25D1%2582%25D0%25B8%25D0%25BD%25D0%25BA%25D0%25B8%2B%25D0%25B8%25D0%25B7%2B%25D0%25BC%25D1%2583%25D0%25BB%25D1%258C%25D1%2582%25D0%25B8%25D0%25BA%25D0%25B0%2B%25D0%25BC%25D0%25B5%25D1%2580%25D1%2580%25D0%25B8%2B%25D0%25BF%25D0%25BE%25D0%25BF%25D0%25BF%25D0%25B8%25D0%25BD%25D1%2581&amp;hl=ru&amp;usg=__oPclW_Or2z72j9VtSkNORcvXXmo=&amp;sa=X&amp;ei=jBIaTJSqGsaWOJ7U3akK&amp;ved=0CCAQ9QEwAA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«ЦРР-ДЕТСКИЙ САД № 54 « МАЛЫ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642760"/>
            <a:ext cx="73436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ЕДМЕТНЫХ И ОРУДИЙНЫХ ДЕЙСТВИЙ ДЕТЕЙ РАННЕ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 : Володина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ушки. Процессуальная иг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Ы- ОРУ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-практическая деятельность всегда направлена на какой-то результат и регулируется этим результа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СКИЕ ИГР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с игрушками не предполагают  результат и осуществляются без какой-либо определенной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55640" y="1484280"/>
            <a:ext cx="738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цессуальная 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тяжении второго года жизни дети усваиваю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назначение предме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  действия с «настоящими» предметами на игрушки  , появляются действия с игрушками, как с «настоящими предметам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истемный набор действий, имеющихся в репертуаре малыша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бенок либо без конца выполняет одно и то же дей­ствие, либо осуществляет несколько действий без какой-либо логической связ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цессуальная 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ыс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ой игры заключается в самом процессе действия, поэтому ее называет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цессу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такой игры и ее отличие от более поздних видов игровой деятельности заключаются в следующ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ообраз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дноактность» и разрозненность игровых действий; отсутствие смысловой связи между ни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м игровых действий является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ражание взрослом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ичего нового малыш не изобретает, он лишь воспроизводит с помощью разных игрушек то, что уже делал вместе со взросл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ом для игры служат только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стические игрушки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бражающие реальные предметы, которые находятся в поле зрен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ая эмоциональная включенность в игр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ребенок часто отвлекается, бросает начатое действие; игровые действия осуществляются равнодушно и как бы автоматически, без каких-либо ярких эмоций и пережи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2">
            <a:hlinkClick r:id="rId1"/>
          </p:cNvPr>
          <p:cNvSpPr/>
          <p:nvPr/>
        </p:nvSpPr>
        <p:spPr>
          <a:xfrm>
            <a:off x="4019400" y="2981160"/>
            <a:ext cx="11052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4019400" y="2981160"/>
            <a:ext cx="11052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2"/>
          <a:stretch/>
        </p:blipFill>
        <p:spPr>
          <a:xfrm>
            <a:off x="2378160" y="1103400"/>
            <a:ext cx="1639800" cy="2475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3"/>
          <a:stretch/>
        </p:blipFill>
        <p:spPr>
          <a:xfrm>
            <a:off x="7016760" y="2425680"/>
            <a:ext cx="1779480" cy="24811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"/>
          <p:cNvPicPr/>
          <p:nvPr/>
        </p:nvPicPr>
        <p:blipFill>
          <a:blip r:embed="rId4"/>
          <a:stretch/>
        </p:blipFill>
        <p:spPr>
          <a:xfrm>
            <a:off x="201600" y="262080"/>
            <a:ext cx="1719360" cy="2358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"/>
          <p:cNvPicPr/>
          <p:nvPr/>
        </p:nvPicPr>
        <p:blipFill>
          <a:blip r:embed="rId5"/>
          <a:stretch/>
        </p:blipFill>
        <p:spPr>
          <a:xfrm>
            <a:off x="217440" y="4797360"/>
            <a:ext cx="2333520" cy="16826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"/>
          <p:cNvPicPr/>
          <p:nvPr/>
        </p:nvPicPr>
        <p:blipFill>
          <a:blip r:embed="rId6"/>
          <a:stretch/>
        </p:blipFill>
        <p:spPr>
          <a:xfrm>
            <a:off x="4578480" y="260280"/>
            <a:ext cx="2011320" cy="28227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1384200" y="3533760"/>
            <a:ext cx="624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7" descr=""/>
          <p:cNvPicPr/>
          <p:nvPr/>
        </p:nvPicPr>
        <p:blipFill>
          <a:blip r:embed="rId7"/>
          <a:stretch/>
        </p:blipFill>
        <p:spPr>
          <a:xfrm>
            <a:off x="3859200" y="4354560"/>
            <a:ext cx="17240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ая ситуация развит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200016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го года жиз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ситуация развития ребенка начинает меня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 ( необходимость  практической помощи взросло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ивно (нуждается в оценке взрослого, его внимании и отношени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тивореч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 свое разрешение в новой социальной ситуации развития ребенка, которая представляет соб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совместную деятельность ребенка и взросл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ая ситуация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7176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м году жизн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м  совместной деятельности ребенка и взрослого уже становится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воение общественно-выработанных способов употребления предметов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сотрудничество уже не сводится к прямой помощи или к демонстрации предметов. Вместе с предметом взрослый передает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соб действ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ная   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й социальной ситуации развития соответствует и новый тип ведущей деятельности ребенка. Это уже не просто не­специфические манипуляции с вещами, 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ая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метная деятель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ведущей потому, что именно в ней возникают основные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о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ннего возраста, главным из которых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адываются основы наглядно-образного и символического мыш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дифференциация предметно-практической и игровой деятель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ются игровые заме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600" y="1642680"/>
            <a:ext cx="7929720" cy="409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ребенка в предметной деятельности и признание их со стороны взрослых становятся для него мерой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его Я и способом утверждения собственного достоин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появляется отчетливое стремление к достижению результата, продукта свое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этого периода знаменуется кризисом 3-х лет, в котором выражает себя возросшая самостоятельность ребенка и целенаправленность его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видеть,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ная деятельно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 развитие практически всех психических процессов и личности ребенка в це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с тем сама предметная деятельность существенно преобразуется и развивается на протяжении раннего дет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ецифические действия с предмет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714320"/>
            <a:ext cx="40384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ладенческий возра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образные неспецифические манипу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-подражания с соответствующими игруш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тором год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з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оспроизведения показанного действия с предметом детям уже не требуется непременно тот же самый предмет —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является возможность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ереноса действия на другие предм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еренос действ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дного предмета на друг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еренос действ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угую ситу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1571760" y="571680"/>
            <a:ext cx="6429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Я. Гальпериным было введено два вида предметных действий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учно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едметом действуют так, как самой рукой; предмет ста­новится как бы простым удлинением или просто придатком руки)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рудийный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рука подчиняется требованиям орудий­ных приемов, как бы подстраивается под предмет-оруд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при усвоении орудийных операций ребенок начинает действовать одним предметом для получения другого, использовать специфическое движение не для получения какого-то другого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4288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) неспецифическое употребление оруд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овместные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 попытки  специфического   использования   орудий  при   отсутствии сформированного способа его приме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частично-совмест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овладение специфическим способом употребления ору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пок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Перенос действ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 одного предмета на друг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 одной ситуации в друг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ловесное указ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I. Возникновение игрового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бобщенные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деление взрослого как носителя образцов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равнение своего действия с действием взросл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возникновение игрового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изменение социальной ситуации развития «Ребенок-предмет-взросл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10552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23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хема развития предметного действия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в раннем возрасте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ана Д. Б. Элькониным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960" y="662760"/>
            <a:ext cx="8215200" cy="52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своение операционально-технической стороной предметного действия происходит не через прямое прилаживание движений к образцу, содержащемуся в показе взрослого, а в процессе создания ребенком образа действия с предме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образа действия с предметом осуществляется в результате разнообразных про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овение этого образа знаменует собой конец формирования данного предметного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3:28:19Z</dcterms:created>
  <dc:creator>Оо</dc:creator>
  <dc:description/>
  <dc:language>en-US</dc:language>
  <cp:lastModifiedBy>Asus</cp:lastModifiedBy>
  <dcterms:modified xsi:type="dcterms:W3CDTF">2019-11-25T13:21:42Z</dcterms:modified>
  <cp:revision>58</cp:revision>
  <dc:subject/>
  <dc:title>Слайд 1</dc:title>
</cp:coreProperties>
</file>