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F4A1-A360-4980-9DB2-A20D6413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8E7C-9B9F-4CF1-A212-4598AEF7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21C4-9E23-4233-8F1C-562969DC0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3E81-8A1C-49D2-9B5F-CC25847A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B0B6-E1BC-42BB-929F-9B458FC2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EE23-3F91-448C-8A4E-856F38B5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8DF6-1F97-4045-8677-16257A7A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12F6-8CAE-46DE-9CBD-9E8731E2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6CF5-0D12-42AD-9F80-06D61721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148C-7914-48A5-83E9-80A68EB3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10B3-3A84-4602-8E18-5DB501F7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D672-2658-4187-BAB4-C652874C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CB38-AEF4-401A-9DAC-B4CEDAC290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=http://www.timeout.ru/pix/30090.jpeg&amp;imgrefurl=http://eyange.livejournal.com/tag/%25D1%2581%25D0%25BA%25D0%25B0%25D0%25B7%25D0%25BA%25D0%25B8&amp;h=213&amp;w=263&amp;sz=25&amp;tbnid=lliS0SSiylTrfM:&amp;tbnh=91&amp;tbnw=112&amp;prev=/images%3Fq%3D%25D0%25BA%25D0%25B0%25D1%2580%25D1%2582%25D0%25B8%25D0%25BD%25D0%25BA%25D0%25B8%2B%25D0%25B8%25D0%25B7%2B%25D0%25BC%25D1%2583%25D0%25BB%25D1%258C%25D1%2582%25D0%25B8%25D0%25BA%25D0%25B0%2B%25D0%25BC%25D0%25B5%25D1%2580%25D1%2580%25D0%25B8%2B%25D0%25BF%25D0%25BE%25D0%25BF%25D0%25BF%25D0%25B8%25D0%25BD%25D1%2581&amp;hl=ru&amp;usg=__oPclW_Or2z72j9VtSkNORcvXXmo=&amp;sa=X&amp;ei=jBIaTJSqGsaWOJ7U3akK&amp;ved=0CCAQ9QEwAA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Е АВТОНОМНОЕ ДОШКОЛЬНОЕ ОБРАЗОВАТЕЛЬНОЕ УЧРЕЖДЕНИЕ «ЦРР-ДЕТСКИЙ САД № 54 « МАЛЫШ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2642760"/>
            <a:ext cx="734364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ЕДМЕТНЫХ И ОРУДИЙНЫХ ДЕЙСТВИЙ ДЕТЕЙ РАННЕГО ВОЗРА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ИЛА : Володина Т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тель высше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ушки. Процессуальная иг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МЕТЫ- ОРУ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о-практическая деятельность всегда направлена на какой-то результат и регулируется этим результа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СКИЕ ИГРУ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с игрушками не предполагают  результат и осуществляются без какой-либо определенной ц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755640" y="1484280"/>
            <a:ext cx="7380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цессуальная иг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тяжении второго года жизни дети усваивают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е назначение предме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нос  действия с «настоящими» предметами на игрушки  , появляются действия с игрушками, как с «настоящими предметам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системный набор действий, имеющихся в репертуаре малыша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бенок либо без конца выполняет одно и то же дей­ствие, либо осуществляет несколько действий без какой-либо логической связ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цессуальная иг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мыс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ой игры заключается в самом процессе действия, поэтому ее называет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цессуа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такой игры и ее отличие от более поздних видов игровой деятельности заключаются в следующ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нообраз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одноактность» и разрозненность игровых действий; отсутствие смысловой связи между ни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м игровых действий является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ражание взрослому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ничего нового малыш не изобретает, он лишь воспроизводит с помощью разных игрушек то, что уже делал вместе со взрослы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ом для игры служат только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алистические игрушки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бражающие реальные предметы, которые находятся в поле зрения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абая эмоциональная включенность в игру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ребенок часто отвлекается, бросает начатое действие; игровые действия осуществляются равнодушно и как бы автоматически, без каких-либо ярких эмоций и пережи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12">
            <a:hlinkClick r:id="rId1"/>
          </p:cNvPr>
          <p:cNvSpPr/>
          <p:nvPr/>
        </p:nvSpPr>
        <p:spPr>
          <a:xfrm>
            <a:off x="4019400" y="2981160"/>
            <a:ext cx="110520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4"/>
          <p:cNvSpPr/>
          <p:nvPr/>
        </p:nvSpPr>
        <p:spPr>
          <a:xfrm>
            <a:off x="4019400" y="2981160"/>
            <a:ext cx="110520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2"/>
          <a:stretch/>
        </p:blipFill>
        <p:spPr>
          <a:xfrm>
            <a:off x="2378160" y="1103400"/>
            <a:ext cx="1639800" cy="2475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3"/>
          <a:stretch/>
        </p:blipFill>
        <p:spPr>
          <a:xfrm>
            <a:off x="7016760" y="2425680"/>
            <a:ext cx="1779480" cy="24811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"/>
          <p:cNvPicPr/>
          <p:nvPr/>
        </p:nvPicPr>
        <p:blipFill>
          <a:blip r:embed="rId4"/>
          <a:stretch/>
        </p:blipFill>
        <p:spPr>
          <a:xfrm>
            <a:off x="201600" y="262080"/>
            <a:ext cx="1719360" cy="23587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" descr=""/>
          <p:cNvPicPr/>
          <p:nvPr/>
        </p:nvPicPr>
        <p:blipFill>
          <a:blip r:embed="rId5"/>
          <a:stretch/>
        </p:blipFill>
        <p:spPr>
          <a:xfrm>
            <a:off x="217440" y="4797360"/>
            <a:ext cx="2333520" cy="16826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" descr=""/>
          <p:cNvPicPr/>
          <p:nvPr/>
        </p:nvPicPr>
        <p:blipFill>
          <a:blip r:embed="rId6"/>
          <a:stretch/>
        </p:blipFill>
        <p:spPr>
          <a:xfrm>
            <a:off x="4578480" y="260280"/>
            <a:ext cx="2011320" cy="282276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1384200" y="3533760"/>
            <a:ext cx="624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7" descr=""/>
          <p:cNvPicPr/>
          <p:nvPr/>
        </p:nvPicPr>
        <p:blipFill>
          <a:blip r:embed="rId7"/>
          <a:stretch/>
        </p:blipFill>
        <p:spPr>
          <a:xfrm>
            <a:off x="3859200" y="4354560"/>
            <a:ext cx="17240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циальная ситуация развити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200016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ц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го года жизн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ситуация развития ребенка начинает меня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 ( необходимость  практической помощи взрослог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ивно (нуждается в оценке взрослого, его внимании и отношени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тивореч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ит свое разрешение в новой социальной ситуации развития ребенка, которая представляет собой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рудничество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совместную деятельность ребенка и взросл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циальная ситуация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571760"/>
            <a:ext cx="8229600" cy="42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м году жизн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м  совместной деятельности ребенка и взрослого уже становится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воение общественно-выработанных способов употребления предметов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е сотрудничество уже не сводится к прямой помощи или к демонстрации предметов. Вместе с предметом взрослый передает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особ действ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и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метная   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й социальной ситуации развития соответствует и новый тип ведущей деятельности ребенка. Это уже не просто не­специфические манипуляции с вещами, 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ая деятель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метная деятельнос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ведущей потому, что именно в ней возникают основные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во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ннего возраста, главным из которых являетс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ь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адываются основы наглядно-образного и символического мыш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сходит дифференциация предметно-практической и игровой деятельност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ляются игровые заме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метн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600" y="1642680"/>
            <a:ext cx="7929720" cy="409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я ребенка в предметной деятельности и признание их со стороны взрослых становятся для него мерой 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оего Я и способом утверждения собственного достоин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появляется отчетливое стремление к достижению результата, продукта своей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ц этого периода знаменуется кризисом 3-х лет, в котором выражает себя возросшая самостоятельность ребенка и целенаправленность его дей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ожно видеть, 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метная деятельност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т развитие практически всех психических процессов и личности ребенка в це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есте с тем сама предметная деятельность существенно преобразуется и развивается на протяжении раннего дет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ецифические действия с предметам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714320"/>
            <a:ext cx="403848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ладенческий возра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образные неспецифические манипуля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-подражания с соответствующими игруш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тором году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жизн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воспроизведения показанного действия с предметом детям уже не требуется непременно тот же самый предмет —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является возможность </a:t>
            </a:r>
            <a:r>
              <a:rPr b="0" i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ереноса действия на другие предм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еренос действи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дного предмета на друг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еренос действи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ругую ситуа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1571760" y="571680"/>
            <a:ext cx="6429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Я. Гальпериным было введено два вида предметных действий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Ручной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редметом действуют так, как самой рукой; предмет ста­новится как бы простым удлинением или просто придатком руки)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рудийный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рука подчиняется требованиям орудий­ных приемов, как бы подстраивается под предмет-оруди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но при усвоении орудийных операций ребенок начинает действовать одним предметом для получения другого, использовать специфическое движение не для получения какого-то другого резуль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4288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) неспецифическое употребление оруд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овместные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  попытки  специфического   использования   орудий  при   отсутствии сформированного способа его приме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частично-совмест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овладение специфическим способом употребления оруд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пока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I. Перенос действ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 одного предмета на друг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из одной ситуации в другу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ловесное указ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II. Возникновение игрового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Обобщенные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ыделение взрослого как носителя образцов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равнение своего действия с действием взросл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возникновение игрового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изменение социальной ситуации развития «Ребенок-предмет-взросл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105520" y="184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23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хема развития предметного действия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в раннем возрасте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работана Д. Б. Элькониным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2960" y="662760"/>
            <a:ext cx="8215200" cy="52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освоение операционально-технической стороной предметного действия происходит не через прямое прилаживание движений к образцу, содержащемуся в показе взрослого, а в процессе создания ребенком образа действия с предмет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образа действия с предметом осуществляется в результате разнообразных про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новение этого образа знаменует собой конец формирования данного предметного 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03:28:19Z</dcterms:created>
  <dc:creator>Оо</dc:creator>
  <dc:description/>
  <dc:language>en-US</dc:language>
  <cp:lastModifiedBy>Asus</cp:lastModifiedBy>
  <dcterms:modified xsi:type="dcterms:W3CDTF">2019-11-25T13:21:42Z</dcterms:modified>
  <cp:revision>58</cp:revision>
  <dc:subject/>
  <dc:title>Слайд 1</dc:title>
</cp:coreProperties>
</file>