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D1D5-2857-4C1D-81B9-B9DB34660C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F0C2-617E-4771-B4EB-6E4CEB1D63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172-C511-4181-9576-FE8CDA08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C5B-3974-40E7-95D4-D8D66716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233-6EA0-4188-8B3D-0AB1FBC2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0E5-9901-4E14-AEB7-4AC13E23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7C2-0B5E-47A5-85FB-D720D5DF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1E6-3892-461C-ACAF-77B4EF7E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697-C5D0-4A21-8E53-B13EAD9C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AC5-7F50-4FA2-827B-0E554283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E05-ACF3-4EF6-A94A-38C6DB85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C43-4088-4457-9729-C66D7A5D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B7E-8332-4209-B5D4-880D09A7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7B2-BF34-47F0-AEFE-7CD07F1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4C3F-6672-4476-8B1E-BBD3A1BEB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26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здание психологического комфорта на уроке как условие развития лич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6160" y="4500360"/>
            <a:ext cx="44719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2.04.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БОУ СОШ №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E:\Мое\Конфликты\25232105.jpg"/>
          <p:cNvPicPr/>
          <p:nvPr/>
        </p:nvPicPr>
        <p:blipFill>
          <a:blip r:embed="rId1"/>
          <a:stretch/>
        </p:blipFill>
        <p:spPr>
          <a:xfrm>
            <a:off x="785880" y="3643200"/>
            <a:ext cx="28573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71640" y="1773360"/>
          <a:ext cx="6648480" cy="4206600"/>
        </p:xfrm>
        <a:graphic>
          <a:graphicData uri="http://schemas.openxmlformats.org/drawingml/2006/table">
            <a:tbl>
              <a:tblPr/>
              <a:tblGrid>
                <a:gridCol w="509400"/>
                <a:gridCol w="6139080"/>
              </a:tblGrid>
              <a:tr h="420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льтура, красота, качество образовательного процесса, критичность учителя к самому себе, компромисс, контро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4360" y="2646360"/>
          <a:ext cx="7416720" cy="2523960"/>
        </p:xfrm>
        <a:graphic>
          <a:graphicData uri="http://schemas.openxmlformats.org/drawingml/2006/table">
            <a:tbl>
              <a:tblPr/>
              <a:tblGrid>
                <a:gridCol w="568080"/>
                <a:gridCol w="6848640"/>
              </a:tblGrid>
              <a:tr h="25239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аяние, отношение, общение, ободрительный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26920" y="2646360"/>
          <a:ext cx="6793200" cy="3365640"/>
        </p:xfrm>
        <a:graphic>
          <a:graphicData uri="http://schemas.openxmlformats.org/drawingml/2006/table">
            <a:tbl>
              <a:tblPr/>
              <a:tblGrid>
                <a:gridCol w="863640"/>
                <a:gridCol w="5929560"/>
              </a:tblGrid>
              <a:tr h="33656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р, мотивация, мудрость, мастерство, мажор, миссия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3880" y="2646360"/>
          <a:ext cx="6096240" cy="1682640"/>
        </p:xfrm>
        <a:graphic>
          <a:graphicData uri="http://schemas.openxmlformats.org/drawingml/2006/table">
            <a:tbl>
              <a:tblPr/>
              <a:tblGrid>
                <a:gridCol w="744480"/>
                <a:gridCol w="5351760"/>
              </a:tblGrid>
              <a:tr h="16826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, форм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3880" y="2646360"/>
          <a:ext cx="6096240" cy="2523960"/>
        </p:xfrm>
        <a:graphic>
          <a:graphicData uri="http://schemas.openxmlformats.org/drawingml/2006/table">
            <a:tbl>
              <a:tblPr/>
              <a:tblGrid>
                <a:gridCol w="671760"/>
                <a:gridCol w="5424480"/>
              </a:tblGrid>
              <a:tr h="25239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гатить, образовать, обстановка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523880" y="2646360"/>
          <a:ext cx="6096240" cy="2803680"/>
        </p:xfrm>
        <a:graphic>
          <a:graphicData uri="http://schemas.openxmlformats.org/drawingml/2006/table">
            <a:tbl>
              <a:tblPr/>
              <a:tblGrid>
                <a:gridCol w="466920"/>
                <a:gridCol w="5629320"/>
              </a:tblGrid>
              <a:tr h="28036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ость, развитие, разум, равенство, размеренность, разнообразие, радушие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523880" y="2600280"/>
          <a:ext cx="6096240" cy="4206960"/>
        </p:xfrm>
        <a:graphic>
          <a:graphicData uri="http://schemas.openxmlformats.org/drawingml/2006/table">
            <a:tbl>
              <a:tblPr/>
              <a:tblGrid>
                <a:gridCol w="671760"/>
                <a:gridCol w="5424480"/>
              </a:tblGrid>
              <a:tr h="42069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ерантность, творчество, такт, талант, терпимость, технология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9 учащихся (17%) конфликтуют с педагогами – предметниками. Причины следующ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у меня что – нибудь болит, все равно заставят заниматься или поставят д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дирала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ня не замеч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-за по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мское отношение ко м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нижают оце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трагивают что-то личное, а это их не кас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учный учитель, спорит просто т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допоним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согласны учителя с моей точкой з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гнорирование уче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ет ли личность учителя на отношение к учеб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а – 114 учащихся (43%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ет  -  90 учащихся (36 %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кому из учителей ты пойдешь поделиться сокровенным, совет кого из педагогов тебе важен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 не смогу пойти и поделиться с учителями своими проблемами – 99 учащихся (34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то из педагогов меня не поддерживает – 70 учащихся (24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28760" y="2142720"/>
            <a:ext cx="8229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Из всех показателей оценки школы главным следует считать самочувствие в ней человека. Школа хороша, если в ней хорошо каждому ребенку и взрослому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А. Караковск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тел бы ты прогулять какие – либо уроки? Поч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навиж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для меня очень слож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важение к учени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место урока рассказывает свою личную жиз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вствую себя некомфорт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сполезный для меня 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нравятся эти предметы, я чувствую на них трево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е понимаю этот предмет, если сделал ошибку, оскорбля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жасное отношение к ученик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слишком торопится, я не успеваю записыв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уважают детей и обзывают их даун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много зад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гче дается теория, чем прак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нравится 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хочу прогуливать уроки – 94 учащихся (44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826920" y="260280"/>
          <a:ext cx="7201080" cy="6416640"/>
        </p:xfrm>
        <a:graphic>
          <a:graphicData uri="http://schemas.openxmlformats.org/drawingml/2006/table">
            <a:tbl>
              <a:tblPr/>
              <a:tblGrid>
                <a:gridCol w="1049400"/>
                <a:gridCol w="3146400"/>
                <a:gridCol w="3005280"/>
              </a:tblGrid>
              <a:tr h="281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 вы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гачева Т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ова А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хомова В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ор тревожности учащихся на уро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ебрянникова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калева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хонова Т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заинтересовать учащегося предме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осеева Н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амонова О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лянова М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ее задание: проблемы и пути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алимова Е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рсова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ник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 доверительных отношений между учителями и учащими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лина Н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ербако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мбаева Г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 конфликтов между учителями и учащимися. Пути их разреш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лов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алимов А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мин С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 дисциплины на уроке: трудность восприятия материала учащими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уев Г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ирнов М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тников Ф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предотвратить прогулы уроков учащими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Эмоциональное выгор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E:\Мое\Конфликты\stress.jpg"/>
          <p:cNvPicPr/>
          <p:nvPr/>
        </p:nvPicPr>
        <p:blipFill>
          <a:blip r:embed="rId1"/>
          <a:stretch/>
        </p:blipFill>
        <p:spPr>
          <a:xfrm rot="20927400">
            <a:off x="4514760" y="1387440"/>
            <a:ext cx="3065400" cy="249876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emotional_burning_out.jpg"/>
          <p:cNvPicPr/>
          <p:nvPr/>
        </p:nvPicPr>
        <p:blipFill>
          <a:blip r:embed="rId2"/>
          <a:stretch/>
        </p:blipFill>
        <p:spPr>
          <a:xfrm rot="698400">
            <a:off x="5052600" y="3938400"/>
            <a:ext cx="2643120" cy="237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E:\Мое\Конфликты\stres.jpg"/>
          <p:cNvPicPr/>
          <p:nvPr/>
        </p:nvPicPr>
        <p:blipFill>
          <a:blip r:embed="rId3"/>
          <a:stretch/>
        </p:blipFill>
        <p:spPr>
          <a:xfrm rot="21387600">
            <a:off x="785880" y="4095720"/>
            <a:ext cx="3143160" cy="2419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E:\Мое\Конфликты\tired.jpg"/>
          <p:cNvPicPr/>
          <p:nvPr/>
        </p:nvPicPr>
        <p:blipFill>
          <a:blip r:embed="rId4"/>
          <a:stretch/>
        </p:blipFill>
        <p:spPr>
          <a:xfrm rot="356400">
            <a:off x="401760" y="1186920"/>
            <a:ext cx="3000240" cy="24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Print"/>
              </a:rPr>
              <a:t>Причины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Segoe Print"/>
              </a:rPr>
              <a:t>«эмоционального выгоран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резмерные перегрузки, слишком большой объем работы, непосиль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ств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Отношение к делу: завышенные требования к себе, боязнь совершить ошибку, не соответствовать требован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Ощущение, что нас  недооценивают  и  невозможность изменить положение д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Общение только с коллегами по работе, как на работе, так и вне 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Отстраненность от общественной жизни коллекти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акторы, способствующие благоприятному психологическому климату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4200" y="142884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агоприятный климат на уроке зависит от многих фактор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должен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ходить в класс с хорошим бодрым настрое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уметь настроить себя на жизнерадостную с детьми параллель. Учителю вообще должно быть присуще желание и стремлени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бщаться с детьми доброжелательной фо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помнить, чт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любое эмоциональное состояние можно выразить в деликатной фо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должен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орошо знать возрастные психологические особенности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также развивать в себ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едагогическую наблюда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чтобы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ибко и адекватн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овать ту или иную ситуацию на уро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акторы, способствующие благоприятному психологическому климату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еумеренное поощрение или наказание приносят вре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Одобрение, поощрение разными обучающимис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по-разному воспринима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бучение и воспит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но строитьс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ез наказания и окр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гический дискомфорт на уроке для учителя, а затем и для обучающихся, част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дет от чувства профессионального бессилия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учителю важн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вершенствовать свое профессиональное масте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да заходите в кабин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 звон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бедиться, все ли готово к уроку. Стремиться к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рганизованному началу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акторы, способствующие благоприятному психологическому климат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2855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тратьте время на поиски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траницы вашего предмета в журнале, следует отметить ее закладкой заране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Начинайте урок энергичн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Не задавайте вопросы о том, кто не выполнил домашнего задания. Урок ведите так, чтобы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аждый обучающийся с начала и до конца был занят де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влекайт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бучающихся содержанием материала,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онтролируйт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емп урока,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омогайт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лабым» поверить в свои силы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Держите в поле зрен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сю группу. Особенно следите за теми, у кого внимание неустойчив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едотвращайт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азу же попытки нарушить рабочий ритм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бращайтесь чащ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вопросами к тем, кто может на уроке отвлечь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отивируйт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ценку знаний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бучающийся должен знать, над чем ему следует поработать еще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будет приучать к дисциплинированному труду. Он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будет привыкать к тому, что указания учителя надо выполнять обязательн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акторы, способствующие благоприятному психологическому климат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канчивай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рок общей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ценкой работы группы и отдельных ребя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. Пусть все испытают чувство удовлетворенности от результатов труда на уроке. Постарайтес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метить положительное в работе недисциплинированных ребят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о делайте это не слишком час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кращайте урок со звонк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держивайтесь от излишних замеч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е допускать конфликтов с класс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если он возник, не затягивайте его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щите разумные пути его разреш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ните слова Н.А. Добролюбова о том, чт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справедливый учитель- это такой учитель, поступки которого оправданны в глазах уче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69192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офессиональные заповеди учителя</a:t>
            </a:r>
            <a:br>
              <a:rPr sz="2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5840" y="1213920"/>
            <a:ext cx="857232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должен гордиться своей профессией, так как любимое дело возвыша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ое дело – в интересах учащихся и ничего во вре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бдителен и «не складывай оружи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 педагогического диагноза – залог правильности действ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ание не должно превышать вины, одобрение – успех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рдись…, но на себя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ся – извинись, но ошибайся и извиняйся реж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вместе с учениками, рядом с ними и впереди н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не воспитываешь себя, ты плохой учитель, но если ты воспитываешь только себя, ты вообще не учител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 «не могу», не умалчивай «не хоч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ить  легче, чем разделять вин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писывай успех себе, а вину учащим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ропись с решением, но и не мед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 тот учитель, от разговора с которым ученику не становится легч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щи в лице родителей средство для расправы за собственную беспомощность в общении с деть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20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е на чужие уроки, чтобы узнать и понять, что педагогические технологии – ключ без права передачи. Если у учителя есть технология, то она может быть только своей, «пропущенной через себя»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есь к профессионализм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бственному глубокому знанию предмет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пособности убелить в необходимости и возможности обучения учеников, привыкших ничего не делат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ладению максимально широким набором педагогических прием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мению отвечать за все хорошее и за все плохое на уро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мению дать обучающемуся возможность самореализ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обучающегося определяются темпом его обучения не при фиксированных усредненных, а при оптимально подобранных для данного ребенка условия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тобы стать хорошим учителем, над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ь дет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строги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ть тетради и контрольные непременно к следующему уроку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Z:\newtek\_backgrounds_1.02\Greg\First Day of School\teacher_kids_waving.gif"/>
          <p:cNvPicPr/>
          <p:nvPr/>
        </p:nvPicPr>
        <p:blipFill>
          <a:blip r:embed="rId1"/>
          <a:stretch/>
        </p:blipFill>
        <p:spPr>
          <a:xfrm>
            <a:off x="6227640" y="4653000"/>
            <a:ext cx="2592360" cy="208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Сформировать мотивацию педагогического коллектива на создание комфортной среды на уро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Проанализировать состояние психологического климата на уроках и выявить условия и факторы, стимулирующие создание комфортной среды на уро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4068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Учителям-предметникам (особенно начальных классов), в качестве организационного момента на уроке использовать психологические разминки, создавать ситуации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 целях предупреждения конфликтных ситуаций, вызванных постановкой отметки учителем, каждому учителю комментировать выставляемую отметку, использовать прием самооценки учащимися свое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Материалы педагогического совета изучить всем педагогам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мет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инять за основу в обучении и воспитании учащихся заповеди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тча  о Солнце и Ветре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ча древнегреческого мудреца Эзо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Солнце и сердитый северный Ветер затеяли спор о том, кто из них силь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они спорили и, наконец, решились померяться силами с путешественником, который в это самое время ехал верхом по большой дор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мотри, - сказал Ветер, - как я налечу на него: и мигом сорву с него плащ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 – и начал дуть, что было мочи. Но чем более старался Ветер, тем сильнее закутывался путешественник в свой плащ: он ворчал на непогоду, но ехал все дальше и дальше. Ветер сердился, свирепел, осыпал бедного путника дождем и снегом; проклиная Ветер, путешественник надел свой плащ в рукава и подвязался поясом. Тут уж Ветер сам убедился, что ему плаща не сдер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, видя бессилие своего соперника, улыбнулось, выглянуло из-за облаков, обогрело, осушило землю, а вместе с ней и бедного полузамерзшего путешественника. Почувствовав теплоту солнечных лучей он приободрился, благословил Солнце, сам снял свой плащ и привязал его к сед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ишь ли, - сказало тогда кроткое Солнце сердитому Ветру, - лаской и добротой можно сделать гораздо больше, чем яростью и гнев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gic7.mycdn.me/getImage?photoId=665651528184&amp;photoType=24"/>
          <p:cNvPicPr/>
          <p:nvPr/>
        </p:nvPicPr>
        <p:blipFill>
          <a:blip r:embed="rId1"/>
          <a:stretch/>
        </p:blipFill>
        <p:spPr>
          <a:xfrm>
            <a:off x="6516720" y="981000"/>
            <a:ext cx="2448000" cy="222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4" descr="http://img1.liveinternet.ru/images/attach/c/9/106/495/106495601_putnik.jpg"/>
          <p:cNvPicPr/>
          <p:nvPr/>
        </p:nvPicPr>
        <p:blipFill>
          <a:blip r:embed="rId2"/>
          <a:stretch/>
        </p:blipFill>
        <p:spPr>
          <a:xfrm>
            <a:off x="6516720" y="3398760"/>
            <a:ext cx="2448000" cy="247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4" descr="http://t3.gstatic.com/images?q=tbn:ANd9GcTpyp0tFtarNJdJTY5QEYjqpcZtfMFkU5Whe7Wa73nliO7qGyBrg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гатить представления участников о психологическом комфорте и его значимости в образовательном проце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еть приёмы и способы создания психологического комфорта на уро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ть условия для формирования у учителя способности делать выводы на предложенную тему на основе анализа и обобщения. 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и проанализировать способы разрешения конфликтных ситуаций на уроках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педагогического сове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упительное слово Жуковой Е.А., заместителя директора по УВ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упления рабочих групп №1 – 7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упление педагога – психолога Ереминой М.В. с рекомендаци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ительное слово Жуковой Е.А., заместителя директора по УВ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педагогического со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группы учащих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Послушны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Безразличны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Флюгеры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Трудны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324000" y="1916280"/>
            <a:ext cx="87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"Крик – это самый верный признак отсутствия культуры человеческих отношений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.А.Сухомлинск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119700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фор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 заимствовано из английского языка, что означает «поддержка, укрепление» (Этимологический словарь Н.М. Шанский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2876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   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 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 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 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  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  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Водяные лилии.jpg"/>
          <p:cNvPicPr/>
          <p:nvPr/>
        </p:nvPicPr>
        <p:blipFill>
          <a:blip r:embed="rId2"/>
          <a:stretch/>
        </p:blipFill>
        <p:spPr>
          <a:xfrm>
            <a:off x="2571840" y="1500120"/>
            <a:ext cx="58816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30:19Z</dcterms:created>
  <dc:creator>Марина</dc:creator>
  <dc:description/>
  <dc:language>en-US</dc:language>
  <cp:lastModifiedBy>1</cp:lastModifiedBy>
  <dcterms:modified xsi:type="dcterms:W3CDTF">2019-04-22T08:57:17Z</dcterms:modified>
  <cp:revision>157</cp:revision>
  <dc:subject/>
  <dc:title>ПСИХОЛОГИЧЕСКИЙ КОМФОРТ НА УРОКЕ  КАК УСЛОВИЕ РАЗВИТИЯ ЛИЧНОСТИ ШКОЛЬНИКА</dc:title>
</cp:coreProperties>
</file>