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717-CDB2-44E5-8792-B040CA7E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5E7-3AAD-4E70-8268-4747D84F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49D-C51F-41ED-AB8F-87D008E3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686-AEA6-45F8-BDC7-8FF8E97B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F7042-5402-4C5A-923D-224B72D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7923-F2B8-4458-B734-3153321C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BDBC-3F3D-4C10-958F-CA310E2C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5D2FB-8025-49E3-9E0F-C15928D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CE307-C48A-4D6C-93CF-A0B3038C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46476-6DF2-4097-854B-DB64AD34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6A8B-8F74-4478-B0E2-25523DF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895-54A3-4650-8D82-7A1D1C6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9C0F-0141-48ED-88FF-3A53491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75FF6-7FF4-41B4-B826-1F2D8C0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CA34-9231-453F-A6FF-A125638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0FD8-23CD-4614-9A81-EE3BBC61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AF10C-DDF6-4841-A022-83A27339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A7E-A631-4B66-9D4B-83E2E342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74-259F-4498-9F1E-37A66D1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1B6-218C-4A25-BF5F-7F28F2D0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9F7-45B9-495E-9AAE-0693C7CA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04B-B099-4EDF-8420-641C7BE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CF3-ACC2-427A-8AA8-8FEF9A4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A2F-C284-4A08-9E47-A071422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BB2-7B53-4B62-B00D-ABA101EF7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E481-74EA-4D3F-B944-A5D2A035A4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М.Ю. Лермонтов. «Мцыри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9. Творческий метод Лермонтова в поэме «Мцыри»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. классициз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. сентиментализ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. романтиз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10. В словах исповеди Мцыри, с которыми он обращается к старому монаху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«Пускай теперь прекрасный свет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Тебе постыл: ты слаб, ты сед,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И от желаний ты отвык.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Что за нужда? Ты жил, старик!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Тебе есть в мире что забыть…» - звучит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осуждение в адрес стари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ожаление героя о несбыточн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разочарование в прожитой героем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 и оцен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  2    3   4    5    6    7    8    9    10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   а    б   б    в    а    б    в    в    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баллов – «5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-9 баллов – «4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7 баллов – «3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 Монастырь для Мцыр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приют одиноких сердец, нашедших в служении Богу своё спас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тюрьма, где происходит насилие над личностью, не желающей жить без свободы и во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обитель монахов, посвятивших свою жизнь служению Богу и покинувших ради этого мирску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2. Главная, основополагающая идея в решении образа Мцыри - это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духовная связь героя с роди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мирение и покорность героя обстоятельств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любовь к путешестви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3. В характеристике героя: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«Как серна гор, пуглив и дик, и слаб и гибок, как тростник» - автор используе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метафор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срав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гипербо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Главы, предшествующие исповеди Мцыри,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 композиции поэмы являютс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завязк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экспозици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кульминац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5. Мцыри говорит старому монаху: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                     «…Жизнь моя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Без этих трёх блаженных дней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Была б печальней и мрачней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Бессильной старости твоей».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 его словах заключена важная мысл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. в течение трёх дней Мцыри переживал трагедию одиночест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. три дня скитаний позволили герою пережить немало испытаний, в которых он проявил себя как бо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. за три дня Мцыри сумел прожить целую жизнь и узнать больше, чем за годы, проведённые в монасты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6. В строках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«Растений радужный наряд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Хранил следы небесных слёз» - речь идёт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о каплях дожд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об утренней рос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каплях водо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7. Рассказывая об обстоятельствах своего побега из монастыря, Мцыри признаётся: «О, я как брат обняться с бурей был бы рад!» Произведение Лермонтова, в котором главный герой имеет подобное желание – испытать себя в битве, назыв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«Дума»,   Б. «Парус»,    В. «Утё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8. Смерть Мцыри трактуется как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 трагедия человека, не сумевшего противостоять силам природ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протест против насилия над личност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 освобождение от зависимости, обретение своб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9T16:09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