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BFF9-5AE3-4AEA-AE9C-659C169E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A221-93CB-4335-8209-29D6C234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6735-A2BB-4402-A9CD-36EE6018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7F0E-E87C-478C-B908-EAA4E473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A3E83-4183-49E9-B09D-DF752A21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443A4-7DDF-45B6-968E-E02E04C8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A8363-F619-4AE3-9814-BD639750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139A4-72C1-4BE7-837A-75598AEA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AA329-8C27-4257-AEB8-FB6ACEA8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F3BBF-4CC5-4B38-B042-CDA64D73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476F4-00AF-49D7-B154-C31E258D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1327-8C73-440C-8E63-390EA393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9EA1C-78C8-4FA5-9FFF-CDF38801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0D8A5-66D2-4158-A57C-478E2201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DCC5D-B700-4945-895B-8885B166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B6F67-EB6B-4CFA-B142-77566124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419B5-2CBB-4553-AD59-35E7D7E0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8CC9-AE9D-472A-9D73-D1061C00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0C93-031D-40A0-8C43-A38769F4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0EE4-70FA-47ED-BDDA-36E691DE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D09B-1324-4490-8243-CBE97126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2F37-3764-4031-84E5-D4416812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E9F2-72C3-4201-9871-889161C8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B1BC-07C6-4F6D-AD11-04E87B17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D3AF-173E-4D48-87D1-32F96BE36B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3F37-AE12-491F-9F77-955684C690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М.Ю. Лермонтов. «Мцыри»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9. Творческий метод Лермонтова в поэме «Мцыри»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. классицизм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. сентиментализм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. романтизм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10. В словах исповеди Мцыри, с которыми он обращается к старому монаху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«Пускай теперь прекрасный свет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Тебе постыл: ты слаб, ты сед,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И от желаний ты отвык.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Что за нужда? Ты жил, старик!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Тебе есть в мире что забыть…» - звучит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. осуждение в адрес старик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. сожаление героя о несбыточно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. разочарование в прожитой героем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Ответы и оценк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  2    3   4    5    6    7    8    9    10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б   а    б   б    в    а    б    в    в     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цен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 баллов – «5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-9 баллов – «4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 – 7 баллов – «3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1. Монастырь для Мцыр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. приют одиноких сердец, нашедших в служении Богу своё спас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. тюрьма, где происходит насилие над личностью, не желающей жить без свободы и вол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. обитель монахов, посвятивших свою жизнь служению Богу и покинувших ради этого мирскую жиз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2. Главная, основополагающая идея в решении образа Мцыри - это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. духовная связь героя с родино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. смирение и покорность героя обстоятельств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. любовь к путешествия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3. В характеристике героя: 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«Как серна гор, пуглив и дик, и слаб и гибок, как тростник» - автор использует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. метафор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. сравне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. гипербол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4. Главы, предшествующие исповеди Мцыри, 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в композиции поэмы являются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. завязк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. экспозицие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. кульминаци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5. Мцыри говорит старому монаху: 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                            «…Жизнь моя 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  Без этих трёх блаженных дней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Была б печальней и мрачней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Бессильной старости твоей». 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В его словах заключена важная мысль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30481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. в течение трёх дней Мцыри переживал трагедию одиночеств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. три дня скитаний позволили герою пережить немало испытаний, в которых он проявил себя как боец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. за три дня Мцыри сумел прожить целую жизнь и узнать больше, чем за годы, проведённые в монасты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6. В строках: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«Растений радужный наряд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Хранил следы небесных слёз» - речь идёт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3048120"/>
            <a:ext cx="8305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. о каплях дожд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. об утренней рос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 каплях водопа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7. Рассказывая об обстоятельствах своего побега из монастыря, Мцыри признаётся: «О, я как брат обняться с бурей был бы рад!» Произведение Лермонтова, в котором главный герой имеет подобное желание – испытать себя в битве, называется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. «Дума»,   Б. «Парус»,    В. «Утёс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8. Смерть Мцыри трактуется как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. трагедия человека, не сумевшего противостоять силам природ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. протест против насилия над личностью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. освобождение от зависимости, обретение своб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1-19T16:09:3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