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00F-8D0E-4A5E-8812-2F36C22F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F8F-E46A-4CDC-89B8-AF442151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ADF-9617-44A4-AAD6-27CBD4E5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DB5-B33A-4F93-A1F1-B12F4033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FDA-438F-4BF7-9AA2-459B5D35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15C-0AC6-4DEB-A18D-B8F5E9F9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0E2-0992-4706-B1D3-C9BEEF99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6A5-C8AA-49AF-A5BD-73F5E0ED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0E9-FF10-4E51-BE96-3F0A2AE8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EBC-888E-4FC0-94AD-7B1CC458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843-A212-4810-9BF3-9D28695F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D76-083A-4784-93A4-39B3A99E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FC1D-1006-4437-B0C8-C872774B9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download background - скачать фон для powerpoint"/>
          <p:cNvPicPr/>
          <p:nvPr/>
        </p:nvPicPr>
        <p:blipFill>
          <a:blip r:embed="rId1"/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0040" y="28260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ГБОУ Школа №2051 ДО №2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70040" y="19332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Bookman Old Style"/>
              </a:rPr>
              <a:t>Правила организации прогулки в дошкольных групп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691320" y="6027840"/>
            <a:ext cx="64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entury Schoolbook"/>
              </a:rPr>
              <a:t>Велавас </a:t>
            </a: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Анастасия Владими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entury Schoolbook"/>
              </a:rPr>
              <a:t>Рядовая</a:t>
            </a: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 Наталия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2462040" y="3656160"/>
            <a:ext cx="4267440" cy="2428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12192120" cy="68929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307800" y="754200"/>
            <a:ext cx="1159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	</a:t>
            </a:r>
            <a:r>
              <a:rPr b="0" i="1" lang="ru-RU" sz="4000" spc="-1" strike="noStrike">
                <a:solidFill>
                  <a:srgbClr val="cc3300"/>
                </a:solidFill>
                <a:latin typeface="Bookman Old Style"/>
              </a:rPr>
              <a:t>Рекомендуемая  продолжительность ежедневной прогулки составля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Bookman Old Style"/>
              </a:rPr>
              <a:t>3 - 4 час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1765440" y="3011400"/>
            <a:ext cx="86612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	</a:t>
            </a:r>
            <a:r>
              <a:rPr b="0" i="1" lang="ru-RU" sz="3600" spc="-1" strike="noStrike">
                <a:solidFill>
                  <a:srgbClr val="000066"/>
                </a:solidFill>
                <a:latin typeface="Bookman Old Style"/>
              </a:rPr>
              <a:t>При температуре  воздуха  </a:t>
            </a: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Bookman Old Style"/>
              </a:rPr>
              <a:t>ниже минус 15 градусов и скорости ветра более 7 м/с </a:t>
            </a:r>
            <a:r>
              <a:rPr b="0" i="1" lang="ru-RU" sz="3600" spc="-1" strike="noStrike">
                <a:solidFill>
                  <a:srgbClr val="000066"/>
                </a:solidFill>
                <a:latin typeface="Bookman Old Style"/>
              </a:rPr>
              <a:t>продолжительность прогулки рекомендуется сокращат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4520" y="104400"/>
            <a:ext cx="9129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Bookman Old Style"/>
              </a:rPr>
              <a:t>Прогулка должна состоять из следующих структурных элементов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Овал 4"/>
          <p:cNvSpPr/>
          <p:nvPr/>
        </p:nvSpPr>
        <p:spPr>
          <a:xfrm>
            <a:off x="3295800" y="1265400"/>
            <a:ext cx="3235320" cy="117468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Овал 7"/>
          <p:cNvSpPr/>
          <p:nvPr/>
        </p:nvSpPr>
        <p:spPr>
          <a:xfrm>
            <a:off x="6705720" y="1251000"/>
            <a:ext cx="3427200" cy="117468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спортивны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 8"/>
          <p:cNvSpPr/>
          <p:nvPr/>
        </p:nvSpPr>
        <p:spPr>
          <a:xfrm>
            <a:off x="4468680" y="2700360"/>
            <a:ext cx="5664240" cy="255744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индивидуальная работа по различным направлениям развития воспитан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9"/>
          <p:cNvSpPr/>
          <p:nvPr/>
        </p:nvSpPr>
        <p:spPr>
          <a:xfrm>
            <a:off x="3295800" y="5397480"/>
            <a:ext cx="3235320" cy="117468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подвижные, спортивные иг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10"/>
          <p:cNvSpPr/>
          <p:nvPr/>
        </p:nvSpPr>
        <p:spPr>
          <a:xfrm>
            <a:off x="1082520" y="2440080"/>
            <a:ext cx="3722760" cy="117612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двигательная а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6120" y="4264200"/>
            <a:ext cx="3722400" cy="117612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трудовые пор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вал 12"/>
          <p:cNvSpPr/>
          <p:nvPr/>
        </p:nvSpPr>
        <p:spPr>
          <a:xfrm>
            <a:off x="7032600" y="5335560"/>
            <a:ext cx="4890960" cy="117648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самостоятельная деятельность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2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960" y="104760"/>
            <a:ext cx="98726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Bookman Old Style"/>
              </a:rPr>
              <a:t>ПОСЛЕДОВАТЕЛЬНОСТЬ СТРУКТУРНЫХ КОМПОНЕНТОВ ПРОГУЛКИ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2920" y="1209240"/>
            <a:ext cx="119635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Bookman Old Style"/>
              </a:rPr>
              <a:t>может варьироваться в зависимости от вида предыдущего зан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Если дети находились на занятии, требующем повышенной познавательной активности и умственного напряжения, то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Bookman Old Style"/>
              </a:rPr>
              <a:t>вначале прогулки проводятся подвижные игры, пробежки, затем – наблюд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Если до прогулки было физкультурное или музыкальное занятие,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Bookman Old Style"/>
              </a:rPr>
              <a:t>прогулка начинается с наблюдения или спокойной игры.</a:t>
            </a: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Каждый из обязательных компонентов прогулки длится от </a:t>
            </a: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7 до 15 минут </a:t>
            </a: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и осуществляется на фоне самостоятельной деятельности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Содержание прогулок </a:t>
            </a: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определяется программой по ознакомлению детей с окружающим с учетом предшествующей деятельности детей, педагогических и оздоровительных задач, и строится в соответствии с календарным планированием в каждой возрастной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8280" y="93600"/>
            <a:ext cx="993456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3300"/>
                </a:solidFill>
                <a:uFillTx/>
                <a:latin typeface="Bookman Old Style"/>
              </a:rPr>
              <a:t>ОРГАНИЗАЦИЯ НАБЛЮДЕНИЙ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47760" y="844560"/>
            <a:ext cx="10663200" cy="60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Bookman Old Style"/>
              </a:rPr>
              <a:t>Процесс наблюдения может быть организован за объектами и погодными явления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Bookman Old Style"/>
              </a:rPr>
              <a:t>При планировании наблюдений воспитатель продумывае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Bookman Old Style"/>
              </a:rPr>
              <a:t>оборудование и материалы, используемые по ходу наблюдения, размещение дете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Bookman Old Style"/>
              </a:rPr>
              <a:t>приемы привлечения внимания детей к наблюдению (сюрпризные моменты, загадки, постановка познавательной задачи, проблемная ситуация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Bookman Old Style"/>
              </a:rPr>
              <a:t>приемы активизации умственной деятельности (поисковые вопросы, действия, сравнение, использование детского опы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47400" y="93600"/>
            <a:ext cx="1016316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ОРГАНИЗАЦИЯ ДВИГАТЕЛЬНОЙ АКТИВНОСТ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61800" y="1000080"/>
            <a:ext cx="11411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Подвижные игры и физические упражнения на утренней прогулк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Bookman Old Style"/>
              </a:rPr>
              <a:t>в младшей группе – 6-10 мин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Bookman Old Style"/>
              </a:rPr>
              <a:t>в средней группе – 10-15 мин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Bookman Old Style"/>
              </a:rPr>
              <a:t>в старшей и подготовительной группах – 20-25 ми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На вечерней прогулк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Bookman Old Style"/>
              </a:rPr>
              <a:t>в младшей и в средней группах – 10-15 мин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Bookman Old Style"/>
              </a:rPr>
              <a:t>в старшей и подготовительной группах – 12-15 ми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Подвижные игры можно дополнять или заменять 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спортивными упражнениями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 или в старшем дошкольном возрасте 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спортивными играми, играми с элементами соревнов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К 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спортивным упражнениям 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относятся: катание на санках, на лыжах, катание на велосипедах, самокат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К 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спортивным играм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 относятся: </a:t>
            </a: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городки, баскетбол, бадминтон, настольный теннис, футбол, хокк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3240"/>
            <a:ext cx="997272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САМОСТОЯТЕЛЬНАЯ 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61800" y="1000080"/>
            <a:ext cx="11411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Характер и продолжительность </a:t>
            </a: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зависят от индивидуальных потребностей и интересов детей, развивающей среды; индивидуальные задания (в соответствие с календарным планированием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В зависимости от погодных условий двигательная деятельность детей на воздухе может быть 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различной интенсивности</a:t>
            </a: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, чтобы дети не переохлаждались или не перегревалис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Организацию двигательной активности </a:t>
            </a: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воспитатель продумывает перед выходом на прогулку, ориентируясь на конкретные метеоуслов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Не допускается </a:t>
            </a: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длительное нахождение детей на прогулке без движ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Особого внимания требуют дети со сниженной подвижностью, малоинициативные, которых следует вовлекать в подвижные игр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Игры с высоким уровнем </a:t>
            </a: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интенсивности движений не следует проводить в конце утренней прогулки перед уходом с участка, так как дети в этом случае становятся перевозбуждёнными, что отрицательно сказывается на характере дневного сна, увеличивает длительность периода засыпания, может быть причиной снижения аппети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3440" y="93240"/>
            <a:ext cx="10763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Организация индивидуальной активност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80520" y="999720"/>
            <a:ext cx="5791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В соответствии с календарным планированием воспитатель осуществляет индивидуальную работу п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познавательно-речевом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социально-личностном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физическом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художественно-эстетическому развитию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Bookman Old Style"/>
              </a:rPr>
              <a:t>С этой целью подготавливает все необходимые материалы и оборудов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5" descr=""/>
          <p:cNvPicPr/>
          <p:nvPr/>
        </p:nvPicPr>
        <p:blipFill>
          <a:blip r:embed="rId2"/>
          <a:stretch/>
        </p:blipFill>
        <p:spPr>
          <a:xfrm>
            <a:off x="6167520" y="608040"/>
            <a:ext cx="2665440" cy="3544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"/>
          <p:cNvPicPr/>
          <p:nvPr/>
        </p:nvPicPr>
        <p:blipFill>
          <a:blip r:embed="rId3"/>
          <a:stretch/>
        </p:blipFill>
        <p:spPr>
          <a:xfrm>
            <a:off x="8540640" y="3411360"/>
            <a:ext cx="3651480" cy="3446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93600"/>
            <a:ext cx="1209672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3300"/>
                </a:solidFill>
                <a:uFillTx/>
                <a:latin typeface="Bookman Old Style"/>
              </a:rPr>
              <a:t>ТРУДОВЫЕ ПОРУЧЕН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28240" y="5320800"/>
            <a:ext cx="11868120" cy="26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к сбору игрушек;  оказанию посильной помощи по наведению порядка на участке после прогулки, уходу за растениями и т.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одзаголовок 2"/>
          <p:cNvSpPr/>
          <p:nvPr/>
        </p:nvSpPr>
        <p:spPr>
          <a:xfrm>
            <a:off x="6391440" y="4008600"/>
            <a:ext cx="7515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Воспитате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привлекает дет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1" descr=""/>
          <p:cNvPicPr/>
          <p:nvPr/>
        </p:nvPicPr>
        <p:blipFill>
          <a:blip r:embed="rId2"/>
          <a:stretch/>
        </p:blipFill>
        <p:spPr>
          <a:xfrm>
            <a:off x="162000" y="855720"/>
            <a:ext cx="5767200" cy="4363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" descr=""/>
          <p:cNvPicPr/>
          <p:nvPr/>
        </p:nvPicPr>
        <p:blipFill>
          <a:blip r:embed="rId3"/>
          <a:stretch/>
        </p:blipFill>
        <p:spPr>
          <a:xfrm>
            <a:off x="6167520" y="808200"/>
            <a:ext cx="42577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19000" y="352080"/>
            <a:ext cx="10972800" cy="65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В зависимости от целей и задач прогулки </a:t>
            </a: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воспитатель готовит</a:t>
            </a: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 необходимый выносной материал, пособия для различных видов детской деятельности, соответствующей санитарно-гигиеническим требован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Bookman Old Style"/>
              </a:rPr>
              <a:t>Воспитатель должен руководить самостоятельной деятельностью детей:</a:t>
            </a: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обеспечить им полную безопаснос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научить использовать пособия в соответствии с их предназначени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осуществлять постоянный контроль деятельности детей на протяжении всей прогул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" descr=""/>
          <p:cNvPicPr/>
          <p:nvPr/>
        </p:nvPicPr>
        <p:blipFill>
          <a:blip r:embed="rId2"/>
          <a:stretch/>
        </p:blipFill>
        <p:spPr>
          <a:xfrm>
            <a:off x="1905120" y="227160"/>
            <a:ext cx="8524800" cy="64386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4" descr=""/>
          <p:cNvPicPr/>
          <p:nvPr/>
        </p:nvPicPr>
        <p:blipFill>
          <a:blip r:embed="rId3"/>
          <a:stretch/>
        </p:blipFill>
        <p:spPr>
          <a:xfrm>
            <a:off x="1932120" y="5303880"/>
            <a:ext cx="8491320" cy="1481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5320" y="104760"/>
            <a:ext cx="11061720" cy="11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3300"/>
                </a:solidFill>
                <a:uFillTx/>
                <a:latin typeface="Bookman Old Style"/>
              </a:rPr>
              <a:t>Прогулка</a:t>
            </a: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 – очень важный режимный момент жизнедеятельности детей в ДОУ.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691320" y="1436400"/>
            <a:ext cx="535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 u="sng">
                <a:solidFill>
                  <a:srgbClr val="cc3300"/>
                </a:solidFill>
                <a:uFillTx/>
                <a:latin typeface="Bookman Old Style"/>
              </a:rPr>
              <a:t>Цель прогулки: </a:t>
            </a:r>
            <a:r>
              <a:rPr b="0" i="1" lang="ru-RU" sz="3700" spc="-1" strike="noStrike">
                <a:solidFill>
                  <a:srgbClr val="cc3300"/>
                </a:solidFill>
                <a:latin typeface="Bookman Old Style"/>
              </a:rPr>
              <a:t>укрепление здоровья, профилактика утомления, физическое и умственное развитие детей, восстановление сниженных в процессе деятельности функциональных ресурсов организм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851040" y="2181240"/>
            <a:ext cx="5526000" cy="3971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04760"/>
            <a:ext cx="107712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Bookman Old Style"/>
              </a:rPr>
              <a:t>Задачи прогулк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2560" y="1314360"/>
            <a:ext cx="704844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Bookman Old Style"/>
              </a:rPr>
              <a:t>оказывать закаливающее воздействие на организм в естественных условиях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Bookman Old Style"/>
              </a:rPr>
              <a:t>способствовать повышению уровня физической подготовленности детей дошкольного возраст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Bookman Old Style"/>
              </a:rPr>
              <a:t>оптимизировать двигательную активность дете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142920" y="5245200"/>
            <a:ext cx="118774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Bookman Old Style"/>
              </a:rPr>
              <a:t>способствовать познавательно-речевому, художественно-эстетическому, социально- личностному развитию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2"/>
          <a:stretch/>
        </p:blipFill>
        <p:spPr>
          <a:xfrm>
            <a:off x="6753240" y="1100160"/>
            <a:ext cx="500076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04760"/>
            <a:ext cx="107712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Bookman Old Style"/>
              </a:rPr>
              <a:t>Требования к одежде детей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58" name="Пятиугольник 4"/>
          <p:cNvGrpSpPr/>
          <p:nvPr/>
        </p:nvGrpSpPr>
        <p:grpSpPr>
          <a:xfrm>
            <a:off x="781200" y="1023840"/>
            <a:ext cx="10337760" cy="1548000"/>
            <a:chOff x="781200" y="1023840"/>
            <a:chExt cx="10337760" cy="1548000"/>
          </a:xfrm>
        </p:grpSpPr>
        <p:pic>
          <p:nvPicPr>
            <p:cNvPr id="59" name="Пятиугольник 4" descr=""/>
            <p:cNvPicPr/>
            <p:nvPr/>
          </p:nvPicPr>
          <p:blipFill>
            <a:blip r:embed="rId2"/>
            <a:stretch/>
          </p:blipFill>
          <p:spPr>
            <a:xfrm>
              <a:off x="781200" y="1023840"/>
              <a:ext cx="1033776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98480" y="1036800"/>
              <a:ext cx="9925200" cy="15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В любое время года одежда и обувь должны соответствовать погоде на данный момент и не должны способствовать перегреванию или переохлаждению детей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Пятиугольник 6"/>
          <p:cNvGrpSpPr/>
          <p:nvPr/>
        </p:nvGrpSpPr>
        <p:grpSpPr>
          <a:xfrm>
            <a:off x="781200" y="3078000"/>
            <a:ext cx="9874080" cy="1524240"/>
            <a:chOff x="781200" y="3078000"/>
            <a:chExt cx="9874080" cy="1524240"/>
          </a:xfrm>
        </p:grpSpPr>
        <p:pic>
          <p:nvPicPr>
            <p:cNvPr id="62" name="Пятиугольник 6" descr=""/>
            <p:cNvPicPr/>
            <p:nvPr/>
          </p:nvPicPr>
          <p:blipFill>
            <a:blip r:embed="rId3"/>
            <a:stretch/>
          </p:blipFill>
          <p:spPr>
            <a:xfrm>
              <a:off x="781200" y="3078000"/>
              <a:ext cx="987408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98480" y="3090960"/>
              <a:ext cx="946620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При колебаниях температуры от +3 до -3°С и слабом ветре одежда детей должна состоять из трех слоев, включая белье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Пятиугольник 7"/>
          <p:cNvGrpSpPr/>
          <p:nvPr/>
        </p:nvGrpSpPr>
        <p:grpSpPr>
          <a:xfrm>
            <a:off x="781200" y="4889520"/>
            <a:ext cx="9478800" cy="1596960"/>
            <a:chOff x="781200" y="4889520"/>
            <a:chExt cx="9478800" cy="1596960"/>
          </a:xfrm>
        </p:grpSpPr>
        <p:pic>
          <p:nvPicPr>
            <p:cNvPr id="65" name="Пятиугольник 7" descr=""/>
            <p:cNvPicPr/>
            <p:nvPr/>
          </p:nvPicPr>
          <p:blipFill>
            <a:blip r:embed="rId4"/>
            <a:stretch/>
          </p:blipFill>
          <p:spPr>
            <a:xfrm>
              <a:off x="781200" y="4889520"/>
              <a:ext cx="947880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98480" y="4905360"/>
              <a:ext cx="905688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Верхняя одежда состоит из утепленной куртки, брюк или гамаш; на ногах утепленные ботинки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04760"/>
            <a:ext cx="107712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6600"/>
                </a:solidFill>
                <a:uFillTx/>
                <a:latin typeface="Bookman Old Style"/>
              </a:rPr>
              <a:t>Требования к одежде детей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9" name="Пятиугольник 4"/>
          <p:cNvGrpSpPr/>
          <p:nvPr/>
        </p:nvGrpSpPr>
        <p:grpSpPr>
          <a:xfrm>
            <a:off x="1517760" y="1133640"/>
            <a:ext cx="10333080" cy="1549080"/>
            <a:chOff x="1517760" y="1133640"/>
            <a:chExt cx="10333080" cy="1549080"/>
          </a:xfrm>
        </p:grpSpPr>
        <p:pic>
          <p:nvPicPr>
            <p:cNvPr id="70" name="Пятиугольник 4" descr=""/>
            <p:cNvPicPr/>
            <p:nvPr/>
          </p:nvPicPr>
          <p:blipFill>
            <a:blip r:embed="rId2"/>
            <a:stretch/>
          </p:blipFill>
          <p:spPr>
            <a:xfrm>
              <a:off x="1517760" y="1133640"/>
              <a:ext cx="10333080" cy="15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531800" y="1149480"/>
              <a:ext cx="9925200" cy="15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При температуре от -4 до -10°С детям надевают зимнюю куртку или пуховик при трех слоях одежды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Пятиугольник 6"/>
          <p:cNvGrpSpPr/>
          <p:nvPr/>
        </p:nvGrpSpPr>
        <p:grpSpPr>
          <a:xfrm>
            <a:off x="1981080" y="3444840"/>
            <a:ext cx="9869760" cy="1523880"/>
            <a:chOff x="1981080" y="3444840"/>
            <a:chExt cx="9869760" cy="1523880"/>
          </a:xfrm>
        </p:grpSpPr>
        <p:pic>
          <p:nvPicPr>
            <p:cNvPr id="73" name="Пятиугольник 6" descr=""/>
            <p:cNvPicPr/>
            <p:nvPr/>
          </p:nvPicPr>
          <p:blipFill>
            <a:blip r:embed="rId3"/>
            <a:stretch/>
          </p:blipFill>
          <p:spPr>
            <a:xfrm>
              <a:off x="1981080" y="3444840"/>
              <a:ext cx="98697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995480" y="3459240"/>
              <a:ext cx="946800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При более низких температурах рекомендуется увеличивать количество слоев одежды до четырех или пяти в зависимости от теплозащитных свойств верхней одежды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" name="Рисунок 1" descr=""/>
          <p:cNvPicPr/>
          <p:nvPr/>
        </p:nvPicPr>
        <p:blipFill>
          <a:blip r:embed="rId4"/>
          <a:stretch/>
        </p:blipFill>
        <p:spPr>
          <a:xfrm>
            <a:off x="-4680" y="3086280"/>
            <a:ext cx="2000160" cy="2819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920" y="104760"/>
            <a:ext cx="107712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Bookman Old Style"/>
              </a:rPr>
              <a:t>Требования к одежде детей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8" name="Пятиугольник 4"/>
          <p:cNvGrpSpPr/>
          <p:nvPr/>
        </p:nvGrpSpPr>
        <p:grpSpPr>
          <a:xfrm>
            <a:off x="781200" y="1390680"/>
            <a:ext cx="10337760" cy="1547640"/>
            <a:chOff x="781200" y="1390680"/>
            <a:chExt cx="10337760" cy="1547640"/>
          </a:xfrm>
        </p:grpSpPr>
        <p:pic>
          <p:nvPicPr>
            <p:cNvPr id="79" name="Пятиугольник 4" descr=""/>
            <p:cNvPicPr/>
            <p:nvPr/>
          </p:nvPicPr>
          <p:blipFill>
            <a:blip r:embed="rId2"/>
            <a:stretch/>
          </p:blipFill>
          <p:spPr>
            <a:xfrm>
              <a:off x="781200" y="1390680"/>
              <a:ext cx="103377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98480" y="1406520"/>
              <a:ext cx="9925200" cy="15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В летний период во избежание перегрева детям надевают легкие головные уборы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Пятиугольник 6"/>
          <p:cNvGrpSpPr/>
          <p:nvPr/>
        </p:nvGrpSpPr>
        <p:grpSpPr>
          <a:xfrm>
            <a:off x="781200" y="3187800"/>
            <a:ext cx="9874080" cy="1530360"/>
            <a:chOff x="781200" y="3187800"/>
            <a:chExt cx="9874080" cy="1530360"/>
          </a:xfrm>
        </p:grpSpPr>
        <p:pic>
          <p:nvPicPr>
            <p:cNvPr id="82" name="Пятиугольник 6" descr=""/>
            <p:cNvPicPr/>
            <p:nvPr/>
          </p:nvPicPr>
          <p:blipFill>
            <a:blip r:embed="rId3"/>
            <a:stretch/>
          </p:blipFill>
          <p:spPr>
            <a:xfrm>
              <a:off x="781200" y="3187800"/>
              <a:ext cx="98740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98480" y="3206880"/>
              <a:ext cx="946620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В уголок для родителей следует поместить рекомендации по закаливанию, соответствующие возрасту детей и времени года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Пятиугольник 5"/>
          <p:cNvGrpSpPr/>
          <p:nvPr/>
        </p:nvGrpSpPr>
        <p:grpSpPr>
          <a:xfrm>
            <a:off x="781200" y="4968720"/>
            <a:ext cx="9874080" cy="1524240"/>
            <a:chOff x="781200" y="4968720"/>
            <a:chExt cx="9874080" cy="1524240"/>
          </a:xfrm>
        </p:grpSpPr>
        <p:pic>
          <p:nvPicPr>
            <p:cNvPr id="85" name="Пятиугольник 5" descr=""/>
            <p:cNvPicPr/>
            <p:nvPr/>
          </p:nvPicPr>
          <p:blipFill>
            <a:blip r:embed="rId4"/>
            <a:stretch/>
          </p:blipFill>
          <p:spPr>
            <a:xfrm>
              <a:off x="781200" y="4968720"/>
              <a:ext cx="987408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98480" y="4983120"/>
              <a:ext cx="946620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Призывайте родителей не перегревать ребенка, одевать детей в соответствии с погодными условиями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104400"/>
            <a:ext cx="107712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Bookman Old Style"/>
              </a:rPr>
              <a:t>ПОРЯДОК ХРАНЕНИЯ ОДЕЖДЫ В ШКАФЧИК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347760" y="1279440"/>
            <a:ext cx="671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На верхней полке</a:t>
            </a: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 кладется шарф, шапка. Кофта, гамаши, колготки, тёплые штаны, верхнюю одежду вешают </a:t>
            </a: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на крючок</a:t>
            </a: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. Рукавички на резинке должны быть </a:t>
            </a: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продернуты через рукава и вешалку верхней одежды</a:t>
            </a: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. Обувь ставят </a:t>
            </a: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на нижнюю полку</a:t>
            </a: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, сверху кладут но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2" descr=""/>
          <p:cNvPicPr/>
          <p:nvPr/>
        </p:nvPicPr>
        <p:blipFill>
          <a:blip r:embed="rId2"/>
          <a:stretch/>
        </p:blipFill>
        <p:spPr>
          <a:xfrm>
            <a:off x="7391520" y="1936800"/>
            <a:ext cx="4267080" cy="3019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440" y="461520"/>
            <a:ext cx="10771200" cy="6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Bookman Old Style"/>
              </a:rPr>
              <a:t>ПОСЛЕДОВАТЕЛЬНОСТЬ ОДЕВАН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2"/>
          <a:stretch/>
        </p:blipFill>
        <p:spPr>
          <a:xfrm>
            <a:off x="1676520" y="1390680"/>
            <a:ext cx="8172360" cy="525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04400"/>
            <a:ext cx="107712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Bookman Old Style"/>
              </a:rPr>
              <a:t>ВЫХОД НА ПРОГУЛКУ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307800" y="1176480"/>
            <a:ext cx="1060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	</a:t>
            </a: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Выход на прогулку осуществляется  строго под присмотром  воспитателя (в начале  строя) и младшего воспитателя (в конце строя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353880" y="3541680"/>
            <a:ext cx="5492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	</a:t>
            </a:r>
            <a:r>
              <a:rPr b="0" i="1" lang="ru-RU" sz="3200" spc="-1" strike="noStrike">
                <a:solidFill>
                  <a:srgbClr val="000066"/>
                </a:solidFill>
                <a:latin typeface="Bookman Old Style"/>
              </a:rPr>
              <a:t>В летний период для соблюдения  питьевого режима, воду на игровую  площадку выносит  младший воспитат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1" descr=""/>
          <p:cNvPicPr/>
          <p:nvPr/>
        </p:nvPicPr>
        <p:blipFill>
          <a:blip r:embed="rId2"/>
          <a:stretch/>
        </p:blipFill>
        <p:spPr>
          <a:xfrm>
            <a:off x="6167520" y="3392640"/>
            <a:ext cx="5383080" cy="2703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21:31:55Z</dcterms:created>
  <dc:creator>Pavel</dc:creator>
  <dc:description/>
  <dc:language>en-US</dc:language>
  <cp:lastModifiedBy>Администратор</cp:lastModifiedBy>
  <dcterms:modified xsi:type="dcterms:W3CDTF">2019-11-25T10:38:10Z</dcterms:modified>
  <cp:revision>27</cp:revision>
  <dc:subject/>
  <dc:title>Презентация PowerPoint</dc:title>
</cp:coreProperties>
</file>