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5.gif" ContentType="image/gif"/>
  <Override PartName="/ppt/media/image5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2144-ECD6-44B8-9467-A816A1F025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BFE3-4A84-45E9-8FB2-B96499299F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9585-FE4F-4275-80A7-3103B6CC9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820B-2D83-418A-B310-41AC83D16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EB91-7016-488F-B101-DF8B6808B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962B-0B95-4908-9460-8358C5AEF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B46D-84D3-4932-942E-FA532089D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4E4B-750B-468A-80F9-0E06DE9E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38A9-3957-4D35-A11E-6746E5A6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7AB12-22DC-4A5A-9DA2-25B2BEB4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DB80-2E15-4BE2-81DD-DB0F80CC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E639-22A7-4DE2-9CD6-1639F363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4B2F-092A-40AD-B461-06597776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6DE7-630D-457A-99F3-B9A59F1B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D537-8BEE-4280-BB02-13C91B22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4F83A-9D68-4144-A4C8-2BC223CC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BB1B-4704-4F54-A938-2A290744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E795-5B97-458F-8FCA-6764E61A4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FD40-B24D-438F-A21E-70195AD8F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3AF1-2B2F-4677-9896-AA14CD70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3698-702C-4941-AD16-47A64CA0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7FBF-04F8-4524-A414-2BDCE816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D76F-99A8-4447-ACB7-4AC965C6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BC2E-053C-4EE4-AA51-D0B44DF8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2DA2-DB9D-4108-9A5B-7B811415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E5C1-604C-4E67-8F8D-EB5CE7FC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B6A69-7CB1-44F2-AC39-DACC7FAF09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CC85-1CF5-4C64-9F7F-2E4571046182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280" y="1413000"/>
            <a:ext cx="7846920" cy="4752720"/>
          </a:xfrm>
          <a:prstGeom prst="rect">
            <a:avLst/>
          </a:prstGeom>
          <a:solidFill>
            <a:srgbClr val="ffcccc"/>
          </a:solidFill>
          <a:ln w="76320">
            <a:solidFill>
              <a:srgbClr val="ff99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Нетрадиционные методы развития мелкой моторики </a:t>
            </a:r>
            <a:br>
              <a:rPr sz="4000"/>
            </a:br>
            <a:r>
              <a:rPr b="1" i="1" lang="ru-RU" sz="4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у детей с ОВЗ</a:t>
            </a:r>
            <a:br>
              <a:rPr sz="4000"/>
            </a:br>
            <a:br>
              <a:rPr sz="4000"/>
            </a:br>
            <a:r>
              <a:rPr b="1" i="1" lang="ru-RU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Составила презентацию: </a:t>
            </a:r>
            <a:br>
              <a:rPr sz="2000"/>
            </a:br>
            <a:r>
              <a:rPr b="1" i="1" lang="ru-RU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  учитель, учитель-логопед ГБОУ школы №439 Индюкова А.М.</a:t>
            </a:r>
            <a:br>
              <a:rPr sz="2000"/>
            </a:br>
            <a:br>
              <a:rPr sz="2000"/>
            </a:br>
            <a:br>
              <a:rPr sz="6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Объект 3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7991280" cy="579276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4" descr=""/>
          <p:cNvPicPr/>
          <p:nvPr/>
        </p:nvPicPr>
        <p:blipFill>
          <a:blip r:embed="rId2"/>
          <a:stretch/>
        </p:blipFill>
        <p:spPr>
          <a:xfrm>
            <a:off x="684360" y="333360"/>
            <a:ext cx="30938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4356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990033"/>
                </a:solidFill>
                <a:latin typeface="Times New Roman"/>
              </a:rPr>
              <a:t>Четки можно купить или сделать из крупных бусин. Ребенок проговаривает строчку стихотворения и откладывает бусину (но не как на счетах, а держа четки этой же рукой). Работают 1-й, 2-й 3-й пальцы, а 4-й и 5-й держат четки. Упражнение выполняется попеременно каждой ру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Упражнение с четка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8" descr="P1030360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4572000" y="2276640"/>
            <a:ext cx="4462560" cy="3346200"/>
          </a:xfrm>
          <a:prstGeom prst="rect">
            <a:avLst/>
          </a:prstGeom>
          <a:ln w="1908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Times New Roman"/>
              </a:rPr>
              <a:t>Игры со счетными палочкам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В этих играх хорошими помощниками станут обыкновенные счетные палочки, карандаши или соломинки, веточки (если игра происходит на улице). Нехитрые задания помогут ребенку развить внимание, воображение, познакомиться с геометрическими фигурами и понятием симметр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Положите 4 счетные палочки на столе. Ребенок берет их одноименными пальцами, от указательных – к мизинцам. Пара пальцев берет одну палочк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000" y="380520"/>
            <a:ext cx="800244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Tahoma"/>
              </a:rPr>
              <a:t>Развитие тактильных ощущени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8" name="Picture 4" descr="0(2)"/>
          <p:cNvPicPr/>
          <p:nvPr/>
        </p:nvPicPr>
        <p:blipFill>
          <a:blip r:embed="rId1"/>
          <a:stretch/>
        </p:blipFill>
        <p:spPr>
          <a:xfrm>
            <a:off x="3924360" y="1628640"/>
            <a:ext cx="1344600" cy="180036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pic>
        <p:nvPicPr>
          <p:cNvPr id="119" name="Picture 6" descr="VolshMesh"/>
          <p:cNvPicPr/>
          <p:nvPr/>
        </p:nvPicPr>
        <p:blipFill>
          <a:blip r:embed="rId2"/>
          <a:stretch/>
        </p:blipFill>
        <p:spPr>
          <a:xfrm>
            <a:off x="3448080" y="3789360"/>
            <a:ext cx="1944720" cy="280836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pic>
        <p:nvPicPr>
          <p:cNvPr id="120" name="Picture 7" descr="212"/>
          <p:cNvPicPr/>
          <p:nvPr/>
        </p:nvPicPr>
        <p:blipFill>
          <a:blip r:embed="rId3"/>
          <a:stretch/>
        </p:blipFill>
        <p:spPr>
          <a:xfrm>
            <a:off x="5580000" y="1389240"/>
            <a:ext cx="3355920" cy="220788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pic>
        <p:nvPicPr>
          <p:cNvPr id="121" name="Picture 8" descr="210"/>
          <p:cNvPicPr/>
          <p:nvPr/>
        </p:nvPicPr>
        <p:blipFill>
          <a:blip r:embed="rId4"/>
          <a:stretch/>
        </p:blipFill>
        <p:spPr>
          <a:xfrm>
            <a:off x="250920" y="1413000"/>
            <a:ext cx="3240000" cy="210636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pic>
        <p:nvPicPr>
          <p:cNvPr id="122" name="Picture 9" descr="211"/>
          <p:cNvPicPr/>
          <p:nvPr/>
        </p:nvPicPr>
        <p:blipFill>
          <a:blip r:embed="rId5"/>
          <a:stretch/>
        </p:blipFill>
        <p:spPr>
          <a:xfrm>
            <a:off x="5724360" y="4221000"/>
            <a:ext cx="3095640" cy="190980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pic>
        <p:nvPicPr>
          <p:cNvPr id="123" name="Picture 10" descr="P1030348"/>
          <p:cNvPicPr/>
          <p:nvPr/>
        </p:nvPicPr>
        <p:blipFill>
          <a:blip r:embed="rId6"/>
          <a:stretch/>
        </p:blipFill>
        <p:spPr>
          <a:xfrm>
            <a:off x="765000" y="3933720"/>
            <a:ext cx="1862280" cy="259236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Times New Roman"/>
              </a:rPr>
              <a:t>Игры с гранулированным аквариумным грунто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43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Times New Roman"/>
              </a:rPr>
              <a:t>Прячем руч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Times New Roman"/>
              </a:rPr>
              <a:t>Пересыпа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Times New Roman"/>
              </a:rPr>
              <a:t>Дождь, гра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Times New Roman"/>
              </a:rPr>
              <a:t>Разложи по тарелочк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Times New Roman"/>
              </a:rPr>
              <a:t>Найди игрушк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Times New Roman"/>
              </a:rPr>
              <a:t>Игра «Золушк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Times New Roman"/>
              </a:rPr>
              <a:t>«Отгадай, что в мешочке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Times New Roman"/>
              </a:rPr>
              <a:t>«Сухой и влажный бассейн» один из гороха – фасоли, другой из влажных грану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Рисунок 11" descr=""/>
          <p:cNvPicPr/>
          <p:nvPr/>
        </p:nvPicPr>
        <p:blipFill>
          <a:blip r:embed="rId1"/>
          <a:stretch/>
        </p:blipFill>
        <p:spPr>
          <a:xfrm>
            <a:off x="4427640" y="1798560"/>
            <a:ext cx="455616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Игры с магнитным конструкторо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Объект 3" descr=""/>
          <p:cNvPicPr/>
          <p:nvPr/>
        </p:nvPicPr>
        <p:blipFill>
          <a:blip r:embed="rId1"/>
          <a:stretch/>
        </p:blipFill>
        <p:spPr>
          <a:xfrm>
            <a:off x="4424400" y="3500280"/>
            <a:ext cx="4586400" cy="305784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5" descr=""/>
          <p:cNvPicPr/>
          <p:nvPr/>
        </p:nvPicPr>
        <p:blipFill>
          <a:blip r:embed="rId2"/>
          <a:stretch/>
        </p:blipFill>
        <p:spPr>
          <a:xfrm>
            <a:off x="65160" y="1268280"/>
            <a:ext cx="4213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28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Игры с прищепка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Объект 3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4248360" cy="323064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4" descr=""/>
          <p:cNvPicPr/>
          <p:nvPr/>
        </p:nvPicPr>
        <p:blipFill>
          <a:blip r:embed="rId2"/>
          <a:stretch/>
        </p:blipFill>
        <p:spPr>
          <a:xfrm>
            <a:off x="4572000" y="3068640"/>
            <a:ext cx="435600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050920" y="-360"/>
            <a:ext cx="53992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Times New Roman"/>
              </a:rPr>
              <a:t>Заключение</a:t>
            </a:r>
            <a:r>
              <a:rPr b="0" lang="ru-RU" sz="44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Развитие мелкой моторики и тактильно-двигательного восприятия у детей позволяет детя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Times New Roman"/>
              </a:rPr>
              <a:t>овладеть навыками письма, рисования, ручного труда, что в будущем поможет избежать многих проблем школьного обучени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Times New Roman"/>
              </a:rPr>
              <a:t>лучше адаптироваться в практической жизн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Times New Roman"/>
              </a:rPr>
              <a:t>научиться понимать многие явления окружающего мир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1"/>
          <a:stretch/>
        </p:blipFill>
        <p:spPr>
          <a:xfrm>
            <a:off x="395280" y="3213000"/>
            <a:ext cx="3333600" cy="333396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pic>
        <p:nvPicPr>
          <p:cNvPr id="136" name="Picture 10" descr=""/>
          <p:cNvPicPr/>
          <p:nvPr/>
        </p:nvPicPr>
        <p:blipFill>
          <a:blip r:embed="rId2"/>
          <a:stretch/>
        </p:blipFill>
        <p:spPr>
          <a:xfrm>
            <a:off x="6877080" y="3429000"/>
            <a:ext cx="1905120" cy="2619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37" name="Picture 11" descr=""/>
          <p:cNvPicPr/>
          <p:nvPr/>
        </p:nvPicPr>
        <p:blipFill>
          <a:blip r:embed="rId3"/>
          <a:stretch/>
        </p:blipFill>
        <p:spPr>
          <a:xfrm>
            <a:off x="4211640" y="3645000"/>
            <a:ext cx="2095560" cy="28382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76360" y="134100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33"/>
                </a:solidFill>
                <a:latin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5" descr="2H2"/>
          <p:cNvPicPr/>
          <p:nvPr/>
        </p:nvPicPr>
        <p:blipFill>
          <a:blip r:embed="rId1"/>
          <a:stretch/>
        </p:blipFill>
        <p:spPr>
          <a:xfrm>
            <a:off x="3862440" y="2708280"/>
            <a:ext cx="1419120" cy="14400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6"/>
          <p:cNvSpPr/>
          <p:nvPr/>
        </p:nvSpPr>
        <p:spPr>
          <a:xfrm>
            <a:off x="1351080" y="4941720"/>
            <a:ext cx="6440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76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76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990033"/>
                </a:solidFill>
                <a:latin typeface="Times New Roman"/>
              </a:rPr>
              <a:t>Всестороннее представление об окружающем предметном мире у человека не может сложиться без тактильно-двигательного восприятия, так как оно лежит в основе чувственного познания. Именно с помощью тактильно-двигательного восприятия складываются первые впечатления о форме, величине предметов, их расположении в пространств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-360" y="43920"/>
            <a:ext cx="543564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                </a:t>
            </a:r>
            <a:r>
              <a:rPr b="0" lang="ru-RU" sz="2800" spc="-1" strike="noStrike">
                <a:solidFill>
                  <a:srgbClr val="990033"/>
                </a:solidFill>
                <a:latin typeface="Times New Roman"/>
              </a:rPr>
              <a:t>Известный итальянский педагог, психолог и врач Мария Монтессори отмечала, что благодаря контакту с окружением и собственным исследованиям, ребенок формирует запас понятий, которыми может оперировать его интеллект. Без этого теряется способность к абстрагированию. Контакт происходит с помощью органов чувств и движени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titul_maria_montessori1"/>
          <p:cNvPicPr/>
          <p:nvPr/>
        </p:nvPicPr>
        <p:blipFill>
          <a:blip r:embed="rId1"/>
          <a:stretch/>
        </p:blipFill>
        <p:spPr>
          <a:xfrm>
            <a:off x="5580000" y="1628640"/>
            <a:ext cx="3240000" cy="2882880"/>
          </a:xfrm>
          <a:prstGeom prst="rect">
            <a:avLst/>
          </a:prstGeom>
          <a:ln w="5724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3120" y="549360"/>
            <a:ext cx="89312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Доказано, что развитие руки находится в тесной связи с развитием мозга (речи и мышления) ребен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Рисунок 2" descr=""/>
          <p:cNvPicPr/>
          <p:nvPr/>
        </p:nvPicPr>
        <p:blipFill>
          <a:blip r:embed="rId1"/>
          <a:stretch/>
        </p:blipFill>
        <p:spPr>
          <a:xfrm>
            <a:off x="762120" y="1773360"/>
            <a:ext cx="761976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80"/>
          </a:xfrm>
          <a:prstGeom prst="rect">
            <a:avLst/>
          </a:prstGeom>
          <a:noFill/>
          <a:ln w="0">
            <a:noFill/>
          </a:ln>
        </p:spPr>
        <p:txBody>
          <a:bodyPr tIns="12960" bIns="129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Цель всех коррекционных методов по улучшению мелкой моторики  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это развитие взаимосвязи между полушариями головного мозга и синхронизация их работы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544464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Массаж кистей рук и пальце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5400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Массаж</a:t>
            </a:r>
            <a:r>
              <a:rPr b="0" lang="ru-RU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является одним из видов пассивной гимнастики. Он оказывает общеукрепляющее действие на мышечную систему, повышая тонус, эластичность и сократительную способность мышц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Приемы массажа и самомассажа кистей и пальцев рук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массаж тыльной стороны кистей ру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массаж  ладон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массаж пальцев ру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5724360" y="4005360"/>
            <a:ext cx="2953080" cy="256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00" name="Picture 8" descr=""/>
          <p:cNvPicPr/>
          <p:nvPr/>
        </p:nvPicPr>
        <p:blipFill>
          <a:blip r:embed="rId2"/>
          <a:stretch/>
        </p:blipFill>
        <p:spPr>
          <a:xfrm>
            <a:off x="6156360" y="1052640"/>
            <a:ext cx="2131920" cy="2692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00720" cy="55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Упражнения с массажёр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1" descr="P1040236"/>
          <p:cNvPicPr/>
          <p:nvPr/>
        </p:nvPicPr>
        <p:blipFill>
          <a:blip r:embed="rId1"/>
          <a:stretch/>
        </p:blipFill>
        <p:spPr>
          <a:xfrm>
            <a:off x="2230560" y="3141720"/>
            <a:ext cx="4681440" cy="3513240"/>
          </a:xfrm>
          <a:prstGeom prst="rect">
            <a:avLst/>
          </a:prstGeom>
          <a:ln w="19080">
            <a:solidFill>
              <a:srgbClr val="009999"/>
            </a:solidFill>
            <a:miter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000" y="980640"/>
            <a:ext cx="814716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Times New Roman"/>
              </a:rPr>
              <a:t>катать по столу от кончиков пальцев до локтя, между ладонями, по тыльной стороне ки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Times New Roman"/>
              </a:rPr>
              <a:t>Выполнять упражнения надо обязательно каждой рукой по очеред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Массажёры из оникса для кистей рук и стоп но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Рисунок 6" descr=""/>
          <p:cNvPicPr/>
          <p:nvPr/>
        </p:nvPicPr>
        <p:blipFill>
          <a:blip r:embed="rId1"/>
          <a:stretch/>
        </p:blipFill>
        <p:spPr>
          <a:xfrm>
            <a:off x="4371840" y="3213000"/>
            <a:ext cx="4548240" cy="3168720"/>
          </a:xfrm>
          <a:prstGeom prst="rect">
            <a:avLst/>
          </a:prstGeom>
          <a:ln w="0">
            <a:noFill/>
          </a:ln>
        </p:spPr>
      </p:pic>
      <p:pic>
        <p:nvPicPr>
          <p:cNvPr id="106" name="Объект 8" descr=""/>
          <p:cNvPicPr/>
          <p:nvPr/>
        </p:nvPicPr>
        <p:blipFill>
          <a:blip r:embed="rId2"/>
          <a:stretch/>
        </p:blipFill>
        <p:spPr>
          <a:xfrm>
            <a:off x="298440" y="1268280"/>
            <a:ext cx="39132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Достоинства Су-Джок терап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Высокая эффективность – при правильном применении наступает выраженный эффект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Абсолютная безопасность – неправильное применение никогда не наносит вред – оно просто неэффективно.</a:t>
            </a:r>
            <a:r>
              <a:rPr b="1" i="1" lang="ru-RU" sz="27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Универсальность – Су-Джок терапию могут использовать и педагоги в своей работе, и родители в домашних условиях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Простота применения – для получения результата проводить стимуляцию биологически активных точек с помощью Су-Джок шариков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3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3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3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3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20:30:24Z</dcterms:created>
  <dc:creator>Вера</dc:creator>
  <dc:description/>
  <dc:language>en-US</dc:language>
  <cp:lastModifiedBy>439-ДО-6</cp:lastModifiedBy>
  <dcterms:modified xsi:type="dcterms:W3CDTF">2019-11-25T09:29:30Z</dcterms:modified>
  <cp:revision>62</cp:revision>
  <dc:subject/>
  <dc:title>Развитие мелкой моторики у детей с ограниченными возможностями развития</dc:title>
</cp:coreProperties>
</file>