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605-581C-4AC5-8894-D6461AFF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978-AF6F-432C-A83B-F39BFB3B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199-6190-48B9-AE75-C25E259F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DEE-C83E-49B8-A58A-5948A9DD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58D9-C1B2-470D-AAB1-1615570C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295B-5FCC-4639-A0D1-35151062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7819-E24D-4FE2-A170-82BBC4CB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BF99-027B-45A6-8B1E-7926F3B6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4457-33E8-4B9F-B993-CAD488DC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389B-D39B-45C7-81A0-E51F7995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ABF3-414E-4977-9986-FFDE9D05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E89-672C-4E16-A563-8D0BE6FD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F4C0-18BE-44A2-B18D-0AFA31C1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297E-698F-4B6B-83BF-56803807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5991-DDE0-4F01-8533-22A0052E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49C3-5AB8-4994-89A6-8DD4DA3C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4774-4FA6-4F5D-9067-0C26826F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DBC5C-6507-4AFE-8973-DAF59E95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E18C-84B8-4924-ABFC-89B1CA8F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6DEC5-A757-44F5-84C1-4001B771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B9B4-7DF8-40AE-892C-2227FC6D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8B18-DCD8-4C6D-A040-2911B7CF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42F-3DA8-489F-BE5B-98F804E6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9654F-6B4A-40F8-83F9-C8CB2BB7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4DF63-4AA9-48E0-AE5A-87366273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D0D0B-78BD-4733-94FF-1498905A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D68F-39A3-41DF-B185-68FABB05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BF2BB-4162-4E37-AD84-70CEAA80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4BB7-F67B-461E-BDC3-8BEAFCDD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30722-EBC4-4886-ABA4-DA26C1A3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DE513-1980-49C5-A77A-0D725F7D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00375-9CBF-4C5F-BA22-BFB423BF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05B9F-F7B3-4376-BD63-AB5DBF2D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B42-644C-40F2-81D0-B09D82A9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FFEEF-1885-4E19-8BBE-8F23B776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4EE34-AFAE-4FB6-BB05-95FE5B16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FD4B7-D90E-4D40-96D1-1D14C3CE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3C1F7-C563-4360-8237-8113C8C7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C260D-EB34-4FA7-8586-A0C13BE2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51702-9315-4EDA-8180-454F278F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BE420-3288-41FC-A587-54A5C63F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D5B33-E7E9-411A-A62F-36212ED6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2E018-A18D-4013-AFD8-69203E94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A0F-537E-4439-A5C7-35F89AF9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621-A388-4983-A8A8-110A6072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CA0-30CF-4875-A3D9-AF1D375F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DFA-3D3C-4555-9797-AE881877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022-E9AB-46CC-9C7D-9078E034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89DA-7B64-4D86-8A00-2DAA39CF85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6896-CB4A-4916-B450-B897A8C2A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6541-F89C-4112-834E-76267AA031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EA78-B22C-4233-894A-DAA1C5F4B7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430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4a7b"/>
                </a:solidFill>
                <a:latin typeface="Calibri"/>
              </a:rPr>
              <a:t>Урок русского языка в 6 классе</a:t>
            </a:r>
            <a:br>
              <a:rPr sz="2800"/>
            </a:br>
            <a:r>
              <a:rPr b="1" i="1" lang="ru-RU" sz="2800" spc="-1" strike="noStrike">
                <a:solidFill>
                  <a:srgbClr val="604a7b"/>
                </a:solidFill>
                <a:latin typeface="Calibri"/>
              </a:rPr>
              <a:t>«Обобщение по теме: « Морфемика, словообразование и орфография»</a:t>
            </a: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067280" y="3500280"/>
            <a:ext cx="37051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Calibri"/>
              </a:rPr>
              <a:t>Выполнила учитель русского языка 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Calibri"/>
              </a:rPr>
              <a:t>литературы МОУ Воздвиженской С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Calibri"/>
              </a:rPr>
              <a:t>Ольнева Наталья Юр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3296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ловообра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57760" y="1642680"/>
            <a:ext cx="48290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звеселый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вражек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подсвечник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есовоз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400" y="1714680"/>
            <a:ext cx="3036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ыполните словообразовательный разбор слов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есёлый – весёлый (+ раз-,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иставоч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вражек – овраг (+ -ек-,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уффиксаль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вечник – свеча(+под-, -ник-,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ист.-суф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совоз – возить лес (-воз- о -лес-,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лож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5"/>
          <p:cNvSpPr/>
          <p:nvPr/>
        </p:nvSpPr>
        <p:spPr>
          <a:xfrm>
            <a:off x="1116000" y="260280"/>
            <a:ext cx="7559640" cy="136836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есть слово с ошиб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539640" y="2133720"/>
            <a:ext cx="3672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Гора, гористый, приго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7"/>
          <p:cNvSpPr/>
          <p:nvPr/>
        </p:nvSpPr>
        <p:spPr>
          <a:xfrm>
            <a:off x="539640" y="3213000"/>
            <a:ext cx="3745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одгореть, загар, угор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8"/>
          <p:cNvSpPr/>
          <p:nvPr/>
        </p:nvSpPr>
        <p:spPr>
          <a:xfrm>
            <a:off x="539640" y="4365720"/>
            <a:ext cx="3743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Касательная, неукосни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касну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9"/>
          <p:cNvSpPr/>
          <p:nvPr/>
        </p:nvSpPr>
        <p:spPr>
          <a:xfrm>
            <a:off x="539640" y="5445000"/>
            <a:ext cx="36734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ложить, сложение, сла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5435640" y="2637000"/>
            <a:ext cx="3027240" cy="1008000"/>
            <a:chOff x="5435640" y="2637000"/>
            <a:chExt cx="3027240" cy="1008000"/>
          </a:xfrm>
        </p:grpSpPr>
        <p:sp>
          <p:nvSpPr>
            <p:cNvPr id="193" name="AutoShape 21"/>
            <p:cNvSpPr/>
            <p:nvPr/>
          </p:nvSpPr>
          <p:spPr>
            <a:xfrm>
              <a:off x="5435640" y="263700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й-ай-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шибочк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2" descr="super_smilies058"/>
            <p:cNvPicPr/>
            <p:nvPr/>
          </p:nvPicPr>
          <p:blipFill>
            <a:blip r:embed="rId1"/>
            <a:stretch/>
          </p:blipFill>
          <p:spPr>
            <a:xfrm>
              <a:off x="5576400" y="2839680"/>
              <a:ext cx="845280" cy="6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23"/>
          <p:cNvGrpSpPr/>
          <p:nvPr/>
        </p:nvGrpSpPr>
        <p:grpSpPr>
          <a:xfrm>
            <a:off x="5435640" y="4221000"/>
            <a:ext cx="3027240" cy="1008360"/>
            <a:chOff x="5435640" y="4221000"/>
            <a:chExt cx="3027240" cy="1008360"/>
          </a:xfrm>
        </p:grpSpPr>
        <p:sp>
          <p:nvSpPr>
            <p:cNvPr id="196" name="AutoShape 24"/>
            <p:cNvSpPr/>
            <p:nvPr/>
          </p:nvSpPr>
          <p:spPr>
            <a:xfrm>
              <a:off x="5435640" y="4221000"/>
              <a:ext cx="302724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ТЛИЧ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25" descr="big_smiles_1"/>
            <p:cNvPicPr/>
            <p:nvPr/>
          </p:nvPicPr>
          <p:blipFill>
            <a:blip r:embed="rId2"/>
            <a:stretch/>
          </p:blipFill>
          <p:spPr>
            <a:xfrm>
              <a:off x="5506560" y="4355640"/>
              <a:ext cx="930960" cy="80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2"/>
          <p:cNvGrpSpPr/>
          <p:nvPr/>
        </p:nvGrpSpPr>
        <p:grpSpPr>
          <a:xfrm>
            <a:off x="5580000" y="1268280"/>
            <a:ext cx="3027600" cy="1008360"/>
            <a:chOff x="5580000" y="1268280"/>
            <a:chExt cx="3027600" cy="1008360"/>
          </a:xfrm>
        </p:grpSpPr>
        <p:sp>
          <p:nvSpPr>
            <p:cNvPr id="199" name="AutoShape 7"/>
            <p:cNvSpPr/>
            <p:nvPr/>
          </p:nvSpPr>
          <p:spPr>
            <a:xfrm>
              <a:off x="5580000" y="1268280"/>
              <a:ext cx="302760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РА! ВЕР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5" descr="super_smilies086"/>
            <p:cNvPicPr/>
            <p:nvPr/>
          </p:nvPicPr>
          <p:blipFill>
            <a:blip r:embed="rId1"/>
            <a:stretch/>
          </p:blipFill>
          <p:spPr>
            <a:xfrm>
              <a:off x="5721120" y="1336320"/>
              <a:ext cx="935640" cy="86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Rectangle 13"/>
          <p:cNvSpPr/>
          <p:nvPr/>
        </p:nvSpPr>
        <p:spPr>
          <a:xfrm>
            <a:off x="1332000" y="189000"/>
            <a:ext cx="7272360" cy="86364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Укажите слово с ошиб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4"/>
          <p:cNvSpPr/>
          <p:nvPr/>
        </p:nvSpPr>
        <p:spPr>
          <a:xfrm>
            <a:off x="539640" y="3573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ь, положение, изложить, поло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539640" y="4653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Избирать, подберу, замирать, замере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6"/>
          <p:cNvSpPr/>
          <p:nvPr/>
        </p:nvSpPr>
        <p:spPr>
          <a:xfrm>
            <a:off x="539640" y="566100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Косить, коса, коснуться, кас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7"/>
          <p:cNvSpPr/>
          <p:nvPr/>
        </p:nvSpPr>
        <p:spPr>
          <a:xfrm>
            <a:off x="539640" y="2565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ыросли, выращенный, заросли, 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9"/>
          <p:cNvGrpSpPr/>
          <p:nvPr/>
        </p:nvGrpSpPr>
        <p:grpSpPr>
          <a:xfrm>
            <a:off x="1042920" y="1268280"/>
            <a:ext cx="3024360" cy="1008360"/>
            <a:chOff x="1042920" y="1268280"/>
            <a:chExt cx="3024360" cy="1008360"/>
          </a:xfrm>
        </p:grpSpPr>
        <p:sp>
          <p:nvSpPr>
            <p:cNvPr id="207" name="AutoShape 20"/>
            <p:cNvSpPr/>
            <p:nvPr/>
          </p:nvSpPr>
          <p:spPr>
            <a:xfrm>
              <a:off x="1042920" y="1268280"/>
              <a:ext cx="302436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ОДУМ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21" descr="big_smiles_6"/>
            <p:cNvPicPr/>
            <p:nvPr/>
          </p:nvPicPr>
          <p:blipFill>
            <a:blip r:embed="rId2"/>
            <a:stretch/>
          </p:blipFill>
          <p:spPr>
            <a:xfrm>
              <a:off x="1113840" y="1407600"/>
              <a:ext cx="1125360" cy="7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24000" y="259920"/>
            <a:ext cx="83628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динакова ли орфограмма в словах?       Назовите «лишние» слова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..саться, прик..снуться,  соприк..сновение, к..сательная, к..с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..стение, прир..стать, р..са, выр..щив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вер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ться, при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уться,  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тельная,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оси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Р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ние, прир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ть,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рос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ыр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и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амопроверк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 ош - 5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-2 ош – «4»,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-4 ош – «3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:  2,3,1,2,1,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обавьте в текст части сложных с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г моего др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оего друга есть _______опытный  коротко________ный  висло____ий пёс. И хотя он и ____корослый, но очень ______душный и само_______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 -стоятель-, -добр-, -люб-,-шёрст, -ухо-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низ-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иатю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Чем надо гордиться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5-50сл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1.Я понял материал и могу объяснить друг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Я понял материал, но объяснить  другу затрудняюс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3.Мне необходимо ещ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работать над материалом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71680" y="1571760"/>
            <a:ext cx="828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ип уро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Урок рефлексии и коррекции знаний, умений, навы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крепить представление о морфеме как минимально значимой единице язы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крепить умение производить морфемный и словообразовательный разборы с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тработать навыки употребления словообразовательных средств в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42600" y="1714680"/>
            <a:ext cx="8072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ловарь Ожего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р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чувство собственного достоинства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циональная гордост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рды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непомерная гордость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здать гордыню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92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ставьте  пропущенные букв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.рел, к..снулся, к..сание, пол..жение, р..стет, пол…гает, з..ря,  выр…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..сток,  …доровый, Р..стов,  …десь,  отр…сль,  …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овер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л, к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улся, к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ние, пол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ние, р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т, пол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ет, з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я,  выр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к,  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ровый, Р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в,  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ь,  отр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ь,  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бобщение по теме морфемика, словообразование и орфография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920" y="1645200"/>
            <a:ext cx="74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уйте слова с данными морфемами. Составьте с н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я по ря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3" descr="http://festival.1september.ru/articles/632989/img1.gif"/>
          <p:cNvPicPr/>
          <p:nvPr/>
        </p:nvPicPr>
        <p:blipFill>
          <a:blip r:embed="rId1"/>
          <a:stretch/>
        </p:blipFill>
        <p:spPr>
          <a:xfrm>
            <a:off x="571680" y="2500200"/>
            <a:ext cx="6786360" cy="23767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428760" y="550188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Какой это вид разб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кие цели вы ставите перед собой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Повторить морф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Вспомнить способы слово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- А для чего их надо зн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правил словообразования, умение членить слово на морфемы, определять роль и значение морфем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могают избежать многих ошибо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связанных с грамотностью и культурой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рфем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Содержимое 6" descr="http://festival.1september.ru/articles/632989/img1.gif"/>
          <p:cNvPicPr/>
          <p:nvPr/>
        </p:nvPicPr>
        <p:blipFill>
          <a:blip r:embed="rId1"/>
          <a:stretch/>
        </p:blipFill>
        <p:spPr>
          <a:xfrm>
            <a:off x="3286080" y="2071800"/>
            <a:ext cx="4714920" cy="2286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928520"/>
            <a:ext cx="29653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бразуйте слова с данными морфемами. Придумайте  предложение с  любым сло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21:53:52Z</dcterms:created>
  <dc:creator>Федотова Виктория Александровна</dc:creator>
  <dc:description/>
  <dc:language>en-US</dc:language>
  <cp:lastModifiedBy>123</cp:lastModifiedBy>
  <dcterms:modified xsi:type="dcterms:W3CDTF">2019-11-25T17:48:35Z</dcterms:modified>
  <cp:revision>62</cp:revision>
  <dc:subject/>
  <dc:title>Слайд 1</dc:title>
</cp:coreProperties>
</file>