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280-3B49-4DB1-90EC-C1A535EE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931-BF43-4CA2-A6A1-5DE00D41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D89-896F-469C-A213-8E8A4D3A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9FF-E1C3-4BBD-B945-8ABEC748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C5C-16BC-465A-9E13-39BD208D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EF53-326F-44AC-AD9F-401A69FD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28CF-2C6D-4369-8271-148CDE92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706C-B43B-474C-A8A6-33D97C41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007C-4C39-468B-ABDE-38135E1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9B23-B0A8-484A-A802-4DCFF6AD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BFA9-A9CD-4AB0-9448-12FC944D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4D0-9F77-45E4-A00B-6DB96B69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AB58-4328-4B58-8A3A-2DFA5CB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4452-AF27-44F8-A031-55F0613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EFE0-AB4B-42A1-856A-275DACF3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AE6A-5113-4B29-8484-D5C7B29C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0A1-EF78-4484-997D-5358ADE4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24B3-35BB-4B34-8A21-AA1B12B5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ABE4-6B9C-40F9-A01C-12C1B76A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72EE-B144-484C-A38A-16E0FC9B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34A2-33C7-42CF-987E-E56F81E5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FAFC-6615-48D8-A025-5B3AE48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89E-5BDC-4F4E-9198-E4DD0831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F7BF-01BD-4C6B-AFAE-645804E0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9A73-CF06-4990-9695-FF919DF1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9B37-7932-40C5-971C-45CFBA9D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66EF-9F3E-4929-8019-D4F8CF5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60EE-901C-4CDA-8889-B1B33FE0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CE0A-3B54-4E00-953E-2858CA80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5063-B7D8-4984-8BED-886AB9E9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0705-4A62-4E0B-8C45-F98CF0B5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EFDD-F4D1-4387-9D75-1361482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B757-4F78-43A0-949D-992D1DAF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27E-EB54-447E-B64A-B11DADE7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D177-D790-451D-A9A3-7105982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0693-011D-4514-9F34-F117AD85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EDE3-07D4-4DFE-923A-4A39A902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C50A-21A5-44F3-9A05-222E0C2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4939-CE69-4CED-B98A-82843AC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D3AD-B92E-49D5-8B82-3DA9102F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BBC8-95CA-43FC-AE1B-D34B5638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1F24-757B-4D3F-B405-F1E9F929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49DB-6818-41F5-9283-FD9654FE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87E-7EC3-4002-8544-B5EBAC24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FDB-A796-430F-9CB0-BAF2E9F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BCE-84DF-435C-BCB5-260032C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177-D0DC-40B2-9763-A7E5BEE7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6D7-CAC0-455A-BFC7-59E8939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184-13B5-478A-AD8B-D93F257C5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D82D-96DE-452F-B17D-A345D96BB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394-D9DF-4E98-A7B5-B6013477E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18F9-FE25-45E0-9F25-C173422DA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4a7b"/>
                </a:solidFill>
                <a:latin typeface="Calibri"/>
              </a:rPr>
              <a:t>Урок русского языка в 6 классе</a:t>
            </a:r>
            <a:br>
              <a:rPr sz="2800"/>
            </a:br>
            <a:r>
              <a:rPr b="1" i="1" lang="ru-RU" sz="2800" spc="-1" strike="noStrike">
                <a:solidFill>
                  <a:srgbClr val="604a7b"/>
                </a:solidFill>
                <a:latin typeface="Calibri"/>
              </a:rPr>
              <a:t>«Обобщение по теме: « Морфемика, словообразование и орфография»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067280" y="3500280"/>
            <a:ext cx="37051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Выполнила 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литературы МОУ Воздвиженской С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Calibri"/>
              </a:rPr>
              <a:t>Ольнева Наталья Юр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3296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ловообра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57760" y="1642680"/>
            <a:ext cx="4829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веселый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вражек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подсвечник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совоз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400" y="1714680"/>
            <a:ext cx="3036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полните словообразовательный разбор слов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есёлый – весёлый (+ раз-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ставоч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ражек – овраг (+ -ек-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уффиксаль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вечник – свеча(+под-, -ник-,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ист.-су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совоз – возить лес (-воз- о -лес-,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лож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5"/>
          <p:cNvSpPr/>
          <p:nvPr/>
        </p:nvSpPr>
        <p:spPr>
          <a:xfrm>
            <a:off x="1116000" y="260280"/>
            <a:ext cx="7559640" cy="136836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каком ряду есть слово с ошиб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539640" y="2133720"/>
            <a:ext cx="367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Гора, гористый, приго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7"/>
          <p:cNvSpPr/>
          <p:nvPr/>
        </p:nvSpPr>
        <p:spPr>
          <a:xfrm>
            <a:off x="539640" y="3213000"/>
            <a:ext cx="3745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дгореть, загар, угор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539640" y="4365720"/>
            <a:ext cx="3743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асательная, неукосн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асну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9"/>
          <p:cNvSpPr/>
          <p:nvPr/>
        </p:nvSpPr>
        <p:spPr>
          <a:xfrm>
            <a:off x="539640" y="5445000"/>
            <a:ext cx="36734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ложить, сложение, сла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35640" y="2637000"/>
            <a:ext cx="3027240" cy="1008000"/>
            <a:chOff x="5435640" y="2637000"/>
            <a:chExt cx="3027240" cy="1008000"/>
          </a:xfrm>
        </p:grpSpPr>
        <p:sp>
          <p:nvSpPr>
            <p:cNvPr id="193" name="AutoShape 21"/>
            <p:cNvSpPr/>
            <p:nvPr/>
          </p:nvSpPr>
          <p:spPr>
            <a:xfrm>
              <a:off x="5435640" y="2637000"/>
              <a:ext cx="3027240" cy="100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й-ай-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шибочк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2" descr="super_smilies058"/>
            <p:cNvPicPr/>
            <p:nvPr/>
          </p:nvPicPr>
          <p:blipFill>
            <a:blip r:embed="rId1"/>
            <a:stretch/>
          </p:blipFill>
          <p:spPr>
            <a:xfrm>
              <a:off x="5576400" y="2839680"/>
              <a:ext cx="845280" cy="6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23"/>
          <p:cNvGrpSpPr/>
          <p:nvPr/>
        </p:nvGrpSpPr>
        <p:grpSpPr>
          <a:xfrm>
            <a:off x="5435640" y="4221000"/>
            <a:ext cx="3027240" cy="1008360"/>
            <a:chOff x="5435640" y="4221000"/>
            <a:chExt cx="3027240" cy="1008360"/>
          </a:xfrm>
        </p:grpSpPr>
        <p:sp>
          <p:nvSpPr>
            <p:cNvPr id="196" name="AutoShape 24"/>
            <p:cNvSpPr/>
            <p:nvPr/>
          </p:nvSpPr>
          <p:spPr>
            <a:xfrm>
              <a:off x="5435640" y="4221000"/>
              <a:ext cx="302724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ОТЛИЧ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25" descr="big_smiles_1"/>
            <p:cNvPicPr/>
            <p:nvPr/>
          </p:nvPicPr>
          <p:blipFill>
            <a:blip r:embed="rId2"/>
            <a:stretch/>
          </p:blipFill>
          <p:spPr>
            <a:xfrm>
              <a:off x="5506560" y="4355640"/>
              <a:ext cx="930960" cy="80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5580000" y="1268280"/>
            <a:ext cx="3027600" cy="1008360"/>
            <a:chOff x="5580000" y="1268280"/>
            <a:chExt cx="3027600" cy="1008360"/>
          </a:xfrm>
        </p:grpSpPr>
        <p:sp>
          <p:nvSpPr>
            <p:cNvPr id="199" name="AutoShape 7"/>
            <p:cNvSpPr/>
            <p:nvPr/>
          </p:nvSpPr>
          <p:spPr>
            <a:xfrm>
              <a:off x="5580000" y="1268280"/>
              <a:ext cx="302760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РА! 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5" descr="super_smilies086"/>
            <p:cNvPicPr/>
            <p:nvPr/>
          </p:nvPicPr>
          <p:blipFill>
            <a:blip r:embed="rId1"/>
            <a:stretch/>
          </p:blipFill>
          <p:spPr>
            <a:xfrm>
              <a:off x="5721120" y="1336320"/>
              <a:ext cx="935640" cy="86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Rectangle 13"/>
          <p:cNvSpPr/>
          <p:nvPr/>
        </p:nvSpPr>
        <p:spPr>
          <a:xfrm>
            <a:off x="1332000" y="189000"/>
            <a:ext cx="7272360" cy="863640"/>
          </a:xfrm>
          <a:prstGeom prst="rect">
            <a:avLst/>
          </a:prstGeom>
          <a:solidFill>
            <a:srgbClr val="ffffa7"/>
          </a:solidFill>
          <a:ln w="9360">
            <a:solidFill>
              <a:srgbClr val="ffff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кажите слово с ошиб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539640" y="3573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ь, положение, изложить, поло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39640" y="4653000"/>
            <a:ext cx="8209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Избирать, подберу, замирать, замере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539640" y="566100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осить, коса, коснуться, кас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539640" y="2565360"/>
            <a:ext cx="820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ffb9"/>
              </a:gs>
              <a:gs pos="50000">
                <a:srgbClr val="ffffff"/>
              </a:gs>
              <a:gs pos="100000">
                <a:srgbClr val="b9ffb9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ыросли, выращенный, заросли, ро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042920" y="1268280"/>
            <a:ext cx="3024360" cy="1008360"/>
            <a:chOff x="1042920" y="1268280"/>
            <a:chExt cx="3024360" cy="1008360"/>
          </a:xfrm>
        </p:grpSpPr>
        <p:sp>
          <p:nvSpPr>
            <p:cNvPr id="207" name="AutoShape 20"/>
            <p:cNvSpPr/>
            <p:nvPr/>
          </p:nvSpPr>
          <p:spPr>
            <a:xfrm>
              <a:off x="1042920" y="1268280"/>
              <a:ext cx="3024360" cy="100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ОДУМА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21" descr="big_smiles_6"/>
            <p:cNvPicPr/>
            <p:nvPr/>
          </p:nvPicPr>
          <p:blipFill>
            <a:blip r:embed="rId2"/>
            <a:stretch/>
          </p:blipFill>
          <p:spPr>
            <a:xfrm>
              <a:off x="1113840" y="1407600"/>
              <a:ext cx="1125360" cy="7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24000" y="259920"/>
            <a:ext cx="83628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динакова ли орфограмма в словах?       Назовите «лишние» слов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.саться, прик..снуться,  соприк..сновение, к..сательная, к..с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.стение, прир..стать, р..са, выр..щи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ер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ться, при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уться, 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тельная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ос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ние, при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ро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ыр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и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амопроверк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ош - 5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2 ош – «4»,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4 ош – «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:  2,3,1,2,1,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обавьте в текст части сложных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 моего др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оего друга есть _______опытный  коротко________ный  висло____ий пёс. И хотя он и ____корослый, но очень ______душный и само_______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-стоятель-, -добр-, -люб-,-шёрст, -ухо-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из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атю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ем надо гордиться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5-50сл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1.Я понял материал и могу объяснить друг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Я понял материал, но объяснить  другу затрудняю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3.Мне необходимо ещ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работать над материалом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71680" y="157176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 уро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Урок рефлексии и коррекции знаний, умений, навы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крепить представление о морфеме как минимально значимой единице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крепить умение производить морфемный и словообразовательный разборы 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тработать навыки употребления словообразовательных средств в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42600" y="1714680"/>
            <a:ext cx="80722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арь Ожего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увство собственного достоинства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иональная гордос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ды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епомерная гордость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здать гордын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92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ставьте  пропущенные букв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.рел, к..снулся, к..сание, пол..жение, р..стет, пол…гает, з..ря,  выр…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.сток,  …доровый, Р..стов,  …десь,  отр…сль,  …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, к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улся, к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ние, пол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ние, 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т, пол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ет, з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я,  вы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к,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овый, 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в,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ь,  отр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ь,  </a:t>
            </a: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бобщение по теме морфемика, словообразование и орфография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920" y="1645200"/>
            <a:ext cx="74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уйте слова с данными морфемами. Составьте с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по ря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3" descr="http://festival.1september.ru/articles/632989/img1.gif"/>
          <p:cNvPicPr/>
          <p:nvPr/>
        </p:nvPicPr>
        <p:blipFill>
          <a:blip r:embed="rId1"/>
          <a:stretch/>
        </p:blipFill>
        <p:spPr>
          <a:xfrm>
            <a:off x="571680" y="2500200"/>
            <a:ext cx="6786360" cy="2376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428760" y="55018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Какой это вид разб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ие цели вы ставите перед собо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Повторить морф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спомнить способы слово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А для чего их надо зн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е правил словообразования, умение членить слово на морфемы, определять роль и значение морфем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могают избежать многих ошиб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вязанных с грамотностью и культур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рфе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6" descr="http://festival.1september.ru/articles/632989/img1.gif"/>
          <p:cNvPicPr/>
          <p:nvPr/>
        </p:nvPicPr>
        <p:blipFill>
          <a:blip r:embed="rId1"/>
          <a:stretch/>
        </p:blipFill>
        <p:spPr>
          <a:xfrm>
            <a:off x="3286080" y="2071800"/>
            <a:ext cx="4714920" cy="228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928520"/>
            <a:ext cx="29653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бразуйте слова с данными морфемами. Придумайте  предложение с  любым сло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21:53:52Z</dcterms:created>
  <dc:creator>Федотова Виктория Александровна</dc:creator>
  <dc:description/>
  <dc:language>en-US</dc:language>
  <cp:lastModifiedBy>123</cp:lastModifiedBy>
  <dcterms:modified xsi:type="dcterms:W3CDTF">2019-11-25T17:48:35Z</dcterms:modified>
  <cp:revision>62</cp:revision>
  <dc:subject/>
  <dc:title>Слайд 1</dc:title>
</cp:coreProperties>
</file>