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283A-2F88-48CF-89B2-B4584E40D2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94A0-C76B-4ED1-9DEE-CC8CEC05DF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3D4-0E29-47AF-B635-7DD85F95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3F6-500A-4ABA-9246-0D633A2A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205-4949-47EE-BEB7-92155069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D8E-AE40-4327-8C81-4AB5D454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B9E6-CB08-405D-A35F-AE9386C2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F84F-7C72-4266-BA6B-6A5D7E6A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082A-9962-488D-BA98-9D0CD3E5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5344-0889-48C7-A6B0-DD0D1F97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BAA3-616A-4CA3-94BB-A0D8E9E7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EE7A-7B6A-4893-8358-049AC5BA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5906-8427-4E53-AFE3-272F7A10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C07-9C6F-4CFF-AF31-EF8F9E1F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F0F8-4F7C-4801-B0EC-FEFFA660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B879-1BEE-41A3-89AF-E4EF86A7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AB15-5623-42A9-A8F3-F0A38EDD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747A-3FC0-40C1-9941-69EAB3AB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F20E-74C0-428A-BBEA-FE9EE913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A7022-2E63-4D99-8D83-0F91BBED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BBC0-C569-4FD0-9406-0F344BE5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FD6A-3264-4C09-BCAD-8FEED971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2F147-DD1D-49DC-AB66-55C6F3A5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4F4C9-C3BC-4AED-81BE-6199BD00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42D-0463-40DF-9770-6ECFD9E3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A7F28-ABA2-4ED8-916A-6B4D0BF2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608E-D9AF-4884-9A5E-48EED941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DC3EB-D9E3-46E7-9E42-BF6EB289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A52E5-8E21-4CB6-95F5-30A73729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94B4F-96B5-4314-9DEC-CA158F3B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E232B-5D76-4F63-AC43-691934EC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DD9C4-2996-4CE8-B90E-DAA07520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2D599-16A6-466A-A157-DF88C934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A952D-C209-4E25-A5AC-2FC22E6B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11F21-2313-47C8-A3EC-0975F773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FAD-BEB0-4E0E-A699-E0127103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30611-17B8-4AEC-9533-1AD4BD4C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3AB24-E417-4654-BA15-112FD58A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8FE04-ACAE-4491-B08A-79CD4EFE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68B7F-6B93-461F-B3A3-3D0EF0D1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1B9FF-1530-48E7-92AB-1275FF2E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3D028-E72A-4409-AB33-0FE95C17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77B22-5D4D-43E2-90F8-23F97A31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15F28-D4DC-445A-BB10-1AA328B8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A3781-A7C3-4F48-96B9-D5C49C81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A1B13-BF4E-47F0-8FF0-B720032F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FA3-56A5-42FD-AA79-CB7ABB25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F5916-EC7B-4549-9EAB-BD402141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AB19F-0750-4CDD-B580-3495D5AE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93171-D4B8-4487-A803-6C9E4A44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CAA8C-0F93-4839-9429-F452B3F0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22A84-7708-4EFB-98D2-D8EC5352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6F05A-448E-4E8E-8565-59B71150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66CA5-E1A7-4846-900E-33F8811A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668D9-B1F6-4AE7-AF44-3C597188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9BA0D-3627-46D1-9BA2-D94B7A31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29E15-64E0-4AFD-BCEF-36FC7985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721-6894-4707-B91B-0B2F107C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5D2EA-DCF5-46A9-A23B-C5259D20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2994E-DB7F-4CF1-9195-341A3AB8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889E8-72F5-4AD6-8AEE-FEB77A2F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9AFCD-C0A1-4794-A582-5ED8DBFE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544C0-5D92-4718-B108-EC0E91B3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A5BCF-9BBD-48C3-86DA-3718A164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D85AF-DA79-44D3-9377-B5D4C711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7B64F-6C83-4725-AEFC-C61A6D46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04DFC-8B89-4BDF-A5AA-8D7E1C8E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357A1-0277-4269-B80E-BBFC9D3D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A3A-9E81-4DFE-961F-1B733120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32C8F-844D-414D-900C-BBF7FFDD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501F2-E626-4DB7-8D66-7A1B1B1E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EAB9C-2EFE-48CA-B789-960030C9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4D95F-5FEE-4079-8A1D-906FB95B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8B824-69D6-4EDF-9761-E870BC7B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8D07F-1F92-49CE-A033-E25BB878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EB792-FE93-4E0F-AB30-C72C751E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FFEEA-8CC7-484C-B634-5A820365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3AD9A-E2EE-436B-88AC-DBB952C9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93B4D-2E57-47F8-9604-3AFBB957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62C-3051-459E-AABC-46FCDAD5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E12DD-4B87-4685-840B-07645475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B453F-9AAE-4D24-994D-1B2AC9D2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0ABF3-71C2-4547-B643-6EA6FEC8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B76AF-BD7E-4679-A63E-F1D598C5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A7752-36B8-4482-90F8-BD3E2928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13E0E-E203-4033-8981-CE898650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20D39-8773-4E89-92CE-FBC441AE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D4D04-D499-475B-BAB0-FEB9A4E6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CFFEE-3F05-454D-8480-B7F0E9A7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213DA-1748-4F9E-A892-C2C8A359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1CA-D620-41E9-8932-E38F750D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5E296-6F9A-4232-8409-CFAA27AE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EE30D-6231-4BE3-BC90-0B77AF5E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F1B10-D47B-4968-8622-0D8EBCD9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50016-BE88-4EEE-B0E2-CBE7E03B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26AF3-08DD-479F-8F4B-6B081F4E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BFEA7-DA75-4BFB-A883-9BE6FB17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70F22-728A-4443-966A-1A462BC0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D8AC-E6DA-42F0-BF2E-B10F594F72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FA17-8A6B-49F7-BFF3-F6E707117F0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FF55-A556-458D-BDDA-CB2659864E6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1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2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2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2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2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32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33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6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9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42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45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8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51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54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57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60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63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66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69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72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75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78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81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84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87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90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93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98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01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04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07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10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13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16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19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22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25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28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0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76F5-C073-4FDD-856A-7B0C168045F8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9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3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74C2-B93D-4B85-A18D-995D15869D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9612-9094-4E49-9C62-5A81EC2F156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3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3786-84F9-485F-B57A-79D815A4FEB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58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8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59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9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9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9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9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0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0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0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1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1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1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1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2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2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2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3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3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3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4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4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4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4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5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5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5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6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6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6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7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7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7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8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8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8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9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9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69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69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70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8D16-B333-4DDE-B5AF-6214ADB505FA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1.png"/><Relationship Id="rId4" Type="http://schemas.openxmlformats.org/officeDocument/2006/relationships/slide" Target="slide12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ЛОЩАДЬ МНОГОУГОЛЬНИК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1042560" y="422064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Monotype Corsiva"/>
              </a:rPr>
              <a:t>Урок изучения нового матер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ВОЙСТВА ПЛОЩАД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Равные многоугольники имеют равные площа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4" action="ppaction://hlinksldjump"/>
              </a:rPr>
              <a:t>Если многоугольник составлен из нескольких многоугольников, то его площадь равна сумме площадей этих многоуголь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ощадь квадрата равна квадрату его сто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AutoShape 4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3959"/>
                </a:moveTo>
                <a:lnTo>
                  <a:pt x="17806" y="10965"/>
                </a:lnTo>
                <a:lnTo>
                  <a:pt x="3794" y="17972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1 СВОЙ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, то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(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)=S(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AutoShape 4"/>
          <p:cNvSpPr/>
          <p:nvPr/>
        </p:nvSpPr>
        <p:spPr>
          <a:xfrm>
            <a:off x="611280" y="3357720"/>
            <a:ext cx="3743280" cy="151128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3635280" y="558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AutoShape 6"/>
          <p:cNvSpPr/>
          <p:nvPr/>
        </p:nvSpPr>
        <p:spPr>
          <a:xfrm>
            <a:off x="4859280" y="3357720"/>
            <a:ext cx="3743280" cy="151128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F</a:t>
            </a:r>
            <a:r>
              <a:rPr b="1" lang="ru-RU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AutoShape 8"/>
          <p:cNvSpPr/>
          <p:nvPr/>
        </p:nvSpPr>
        <p:spPr>
          <a:xfrm>
            <a:off x="8101080" y="6256440"/>
            <a:ext cx="539640" cy="6015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01560"/>
              <a:gd name="textAreaBottom" fmla="*/ 566640 h 601560"/>
            </a:gdLst>
            <a:ahLst/>
            <a:rect l="textAreaLeft" t="textAreaTop" r="textAreaRight" b="textAreaBottom"/>
            <a:pathLst>
              <a:path w="21600" h="24077">
                <a:moveTo>
                  <a:pt x="0" y="0"/>
                </a:moveTo>
                <a:lnTo>
                  <a:pt x="21600" y="0"/>
                </a:lnTo>
                <a:lnTo>
                  <a:pt x="21600" y="24077"/>
                </a:lnTo>
                <a:lnTo>
                  <a:pt x="0" y="24077"/>
                </a:lnTo>
                <a:close/>
              </a:path>
              <a:path fill="lightenLess" w="21600" h="240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77">
                <a:moveTo>
                  <a:pt x="21600" y="0"/>
                </a:moveTo>
                <a:lnTo>
                  <a:pt x="21600" y="24077"/>
                </a:lnTo>
                <a:lnTo>
                  <a:pt x="20200" y="22677"/>
                </a:lnTo>
                <a:lnTo>
                  <a:pt x="20200" y="1400"/>
                </a:lnTo>
                <a:close/>
              </a:path>
              <a:path fill="darkenLess" w="21600" h="24077">
                <a:moveTo>
                  <a:pt x="21600" y="24077"/>
                </a:moveTo>
                <a:lnTo>
                  <a:pt x="0" y="24077"/>
                </a:lnTo>
                <a:lnTo>
                  <a:pt x="1400" y="22677"/>
                </a:lnTo>
                <a:lnTo>
                  <a:pt x="20200" y="22677"/>
                </a:lnTo>
                <a:close/>
              </a:path>
              <a:path fill="lighten" w="21600" h="24077">
                <a:moveTo>
                  <a:pt x="0" y="240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77"/>
                </a:lnTo>
                <a:close/>
              </a:path>
              <a:path fill="darken" w="21600" h="24077">
                <a:moveTo>
                  <a:pt x="3794" y="12038"/>
                </a:moveTo>
                <a:lnTo>
                  <a:pt x="17806" y="5032"/>
                </a:lnTo>
                <a:lnTo>
                  <a:pt x="17806" y="19045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СВОЙ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(F)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(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(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(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9" name="Group 16"/>
          <p:cNvGrpSpPr/>
          <p:nvPr/>
        </p:nvGrpSpPr>
        <p:grpSpPr>
          <a:xfrm>
            <a:off x="2627280" y="2924280"/>
            <a:ext cx="4392720" cy="3600360"/>
            <a:chOff x="2627280" y="2924280"/>
            <a:chExt cx="4392720" cy="3600360"/>
          </a:xfrm>
        </p:grpSpPr>
        <p:grpSp>
          <p:nvGrpSpPr>
            <p:cNvPr id="840" name="Group 14"/>
            <p:cNvGrpSpPr/>
            <p:nvPr/>
          </p:nvGrpSpPr>
          <p:grpSpPr>
            <a:xfrm>
              <a:off x="2627280" y="2924280"/>
              <a:ext cx="4392720" cy="3600360"/>
              <a:chOff x="2627280" y="2924280"/>
              <a:chExt cx="4392720" cy="3600360"/>
            </a:xfrm>
          </p:grpSpPr>
          <p:sp>
            <p:nvSpPr>
              <p:cNvPr id="841" name="AutoShape 4"/>
              <p:cNvSpPr/>
              <p:nvPr/>
            </p:nvSpPr>
            <p:spPr>
              <a:xfrm>
                <a:off x="2627280" y="2924280"/>
                <a:ext cx="4392720" cy="3600360"/>
              </a:xfrm>
              <a:prstGeom prst="pentagon">
                <a:avLst/>
              </a:prstGeom>
              <a:solidFill>
                <a:srgbClr val="ffef66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8"/>
              <p:cNvSpPr/>
              <p:nvPr/>
            </p:nvSpPr>
            <p:spPr>
              <a:xfrm>
                <a:off x="2627280" y="4309920"/>
                <a:ext cx="439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3" name="Line 9"/>
            <p:cNvSpPr/>
            <p:nvPr/>
          </p:nvSpPr>
          <p:spPr>
            <a:xfrm flipH="1">
              <a:off x="3454560" y="4309920"/>
              <a:ext cx="3565440" cy="2214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Text Box 5"/>
            <p:cNvSpPr/>
            <p:nvPr/>
          </p:nvSpPr>
          <p:spPr>
            <a:xfrm>
              <a:off x="5148360" y="5589720"/>
              <a:ext cx="72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3708360" y="4797360"/>
              <a:ext cx="71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Text Box 7"/>
            <p:cNvSpPr/>
            <p:nvPr/>
          </p:nvSpPr>
          <p:spPr>
            <a:xfrm>
              <a:off x="4356000" y="350028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7" name="AutoShape 11"/>
          <p:cNvSpPr/>
          <p:nvPr/>
        </p:nvSpPr>
        <p:spPr>
          <a:xfrm>
            <a:off x="8101080" y="6327720"/>
            <a:ext cx="574560" cy="530280"/>
          </a:xfrm>
          <a:custGeom>
            <a:avLst/>
            <a:gdLst>
              <a:gd name="textAreaLeft" fmla="*/ 34200 w 574560"/>
              <a:gd name="textAreaRight" fmla="*/ 540360 w 574560"/>
              <a:gd name="textAreaTop" fmla="*/ 34200 h 530280"/>
              <a:gd name="textAreaBottom" fmla="*/ 496080 h 53028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10800"/>
                </a:moveTo>
                <a:lnTo>
                  <a:pt x="18708" y="3794"/>
                </a:lnTo>
                <a:lnTo>
                  <a:pt x="18708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3 </a:t>
            </a: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СВОЙ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ru-RU" sz="4800" spc="-1" strike="noStrike" baseline="-25000">
                <a:solidFill>
                  <a:srgbClr val="000000"/>
                </a:solidFill>
                <a:latin typeface="Comic Sans MS"/>
              </a:rPr>
              <a:t>кв.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Rectangle 4"/>
          <p:cNvSpPr/>
          <p:nvPr/>
        </p:nvSpPr>
        <p:spPr>
          <a:xfrm>
            <a:off x="3492360" y="3284640"/>
            <a:ext cx="2376720" cy="2303280"/>
          </a:xfrm>
          <a:prstGeom prst="rect">
            <a:avLst/>
          </a:prstGeom>
          <a:solidFill>
            <a:srgbClr val="ffe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5"/>
          <p:cNvSpPr/>
          <p:nvPr/>
        </p:nvSpPr>
        <p:spPr>
          <a:xfrm>
            <a:off x="2988720" y="4005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7"/>
          <p:cNvSpPr/>
          <p:nvPr/>
        </p:nvSpPr>
        <p:spPr>
          <a:xfrm>
            <a:off x="8496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10800"/>
                </a:moveTo>
                <a:lnTo>
                  <a:pt x="18276" y="3794"/>
                </a:lnTo>
                <a:lnTo>
                  <a:pt x="18276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9"/>
          <p:cNvSpPr/>
          <p:nvPr/>
        </p:nvSpPr>
        <p:spPr>
          <a:xfrm>
            <a:off x="4428720" y="5445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08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Площадь параллелограмма </a:t>
            </a:r>
            <a:br>
              <a:rPr sz="3400"/>
            </a:b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AFSP </a:t>
            </a: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равна</a:t>
            </a: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 S</a:t>
            </a: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. Найти площади </a:t>
            </a:r>
            <a:br>
              <a:rPr sz="3400"/>
            </a:b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треугольников </a:t>
            </a: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AFP </a:t>
            </a: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 FSP</a:t>
            </a: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423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                                       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                                        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10"/>
          <p:cNvGrpSpPr/>
          <p:nvPr/>
        </p:nvGrpSpPr>
        <p:grpSpPr>
          <a:xfrm>
            <a:off x="1187280" y="2421000"/>
            <a:ext cx="6696360" cy="3960720"/>
            <a:chOff x="1187280" y="2421000"/>
            <a:chExt cx="6696360" cy="3960720"/>
          </a:xfrm>
        </p:grpSpPr>
        <p:sp>
          <p:nvSpPr>
            <p:cNvPr id="857" name="AutoShape 4"/>
            <p:cNvSpPr/>
            <p:nvPr/>
          </p:nvSpPr>
          <p:spPr>
            <a:xfrm>
              <a:off x="1187280" y="2421000"/>
              <a:ext cx="6696360" cy="3959280"/>
            </a:xfrm>
            <a:prstGeom prst="parallelogram">
              <a:avLst>
                <a:gd name="adj" fmla="val 42283"/>
              </a:avLst>
            </a:prstGeom>
            <a:solidFill>
              <a:srgbClr val="9966ff"/>
            </a:solidFill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9"/>
            <p:cNvSpPr/>
            <p:nvPr/>
          </p:nvSpPr>
          <p:spPr>
            <a:xfrm>
              <a:off x="2843280" y="2421000"/>
              <a:ext cx="3384360" cy="396072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59" name="Шуберт Романс.mp3" descr=""/>
          <p:cNvPicPr/>
          <p:nvPr/>
        </p:nvPicPr>
        <p:blipFill>
          <a:blip r:embed="rId1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" fill="hold"/>
                                        <p:tgtEl>
                                          <p:spTgt spid="8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4"/>
          <p:cNvSpPr/>
          <p:nvPr/>
        </p:nvSpPr>
        <p:spPr>
          <a:xfrm>
            <a:off x="395280" y="182232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Arial"/>
              </a:rPr>
              <a:t>                                                           </a:t>
            </a: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"/>
              </a:rPr>
              <a:t>               </a:t>
            </a: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B              N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                                                  </a:t>
            </a: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A                               </a:t>
            </a:r>
            <a:r>
              <a:rPr b="1" lang="ru-RU" sz="3600" spc="-1" strike="noStrike">
                <a:solidFill>
                  <a:srgbClr val="ccff66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D</a:t>
            </a:r>
            <a:r>
              <a:rPr b="1" lang="ru-RU" sz="36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9"/>
          <p:cNvSpPr/>
          <p:nvPr/>
        </p:nvSpPr>
        <p:spPr>
          <a:xfrm>
            <a:off x="611280" y="0"/>
            <a:ext cx="7848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Площадь параллелограмма </a:t>
            </a:r>
            <a:br>
              <a:rPr sz="3400"/>
            </a:b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ABCD </a:t>
            </a: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равна</a:t>
            </a: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 Q</a:t>
            </a: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. Найти площадь </a:t>
            </a:r>
            <a:br>
              <a:rPr sz="3400"/>
            </a:b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треугольника </a:t>
            </a: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AMD</a:t>
            </a: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Group 16"/>
          <p:cNvGrpSpPr/>
          <p:nvPr/>
        </p:nvGrpSpPr>
        <p:grpSpPr>
          <a:xfrm>
            <a:off x="1258920" y="2276640"/>
            <a:ext cx="7343640" cy="3389040"/>
            <a:chOff x="1258920" y="2276640"/>
            <a:chExt cx="7343640" cy="3389040"/>
          </a:xfrm>
        </p:grpSpPr>
        <p:sp>
          <p:nvSpPr>
            <p:cNvPr id="863" name="AutoShape 6"/>
            <p:cNvSpPr/>
            <p:nvPr/>
          </p:nvSpPr>
          <p:spPr>
            <a:xfrm>
              <a:off x="1258920" y="4076640"/>
              <a:ext cx="5543640" cy="1589040"/>
            </a:xfrm>
            <a:prstGeom prst="parallelogram">
              <a:avLst>
                <a:gd name="adj" fmla="val 87217"/>
              </a:avLst>
            </a:prstGeom>
            <a:solidFill>
              <a:srgbClr val="3366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7"/>
            <p:cNvSpPr/>
            <p:nvPr/>
          </p:nvSpPr>
          <p:spPr>
            <a:xfrm flipV="1">
              <a:off x="1330200" y="2276640"/>
              <a:ext cx="7272360" cy="3357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8"/>
            <p:cNvSpPr/>
            <p:nvPr/>
          </p:nvSpPr>
          <p:spPr>
            <a:xfrm flipV="1">
              <a:off x="6802560" y="2276640"/>
              <a:ext cx="1800000" cy="1800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10"/>
            <p:cNvSpPr/>
            <p:nvPr/>
          </p:nvSpPr>
          <p:spPr>
            <a:xfrm flipH="1">
              <a:off x="3347640" y="3933720"/>
              <a:ext cx="71640" cy="28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Line 11"/>
            <p:cNvSpPr/>
            <p:nvPr/>
          </p:nvSpPr>
          <p:spPr>
            <a:xfrm flipH="1">
              <a:off x="5796000" y="3933720"/>
              <a:ext cx="71280" cy="28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2" dur="20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96472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Площадь заштрихованного </a:t>
            </a:r>
            <a:br>
              <a:rPr sz="3400"/>
            </a:b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квадрата равна 1. </a:t>
            </a:r>
            <a:br>
              <a:rPr sz="3400"/>
            </a:b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Найти площадь трапеции </a:t>
            </a: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ABCD</a:t>
            </a: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9" name="Picture 4" descr="picture"/>
          <p:cNvPicPr/>
          <p:nvPr/>
        </p:nvPicPr>
        <p:blipFill>
          <a:blip r:embed="rId1"/>
          <a:srcRect l="4750" t="4116" r="4750" b="2079"/>
          <a:stretch/>
        </p:blipFill>
        <p:spPr>
          <a:xfrm>
            <a:off x="2124000" y="3141720"/>
            <a:ext cx="5400720" cy="30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slow"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ДАНО: </a:t>
            </a:r>
            <a:r>
              <a:rPr b="1" lang="en-US" sz="4000" spc="-1" strike="noStrike">
                <a:solidFill>
                  <a:srgbClr val="ff99ff"/>
                </a:solidFill>
                <a:latin typeface="Arial"/>
              </a:rPr>
              <a:t>AB = BC = 3, AF = 5, EF = 2</a:t>
            </a: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.</a:t>
            </a:r>
            <a:br>
              <a:rPr sz="4000"/>
            </a:b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НАЙТИ: </a:t>
            </a:r>
            <a:r>
              <a:rPr b="1" lang="en-US" sz="5400" spc="-1" strike="noStrike">
                <a:solidFill>
                  <a:srgbClr val="ff99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ABCDEF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1" name="Picture 5" descr="picture"/>
          <p:cNvPicPr/>
          <p:nvPr/>
        </p:nvPicPr>
        <p:blipFill>
          <a:blip r:embed="rId1"/>
          <a:srcRect l="6767" t="2071" r="3383" b="4143"/>
          <a:stretch/>
        </p:blipFill>
        <p:spPr>
          <a:xfrm>
            <a:off x="1835280" y="2637000"/>
            <a:ext cx="4967280" cy="3600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slow">
    <p:dissolv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2" name=""/>
          <p:cNvGraphicFramePr/>
          <p:nvPr/>
        </p:nvGraphicFramePr>
        <p:xfrm>
          <a:off x="826920" y="2708280"/>
          <a:ext cx="7417080" cy="3313080"/>
        </p:xfrm>
        <a:graphic>
          <a:graphicData uri="http://schemas.openxmlformats.org/drawingml/2006/table">
            <a:tbl>
              <a:tblPr/>
              <a:tblGrid>
                <a:gridCol w="1482840"/>
                <a:gridCol w="1482840"/>
                <a:gridCol w="1485720"/>
                <a:gridCol w="1482840"/>
                <a:gridCol w="1482840"/>
              </a:tblGrid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9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75640" cy="19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полните таблицу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 –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лощадь квадрата,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а –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торона квадрата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Object 23"/>
              <p:cNvSpPr txBox="1"/>
              <p:nvPr/>
            </p:nvSpPr>
            <p:spPr>
              <a:xfrm>
                <a:off x="5796000" y="2852640"/>
                <a:ext cx="53028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5" name="WordArt 24"/>
          <p:cNvSpPr txBox="1"/>
          <p:nvPr/>
        </p:nvSpPr>
        <p:spPr>
          <a:xfrm>
            <a:off x="2700360" y="50133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876" name="WordArt 26"/>
          <p:cNvSpPr txBox="1"/>
          <p:nvPr/>
        </p:nvSpPr>
        <p:spPr>
          <a:xfrm>
            <a:off x="4443480" y="31701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Object 27"/>
              <p:cNvSpPr txBox="1"/>
              <p:nvPr/>
            </p:nvSpPr>
            <p:spPr>
              <a:xfrm>
                <a:off x="5724360" y="4581360"/>
                <a:ext cx="6080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8" name="WordArt 29"/>
          <p:cNvSpPr txBox="1"/>
          <p:nvPr/>
        </p:nvSpPr>
        <p:spPr>
          <a:xfrm>
            <a:off x="7164360" y="3141720"/>
            <a:ext cx="638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1,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879" name="AutoShape 32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1407"/>
          <p:cNvSpPr/>
          <p:nvPr/>
        </p:nvSpPr>
        <p:spPr>
          <a:xfrm>
            <a:off x="0" y="803880"/>
            <a:ext cx="914400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З  ТРЕУГОЛЬНИКОВ СОСТАВИ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квадрат – с площадью 16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м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омб – с площадью 32 см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рямоугольник – с площадью 32 см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квадрат – с площадью 64 см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араллелограмм – с площадью 48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трапецию – с площадью 48 см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Бетховен Allegretto.mp3" descr=""/>
          <p:cNvPicPr/>
          <p:nvPr/>
        </p:nvPicPr>
        <p:blipFill>
          <a:blip r:embed="rId1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" fill="hold"/>
                                        <p:tgtEl>
                                          <p:spTgt spid="8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ести понятие площади многоугольника и вспомнить единицы измерения площа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основные свойства площадей, вспомнить формулы площади квадрата и прямоуголь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ь на примерах использование изученного теоретического материала в ходе решения зада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14"/>
          <p:cNvGrpSpPr/>
          <p:nvPr/>
        </p:nvGrpSpPr>
        <p:grpSpPr>
          <a:xfrm>
            <a:off x="3347640" y="1124640"/>
            <a:ext cx="2376360" cy="2377080"/>
            <a:chOff x="3347640" y="1124640"/>
            <a:chExt cx="2376360" cy="2377080"/>
          </a:xfrm>
        </p:grpSpPr>
        <p:sp>
          <p:nvSpPr>
            <p:cNvPr id="883" name="AutoShape 9"/>
            <p:cNvSpPr/>
            <p:nvPr/>
          </p:nvSpPr>
          <p:spPr>
            <a:xfrm flipH="1">
              <a:off x="3347280" y="112536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AutoShape 10"/>
            <p:cNvSpPr/>
            <p:nvPr/>
          </p:nvSpPr>
          <p:spPr>
            <a:xfrm flipH="1" flipV="1" rot="16200000">
              <a:off x="3347280" y="112428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436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Квадрат – с площадью 16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м</a:t>
            </a:r>
            <a:r>
              <a:rPr b="1" lang="ru-RU" sz="4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Group 8"/>
          <p:cNvGrpSpPr/>
          <p:nvPr/>
        </p:nvGrpSpPr>
        <p:grpSpPr>
          <a:xfrm>
            <a:off x="1908000" y="620640"/>
            <a:ext cx="4751640" cy="4752720"/>
            <a:chOff x="1908000" y="620640"/>
            <a:chExt cx="4751640" cy="4752720"/>
          </a:xfrm>
        </p:grpSpPr>
        <p:sp>
          <p:nvSpPr>
            <p:cNvPr id="887" name="AutoShape 4"/>
            <p:cNvSpPr/>
            <p:nvPr/>
          </p:nvSpPr>
          <p:spPr>
            <a:xfrm>
              <a:off x="4282920" y="620640"/>
              <a:ext cx="237672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AutoShape 5"/>
            <p:cNvSpPr/>
            <p:nvPr/>
          </p:nvSpPr>
          <p:spPr>
            <a:xfrm flipH="1">
              <a:off x="1908000" y="620640"/>
              <a:ext cx="237672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AutoShape 6"/>
            <p:cNvSpPr/>
            <p:nvPr/>
          </p:nvSpPr>
          <p:spPr>
            <a:xfrm flipV="1">
              <a:off x="4282920" y="2996640"/>
              <a:ext cx="237672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AutoShape 7"/>
            <p:cNvSpPr/>
            <p:nvPr/>
          </p:nvSpPr>
          <p:spPr>
            <a:xfrm flipH="1" flipV="1">
              <a:off x="1908000" y="2996640"/>
              <a:ext cx="237672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1" name="Rectangle 9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Ромб – с площадью 32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м</a:t>
            </a:r>
            <a:r>
              <a:rPr b="1" lang="ru-RU" sz="4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Group 9"/>
          <p:cNvGrpSpPr/>
          <p:nvPr/>
        </p:nvGrpSpPr>
        <p:grpSpPr>
          <a:xfrm>
            <a:off x="2195280" y="1844280"/>
            <a:ext cx="4753080" cy="2376720"/>
            <a:chOff x="2195280" y="1844280"/>
            <a:chExt cx="4753080" cy="2376720"/>
          </a:xfrm>
        </p:grpSpPr>
        <p:sp>
          <p:nvSpPr>
            <p:cNvPr id="893" name="AutoShape 4"/>
            <p:cNvSpPr/>
            <p:nvPr/>
          </p:nvSpPr>
          <p:spPr>
            <a:xfrm>
              <a:off x="4572000" y="184464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AutoShape 5"/>
            <p:cNvSpPr/>
            <p:nvPr/>
          </p:nvSpPr>
          <p:spPr>
            <a:xfrm flipH="1">
              <a:off x="2194920" y="184464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AutoShape 6"/>
            <p:cNvSpPr/>
            <p:nvPr/>
          </p:nvSpPr>
          <p:spPr>
            <a:xfrm flipH="1" flipV="1">
              <a:off x="4571280" y="184392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AutoShape 7"/>
            <p:cNvSpPr/>
            <p:nvPr/>
          </p:nvSpPr>
          <p:spPr>
            <a:xfrm flipV="1">
              <a:off x="2195640" y="184392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7" name="Rectangle 8"/>
          <p:cNvSpPr/>
          <p:nvPr/>
        </p:nvSpPr>
        <p:spPr>
          <a:xfrm>
            <a:off x="53964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Прямоугольник – с площадью 32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м</a:t>
            </a:r>
            <a:r>
              <a:rPr b="1" lang="ru-RU" sz="4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12"/>
          <p:cNvGrpSpPr/>
          <p:nvPr/>
        </p:nvGrpSpPr>
        <p:grpSpPr>
          <a:xfrm>
            <a:off x="1978920" y="259920"/>
            <a:ext cx="4753800" cy="4753440"/>
            <a:chOff x="1978920" y="259920"/>
            <a:chExt cx="4753800" cy="4753440"/>
          </a:xfrm>
        </p:grpSpPr>
        <p:sp>
          <p:nvSpPr>
            <p:cNvPr id="899" name="AutoShape 4"/>
            <p:cNvSpPr/>
            <p:nvPr/>
          </p:nvSpPr>
          <p:spPr>
            <a:xfrm>
              <a:off x="4356000" y="260280"/>
              <a:ext cx="237672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AutoShape 5"/>
            <p:cNvSpPr/>
            <p:nvPr/>
          </p:nvSpPr>
          <p:spPr>
            <a:xfrm flipH="1">
              <a:off x="1981080" y="260280"/>
              <a:ext cx="237672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AutoShape 6"/>
            <p:cNvSpPr/>
            <p:nvPr/>
          </p:nvSpPr>
          <p:spPr>
            <a:xfrm flipV="1">
              <a:off x="4356000" y="2636640"/>
              <a:ext cx="237672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AutoShape 7"/>
            <p:cNvSpPr/>
            <p:nvPr/>
          </p:nvSpPr>
          <p:spPr>
            <a:xfrm flipH="1" flipV="1">
              <a:off x="1978920" y="2636640"/>
              <a:ext cx="237636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AutoShape 8"/>
            <p:cNvSpPr/>
            <p:nvPr/>
          </p:nvSpPr>
          <p:spPr>
            <a:xfrm flipH="1">
              <a:off x="4356000" y="2636640"/>
              <a:ext cx="237672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AutoShape 9"/>
            <p:cNvSpPr/>
            <p:nvPr/>
          </p:nvSpPr>
          <p:spPr>
            <a:xfrm>
              <a:off x="1979640" y="2636640"/>
              <a:ext cx="237636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AutoShape 10"/>
            <p:cNvSpPr/>
            <p:nvPr/>
          </p:nvSpPr>
          <p:spPr>
            <a:xfrm flipH="1" flipV="1">
              <a:off x="4356000" y="259560"/>
              <a:ext cx="237672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AutoShape 11"/>
            <p:cNvSpPr/>
            <p:nvPr/>
          </p:nvSpPr>
          <p:spPr>
            <a:xfrm flipH="1" rot="10800000">
              <a:off x="1978560" y="25992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7" name="Rectangle 13"/>
          <p:cNvSpPr/>
          <p:nvPr/>
        </p:nvSpPr>
        <p:spPr>
          <a:xfrm>
            <a:off x="46836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Квадрат – с площадью 64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м</a:t>
            </a:r>
            <a:r>
              <a:rPr b="1" lang="ru-RU" sz="4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Group 11"/>
          <p:cNvGrpSpPr/>
          <p:nvPr/>
        </p:nvGrpSpPr>
        <p:grpSpPr>
          <a:xfrm>
            <a:off x="263520" y="-1348200"/>
            <a:ext cx="8402040" cy="8402040"/>
            <a:chOff x="263520" y="-1348200"/>
            <a:chExt cx="8402040" cy="8402040"/>
          </a:xfrm>
        </p:grpSpPr>
        <p:sp>
          <p:nvSpPr>
            <p:cNvPr id="909" name="AutoShape 4"/>
            <p:cNvSpPr/>
            <p:nvPr/>
          </p:nvSpPr>
          <p:spPr>
            <a:xfrm rot="8100000">
              <a:off x="5796720" y="418500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AutoShape 5"/>
            <p:cNvSpPr/>
            <p:nvPr/>
          </p:nvSpPr>
          <p:spPr>
            <a:xfrm flipH="1" rot="2700000">
              <a:off x="2435760" y="82404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AutoShape 6"/>
            <p:cNvSpPr/>
            <p:nvPr/>
          </p:nvSpPr>
          <p:spPr>
            <a:xfrm flipH="1" flipV="1" rot="18900000">
              <a:off x="2436120" y="82260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AutoShape 7"/>
            <p:cNvSpPr/>
            <p:nvPr/>
          </p:nvSpPr>
          <p:spPr>
            <a:xfrm flipH="1" rot="2700000">
              <a:off x="755640" y="-85572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AutoShape 9"/>
            <p:cNvSpPr/>
            <p:nvPr/>
          </p:nvSpPr>
          <p:spPr>
            <a:xfrm flipH="1" rot="2700000">
              <a:off x="4115880" y="2504880"/>
              <a:ext cx="237672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AutoShape 10"/>
            <p:cNvSpPr/>
            <p:nvPr/>
          </p:nvSpPr>
          <p:spPr>
            <a:xfrm flipH="1" flipV="1" rot="18900000">
              <a:off x="4116960" y="2503440"/>
              <a:ext cx="237636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Rectangle 12"/>
          <p:cNvSpPr/>
          <p:nvPr/>
        </p:nvSpPr>
        <p:spPr>
          <a:xfrm>
            <a:off x="395280" y="544500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Параллелограмм – с площадью 48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м</a:t>
            </a:r>
            <a:r>
              <a:rPr b="1" lang="ru-RU" sz="4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10"/>
          <p:cNvGrpSpPr/>
          <p:nvPr/>
        </p:nvGrpSpPr>
        <p:grpSpPr>
          <a:xfrm>
            <a:off x="-809640" y="-1028520"/>
            <a:ext cx="9467640" cy="6683760"/>
            <a:chOff x="-809640" y="-1028520"/>
            <a:chExt cx="9467640" cy="6683760"/>
          </a:xfrm>
        </p:grpSpPr>
        <p:sp>
          <p:nvSpPr>
            <p:cNvPr id="917" name="AutoShape 4"/>
            <p:cNvSpPr/>
            <p:nvPr/>
          </p:nvSpPr>
          <p:spPr>
            <a:xfrm flipH="1" rot="3661800">
              <a:off x="5854320" y="-601560"/>
              <a:ext cx="237636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AutoShape 5"/>
            <p:cNvSpPr/>
            <p:nvPr/>
          </p:nvSpPr>
          <p:spPr>
            <a:xfrm flipH="1" rot="19861800">
              <a:off x="3774960" y="55008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AutoShape 6"/>
            <p:cNvSpPr/>
            <p:nvPr/>
          </p:nvSpPr>
          <p:spPr>
            <a:xfrm flipH="1" flipV="1" rot="14461800">
              <a:off x="3774600" y="54936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AutoShape 7"/>
            <p:cNvSpPr/>
            <p:nvPr/>
          </p:nvSpPr>
          <p:spPr>
            <a:xfrm flipH="1" rot="19861800">
              <a:off x="-383040" y="2851560"/>
              <a:ext cx="237672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AutoShape 8"/>
            <p:cNvSpPr/>
            <p:nvPr/>
          </p:nvSpPr>
          <p:spPr>
            <a:xfrm flipH="1" rot="19861800">
              <a:off x="1695960" y="170100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AutoShape 9"/>
            <p:cNvSpPr/>
            <p:nvPr/>
          </p:nvSpPr>
          <p:spPr>
            <a:xfrm flipH="1" flipV="1" rot="14461800">
              <a:off x="1695600" y="170028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Rectangle 11"/>
          <p:cNvSpPr/>
          <p:nvPr/>
        </p:nvSpPr>
        <p:spPr>
          <a:xfrm>
            <a:off x="914400" y="51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Трапеция – с площадью 48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м</a:t>
            </a:r>
            <a:r>
              <a:rPr b="1" lang="ru-RU" sz="4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AutoShape 12"/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AutoShape 13"/>
          <p:cNvSpPr/>
          <p:nvPr/>
        </p:nvSpPr>
        <p:spPr>
          <a:xfrm>
            <a:off x="133200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3794" y="5660"/>
                </a:moveTo>
                <a:lnTo>
                  <a:pt x="17806" y="12666"/>
                </a:lnTo>
                <a:lnTo>
                  <a:pt x="3794" y="19673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п. 48,49, вопросы 1, 2 на стр. 133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№ </a:t>
            </a: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446, 451, 447.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8" name="AutoShape 4"/>
          <p:cNvSpPr/>
          <p:nvPr/>
        </p:nvSpPr>
        <p:spPr>
          <a:xfrm>
            <a:off x="8675640" y="6318360"/>
            <a:ext cx="468360" cy="53964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39640"/>
              <a:gd name="textAreaBottom" fmla="*/ 509400 h 539640"/>
            </a:gdLst>
            <a:ahLst/>
            <a:rect l="textAreaLeft" t="textAreaTop" r="textAreaRight" b="textAreaBottom"/>
            <a:pathLst>
              <a:path w="21600" h="24885">
                <a:moveTo>
                  <a:pt x="0" y="0"/>
                </a:moveTo>
                <a:lnTo>
                  <a:pt x="21600" y="0"/>
                </a:lnTo>
                <a:lnTo>
                  <a:pt x="21600" y="24885"/>
                </a:lnTo>
                <a:lnTo>
                  <a:pt x="0" y="24885"/>
                </a:lnTo>
                <a:close/>
              </a:path>
              <a:path fill="lightenLess" w="21600" h="248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85">
                <a:moveTo>
                  <a:pt x="21600" y="0"/>
                </a:moveTo>
                <a:lnTo>
                  <a:pt x="21600" y="24885"/>
                </a:lnTo>
                <a:lnTo>
                  <a:pt x="20200" y="23485"/>
                </a:lnTo>
                <a:lnTo>
                  <a:pt x="20200" y="1400"/>
                </a:lnTo>
                <a:close/>
              </a:path>
              <a:path fill="darkenLess" w="21600" h="24885">
                <a:moveTo>
                  <a:pt x="21600" y="24885"/>
                </a:moveTo>
                <a:lnTo>
                  <a:pt x="0" y="24885"/>
                </a:lnTo>
                <a:lnTo>
                  <a:pt x="1400" y="23485"/>
                </a:lnTo>
                <a:lnTo>
                  <a:pt x="20200" y="23485"/>
                </a:lnTo>
                <a:close/>
              </a:path>
              <a:path fill="lighten" w="21600" h="24885">
                <a:moveTo>
                  <a:pt x="0" y="248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85"/>
                </a:lnTo>
                <a:close/>
              </a:path>
              <a:path fill="darken" w="21600" h="24885">
                <a:moveTo>
                  <a:pt x="10800" y="1644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885">
                <a:moveTo>
                  <a:pt x="11905" y="15924"/>
                </a:moveTo>
                <a:lnTo>
                  <a:pt x="11905" y="13966"/>
                </a:lnTo>
                <a:cubicBezTo>
                  <a:pt x="11905" y="13139"/>
                  <a:pt x="12236" y="12442"/>
                  <a:pt x="12837" y="12442"/>
                </a:cubicBezTo>
                <a:cubicBezTo>
                  <a:pt x="13968" y="12442"/>
                  <a:pt x="14865" y="11076"/>
                  <a:pt x="14865" y="9492"/>
                </a:cubicBezTo>
                <a:cubicBezTo>
                  <a:pt x="14865" y="7177"/>
                  <a:pt x="13011" y="5436"/>
                  <a:pt x="10800" y="5436"/>
                </a:cubicBezTo>
                <a:cubicBezTo>
                  <a:pt x="8589" y="5436"/>
                  <a:pt x="6918" y="7177"/>
                  <a:pt x="6918" y="9492"/>
                </a:cubicBezTo>
                <a:lnTo>
                  <a:pt x="8772" y="9492"/>
                </a:lnTo>
                <a:cubicBezTo>
                  <a:pt x="8772" y="8352"/>
                  <a:pt x="9695" y="7464"/>
                  <a:pt x="10800" y="7464"/>
                </a:cubicBezTo>
                <a:cubicBezTo>
                  <a:pt x="11905" y="7464"/>
                  <a:pt x="12837" y="8352"/>
                  <a:pt x="12837" y="9492"/>
                </a:cubicBezTo>
                <a:cubicBezTo>
                  <a:pt x="12837" y="10232"/>
                  <a:pt x="12367" y="10963"/>
                  <a:pt x="11905" y="10963"/>
                </a:cubicBezTo>
                <a:cubicBezTo>
                  <a:pt x="10800" y="10963"/>
                  <a:pt x="9695" y="12442"/>
                  <a:pt x="9695" y="13966"/>
                </a:cubicBezTo>
                <a:lnTo>
                  <a:pt x="9695" y="15924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WordArt 4"/>
          <p:cNvSpPr txBox="1"/>
          <p:nvPr/>
        </p:nvSpPr>
        <p:spPr>
          <a:xfrm>
            <a:off x="539640" y="2997360"/>
            <a:ext cx="7777440" cy="33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 ЗА 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0" name="AutoShape 5">
            <a:hlinkClick r:id="" action="ppaction://hlinkshowjump?jump=endshow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10800" y="3971"/>
                </a:moveTo>
                <a:lnTo>
                  <a:pt x="13376" y="6582"/>
                </a:lnTo>
                <a:lnTo>
                  <a:pt x="13376" y="4841"/>
                </a:lnTo>
                <a:lnTo>
                  <a:pt x="15152" y="4841"/>
                </a:lnTo>
                <a:lnTo>
                  <a:pt x="15152" y="8357"/>
                </a:lnTo>
                <a:lnTo>
                  <a:pt x="17763" y="10934"/>
                </a:lnTo>
                <a:lnTo>
                  <a:pt x="16109" y="10934"/>
                </a:lnTo>
                <a:lnTo>
                  <a:pt x="16109" y="18123"/>
                </a:lnTo>
                <a:lnTo>
                  <a:pt x="5491" y="18123"/>
                </a:lnTo>
                <a:lnTo>
                  <a:pt x="5491" y="10934"/>
                </a:lnTo>
                <a:lnTo>
                  <a:pt x="3837" y="10934"/>
                </a:lnTo>
                <a:close/>
              </a:path>
              <a:path fill="darkenLess" w="21600" h="21867">
                <a:moveTo>
                  <a:pt x="13376" y="6582"/>
                </a:moveTo>
                <a:lnTo>
                  <a:pt x="13376" y="4841"/>
                </a:lnTo>
                <a:lnTo>
                  <a:pt x="15152" y="4841"/>
                </a:lnTo>
                <a:lnTo>
                  <a:pt x="15152" y="8357"/>
                </a:lnTo>
                <a:close/>
              </a:path>
              <a:path fill="darkenLess" w="21600" h="21867">
                <a:moveTo>
                  <a:pt x="9877" y="14433"/>
                </a:moveTo>
                <a:lnTo>
                  <a:pt x="11723" y="14433"/>
                </a:lnTo>
                <a:lnTo>
                  <a:pt x="11723" y="18123"/>
                </a:lnTo>
                <a:lnTo>
                  <a:pt x="16109" y="18123"/>
                </a:lnTo>
                <a:lnTo>
                  <a:pt x="16109" y="10934"/>
                </a:lnTo>
                <a:lnTo>
                  <a:pt x="5491" y="10934"/>
                </a:lnTo>
                <a:lnTo>
                  <a:pt x="5491" y="18123"/>
                </a:lnTo>
                <a:lnTo>
                  <a:pt x="9877" y="18123"/>
                </a:lnTo>
                <a:close/>
              </a:path>
            </a:pathLst>
          </a:cu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ЛОЩАДЬ ПРЯМОУГОЛЬ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292360" y="2338560"/>
            <a:ext cx="356868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АН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ямоугольн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торон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ощ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ОКАЗАТЬ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u-RU" sz="4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1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ru-RU" sz="4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1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5"/>
          <p:cNvSpPr/>
          <p:nvPr/>
        </p:nvSpPr>
        <p:spPr>
          <a:xfrm>
            <a:off x="1763640" y="5229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4"/>
          <p:cNvSpPr/>
          <p:nvPr/>
        </p:nvSpPr>
        <p:spPr>
          <a:xfrm>
            <a:off x="684360" y="5229360"/>
            <a:ext cx="2663640" cy="1079280"/>
          </a:xfrm>
          <a:prstGeom prst="rect">
            <a:avLst/>
          </a:prstGeom>
          <a:solidFill>
            <a:srgbClr val="7b46d0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angle 6"/>
          <p:cNvSpPr/>
          <p:nvPr/>
        </p:nvSpPr>
        <p:spPr>
          <a:xfrm>
            <a:off x="684360" y="2708280"/>
            <a:ext cx="2663640" cy="252108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Rectangle 7"/>
          <p:cNvSpPr/>
          <p:nvPr/>
        </p:nvSpPr>
        <p:spPr>
          <a:xfrm>
            <a:off x="3348000" y="5229360"/>
            <a:ext cx="1079640" cy="107928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angle 8"/>
          <p:cNvSpPr/>
          <p:nvPr/>
        </p:nvSpPr>
        <p:spPr>
          <a:xfrm>
            <a:off x="3348000" y="2708280"/>
            <a:ext cx="1079640" cy="252108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 Box 9"/>
          <p:cNvSpPr/>
          <p:nvPr/>
        </p:nvSpPr>
        <p:spPr>
          <a:xfrm>
            <a:off x="252000" y="551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 Box 10"/>
          <p:cNvSpPr/>
          <p:nvPr/>
        </p:nvSpPr>
        <p:spPr>
          <a:xfrm>
            <a:off x="1763280" y="627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11"/>
          <p:cNvSpPr/>
          <p:nvPr/>
        </p:nvSpPr>
        <p:spPr>
          <a:xfrm>
            <a:off x="250920" y="386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12"/>
          <p:cNvSpPr/>
          <p:nvPr/>
        </p:nvSpPr>
        <p:spPr>
          <a:xfrm>
            <a:off x="1906560" y="2205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 Box 13"/>
          <p:cNvSpPr/>
          <p:nvPr/>
        </p:nvSpPr>
        <p:spPr>
          <a:xfrm>
            <a:off x="3851280" y="2205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 Box 14"/>
          <p:cNvSpPr/>
          <p:nvPr/>
        </p:nvSpPr>
        <p:spPr>
          <a:xfrm>
            <a:off x="442872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15"/>
          <p:cNvSpPr/>
          <p:nvPr/>
        </p:nvSpPr>
        <p:spPr>
          <a:xfrm>
            <a:off x="4501800" y="54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Text Box 16"/>
          <p:cNvSpPr/>
          <p:nvPr/>
        </p:nvSpPr>
        <p:spPr>
          <a:xfrm>
            <a:off x="3635280" y="62784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Line 17"/>
          <p:cNvSpPr/>
          <p:nvPr/>
        </p:nvSpPr>
        <p:spPr>
          <a:xfrm>
            <a:off x="5219640" y="2349360"/>
            <a:ext cx="0" cy="381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Line 18"/>
          <p:cNvSpPr/>
          <p:nvPr/>
        </p:nvSpPr>
        <p:spPr>
          <a:xfrm>
            <a:off x="5219640" y="4724280"/>
            <a:ext cx="331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20"/>
          <p:cNvSpPr/>
          <p:nvPr/>
        </p:nvSpPr>
        <p:spPr>
          <a:xfrm>
            <a:off x="324000" y="981000"/>
            <a:ext cx="82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лощадь прямоугольника равна произведению его смежных стор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000"/>
                            </p:stCondLst>
                            <p:childTnLst>
                              <p:par>
                                <p:cTn id="410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ЛОЩАДЬ ПРЯМОУГОЛЬ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859280" y="1557000"/>
            <a:ext cx="4284720" cy="504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оказательств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3-му свойству: площадь получившегося квадрата со сторо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 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рав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=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 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2-му свойству имее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+ S +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+ 2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b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S +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 = 2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юда получа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=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4"/>
          <p:cNvSpPr/>
          <p:nvPr/>
        </p:nvSpPr>
        <p:spPr>
          <a:xfrm>
            <a:off x="684360" y="5013360"/>
            <a:ext cx="2663640" cy="1079640"/>
          </a:xfrm>
          <a:prstGeom prst="rect">
            <a:avLst/>
          </a:prstGeom>
          <a:solidFill>
            <a:srgbClr val="7b46d0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 Box 5"/>
          <p:cNvSpPr/>
          <p:nvPr/>
        </p:nvSpPr>
        <p:spPr>
          <a:xfrm>
            <a:off x="1763640" y="5229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6"/>
          <p:cNvSpPr/>
          <p:nvPr/>
        </p:nvSpPr>
        <p:spPr>
          <a:xfrm>
            <a:off x="684360" y="2492280"/>
            <a:ext cx="2663640" cy="252108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7"/>
          <p:cNvSpPr/>
          <p:nvPr/>
        </p:nvSpPr>
        <p:spPr>
          <a:xfrm>
            <a:off x="3348000" y="5013360"/>
            <a:ext cx="1079640" cy="107964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8"/>
          <p:cNvSpPr/>
          <p:nvPr/>
        </p:nvSpPr>
        <p:spPr>
          <a:xfrm>
            <a:off x="3348000" y="2492280"/>
            <a:ext cx="1079640" cy="252108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 Box 9"/>
          <p:cNvSpPr/>
          <p:nvPr/>
        </p:nvSpPr>
        <p:spPr>
          <a:xfrm>
            <a:off x="304200" y="5295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 Box 10"/>
          <p:cNvSpPr/>
          <p:nvPr/>
        </p:nvSpPr>
        <p:spPr>
          <a:xfrm>
            <a:off x="1764720" y="609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11"/>
          <p:cNvSpPr/>
          <p:nvPr/>
        </p:nvSpPr>
        <p:spPr>
          <a:xfrm>
            <a:off x="250920" y="33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Text Box 12"/>
          <p:cNvSpPr/>
          <p:nvPr/>
        </p:nvSpPr>
        <p:spPr>
          <a:xfrm>
            <a:off x="1887480" y="1989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 Box 13"/>
          <p:cNvSpPr/>
          <p:nvPr/>
        </p:nvSpPr>
        <p:spPr>
          <a:xfrm>
            <a:off x="3832200" y="1989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14"/>
          <p:cNvSpPr/>
          <p:nvPr/>
        </p:nvSpPr>
        <p:spPr>
          <a:xfrm>
            <a:off x="4409640" y="3278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Text Box 15"/>
          <p:cNvSpPr/>
          <p:nvPr/>
        </p:nvSpPr>
        <p:spPr>
          <a:xfrm>
            <a:off x="4480920" y="5222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Text Box 16"/>
          <p:cNvSpPr/>
          <p:nvPr/>
        </p:nvSpPr>
        <p:spPr>
          <a:xfrm>
            <a:off x="3616200" y="602136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17"/>
          <p:cNvSpPr/>
          <p:nvPr/>
        </p:nvSpPr>
        <p:spPr>
          <a:xfrm>
            <a:off x="1835280" y="3357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3635280" y="522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19"/>
          <p:cNvSpPr/>
          <p:nvPr/>
        </p:nvSpPr>
        <p:spPr>
          <a:xfrm>
            <a:off x="3635280" y="342900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AutoShape 20"/>
          <p:cNvSpPr/>
          <p:nvPr/>
        </p:nvSpPr>
        <p:spPr>
          <a:xfrm>
            <a:off x="1116000" y="6381720"/>
            <a:ext cx="466560" cy="47628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2050">
                <a:moveTo>
                  <a:pt x="0" y="0"/>
                </a:moveTo>
                <a:lnTo>
                  <a:pt x="21600" y="0"/>
                </a:lnTo>
                <a:lnTo>
                  <a:pt x="21600" y="22050"/>
                </a:lnTo>
                <a:lnTo>
                  <a:pt x="0" y="22050"/>
                </a:lnTo>
                <a:close/>
              </a:path>
              <a:path fill="lightenLess" w="21600" h="220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50">
                <a:moveTo>
                  <a:pt x="21600" y="0"/>
                </a:moveTo>
                <a:lnTo>
                  <a:pt x="21600" y="22050"/>
                </a:lnTo>
                <a:lnTo>
                  <a:pt x="20200" y="20650"/>
                </a:lnTo>
                <a:lnTo>
                  <a:pt x="20200" y="1400"/>
                </a:lnTo>
                <a:close/>
              </a:path>
              <a:path fill="darkenLess" w="21600" h="22050">
                <a:moveTo>
                  <a:pt x="21600" y="22050"/>
                </a:moveTo>
                <a:lnTo>
                  <a:pt x="0" y="22050"/>
                </a:lnTo>
                <a:lnTo>
                  <a:pt x="1400" y="20650"/>
                </a:lnTo>
                <a:lnTo>
                  <a:pt x="20200" y="20650"/>
                </a:lnTo>
                <a:close/>
              </a:path>
              <a:path fill="lighten" w="21600" h="22050">
                <a:moveTo>
                  <a:pt x="0" y="220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50"/>
                </a:lnTo>
                <a:close/>
              </a:path>
              <a:path fill="darken" w="21600" h="22050">
                <a:moveTo>
                  <a:pt x="3794" y="11025"/>
                </a:moveTo>
                <a:lnTo>
                  <a:pt x="17806" y="4018"/>
                </a:lnTo>
                <a:lnTo>
                  <a:pt x="17806" y="18031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8" presetSubtype="16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8" presetSubtype="16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8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2000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2000"/>
                                        <p:tgtEl>
                                          <p:spTgt spid="9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2000"/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1" dur="2000"/>
                                        <p:tgtEl>
                                          <p:spTgt spid="9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5" dur="2000"/>
                                        <p:tgtEl>
                                          <p:spTgt spid="9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2000"/>
                                        <p:tgtEl>
                                          <p:spTgt spid="9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3" dur="2000"/>
                                        <p:tgtEl>
                                          <p:spTgt spid="9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7" dur="2000"/>
                                        <p:tgtEl>
                                          <p:spTgt spid="9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1" dur="2000"/>
                                        <p:tgtEl>
                                          <p:spTgt spid="9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ПИГРАФ  УРОК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ДОХНОВЕНИЕ НУЖНО В ГЕОМЕТР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МЕНЬШЕ, ЧЕМ В ПОЭЗ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С. ПУШ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AutoShape 4">
            <a:hlinkClick r:id="rId1" action="ppaction://hlinksldjump"/>
          </p:cNvPr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3794" y="9359"/>
                </a:moveTo>
                <a:lnTo>
                  <a:pt x="7301" y="9359"/>
                </a:lnTo>
                <a:lnTo>
                  <a:pt x="7301" y="14694"/>
                </a:lnTo>
                <a:cubicBezTo>
                  <a:pt x="7301" y="15617"/>
                  <a:pt x="8102" y="16348"/>
                  <a:pt x="9138" y="16348"/>
                </a:cubicBezTo>
                <a:lnTo>
                  <a:pt x="10800" y="16348"/>
                </a:lnTo>
                <a:cubicBezTo>
                  <a:pt x="11836" y="16348"/>
                  <a:pt x="12636" y="15617"/>
                  <a:pt x="12636" y="14694"/>
                </a:cubicBezTo>
                <a:lnTo>
                  <a:pt x="12636" y="9359"/>
                </a:lnTo>
                <a:lnTo>
                  <a:pt x="10800" y="9359"/>
                </a:lnTo>
                <a:lnTo>
                  <a:pt x="14308" y="5851"/>
                </a:lnTo>
                <a:lnTo>
                  <a:pt x="17981" y="9359"/>
                </a:lnTo>
                <a:lnTo>
                  <a:pt x="16144" y="9359"/>
                </a:lnTo>
                <a:lnTo>
                  <a:pt x="16144" y="14694"/>
                </a:lnTo>
                <a:cubicBezTo>
                  <a:pt x="16144" y="17462"/>
                  <a:pt x="13568" y="20021"/>
                  <a:pt x="10800" y="20021"/>
                </a:cubicBezTo>
                <a:lnTo>
                  <a:pt x="9138" y="20021"/>
                </a:lnTo>
                <a:cubicBezTo>
                  <a:pt x="6370" y="20021"/>
                  <a:pt x="3794" y="17462"/>
                  <a:pt x="3794" y="14694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comic"/>
              </a:rPr>
              <a:t>Задача 1</a:t>
            </a:r>
            <a:r>
              <a:rPr b="1" lang="ru-RU" sz="4400" spc="-1" strike="noStrike">
                <a:solidFill>
                  <a:srgbClr val="00ffff"/>
                </a:solidFill>
                <a:latin typeface="com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рез точку во внутренней области равностороннего треугольника проведены две прямые, параллельные двум сторонам треугольника. На какие фигуры разбивается этими прямыми данный треуголь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AutoShape 4">
            <a:hlinkClick r:id="" action="ppaction://hlinkshowjump?jump=nextslide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3959"/>
                </a:moveTo>
                <a:lnTo>
                  <a:pt x="17806" y="10965"/>
                </a:lnTo>
                <a:lnTo>
                  <a:pt x="3794" y="17972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21"/>
          <p:cNvGrpSpPr/>
          <p:nvPr/>
        </p:nvGrpSpPr>
        <p:grpSpPr>
          <a:xfrm>
            <a:off x="826920" y="189000"/>
            <a:ext cx="7418520" cy="6479640"/>
            <a:chOff x="826920" y="189000"/>
            <a:chExt cx="7418520" cy="6479640"/>
          </a:xfrm>
        </p:grpSpPr>
        <p:grpSp>
          <p:nvGrpSpPr>
            <p:cNvPr id="779" name="Group 11"/>
            <p:cNvGrpSpPr/>
            <p:nvPr/>
          </p:nvGrpSpPr>
          <p:grpSpPr>
            <a:xfrm>
              <a:off x="826920" y="907920"/>
              <a:ext cx="7417080" cy="5760720"/>
              <a:chOff x="826920" y="907920"/>
              <a:chExt cx="7417080" cy="5760720"/>
            </a:xfrm>
          </p:grpSpPr>
          <p:sp>
            <p:nvSpPr>
              <p:cNvPr id="780" name="AutoShape 4"/>
              <p:cNvSpPr/>
              <p:nvPr/>
            </p:nvSpPr>
            <p:spPr>
              <a:xfrm>
                <a:off x="1501560" y="907920"/>
                <a:ext cx="6001560" cy="500256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1" name="Group 8"/>
              <p:cNvGrpSpPr/>
              <p:nvPr/>
            </p:nvGrpSpPr>
            <p:grpSpPr>
              <a:xfrm>
                <a:off x="826920" y="1363320"/>
                <a:ext cx="7417080" cy="5305320"/>
                <a:chOff x="826920" y="1363320"/>
                <a:chExt cx="7417080" cy="5305320"/>
              </a:xfrm>
            </p:grpSpPr>
            <p:sp>
              <p:nvSpPr>
                <p:cNvPr id="782" name="Line 6"/>
                <p:cNvSpPr/>
                <p:nvPr/>
              </p:nvSpPr>
              <p:spPr>
                <a:xfrm>
                  <a:off x="826920" y="4028760"/>
                  <a:ext cx="7417080" cy="0"/>
                </a:xfrm>
                <a:prstGeom prst="line">
                  <a:avLst/>
                </a:prstGeom>
                <a:ln w="76320">
                  <a:solidFill>
                    <a:srgbClr val="99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Line 7"/>
                <p:cNvSpPr/>
                <p:nvPr/>
              </p:nvSpPr>
              <p:spPr>
                <a:xfrm flipH="1">
                  <a:off x="2512800" y="1363320"/>
                  <a:ext cx="3127680" cy="5305320"/>
                </a:xfrm>
                <a:prstGeom prst="line">
                  <a:avLst/>
                </a:prstGeom>
                <a:ln w="76320">
                  <a:solidFill>
                    <a:srgbClr val="99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Oval 5"/>
              <p:cNvSpPr/>
              <p:nvPr/>
            </p:nvSpPr>
            <p:spPr>
              <a:xfrm>
                <a:off x="3927960" y="3962880"/>
                <a:ext cx="201600" cy="19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5" name="Text Box 12"/>
            <p:cNvSpPr/>
            <p:nvPr/>
          </p:nvSpPr>
          <p:spPr>
            <a:xfrm>
              <a:off x="826920" y="558972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ccff"/>
                  </a:solidFill>
                  <a:latin typeface="Times New Roman"/>
                </a:rPr>
                <a:t>С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Text Box 13"/>
            <p:cNvSpPr/>
            <p:nvPr/>
          </p:nvSpPr>
          <p:spPr>
            <a:xfrm>
              <a:off x="7524720" y="5589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ccff"/>
                  </a:solidFill>
                  <a:latin typeface="Times New Roman"/>
                </a:rPr>
                <a:t>В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Text Box 15"/>
            <p:cNvSpPr/>
            <p:nvPr/>
          </p:nvSpPr>
          <p:spPr>
            <a:xfrm>
              <a:off x="4211640" y="189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ccff"/>
                  </a:solidFill>
                  <a:latin typeface="Times New Roman"/>
                </a:rPr>
                <a:t>А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16"/>
            <p:cNvSpPr/>
            <p:nvPr/>
          </p:nvSpPr>
          <p:spPr>
            <a:xfrm>
              <a:off x="2124000" y="335772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ccff"/>
                  </a:solidFill>
                  <a:latin typeface="Times New Roman"/>
                </a:rPr>
                <a:t>К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Text Box 17"/>
            <p:cNvSpPr/>
            <p:nvPr/>
          </p:nvSpPr>
          <p:spPr>
            <a:xfrm>
              <a:off x="2843280" y="5877000"/>
              <a:ext cx="64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ccff"/>
                  </a:solidFill>
                  <a:latin typeface="Times New Roman"/>
                </a:rPr>
                <a:t>М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Text Box 18"/>
            <p:cNvSpPr/>
            <p:nvPr/>
          </p:nvSpPr>
          <p:spPr>
            <a:xfrm>
              <a:off x="6372360" y="3213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ccff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Text Box 19"/>
            <p:cNvSpPr/>
            <p:nvPr/>
          </p:nvSpPr>
          <p:spPr>
            <a:xfrm>
              <a:off x="5364000" y="177336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ccff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Text Box 20"/>
            <p:cNvSpPr/>
            <p:nvPr/>
          </p:nvSpPr>
          <p:spPr>
            <a:xfrm>
              <a:off x="3635280" y="328464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10"/>
          <p:cNvGrpSpPr/>
          <p:nvPr/>
        </p:nvGrpSpPr>
        <p:grpSpPr>
          <a:xfrm>
            <a:off x="1187280" y="2491920"/>
            <a:ext cx="7343640" cy="3389760"/>
            <a:chOff x="1187280" y="2491920"/>
            <a:chExt cx="7343640" cy="3389760"/>
          </a:xfrm>
        </p:grpSpPr>
        <p:sp>
          <p:nvSpPr>
            <p:cNvPr id="794" name="AutoShape 4"/>
            <p:cNvSpPr/>
            <p:nvPr/>
          </p:nvSpPr>
          <p:spPr>
            <a:xfrm>
              <a:off x="1187280" y="4292640"/>
              <a:ext cx="5543640" cy="1589040"/>
            </a:xfrm>
            <a:prstGeom prst="parallelogram">
              <a:avLst>
                <a:gd name="adj" fmla="val 87217"/>
              </a:avLst>
            </a:prstGeom>
            <a:solidFill>
              <a:srgbClr val="3366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6"/>
            <p:cNvSpPr/>
            <p:nvPr/>
          </p:nvSpPr>
          <p:spPr>
            <a:xfrm flipV="1">
              <a:off x="1258560" y="2491920"/>
              <a:ext cx="7272360" cy="3357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V="1">
              <a:off x="6730920" y="2491920"/>
              <a:ext cx="1800000" cy="180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400" spc="-1" strike="noStrike">
                <a:solidFill>
                  <a:srgbClr val="00ffff"/>
                </a:solidFill>
                <a:latin typeface="Arial"/>
              </a:rPr>
              <a:t>Задача 2.</a:t>
            </a:r>
            <a:br>
              <a:rPr sz="4000"/>
            </a:br>
            <a:r>
              <a:rPr b="1" i="1" lang="ru-RU" sz="4000" spc="-1" strike="noStrike">
                <a:solidFill>
                  <a:srgbClr val="00ffff"/>
                </a:solidFill>
                <a:latin typeface="Arial"/>
              </a:rPr>
              <a:t>Дано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CD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параллелограм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 = 2AB, AM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ссектриса угл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D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ffff"/>
                </a:solidFill>
                <a:latin typeface="Arial"/>
              </a:rPr>
              <a:t>Доказат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= 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532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B            </a:t>
            </a: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  N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                                                    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A                                 </a:t>
            </a: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" dur="2000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НЯТИЕ ПЛОЩАД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понимают под площадью многоугольни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принимают за единицу измерения площад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м выражается площадь многоугольника, что показывает это числ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каких единицах измеряется площад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1" name="Шопен 4.mp3" descr=""/>
          <p:cNvPicPr/>
          <p:nvPr/>
        </p:nvPicPr>
        <p:blipFill>
          <a:blip r:embed="rId5"/>
          <a:stretch/>
        </p:blipFill>
        <p:spPr>
          <a:xfrm>
            <a:off x="7667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10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ЕДИНИЦЫ ИЗМЕРЕНИЯ ПЛОЩАД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507520" cy="32400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м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           </a:t>
            </a: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с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          </a:t>
            </a: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д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         </a:t>
            </a: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ар      1 га     1 к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4" name="Group 13"/>
          <p:cNvGrpSpPr/>
          <p:nvPr/>
        </p:nvGrpSpPr>
        <p:grpSpPr>
          <a:xfrm>
            <a:off x="684360" y="3573360"/>
            <a:ext cx="7272360" cy="792000"/>
            <a:chOff x="684360" y="3573360"/>
            <a:chExt cx="7272360" cy="792000"/>
          </a:xfrm>
        </p:grpSpPr>
        <p:sp>
          <p:nvSpPr>
            <p:cNvPr id="805" name="Line 4"/>
            <p:cNvSpPr/>
            <p:nvPr/>
          </p:nvSpPr>
          <p:spPr>
            <a:xfrm>
              <a:off x="2268360" y="3573360"/>
              <a:ext cx="576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Line 5"/>
            <p:cNvSpPr/>
            <p:nvPr/>
          </p:nvSpPr>
          <p:spPr>
            <a:xfrm>
              <a:off x="4859280" y="3573360"/>
              <a:ext cx="576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Line 6"/>
            <p:cNvSpPr/>
            <p:nvPr/>
          </p:nvSpPr>
          <p:spPr>
            <a:xfrm>
              <a:off x="7380360" y="3573360"/>
              <a:ext cx="576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Line 8"/>
            <p:cNvSpPr/>
            <p:nvPr/>
          </p:nvSpPr>
          <p:spPr>
            <a:xfrm>
              <a:off x="684360" y="4365360"/>
              <a:ext cx="57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9"/>
            <p:cNvSpPr/>
            <p:nvPr/>
          </p:nvSpPr>
          <p:spPr>
            <a:xfrm>
              <a:off x="2771640" y="4365360"/>
              <a:ext cx="576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Line 11"/>
            <p:cNvSpPr/>
            <p:nvPr/>
          </p:nvSpPr>
          <p:spPr>
            <a:xfrm>
              <a:off x="4932360" y="4365360"/>
              <a:ext cx="576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12"/>
            <p:cNvSpPr/>
            <p:nvPr/>
          </p:nvSpPr>
          <p:spPr>
            <a:xfrm>
              <a:off x="6732720" y="4365360"/>
              <a:ext cx="57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Text Box 14"/>
          <p:cNvSpPr/>
          <p:nvPr/>
        </p:nvSpPr>
        <p:spPr>
          <a:xfrm>
            <a:off x="219564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4716360" y="2852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16"/>
          <p:cNvSpPr/>
          <p:nvPr/>
        </p:nvSpPr>
        <p:spPr>
          <a:xfrm>
            <a:off x="7308720" y="2852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17"/>
          <p:cNvSpPr/>
          <p:nvPr/>
        </p:nvSpPr>
        <p:spPr>
          <a:xfrm>
            <a:off x="2627280" y="371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8"/>
          <p:cNvSpPr/>
          <p:nvPr/>
        </p:nvSpPr>
        <p:spPr>
          <a:xfrm>
            <a:off x="4788000" y="371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19"/>
          <p:cNvSpPr/>
          <p:nvPr/>
        </p:nvSpPr>
        <p:spPr>
          <a:xfrm>
            <a:off x="6588000" y="371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20"/>
          <p:cNvSpPr/>
          <p:nvPr/>
        </p:nvSpPr>
        <p:spPr>
          <a:xfrm>
            <a:off x="395280" y="2421000"/>
            <a:ext cx="8507520" cy="32400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м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           </a:t>
            </a: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с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          </a:t>
            </a: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д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         </a:t>
            </a: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ар      1 га     1 к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3000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3000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6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ак измерить площадь данной фигуры квадратных сантиметр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971640" y="1989000"/>
          <a:ext cx="7202520" cy="429444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720720"/>
                <a:gridCol w="719280"/>
                <a:gridCol w="720720"/>
                <a:gridCol w="720720"/>
                <a:gridCol w="719280"/>
                <a:gridCol w="720720"/>
                <a:gridCol w="7207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 Box 14"/>
          <p:cNvSpPr/>
          <p:nvPr/>
        </p:nvSpPr>
        <p:spPr>
          <a:xfrm>
            <a:off x="1188720" y="544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11"/>
          <p:cNvSpPr/>
          <p:nvPr/>
        </p:nvSpPr>
        <p:spPr>
          <a:xfrm>
            <a:off x="1116000" y="2565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1692360" y="1989000"/>
          <a:ext cx="5040360" cy="1440000"/>
        </p:xfrm>
        <a:graphic>
          <a:graphicData uri="http://schemas.openxmlformats.org/drawingml/2006/table">
            <a:tbl>
              <a:tblPr/>
              <a:tblGrid>
                <a:gridCol w="718920"/>
                <a:gridCol w="720720"/>
                <a:gridCol w="719280"/>
                <a:gridCol w="720720"/>
                <a:gridCol w="720720"/>
                <a:gridCol w="719280"/>
                <a:gridCol w="7207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Text Box 12"/>
          <p:cNvSpPr/>
          <p:nvPr/>
        </p:nvSpPr>
        <p:spPr>
          <a:xfrm>
            <a:off x="6746760" y="1916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13"/>
          <p:cNvSpPr/>
          <p:nvPr/>
        </p:nvSpPr>
        <p:spPr>
          <a:xfrm>
            <a:off x="6674040" y="5516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1692360" y="2708280"/>
          <a:ext cx="5040360" cy="2881440"/>
        </p:xfrm>
        <a:graphic>
          <a:graphicData uri="http://schemas.openxmlformats.org/drawingml/2006/table">
            <a:tbl>
              <a:tblPr/>
              <a:tblGrid>
                <a:gridCol w="718920"/>
                <a:gridCol w="720720"/>
                <a:gridCol w="719280"/>
                <a:gridCol w="720720"/>
                <a:gridCol w="720720"/>
                <a:gridCol w="719280"/>
                <a:gridCol w="7207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sp>
        <p:nvSpPr>
          <p:cNvPr id="827" name="AutoShape 400"/>
          <p:cNvSpPr/>
          <p:nvPr/>
        </p:nvSpPr>
        <p:spPr>
          <a:xfrm>
            <a:off x="1692360" y="2349360"/>
            <a:ext cx="5040360" cy="3240360"/>
          </a:xfrm>
          <a:prstGeom prst="flowChartManualInpu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3:36:34Z</dcterms:created>
  <dc:creator>Admin</dc:creator>
  <dc:description/>
  <dc:language>en-US</dc:language>
  <cp:lastModifiedBy>Любовь</cp:lastModifiedBy>
  <dcterms:modified xsi:type="dcterms:W3CDTF">2014-10-13T14:48:10Z</dcterms:modified>
  <cp:revision>24</cp:revision>
  <dc:subject/>
  <dc:title>ПЛОЩАДЬ МНОГОУГОЛЬНИКА</dc:title>
</cp:coreProperties>
</file>