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13BEE-9E8B-4A44-8E83-E1BB0EB3B07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45252-D15E-4148-9656-E6AF6AA8129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02CC-4416-4680-A741-116AC1383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CEE3-C0FA-4A8C-81BC-F0A66C9D5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5AED-25C8-4E82-B1B1-2A74A3333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EA72-488A-47FC-9EEF-36FD7AF76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182C1-80FF-4DAA-B219-CD98D0055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218B7-E40B-4FE0-8D7C-28299A952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106B6-B521-41BC-8B48-30FA69730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D62BD-E8CB-4E7B-9A15-B9093E365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C7E99-5E35-42E9-B7A0-E02701F37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4CE83-098C-41C1-A177-962ECB0D2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A33F7-203C-44DD-841B-E1D1DA0A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6C27-42E6-45F0-B94B-62F904008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5792E-FC48-49AD-BCB8-DF59C533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ACB83-F7A2-4A4E-A6E4-86B0B83A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35B1E-F7C8-4103-A3C4-7A1B408A6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9F5CA-C602-4B99-99D5-F4338C128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6C13A-BC87-45BE-AE94-262080751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6ECA5-3259-46B5-B062-8B9B7AF60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6108E-76FE-41A5-AC21-1AC75E460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ECDF4-4017-4C77-AF7F-101C8E821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3AAA0-BF41-4FED-B76C-BA37EE30C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BD4A7-D192-4435-A9F6-063643282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92E1-1267-4148-9067-36E15985C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B32B9-1B0A-4CCA-A237-B6E24914E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1F126-BA49-4C9B-8207-B9396723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7DA61-B865-48E5-82B1-9F867315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D602F-75B9-41E5-811A-E07A53C1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1AE4E-A9EC-4A47-9BA7-19115E3E1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FBBEC-180F-473A-BBC6-82FF88B51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AAD3A-B25A-41F6-A3AA-24A43F9BE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792C3-01C2-4B21-A2F1-962329AF3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C54FE-0D7A-40D6-9F57-3667ECCA7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480AF-2B75-401F-9A51-D1141C4C8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BED0-D949-4950-B774-81EF7214B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A2DF8-18F8-4ABE-805E-34BF0873E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D9CB3-86AE-4846-89C9-3471D464B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A0F0F-F0AB-4FA7-9432-EF0B8C6F3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20205-EA0F-4AEA-A8FB-2E3A23E5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8AFE8-9F8E-44BD-BC75-B6BBA589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C66D2-5FDD-4FFD-8978-3D481451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D6345-5285-4207-A0B7-3617437D1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312D0-4E6F-4B88-870D-86086288F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5F82F-A526-4B4E-B4C0-07E74F7FF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23945-F365-413A-BF46-70342C763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BA25-9C13-4E3A-8930-6663EC29E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F00A3-15B0-45E9-9B18-36B749838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A42C0-7BDA-42A1-AC9E-1BF69AC21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D44F2-5B64-48CC-B7C5-DF26B5BAB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B724B-D06C-472F-A441-544EF2D77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A1887-D0CF-480B-A92F-33F84DB5C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2CAAA-8B3B-4FE2-884B-40A12411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0624D-9F82-49DE-A884-7D229A1F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6937C-16DE-48A6-AFD5-3C78C04B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A5B84-EFD9-4EE8-AB60-8A3A708BB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288B4-92FC-4FB8-9D52-A8C9EF393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499D-1F20-4532-8511-75D876531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E0B60-2E9C-4DD0-96CC-91C5B0B45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3A49F-6056-48B8-BFEB-334C007B8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10073-A06F-4691-A985-84E2BF33E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47B05-8D35-45CF-A73E-7A6C29813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04706-DEB0-481B-AA32-17C2ABF93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A6C07-1B2A-4715-B949-92E83FEB3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9687E-1EF6-49BC-BD7A-1D26F56AA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C77F4-0CF4-434C-9F8F-E096CD57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C01BB-CDB8-412F-AAAD-D8AAFE66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6415E-9179-4BA5-9DB1-CEDC424C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98E8-842B-4DED-8AFC-D21C410B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ACDC5-B652-4E4D-A419-F7F4E0539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F1224-FF14-4266-BACE-B4DABD13E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93338-411C-4829-B753-26931ED12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0AA99-0527-4DE7-8B9E-56DA3F2DD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6D45A1-68E4-4033-922C-2B13CE86B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9BE712-D807-4EDE-9971-A078746AC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AD880-100A-49F4-9474-6F36216E4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1C39A0-617D-4CB4-AA4D-4D08CA8AF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BBFA57-02AA-44B5-8560-04F03ACD7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15D82C-C963-4197-B231-6086D3B3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0348-28AA-4725-AB97-466F043E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EA334-DB1E-48E7-A380-4592759B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0FC408-E297-4633-B492-D6A92328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EF877C-66D6-4A47-8983-C11791BFF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A9DFA-B806-41D8-92BE-ACCA9D051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A2F999-0625-4B9C-B2B7-44118D1B7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0902FE-F62F-4C39-A531-125EBFA23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181032-45A4-46B1-9274-D77A5572C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85A19F-FC35-4441-9971-5DBA3EED4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7CA9AA-6DDC-4983-A982-B37C1D40A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69B0C9-B6FE-4278-A0C4-8ADC862F9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7E8C-3420-4BC6-A820-0B520848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8048B-7EB2-4504-9B75-3C527C440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F07B60-66D3-4FD4-BD78-2BE4B800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F59E5F-B558-48A6-A333-424312E6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9E2298-7BE8-4D33-A64D-525C474E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110F96-1224-4D2D-8972-EAADFA798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AC97AA-88D4-4511-ADD7-D3235FEC2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BFD572-163F-419D-A8EF-F0BC72981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32E50-AA72-46F0-89E4-FA49A5EEE3B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B2C46-4B60-450A-A00B-AE062BEFF4EC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2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69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FFBBF-8C49-4BAC-BB23-25530EDD22C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218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19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1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222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4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225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7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228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229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0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1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232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233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>
                      <a:gd name="textAreaLeft" fmla="*/ 0 w 884520"/>
                      <a:gd name="textAreaRight" fmla="*/ 884880 w 88452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236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>
                      <a:gd name="textAreaLeft" fmla="*/ 0 w 931320"/>
                      <a:gd name="textAreaRight" fmla="*/ 93168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>
                      <a:gd name="textAreaLeft" fmla="*/ 0 w 499680"/>
                      <a:gd name="textAreaRight" fmla="*/ 500040 w 499680"/>
                      <a:gd name="textAreaTop" fmla="*/ 0 h 279360"/>
                      <a:gd name="textAreaBottom" fmla="*/ 279720 h 279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39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>
                      <a:gd name="textAreaLeft" fmla="*/ 0 w 890280"/>
                      <a:gd name="textAreaRight" fmla="*/ 890640 w 89028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>
                      <a:gd name="textAreaLeft" fmla="*/ 0 w 478080"/>
                      <a:gd name="textAreaRight" fmla="*/ 47844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1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42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>
                      <a:gd name="textAreaLeft" fmla="*/ 0 w 461880"/>
                      <a:gd name="textAreaRight" fmla="*/ 462240 w 46188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45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>
                      <a:gd name="textAreaLeft" fmla="*/ 0 w 792720"/>
                      <a:gd name="textAreaRight" fmla="*/ 793080 w 79272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>
                      <a:gd name="textAreaLeft" fmla="*/ 0 w 425880"/>
                      <a:gd name="textAreaRight" fmla="*/ 426240 w 4258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248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11600"/>
                      <a:gd name="textAreaBottom" fmla="*/ 111960 h 111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>
                      <a:gd name="textAreaLeft" fmla="*/ 0 w 386640"/>
                      <a:gd name="textAreaRight" fmla="*/ 387000 w 38664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251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3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254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>
                      <a:gd name="textAreaLeft" fmla="*/ 360 w 884880"/>
                      <a:gd name="textAreaRight" fmla="*/ 885600 w 8848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>
                      <a:gd name="textAreaLeft" fmla="*/ 360 w 474480"/>
                      <a:gd name="textAreaRight" fmla="*/ 475200 w 474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6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257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>
                      <a:gd name="textAreaLeft" fmla="*/ -360 w 931320"/>
                      <a:gd name="textAreaRight" fmla="*/ 93132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>
                      <a:gd name="textAreaLeft" fmla="*/ -360 w 500040"/>
                      <a:gd name="textAreaRight" fmla="*/ 500040 w 50004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9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260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>
                      <a:gd name="textAreaLeft" fmla="*/ 360 w 890640"/>
                      <a:gd name="textAreaRight" fmla="*/ 891360 w 89064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>
                      <a:gd name="textAreaLeft" fmla="*/ 360 w 478080"/>
                      <a:gd name="textAreaRight" fmla="*/ 47880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2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263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>
                      <a:gd name="textAreaLeft" fmla="*/ -360 w 461880"/>
                      <a:gd name="textAreaRight" fmla="*/ 461880 w 46188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5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266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>
                      <a:gd name="textAreaLeft" fmla="*/ -360 w 792360"/>
                      <a:gd name="textAreaRight" fmla="*/ 792360 w 792360"/>
                      <a:gd name="textAreaTop" fmla="*/ 0 h 159480"/>
                      <a:gd name="textAreaBottom" fmla="*/ 159840 h 159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>
                      <a:gd name="textAreaLeft" fmla="*/ 360 w 425520"/>
                      <a:gd name="textAreaRight" fmla="*/ 426240 w 425520"/>
                      <a:gd name="textAreaTop" fmla="*/ 0 h 249840"/>
                      <a:gd name="textAreaBottom" fmla="*/ 250200 h 2498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8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269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11960"/>
                      <a:gd name="textAreaBottom" fmla="*/ 112320 h 1119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>
                      <a:gd name="textAreaLeft" fmla="*/ -360 w 387000"/>
                      <a:gd name="textAreaRight" fmla="*/ 387000 w 38700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272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4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275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>
                      <a:gd name="textAreaLeft" fmla="*/ 360 w 632160"/>
                      <a:gd name="textAreaRight" fmla="*/ 632880 w 63216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7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278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>
                      <a:gd name="textAreaLeft" fmla="*/ 360 w 633600"/>
                      <a:gd name="textAreaRight" fmla="*/ 634320 w 63360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0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281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>
                      <a:gd name="textAreaLeft" fmla="*/ -360 w 641880"/>
                      <a:gd name="textAreaRight" fmla="*/ 641880 w 64188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>
                      <a:gd name="textAreaLeft" fmla="*/ 0 w 345240"/>
                      <a:gd name="textAreaRight" fmla="*/ 345240 w 3452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3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284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>
                      <a:gd name="textAreaLeft" fmla="*/ -360 w 303480"/>
                      <a:gd name="textAreaRight" fmla="*/ 303480 w 30348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6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287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>
                      <a:gd name="textAreaLeft" fmla="*/ -360 w 543960"/>
                      <a:gd name="textAreaRight" fmla="*/ 543960 w 54396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>
                      <a:gd name="textAreaLeft" fmla="*/ 360 w 292320"/>
                      <a:gd name="textAreaRight" fmla="*/ 293040 w 29232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9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290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>
                      <a:gd name="textAreaLeft" fmla="*/ 0 w 632160"/>
                      <a:gd name="textAreaRight" fmla="*/ 632520 w 63216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2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293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>
                      <a:gd name="textAreaLeft" fmla="*/ 0 w 633240"/>
                      <a:gd name="textAreaRight" fmla="*/ 633600 w 63324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5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>
                    <a:gd name="textAreaLeft" fmla="*/ 360 w 282240"/>
                    <a:gd name="textAreaRight" fmla="*/ 282960 w 282240"/>
                    <a:gd name="textAreaTop" fmla="*/ 0 h 117720"/>
                    <a:gd name="textAreaBottom" fmla="*/ 118080 h 11772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97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98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>
                      <a:gd name="textAreaLeft" fmla="*/ 0 w 545040"/>
                      <a:gd name="textAreaRight" fmla="*/ 545400 w 545040"/>
                      <a:gd name="textAreaTop" fmla="*/ 0 h 94320"/>
                      <a:gd name="textAreaBottom" fmla="*/ 94680 h 943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>
                      <a:gd name="textAreaLeft" fmla="*/ 0 w 292320"/>
                      <a:gd name="textAreaRight" fmla="*/ 292680 w 292320"/>
                      <a:gd name="textAreaTop" fmla="*/ 0 h 148320"/>
                      <a:gd name="textAreaBottom" fmla="*/ 148680 h 1483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0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301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>
                      <a:gd name="textAreaLeft" fmla="*/ 0 w 592560"/>
                      <a:gd name="textAreaRight" fmla="*/ 592920 w 592560"/>
                      <a:gd name="textAreaTop" fmla="*/ 0 h 138240"/>
                      <a:gd name="textAreaBottom" fmla="*/ 138600 h 1382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>
                      <a:gd name="textAreaLeft" fmla="*/ 0 w 317880"/>
                      <a:gd name="textAreaRight" fmla="*/ 318240 w 317880"/>
                      <a:gd name="textAreaTop" fmla="*/ 0 h 216360"/>
                      <a:gd name="textAreaBottom" fmla="*/ 216720 h 216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3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304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>
                      <a:gd name="textAreaLeft" fmla="*/ 0 w 488880"/>
                      <a:gd name="textAreaRight" fmla="*/ 489240 w 488880"/>
                      <a:gd name="textAreaTop" fmla="*/ 0 h 43920"/>
                      <a:gd name="textAreaBottom" fmla="*/ 44280 h 43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>
                      <a:gd name="textAreaLeft" fmla="*/ 0 w 262440"/>
                      <a:gd name="textAreaRight" fmla="*/ 262800 w 262440"/>
                      <a:gd name="textAreaTop" fmla="*/ 0 h 69120"/>
                      <a:gd name="textAreaBottom" fmla="*/ 69480 h 691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6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307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>
                      <a:gd name="textAreaLeft" fmla="*/ 360 w 884160"/>
                      <a:gd name="textAreaRight" fmla="*/ 88488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>
                      <a:gd name="textAreaLeft" fmla="*/ -360 w 474120"/>
                      <a:gd name="textAreaRight" fmla="*/ 474120 w 47412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9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310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>
                      <a:gd name="textAreaLeft" fmla="*/ -360 w 818280"/>
                      <a:gd name="textAreaRight" fmla="*/ 818280 w 8182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>
                      <a:gd name="textAreaLeft" fmla="*/ 360 w 439200"/>
                      <a:gd name="textAreaRight" fmla="*/ 439920 w 43920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2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313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>
                      <a:gd name="textAreaLeft" fmla="*/ -360 w 785160"/>
                      <a:gd name="textAreaRight" fmla="*/ 785160 w 785160"/>
                      <a:gd name="textAreaTop" fmla="*/ 0 h 144000"/>
                      <a:gd name="textAreaBottom" fmla="*/ 144360 h 144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>
                      <a:gd name="textAreaLeft" fmla="*/ 360 w 421200"/>
                      <a:gd name="textAreaRight" fmla="*/ 421920 w 421200"/>
                      <a:gd name="textAreaTop" fmla="*/ 0 h 226440"/>
                      <a:gd name="textAreaBottom" fmla="*/ 226800 h 226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5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316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>
                      <a:gd name="textAreaLeft" fmla="*/ 0 w 884880"/>
                      <a:gd name="textAreaRight" fmla="*/ 885240 w 88488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1640"/>
                      <a:gd name="textAreaBottom" fmla="*/ 252000 h 251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8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319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>
                      <a:gd name="textAreaLeft" fmla="*/ 0 w 846720"/>
                      <a:gd name="textAreaRight" fmla="*/ 847080 w 84672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1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322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>
                      <a:gd name="textAreaLeft" fmla="*/ 0 w 821160"/>
                      <a:gd name="textAreaRight" fmla="*/ 821520 w 82116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>
                      <a:gd name="textAreaLeft" fmla="*/ 0 w 440280"/>
                      <a:gd name="textAreaRight" fmla="*/ 440640 w 44028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4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325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>
                      <a:gd name="textAreaLeft" fmla="*/ 0 w 754920"/>
                      <a:gd name="textAreaRight" fmla="*/ 755280 w 754920"/>
                      <a:gd name="textAreaTop" fmla="*/ 0 h 126000"/>
                      <a:gd name="textAreaBottom" fmla="*/ 126360 h 126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>
                      <a:gd name="textAreaLeft" fmla="*/ 0 w 405360"/>
                      <a:gd name="textAreaRight" fmla="*/ 405720 w 405360"/>
                      <a:gd name="textAreaTop" fmla="*/ 0 h 198000"/>
                      <a:gd name="textAreaBottom" fmla="*/ 198360 h 198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7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328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>
                      <a:gd name="textAreaLeft" fmla="*/ 0 w 737640"/>
                      <a:gd name="textAreaRight" fmla="*/ 738000 w 737640"/>
                      <a:gd name="textAreaTop" fmla="*/ 0 h 96480"/>
                      <a:gd name="textAreaBottom" fmla="*/ 96840 h 96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>
                      <a:gd name="textAreaLeft" fmla="*/ 0 w 395640"/>
                      <a:gd name="textAreaRight" fmla="*/ 396000 w 39564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30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>
                  <a:gd name="textAreaLeft" fmla="*/ 360 w 1090080"/>
                  <a:gd name="textAreaRight" fmla="*/ 1090800 w 1090080"/>
                  <a:gd name="textAreaTop" fmla="*/ 0 h 1181880"/>
                  <a:gd name="textAreaBottom" fmla="*/ 1182240 h 11818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>
                  <a:gd name="textAreaLeft" fmla="*/ 360 w 637200"/>
                  <a:gd name="textAreaRight" fmla="*/ 637920 w 637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9680"/>
                  <a:gd name="textAreaBottom" fmla="*/ 1220040 h 121968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>
                  <a:gd name="textAreaLeft" fmla="*/ 0 w 515520"/>
                  <a:gd name="textAreaRight" fmla="*/ 515880 w 515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>
                  <a:gd name="textAreaLeft" fmla="*/ 0 w 248400"/>
                  <a:gd name="textAreaRight" fmla="*/ 248760 w 24840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>
                  <a:gd name="textAreaLeft" fmla="*/ 0 w 226080"/>
                  <a:gd name="textAreaRight" fmla="*/ 226440 w 226080"/>
                  <a:gd name="textAreaTop" fmla="*/ -360 h 429480"/>
                  <a:gd name="textAreaBottom" fmla="*/ 429480 h 429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>
                  <a:gd name="textAreaLeft" fmla="*/ -360 w 948600"/>
                  <a:gd name="textAreaRight" fmla="*/ 948600 w 94860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>
                  <a:gd name="textAreaLeft" fmla="*/ 0 w 391320"/>
                  <a:gd name="textAreaRight" fmla="*/ 391680 w 391320"/>
                  <a:gd name="textAreaTop" fmla="*/ 0 h 1182960"/>
                  <a:gd name="textAreaBottom" fmla="*/ 1183320 h 118296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>
                  <a:gd name="textAreaLeft" fmla="*/ -360 w 556200"/>
                  <a:gd name="textAreaRight" fmla="*/ 556200 w 55620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>
                  <a:gd name="textAreaLeft" fmla="*/ 0 w 778680"/>
                  <a:gd name="textAreaRight" fmla="*/ 779040 w 778680"/>
                  <a:gd name="textAreaTop" fmla="*/ 0 h 548280"/>
                  <a:gd name="textAreaBottom" fmla="*/ 548280 h 5482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5480"/>
                  <a:gd name="textAreaBottom" fmla="*/ 735840 h 735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>
                  <a:gd name="textAreaLeft" fmla="*/ 0 w 227520"/>
                  <a:gd name="textAreaRight" fmla="*/ 227880 w 22752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>
                  <a:gd name="textAreaLeft" fmla="*/ -360 w 226440"/>
                  <a:gd name="textAreaRight" fmla="*/ 226440 w 22644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2B3A2-C7EC-4FFA-9395-ECDB295DA524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394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0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431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CD53A-68B3-4D92-9A84-0ACA3AE7F4B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47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48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85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486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9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490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9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52E83-6A52-4DC2-8093-C11F4D768C3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8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39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FCD8F-0861-46FF-9D7D-C5550F4276B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588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589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1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592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593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594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6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597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598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>
                        <a:gd name="textAreaLeft" fmla="*/ 0 w 2125440"/>
                        <a:gd name="textAreaRight" fmla="*/ 212580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9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0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601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>
                        <a:gd name="textAreaLeft" fmla="*/ 0 w 2236680"/>
                        <a:gd name="textAreaRight" fmla="*/ 223704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2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>
                        <a:gd name="textAreaLeft" fmla="*/ 0 w 1200600"/>
                        <a:gd name="textAreaRight" fmla="*/ 1200960 w 1200600"/>
                        <a:gd name="textAreaTop" fmla="*/ 0 h 671760"/>
                        <a:gd name="textAreaBottom" fmla="*/ 672120 h 671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3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604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>
                        <a:gd name="textAreaLeft" fmla="*/ 0 w 2140560"/>
                        <a:gd name="textAreaRight" fmla="*/ 2140920 w 214056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5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6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607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8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9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610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>
                        <a:gd name="textAreaLeft" fmla="*/ 0 w 1904760"/>
                        <a:gd name="textAreaRight" fmla="*/ 1905120 w 190476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1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>
                        <a:gd name="textAreaLeft" fmla="*/ 0 w 1023480"/>
                        <a:gd name="textAreaRight" fmla="*/ 1023840 w 102348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2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613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70000"/>
                        <a:gd name="textAreaBottom" fmla="*/ 270360 h 270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4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5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616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>
                        <a:gd name="textAreaLeft" fmla="*/ 0 w 1520280"/>
                        <a:gd name="textAreaRight" fmla="*/ 152064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7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8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619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>
                        <a:gd name="textAreaLeft" fmla="*/ -360 w 2125800"/>
                        <a:gd name="textAreaRight" fmla="*/ 212580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0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>
                        <a:gd name="textAreaLeft" fmla="*/ -360 w 1140840"/>
                        <a:gd name="textAreaRight" fmla="*/ 1140840 w 114084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1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622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>
                        <a:gd name="textAreaLeft" fmla="*/ -360 w 2236680"/>
                        <a:gd name="textAreaRight" fmla="*/ 223668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3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>
                        <a:gd name="textAreaLeft" fmla="*/ 360 w 1200960"/>
                        <a:gd name="textAreaRight" fmla="*/ 1201680 w 1200960"/>
                        <a:gd name="textAreaTop" fmla="*/ 0 h 672480"/>
                        <a:gd name="textAreaBottom" fmla="*/ 672840 h 6724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4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625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>
                        <a:gd name="textAreaLeft" fmla="*/ -360 w 2140920"/>
                        <a:gd name="textAreaRight" fmla="*/ 2140920 w 214092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6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>
                        <a:gd name="textAreaLeft" fmla="*/ 360 w 1149120"/>
                        <a:gd name="textAreaRight" fmla="*/ 1149840 w 114912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7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628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>
                        <a:gd name="textAreaLeft" fmla="*/ 360 w 2067840"/>
                        <a:gd name="textAreaRight" fmla="*/ 2068560 w 206784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9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>
                        <a:gd name="textAreaLeft" fmla="*/ -360 w 1110600"/>
                        <a:gd name="textAreaRight" fmla="*/ 111060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0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631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>
                        <a:gd name="textAreaLeft" fmla="*/ -360 w 1904760"/>
                        <a:gd name="textAreaRight" fmla="*/ 1904760 w 190476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2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>
                        <a:gd name="textAreaLeft" fmla="*/ 360 w 1023120"/>
                        <a:gd name="textAreaRight" fmla="*/ 1023840 w 1023120"/>
                        <a:gd name="textAreaTop" fmla="*/ 0 h 603000"/>
                        <a:gd name="textAreaBottom" fmla="*/ 603360 h 60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3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634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>
                        <a:gd name="textAreaLeft" fmla="*/ 360 w 1730880"/>
                        <a:gd name="textAreaRight" fmla="*/ 1731600 w 1730880"/>
                        <a:gd name="textAreaTop" fmla="*/ 0 h 269280"/>
                        <a:gd name="textAreaBottom" fmla="*/ 269640 h 269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5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>
                        <a:gd name="textAreaLeft" fmla="*/ 360 w 929520"/>
                        <a:gd name="textAreaRight" fmla="*/ 93024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6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637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8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9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640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1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>
                        <a:gd name="textAreaLeft" fmla="*/ 360 w 816480"/>
                        <a:gd name="textAreaRight" fmla="*/ 81720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2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643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4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5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646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7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8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649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>
                        <a:gd name="textAreaLeft" fmla="*/ 360 w 1356480"/>
                        <a:gd name="textAreaRight" fmla="*/ 1357200 w 13564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0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>
                        <a:gd name="textAreaLeft" fmla="*/ -360 w 729000"/>
                        <a:gd name="textAreaRight" fmla="*/ 729000 w 72900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1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652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>
                        <a:gd name="textAreaLeft" fmla="*/ 360 w 1308240"/>
                        <a:gd name="textAreaRight" fmla="*/ 1308960 w 13082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3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4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655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6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7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658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9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60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>
                      <a:gd name="textAreaLeft" fmla="*/ 0 w 1266120"/>
                      <a:gd name="textAreaRight" fmla="*/ 1266120 w 1266120"/>
                      <a:gd name="textAreaTop" fmla="*/ 0 h 178560"/>
                      <a:gd name="textAreaBottom" fmla="*/ 178920 h 178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2240"/>
                      <a:gd name="textAreaBottom" fmla="*/ 282600 h 282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62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663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>
                        <a:gd name="textAreaLeft" fmla="*/ 0 w 1309680"/>
                        <a:gd name="textAreaRight" fmla="*/ 1310040 w 1309680"/>
                        <a:gd name="textAreaTop" fmla="*/ 0 h 226800"/>
                        <a:gd name="textAreaBottom" fmla="*/ 227160 h 2268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4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>
                        <a:gd name="textAreaLeft" fmla="*/ 0 w 702360"/>
                        <a:gd name="textAreaRight" fmla="*/ 702720 w 702360"/>
                        <a:gd name="textAreaTop" fmla="*/ 0 h 356040"/>
                        <a:gd name="textAreaBottom" fmla="*/ 356400 h 3560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5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666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>
                        <a:gd name="textAreaLeft" fmla="*/ 0 w 1424160"/>
                        <a:gd name="textAreaRight" fmla="*/ 1424520 w 1424160"/>
                        <a:gd name="textAreaTop" fmla="*/ 0 h 332640"/>
                        <a:gd name="textAreaBottom" fmla="*/ 333000 h 332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7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>
                        <a:gd name="textAreaLeft" fmla="*/ 0 w 764280"/>
                        <a:gd name="textAreaRight" fmla="*/ 764640 w 764280"/>
                        <a:gd name="textAreaTop" fmla="*/ 0 h 521280"/>
                        <a:gd name="textAreaBottom" fmla="*/ 521640 h 5212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8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669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>
                        <a:gd name="textAreaLeft" fmla="*/ 0 w 1175760"/>
                        <a:gd name="textAreaRight" fmla="*/ 1176120 w 1175760"/>
                        <a:gd name="textAreaTop" fmla="*/ 0 h 105840"/>
                        <a:gd name="textAreaBottom" fmla="*/ 106200 h 105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0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>
                        <a:gd name="textAreaLeft" fmla="*/ 0 w 631080"/>
                        <a:gd name="textAreaRight" fmla="*/ 631440 w 631080"/>
                        <a:gd name="textAreaTop" fmla="*/ 0 h 165960"/>
                        <a:gd name="textAreaBottom" fmla="*/ 166320 h 165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1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672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>
                        <a:gd name="textAreaLeft" fmla="*/ 360 w 2125440"/>
                        <a:gd name="textAreaRight" fmla="*/ 212616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3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>
                        <a:gd name="textAreaLeft" fmla="*/ 360 w 1140480"/>
                        <a:gd name="textAreaRight" fmla="*/ 114120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4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675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>
                        <a:gd name="textAreaLeft" fmla="*/ -360 w 1966680"/>
                        <a:gd name="textAreaRight" fmla="*/ 1966680 w 196668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6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>
                        <a:gd name="textAreaLeft" fmla="*/ -360 w 1055160"/>
                        <a:gd name="textAreaRight" fmla="*/ 1055160 w 1055160"/>
                        <a:gd name="textAreaTop" fmla="*/ 0 h 603720"/>
                        <a:gd name="textAreaBottom" fmla="*/ 604080 h 603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7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678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>
                        <a:gd name="textAreaLeft" fmla="*/ -360 w 1886760"/>
                        <a:gd name="textAreaRight" fmla="*/ 1886760 w 1886760"/>
                        <a:gd name="textAreaTop" fmla="*/ 0 h 346320"/>
                        <a:gd name="textAreaBottom" fmla="*/ 346680 h 346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9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>
                        <a:gd name="textAreaLeft" fmla="*/ 360 w 1012320"/>
                        <a:gd name="textAreaRight" fmla="*/ 1013040 w 1012320"/>
                        <a:gd name="textAreaTop" fmla="*/ 0 h 544320"/>
                        <a:gd name="textAreaBottom" fmla="*/ 544680 h 544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0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681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>
                        <a:gd name="textAreaLeft" fmla="*/ 0 w 2125800"/>
                        <a:gd name="textAreaRight" fmla="*/ 212616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2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3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684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>
                        <a:gd name="textAreaLeft" fmla="*/ 0 w 2034360"/>
                        <a:gd name="textAreaRight" fmla="*/ 2034720 w 2034360"/>
                        <a:gd name="textAreaTop" fmla="*/ 0 h 368640"/>
                        <a:gd name="textAreaBottom" fmla="*/ 369000 h 368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5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>
                        <a:gd name="textAreaLeft" fmla="*/ 0 w 1091160"/>
                        <a:gd name="textAreaRight" fmla="*/ 1091520 w 1091160"/>
                        <a:gd name="textAreaTop" fmla="*/ 0 h 578160"/>
                        <a:gd name="textAreaBottom" fmla="*/ 578520 h 578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6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687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>
                        <a:gd name="textAreaLeft" fmla="*/ 0 w 1973880"/>
                        <a:gd name="textAreaRight" fmla="*/ 1974240 w 197388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8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>
                        <a:gd name="textAreaLeft" fmla="*/ 0 w 1059120"/>
                        <a:gd name="textAreaRight" fmla="*/ 1059480 w 1059120"/>
                        <a:gd name="textAreaTop" fmla="*/ 0 h 475920"/>
                        <a:gd name="textAreaBottom" fmla="*/ 476280 h 475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9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690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>
                        <a:gd name="textAreaLeft" fmla="*/ 0 w 1814040"/>
                        <a:gd name="textAreaRight" fmla="*/ 1814400 w 181404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1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>
                        <a:gd name="textAreaLeft" fmla="*/ 0 w 974160"/>
                        <a:gd name="textAreaRight" fmla="*/ 974520 w 97416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2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693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>
                        <a:gd name="textAreaLeft" fmla="*/ 0 w 1771920"/>
                        <a:gd name="textAreaRight" fmla="*/ 1772280 w 177192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4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3240"/>
                        <a:gd name="textAreaBottom" fmla="*/ 363600 h 363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95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696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697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>
                      <a:gd name="textAreaLeft" fmla="*/ 0 w 3165480"/>
                      <a:gd name="textAreaRight" fmla="*/ 3165840 w 3165480"/>
                      <a:gd name="textAreaTop" fmla="*/ -360 h 2522520"/>
                      <a:gd name="textAreaBottom" fmla="*/ 2522520 h 252252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>
                      <a:gd name="textAreaLeft" fmla="*/ -360 w 2485800"/>
                      <a:gd name="textAreaRight" fmla="*/ 2485800 w 24858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>
                      <a:gd name="textAreaLeft" fmla="*/ 0 w 1758240"/>
                      <a:gd name="textAreaRight" fmla="*/ 1758600 w 175824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0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>
                      <a:gd name="textAreaLeft" fmla="*/ 360 w 3132000"/>
                      <a:gd name="textAreaRight" fmla="*/ 3132720 w 31320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>
                      <a:gd name="textAreaLeft" fmla="*/ 360 w 2280960"/>
                      <a:gd name="textAreaRight" fmla="*/ 2281680 w 22809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>
                      <a:gd name="textAreaLeft" fmla="*/ 0 w 941760"/>
                      <a:gd name="textAreaRight" fmla="*/ 942120 w 9417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3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4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>
                    <a:gd name="textAreaLeft" fmla="*/ 0 w 544680"/>
                    <a:gd name="textAreaRight" fmla="*/ 545040 w 544680"/>
                    <a:gd name="textAreaTop" fmla="*/ 0 h 1031760"/>
                    <a:gd name="textAreaBottom" fmla="*/ 1032120 h 103176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5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706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>
                  <a:gd name="textAreaLeft" fmla="*/ -360 w 597960"/>
                  <a:gd name="textAreaRight" fmla="*/ 59796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>
                  <a:gd name="textAreaLeft" fmla="*/ 360 w 2616480"/>
                  <a:gd name="textAreaRight" fmla="*/ 2617200 w 2616480"/>
                  <a:gd name="textAreaTop" fmla="*/ 0 h 2841120"/>
                  <a:gd name="textAreaBottom" fmla="*/ 2841480 h 284112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>
                  <a:gd name="textAreaLeft" fmla="*/ 360 w 1533600"/>
                  <a:gd name="textAreaRight" fmla="*/ 1534320 w 15336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>
                  <a:gd name="textAreaLeft" fmla="*/ -360 w 2930040"/>
                  <a:gd name="textAreaRight" fmla="*/ 2930040 w 2930040"/>
                  <a:gd name="textAreaTop" fmla="*/ 0 h 2933640"/>
                  <a:gd name="textAreaBottom" fmla="*/ 2934000 h 293364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>
                  <a:gd name="textAreaLeft" fmla="*/ 0 w 1237680"/>
                  <a:gd name="textAreaRight" fmla="*/ 1238040 w 123768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>
                  <a:gd name="textAreaLeft" fmla="*/ 0 w 597960"/>
                  <a:gd name="textAreaRight" fmla="*/ 59832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-360 h 1032120"/>
                  <a:gd name="textAreaBottom" fmla="*/ 103212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>
                  <a:gd name="textAreaLeft" fmla="*/ -360 w 1338120"/>
                  <a:gd name="textAreaRight" fmla="*/ 1338120 w 133812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>
                  <a:gd name="textAreaLeft" fmla="*/ 360 w 858240"/>
                  <a:gd name="textAreaRight" fmla="*/ 858960 w 85824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>
                  <a:gd name="textAreaLeft" fmla="*/ 0 w 1241640"/>
                  <a:gd name="textAreaRight" fmla="*/ 1242000 w 1241640"/>
                  <a:gd name="textAreaTop" fmla="*/ 0 h 1974240"/>
                  <a:gd name="textAreaBottom" fmla="*/ 1974600 h 1974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>
                  <a:gd name="textAreaLeft" fmla="*/ 0 w 1872000"/>
                  <a:gd name="textAreaRight" fmla="*/ 1872360 w 187200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>
                  <a:gd name="textAreaLeft" fmla="*/ 0 w 817200"/>
                  <a:gd name="textAreaRight" fmla="*/ 817560 w 817200"/>
                  <a:gd name="textAreaTop" fmla="*/ 0 h 1768320"/>
                  <a:gd name="textAreaBottom" fmla="*/ 1768680 h 17683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>
                  <a:gd name="textAreaLeft" fmla="*/ 360 w 545040"/>
                  <a:gd name="textAreaRight" fmla="*/ 545760 w 545040"/>
                  <a:gd name="textAreaTop" fmla="*/ 0 h 1032120"/>
                  <a:gd name="textAreaBottom" fmla="*/ 103248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B8120-3F96-4A4B-B1F0-ABC3B6EB1505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1.xml"/><Relationship Id="rId3" Type="http://schemas.openxmlformats.org/officeDocument/2006/relationships/image" Target="../media/image1.png"/><Relationship Id="rId4" Type="http://schemas.openxmlformats.org/officeDocument/2006/relationships/slide" Target="slide12.xml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ПЛОЩАДЬ МНОГОУГОЛЬНИКА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subTitle"/>
          </p:nvPr>
        </p:nvSpPr>
        <p:spPr>
          <a:xfrm>
            <a:off x="1042560" y="4220640"/>
            <a:ext cx="73040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ff"/>
                </a:solidFill>
                <a:latin typeface="Monotype Corsiva"/>
              </a:rPr>
              <a:t>Урок изучения нового материа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6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ВОЙСТВА ПЛОЩАДЕ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86d1ec"/>
                </a:solidFill>
                <a:uFillTx/>
                <a:latin typeface="Arial"/>
                <a:hlinkClick r:id="rId2" action="ppaction://hlinksldjump"/>
              </a:rPr>
              <a:t>Равные многоугольники имеют равные площад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86d1ec"/>
                </a:solidFill>
                <a:uFillTx/>
                <a:latin typeface="Arial"/>
                <a:hlinkClick r:id="rId4" action="ppaction://hlinksldjump"/>
              </a:rPr>
              <a:t>Если многоугольник составлен из нескольких многоугольников, то его площадь равна сумме площадей этих многоугольник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лощадь квадрата равна квадрату его сторо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AutoShape 4"/>
          <p:cNvSpPr/>
          <p:nvPr/>
        </p:nvSpPr>
        <p:spPr>
          <a:xfrm>
            <a:off x="8532720" y="6237360"/>
            <a:ext cx="611280" cy="620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0640"/>
              <a:gd name="textAreaBottom" fmla="*/ 58104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00" y="20531"/>
                </a:lnTo>
                <a:lnTo>
                  <a:pt x="20200" y="140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400" y="20531"/>
                </a:lnTo>
                <a:lnTo>
                  <a:pt x="20200" y="2053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31"/>
                </a:lnTo>
                <a:close/>
              </a:path>
              <a:path fill="darken" w="21600" h="21931">
                <a:moveTo>
                  <a:pt x="3794" y="3959"/>
                </a:moveTo>
                <a:lnTo>
                  <a:pt x="17806" y="10965"/>
                </a:lnTo>
                <a:lnTo>
                  <a:pt x="3794" y="17972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1 СВОЙСТВ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Если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=F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, то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(F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)=S(F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AutoShape 4"/>
          <p:cNvSpPr/>
          <p:nvPr/>
        </p:nvSpPr>
        <p:spPr>
          <a:xfrm>
            <a:off x="611280" y="3357720"/>
            <a:ext cx="3743280" cy="1511280"/>
          </a:xfrm>
          <a:prstGeom prst="triangle">
            <a:avLst>
              <a:gd name="adj" fmla="val 50000"/>
            </a:avLst>
          </a:prstGeom>
          <a:solidFill>
            <a:srgbClr val="ffef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F</a:t>
            </a:r>
            <a:r>
              <a:rPr b="1" lang="en-US" sz="3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Text Box 5"/>
          <p:cNvSpPr/>
          <p:nvPr/>
        </p:nvSpPr>
        <p:spPr>
          <a:xfrm>
            <a:off x="3635280" y="5589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AutoShape 6"/>
          <p:cNvSpPr/>
          <p:nvPr/>
        </p:nvSpPr>
        <p:spPr>
          <a:xfrm>
            <a:off x="4859280" y="3357720"/>
            <a:ext cx="3743280" cy="1511280"/>
          </a:xfrm>
          <a:prstGeom prst="triangle">
            <a:avLst>
              <a:gd name="adj" fmla="val 50000"/>
            </a:avLst>
          </a:prstGeom>
          <a:solidFill>
            <a:srgbClr val="ffef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F</a:t>
            </a:r>
            <a:r>
              <a:rPr b="1" lang="ru-RU" sz="32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AutoShape 8"/>
          <p:cNvSpPr/>
          <p:nvPr/>
        </p:nvSpPr>
        <p:spPr>
          <a:xfrm>
            <a:off x="8101080" y="6256440"/>
            <a:ext cx="539640" cy="6015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601560"/>
              <a:gd name="textAreaBottom" fmla="*/ 566640 h 601560"/>
            </a:gdLst>
            <a:ahLst/>
            <a:rect l="textAreaLeft" t="textAreaTop" r="textAreaRight" b="textAreaBottom"/>
            <a:pathLst>
              <a:path w="21600" h="24077">
                <a:moveTo>
                  <a:pt x="0" y="0"/>
                </a:moveTo>
                <a:lnTo>
                  <a:pt x="21600" y="0"/>
                </a:lnTo>
                <a:lnTo>
                  <a:pt x="21600" y="24077"/>
                </a:lnTo>
                <a:lnTo>
                  <a:pt x="0" y="24077"/>
                </a:lnTo>
                <a:close/>
              </a:path>
              <a:path fill="lightenLess" w="21600" h="240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77">
                <a:moveTo>
                  <a:pt x="21600" y="0"/>
                </a:moveTo>
                <a:lnTo>
                  <a:pt x="21600" y="24077"/>
                </a:lnTo>
                <a:lnTo>
                  <a:pt x="20200" y="22677"/>
                </a:lnTo>
                <a:lnTo>
                  <a:pt x="20200" y="1400"/>
                </a:lnTo>
                <a:close/>
              </a:path>
              <a:path fill="darkenLess" w="21600" h="24077">
                <a:moveTo>
                  <a:pt x="21600" y="24077"/>
                </a:moveTo>
                <a:lnTo>
                  <a:pt x="0" y="24077"/>
                </a:lnTo>
                <a:lnTo>
                  <a:pt x="1400" y="22677"/>
                </a:lnTo>
                <a:lnTo>
                  <a:pt x="20200" y="22677"/>
                </a:lnTo>
                <a:close/>
              </a:path>
              <a:path fill="lighten" w="21600" h="24077">
                <a:moveTo>
                  <a:pt x="0" y="240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77"/>
                </a:lnTo>
                <a:close/>
              </a:path>
              <a:path fill="darken" w="21600" h="24077">
                <a:moveTo>
                  <a:pt x="3794" y="12038"/>
                </a:moveTo>
                <a:lnTo>
                  <a:pt x="17806" y="5032"/>
                </a:lnTo>
                <a:lnTo>
                  <a:pt x="17806" y="19045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 СВОЙСТВ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9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(F)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(F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(F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(F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39" name="Group 16"/>
          <p:cNvGrpSpPr/>
          <p:nvPr/>
        </p:nvGrpSpPr>
        <p:grpSpPr>
          <a:xfrm>
            <a:off x="2627280" y="2924280"/>
            <a:ext cx="4392720" cy="3600360"/>
            <a:chOff x="2627280" y="2924280"/>
            <a:chExt cx="4392720" cy="3600360"/>
          </a:xfrm>
        </p:grpSpPr>
        <p:grpSp>
          <p:nvGrpSpPr>
            <p:cNvPr id="840" name="Group 14"/>
            <p:cNvGrpSpPr/>
            <p:nvPr/>
          </p:nvGrpSpPr>
          <p:grpSpPr>
            <a:xfrm>
              <a:off x="2627280" y="2924280"/>
              <a:ext cx="4392720" cy="3600360"/>
              <a:chOff x="2627280" y="2924280"/>
              <a:chExt cx="4392720" cy="3600360"/>
            </a:xfrm>
          </p:grpSpPr>
          <p:sp>
            <p:nvSpPr>
              <p:cNvPr id="841" name="AutoShape 4"/>
              <p:cNvSpPr/>
              <p:nvPr/>
            </p:nvSpPr>
            <p:spPr>
              <a:xfrm>
                <a:off x="2627280" y="2924280"/>
                <a:ext cx="4392720" cy="3600360"/>
              </a:xfrm>
              <a:prstGeom prst="pentagon">
                <a:avLst/>
              </a:prstGeom>
              <a:solidFill>
                <a:srgbClr val="ffef66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Line 8"/>
              <p:cNvSpPr/>
              <p:nvPr/>
            </p:nvSpPr>
            <p:spPr>
              <a:xfrm>
                <a:off x="2627280" y="4309920"/>
                <a:ext cx="4392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43" name="Line 9"/>
            <p:cNvSpPr/>
            <p:nvPr/>
          </p:nvSpPr>
          <p:spPr>
            <a:xfrm flipH="1">
              <a:off x="3454560" y="4309920"/>
              <a:ext cx="3565440" cy="2214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Text Box 5"/>
            <p:cNvSpPr/>
            <p:nvPr/>
          </p:nvSpPr>
          <p:spPr>
            <a:xfrm>
              <a:off x="5148360" y="5589720"/>
              <a:ext cx="720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lang="en-US" sz="3200" spc="-1" strike="noStrike" baseline="-25000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Text Box 6"/>
            <p:cNvSpPr/>
            <p:nvPr/>
          </p:nvSpPr>
          <p:spPr>
            <a:xfrm>
              <a:off x="3708360" y="4797360"/>
              <a:ext cx="719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lang="en-US" sz="32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Text Box 7"/>
            <p:cNvSpPr/>
            <p:nvPr/>
          </p:nvSpPr>
          <p:spPr>
            <a:xfrm>
              <a:off x="4356000" y="3500280"/>
              <a:ext cx="863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lang="en-US" sz="32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7" name="AutoShape 11"/>
          <p:cNvSpPr/>
          <p:nvPr/>
        </p:nvSpPr>
        <p:spPr>
          <a:xfrm>
            <a:off x="8101080" y="6327720"/>
            <a:ext cx="574560" cy="530280"/>
          </a:xfrm>
          <a:custGeom>
            <a:avLst/>
            <a:gdLst>
              <a:gd name="textAreaLeft" fmla="*/ 34200 w 574560"/>
              <a:gd name="textAreaRight" fmla="*/ 540360 w 574560"/>
              <a:gd name="textAreaTop" fmla="*/ 34200 h 530280"/>
              <a:gd name="textAreaBottom" fmla="*/ 496080 h 53028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4695" y="10800"/>
                </a:moveTo>
                <a:lnTo>
                  <a:pt x="18708" y="3794"/>
                </a:lnTo>
                <a:lnTo>
                  <a:pt x="18708" y="17806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Comic Sans MS"/>
              </a:rPr>
              <a:t>3 </a:t>
            </a:r>
            <a:r>
              <a:rPr b="1" lang="ru-RU" sz="4400" spc="-1" strike="noStrike">
                <a:solidFill>
                  <a:srgbClr val="990099"/>
                </a:solidFill>
                <a:latin typeface="Comic Sans MS"/>
              </a:rPr>
              <a:t>СВОЙСТВ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ru-RU" sz="4800" spc="-1" strike="noStrike" baseline="-25000">
                <a:solidFill>
                  <a:srgbClr val="000000"/>
                </a:solidFill>
                <a:latin typeface="Comic Sans MS"/>
              </a:rPr>
              <a:t>кв.</a:t>
            </a: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1" i="1" lang="en-US" sz="4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i="1" lang="en-US" sz="4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Rectangle 4"/>
          <p:cNvSpPr/>
          <p:nvPr/>
        </p:nvSpPr>
        <p:spPr>
          <a:xfrm>
            <a:off x="3492360" y="3284640"/>
            <a:ext cx="2376720" cy="2303280"/>
          </a:xfrm>
          <a:prstGeom prst="rect">
            <a:avLst/>
          </a:prstGeom>
          <a:solidFill>
            <a:srgbClr val="ffef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Text Box 5"/>
          <p:cNvSpPr/>
          <p:nvPr/>
        </p:nvSpPr>
        <p:spPr>
          <a:xfrm>
            <a:off x="2988720" y="400536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AutoShape 7"/>
          <p:cNvSpPr/>
          <p:nvPr/>
        </p:nvSpPr>
        <p:spPr>
          <a:xfrm>
            <a:off x="8496360" y="6237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4263" y="10800"/>
                </a:moveTo>
                <a:lnTo>
                  <a:pt x="18276" y="3794"/>
                </a:lnTo>
                <a:lnTo>
                  <a:pt x="18276" y="17806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Text Box 9"/>
          <p:cNvSpPr/>
          <p:nvPr/>
        </p:nvSpPr>
        <p:spPr>
          <a:xfrm>
            <a:off x="4428720" y="5445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0872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99ff"/>
                </a:solidFill>
                <a:latin typeface="Arial"/>
              </a:rPr>
              <a:t>Площадь параллелограмма </a:t>
            </a:r>
            <a:br>
              <a:rPr sz="3400"/>
            </a:br>
            <a:r>
              <a:rPr b="1" lang="en-US" sz="3400" spc="-1" strike="noStrike">
                <a:solidFill>
                  <a:srgbClr val="ff99ff"/>
                </a:solidFill>
                <a:latin typeface="Arial"/>
              </a:rPr>
              <a:t>AFSP </a:t>
            </a:r>
            <a:r>
              <a:rPr b="1" lang="ru-RU" sz="3400" spc="-1" strike="noStrike">
                <a:solidFill>
                  <a:srgbClr val="ff99ff"/>
                </a:solidFill>
                <a:latin typeface="Arial"/>
              </a:rPr>
              <a:t>равна</a:t>
            </a:r>
            <a:r>
              <a:rPr b="1" lang="en-US" sz="3400" spc="-1" strike="noStrike">
                <a:solidFill>
                  <a:srgbClr val="ff99ff"/>
                </a:solidFill>
                <a:latin typeface="Arial"/>
              </a:rPr>
              <a:t> S</a:t>
            </a:r>
            <a:r>
              <a:rPr b="1" lang="ru-RU" sz="3400" spc="-1" strike="noStrike">
                <a:solidFill>
                  <a:srgbClr val="ff99ff"/>
                </a:solidFill>
                <a:latin typeface="Arial"/>
              </a:rPr>
              <a:t>. Найти площади </a:t>
            </a:r>
            <a:br>
              <a:rPr sz="3400"/>
            </a:br>
            <a:r>
              <a:rPr b="1" lang="ru-RU" sz="3400" spc="-1" strike="noStrike">
                <a:solidFill>
                  <a:srgbClr val="ff99ff"/>
                </a:solidFill>
                <a:latin typeface="Arial"/>
              </a:rPr>
              <a:t>треугольников </a:t>
            </a:r>
            <a:r>
              <a:rPr b="1" lang="en-US" sz="3400" spc="-1" strike="noStrike">
                <a:solidFill>
                  <a:srgbClr val="ff99ff"/>
                </a:solidFill>
                <a:latin typeface="Arial"/>
              </a:rPr>
              <a:t>AFP </a:t>
            </a:r>
            <a:r>
              <a:rPr b="1" lang="ru-RU" sz="3400" spc="-1" strike="noStrike">
                <a:solidFill>
                  <a:srgbClr val="ff99ff"/>
                </a:solidFill>
                <a:latin typeface="Arial"/>
              </a:rPr>
              <a:t>и</a:t>
            </a:r>
            <a:r>
              <a:rPr b="1" lang="en-US" sz="3400" spc="-1" strike="noStrike">
                <a:solidFill>
                  <a:srgbClr val="ff99ff"/>
                </a:solidFill>
                <a:latin typeface="Arial"/>
              </a:rPr>
              <a:t> FSP</a:t>
            </a:r>
            <a:r>
              <a:rPr b="1" lang="ru-RU" sz="3400" spc="-1" strike="noStrike">
                <a:solidFill>
                  <a:srgbClr val="ff99ff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84232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F                                        </a:t>
            </a: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A                                         </a:t>
            </a: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6" name="Group 10"/>
          <p:cNvGrpSpPr/>
          <p:nvPr/>
        </p:nvGrpSpPr>
        <p:grpSpPr>
          <a:xfrm>
            <a:off x="1187280" y="2421000"/>
            <a:ext cx="6696360" cy="3960720"/>
            <a:chOff x="1187280" y="2421000"/>
            <a:chExt cx="6696360" cy="3960720"/>
          </a:xfrm>
        </p:grpSpPr>
        <p:sp>
          <p:nvSpPr>
            <p:cNvPr id="857" name="AutoShape 4"/>
            <p:cNvSpPr/>
            <p:nvPr/>
          </p:nvSpPr>
          <p:spPr>
            <a:xfrm>
              <a:off x="1187280" y="2421000"/>
              <a:ext cx="6696360" cy="3959280"/>
            </a:xfrm>
            <a:prstGeom prst="parallelogram">
              <a:avLst>
                <a:gd name="adj" fmla="val 42283"/>
              </a:avLst>
            </a:prstGeom>
            <a:solidFill>
              <a:srgbClr val="9966ff"/>
            </a:solidFill>
            <a:ln w="7632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Line 9"/>
            <p:cNvSpPr/>
            <p:nvPr/>
          </p:nvSpPr>
          <p:spPr>
            <a:xfrm>
              <a:off x="2843280" y="2421000"/>
              <a:ext cx="3384360" cy="3960720"/>
            </a:xfrm>
            <a:prstGeom prst="line">
              <a:avLst/>
            </a:prstGeom>
            <a:ln w="7632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859" name="Шуберт Романс.mp3" descr=""/>
          <p:cNvPicPr/>
          <p:nvPr/>
        </p:nvPicPr>
        <p:blipFill>
          <a:blip r:embed="rId1"/>
          <a:stretch/>
        </p:blipFill>
        <p:spPr>
          <a:xfrm>
            <a:off x="8459640" y="5950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6" dur="1" fill="hold"/>
                                        <p:tgtEl>
                                          <p:spTgt spid="8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2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4"/>
          <p:cNvSpPr/>
          <p:nvPr/>
        </p:nvSpPr>
        <p:spPr>
          <a:xfrm>
            <a:off x="395280" y="1822320"/>
            <a:ext cx="8569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ff66"/>
                </a:solidFill>
                <a:latin typeface="Arial"/>
              </a:rPr>
              <a:t>                                                           </a:t>
            </a:r>
            <a:r>
              <a:rPr b="1" lang="en-US" sz="3600" spc="-1" strike="noStrike">
                <a:solidFill>
                  <a:srgbClr val="ccff66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ccff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66"/>
                </a:solidFill>
                <a:latin typeface="Arial"/>
              </a:rPr>
              <a:t>               </a:t>
            </a:r>
            <a:r>
              <a:rPr b="1" lang="en-US" sz="3600" spc="-1" strike="noStrike">
                <a:solidFill>
                  <a:srgbClr val="ccff66"/>
                </a:solidFill>
                <a:latin typeface="Arial"/>
              </a:rPr>
              <a:t>B              N    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66"/>
                </a:solidFill>
                <a:latin typeface="Arial"/>
              </a:rPr>
              <a:t>                                                  </a:t>
            </a:r>
            <a:r>
              <a:rPr b="1" lang="en-US" sz="3600" spc="-1" strike="noStrike">
                <a:solidFill>
                  <a:srgbClr val="ccff66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66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ff66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ccff66"/>
                </a:solidFill>
                <a:latin typeface="Arial"/>
              </a:rPr>
              <a:t>A                               </a:t>
            </a:r>
            <a:r>
              <a:rPr b="1" lang="ru-RU" sz="3600" spc="-1" strike="noStrike">
                <a:solidFill>
                  <a:srgbClr val="ccff66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ccff66"/>
                </a:solidFill>
                <a:latin typeface="Arial"/>
              </a:rPr>
              <a:t>D</a:t>
            </a:r>
            <a:r>
              <a:rPr b="1" lang="ru-RU" sz="3600" spc="-1" strike="noStrike">
                <a:solidFill>
                  <a:srgbClr val="ccff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Rectangle 9"/>
          <p:cNvSpPr/>
          <p:nvPr/>
        </p:nvSpPr>
        <p:spPr>
          <a:xfrm>
            <a:off x="611280" y="0"/>
            <a:ext cx="784836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99ff"/>
                </a:solidFill>
                <a:latin typeface="Arial"/>
              </a:rPr>
              <a:t>Площадь параллелограмма </a:t>
            </a:r>
            <a:br>
              <a:rPr sz="3400"/>
            </a:br>
            <a:r>
              <a:rPr b="1" lang="en-US" sz="3400" spc="-1" strike="noStrike">
                <a:solidFill>
                  <a:srgbClr val="ff99ff"/>
                </a:solidFill>
                <a:latin typeface="Arial"/>
              </a:rPr>
              <a:t>ABCD </a:t>
            </a:r>
            <a:r>
              <a:rPr b="1" lang="ru-RU" sz="3400" spc="-1" strike="noStrike">
                <a:solidFill>
                  <a:srgbClr val="ff99ff"/>
                </a:solidFill>
                <a:latin typeface="Arial"/>
              </a:rPr>
              <a:t>равна</a:t>
            </a:r>
            <a:r>
              <a:rPr b="1" lang="en-US" sz="3400" spc="-1" strike="noStrike">
                <a:solidFill>
                  <a:srgbClr val="ff99ff"/>
                </a:solidFill>
                <a:latin typeface="Arial"/>
              </a:rPr>
              <a:t> Q</a:t>
            </a:r>
            <a:r>
              <a:rPr b="1" lang="ru-RU" sz="3400" spc="-1" strike="noStrike">
                <a:solidFill>
                  <a:srgbClr val="ff99ff"/>
                </a:solidFill>
                <a:latin typeface="Arial"/>
              </a:rPr>
              <a:t>. Найти площадь </a:t>
            </a:r>
            <a:br>
              <a:rPr sz="3400"/>
            </a:br>
            <a:r>
              <a:rPr b="1" lang="ru-RU" sz="3400" spc="-1" strike="noStrike">
                <a:solidFill>
                  <a:srgbClr val="ff99ff"/>
                </a:solidFill>
                <a:latin typeface="Arial"/>
              </a:rPr>
              <a:t>треугольника </a:t>
            </a:r>
            <a:r>
              <a:rPr b="1" lang="en-US" sz="3400" spc="-1" strike="noStrike">
                <a:solidFill>
                  <a:srgbClr val="ff99ff"/>
                </a:solidFill>
                <a:latin typeface="Arial"/>
              </a:rPr>
              <a:t>AMD</a:t>
            </a:r>
            <a:r>
              <a:rPr b="1" lang="ru-RU" sz="3400" spc="-1" strike="noStrike">
                <a:solidFill>
                  <a:srgbClr val="ff99ff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2" name="Group 16"/>
          <p:cNvGrpSpPr/>
          <p:nvPr/>
        </p:nvGrpSpPr>
        <p:grpSpPr>
          <a:xfrm>
            <a:off x="1258920" y="2276640"/>
            <a:ext cx="7343640" cy="3389040"/>
            <a:chOff x="1258920" y="2276640"/>
            <a:chExt cx="7343640" cy="3389040"/>
          </a:xfrm>
        </p:grpSpPr>
        <p:sp>
          <p:nvSpPr>
            <p:cNvPr id="863" name="AutoShape 6"/>
            <p:cNvSpPr/>
            <p:nvPr/>
          </p:nvSpPr>
          <p:spPr>
            <a:xfrm>
              <a:off x="1258920" y="4076640"/>
              <a:ext cx="5543640" cy="1589040"/>
            </a:xfrm>
            <a:prstGeom prst="parallelogram">
              <a:avLst>
                <a:gd name="adj" fmla="val 87217"/>
              </a:avLst>
            </a:prstGeom>
            <a:solidFill>
              <a:srgbClr val="3366ff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Line 7"/>
            <p:cNvSpPr/>
            <p:nvPr/>
          </p:nvSpPr>
          <p:spPr>
            <a:xfrm flipV="1">
              <a:off x="1330200" y="2276640"/>
              <a:ext cx="7272360" cy="33573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Line 8"/>
            <p:cNvSpPr/>
            <p:nvPr/>
          </p:nvSpPr>
          <p:spPr>
            <a:xfrm flipV="1">
              <a:off x="6802560" y="2276640"/>
              <a:ext cx="1800000" cy="18000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Line 10"/>
            <p:cNvSpPr/>
            <p:nvPr/>
          </p:nvSpPr>
          <p:spPr>
            <a:xfrm flipH="1">
              <a:off x="3347640" y="3933720"/>
              <a:ext cx="71640" cy="287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Line 11"/>
            <p:cNvSpPr/>
            <p:nvPr/>
          </p:nvSpPr>
          <p:spPr>
            <a:xfrm flipH="1">
              <a:off x="5796000" y="3933720"/>
              <a:ext cx="71280" cy="287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dissolve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6" dur="2000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964720" cy="14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99ff"/>
                </a:solidFill>
                <a:latin typeface="Arial"/>
              </a:rPr>
              <a:t>Площадь заштрихованного </a:t>
            </a:r>
            <a:br>
              <a:rPr sz="3400"/>
            </a:br>
            <a:r>
              <a:rPr b="1" lang="ru-RU" sz="3400" spc="-1" strike="noStrike">
                <a:solidFill>
                  <a:srgbClr val="ff99ff"/>
                </a:solidFill>
                <a:latin typeface="Arial"/>
              </a:rPr>
              <a:t>квадрата равна 1. </a:t>
            </a:r>
            <a:br>
              <a:rPr sz="3400"/>
            </a:br>
            <a:r>
              <a:rPr b="1" lang="ru-RU" sz="3400" spc="-1" strike="noStrike">
                <a:solidFill>
                  <a:srgbClr val="ff99ff"/>
                </a:solidFill>
                <a:latin typeface="Arial"/>
              </a:rPr>
              <a:t>Найти площадь трапеции </a:t>
            </a:r>
            <a:r>
              <a:rPr b="1" lang="en-US" sz="3400" spc="-1" strike="noStrike">
                <a:solidFill>
                  <a:srgbClr val="ff99ff"/>
                </a:solidFill>
                <a:latin typeface="Arial"/>
              </a:rPr>
              <a:t>ABCD</a:t>
            </a:r>
            <a:r>
              <a:rPr b="1" lang="ru-RU" sz="3400" spc="-1" strike="noStrike">
                <a:solidFill>
                  <a:srgbClr val="ff99ff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9" name="Picture 4" descr="picture"/>
          <p:cNvPicPr/>
          <p:nvPr/>
        </p:nvPicPr>
        <p:blipFill>
          <a:blip r:embed="rId1"/>
          <a:srcRect l="4750" t="4116" r="4750" b="2079"/>
          <a:stretch/>
        </p:blipFill>
        <p:spPr>
          <a:xfrm>
            <a:off x="2124000" y="3141720"/>
            <a:ext cx="5400720" cy="3024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ransition spd="slow">
    <p:dissolv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3" dur="2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cc0099"/>
                </a:solidFill>
                <a:latin typeface="Arial"/>
              </a:rPr>
              <a:t>ДАНО: </a:t>
            </a:r>
            <a:r>
              <a:rPr b="1" lang="en-US" sz="4000" spc="-1" strike="noStrike">
                <a:solidFill>
                  <a:srgbClr val="ff99ff"/>
                </a:solidFill>
                <a:latin typeface="Arial"/>
              </a:rPr>
              <a:t>AB = BC = 3, AF = 5, EF = 2</a:t>
            </a:r>
            <a:r>
              <a:rPr b="1" lang="ru-RU" sz="4000" spc="-1" strike="noStrike">
                <a:solidFill>
                  <a:srgbClr val="ff99ff"/>
                </a:solidFill>
                <a:latin typeface="Arial"/>
              </a:rPr>
              <a:t>.</a:t>
            </a:r>
            <a:br>
              <a:rPr sz="4000"/>
            </a:br>
            <a:r>
              <a:rPr b="1" lang="ru-RU" sz="4000" spc="-1" strike="noStrike">
                <a:solidFill>
                  <a:srgbClr val="cc0099"/>
                </a:solidFill>
                <a:latin typeface="Arial"/>
              </a:rPr>
              <a:t>НАЙТИ: </a:t>
            </a:r>
            <a:r>
              <a:rPr b="1" lang="en-US" sz="5400" spc="-1" strike="noStrike">
                <a:solidFill>
                  <a:srgbClr val="ff99ff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ff99ff"/>
                </a:solidFill>
                <a:latin typeface="Arial"/>
              </a:rPr>
              <a:t>ABCDEF</a:t>
            </a:r>
            <a:r>
              <a:rPr b="1" lang="ru-RU" sz="2800" spc="-1" strike="noStrike">
                <a:solidFill>
                  <a:srgbClr val="ff99ff"/>
                </a:solidFill>
                <a:latin typeface="Arial"/>
              </a:rPr>
              <a:t>.</a:t>
            </a:r>
            <a:r>
              <a:rPr b="0" lang="en-US" sz="4400" spc="-1" strike="noStrike">
                <a:solidFill>
                  <a:srgbClr val="ff99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1" name="Picture 5" descr="picture"/>
          <p:cNvPicPr/>
          <p:nvPr/>
        </p:nvPicPr>
        <p:blipFill>
          <a:blip r:embed="rId1"/>
          <a:srcRect l="6767" t="2071" r="3383" b="4143"/>
          <a:stretch/>
        </p:blipFill>
        <p:spPr>
          <a:xfrm>
            <a:off x="1835280" y="2637000"/>
            <a:ext cx="4967280" cy="36003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ransition spd="slow">
    <p:dissolv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2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2" name=""/>
          <p:cNvGraphicFramePr/>
          <p:nvPr/>
        </p:nvGraphicFramePr>
        <p:xfrm>
          <a:off x="826920" y="2708280"/>
          <a:ext cx="7417080" cy="3313080"/>
        </p:xfrm>
        <a:graphic>
          <a:graphicData uri="http://schemas.openxmlformats.org/drawingml/2006/table">
            <a:tbl>
              <a:tblPr/>
              <a:tblGrid>
                <a:gridCol w="1482840"/>
                <a:gridCol w="1482840"/>
                <a:gridCol w="1485720"/>
                <a:gridCol w="1482840"/>
                <a:gridCol w="1482840"/>
              </a:tblGrid>
              <a:tr h="171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6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9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675640" cy="198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Заполните таблицу,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где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 –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площадь квадрата,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Comic Sans MS"/>
              </a:rPr>
              <a:t>а –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сторона квадрата.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4" name="Object 23"/>
              <p:cNvSpPr txBox="1"/>
              <p:nvPr/>
            </p:nvSpPr>
            <p:spPr>
              <a:xfrm>
                <a:off x="5796000" y="2852640"/>
                <a:ext cx="530280" cy="13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75" name="WordArt 24"/>
          <p:cNvSpPr txBox="1"/>
          <p:nvPr/>
        </p:nvSpPr>
        <p:spPr>
          <a:xfrm>
            <a:off x="2700360" y="5013360"/>
            <a:ext cx="514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1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  <p:sp>
        <p:nvSpPr>
          <p:cNvPr id="876" name="WordArt 26"/>
          <p:cNvSpPr txBox="1"/>
          <p:nvPr/>
        </p:nvSpPr>
        <p:spPr>
          <a:xfrm>
            <a:off x="4443480" y="317016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7" name="Object 27"/>
              <p:cNvSpPr txBox="1"/>
              <p:nvPr/>
            </p:nvSpPr>
            <p:spPr>
              <a:xfrm>
                <a:off x="5724360" y="4581360"/>
                <a:ext cx="608040" cy="13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78" name="WordArt 29"/>
          <p:cNvSpPr txBox="1"/>
          <p:nvPr/>
        </p:nvSpPr>
        <p:spPr>
          <a:xfrm>
            <a:off x="7164360" y="3141720"/>
            <a:ext cx="638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1,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  <p:sp>
        <p:nvSpPr>
          <p:cNvPr id="879" name="AutoShape 32"/>
          <p:cNvSpPr/>
          <p:nvPr/>
        </p:nvSpPr>
        <p:spPr>
          <a:xfrm>
            <a:off x="860436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3794" y="3988"/>
                </a:moveTo>
                <a:lnTo>
                  <a:pt x="17806" y="10994"/>
                </a:lnTo>
                <a:lnTo>
                  <a:pt x="3794" y="18001"/>
                </a:lnTo>
                <a:close/>
              </a:path>
            </a:pathLst>
          </a:custGeom>
          <a:solidFill>
            <a:srgbClr val="990099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1407"/>
          <p:cNvSpPr/>
          <p:nvPr/>
        </p:nvSpPr>
        <p:spPr>
          <a:xfrm>
            <a:off x="0" y="803880"/>
            <a:ext cx="9144000" cy="50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ИЗ  ТРЕУГОЛЬНИКОВ СОСТАВИТЬ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квадрат – с площадью 16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см</a:t>
            </a:r>
            <a:r>
              <a:rPr b="1" lang="en-US" sz="3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ромб – с площадью 32 см</a:t>
            </a:r>
            <a:r>
              <a:rPr b="1" lang="en-US" sz="3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прямоугольник – с площадью 32 см</a:t>
            </a:r>
            <a:r>
              <a:rPr b="1" lang="en-US" sz="3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квадрат – с площадью 64 см</a:t>
            </a:r>
            <a:r>
              <a:rPr b="1" lang="en-US" sz="3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параллелограмм – с площадью 48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1" lang="en-US" sz="3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трапецию – с площадью 48 см</a:t>
            </a:r>
            <a:r>
              <a:rPr b="1" lang="en-US" sz="3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1" name="Бетховен Allegretto.mp3" descr=""/>
          <p:cNvPicPr/>
          <p:nvPr/>
        </p:nvPicPr>
        <p:blipFill>
          <a:blip r:embed="rId1"/>
          <a:stretch/>
        </p:blipFill>
        <p:spPr>
          <a:xfrm>
            <a:off x="817236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8" dur="1" fill="hold"/>
                                        <p:tgtEl>
                                          <p:spTgt spid="8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500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500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500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8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8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8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8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8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8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8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8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8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8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8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8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8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8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8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ЦЕЛИ УРО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вести понятие площади многоугольника и вспомнить единицы измерения площад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смотреть основные свойства площадей, вспомнить формулы площади квадрата и прямоугольни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казать на примерах использование изученного теоретического материала в ходе решения задач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14"/>
          <p:cNvGrpSpPr/>
          <p:nvPr/>
        </p:nvGrpSpPr>
        <p:grpSpPr>
          <a:xfrm>
            <a:off x="3347640" y="1124640"/>
            <a:ext cx="2376360" cy="2377080"/>
            <a:chOff x="3347640" y="1124640"/>
            <a:chExt cx="2376360" cy="2377080"/>
          </a:xfrm>
        </p:grpSpPr>
        <p:sp>
          <p:nvSpPr>
            <p:cNvPr id="883" name="AutoShape 9"/>
            <p:cNvSpPr/>
            <p:nvPr/>
          </p:nvSpPr>
          <p:spPr>
            <a:xfrm flipH="1">
              <a:off x="3347280" y="1125360"/>
              <a:ext cx="2376360" cy="2376360"/>
            </a:xfrm>
            <a:prstGeom prst="rtTriangl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AutoShape 10"/>
            <p:cNvSpPr/>
            <p:nvPr/>
          </p:nvSpPr>
          <p:spPr>
            <a:xfrm flipH="1" flipV="1" rot="16200000">
              <a:off x="3347280" y="1124280"/>
              <a:ext cx="2376360" cy="2376360"/>
            </a:xfrm>
            <a:prstGeom prst="rtTriangl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4360" y="47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Arial"/>
              </a:rPr>
              <a:t>Квадрат – с площадью 16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ff00"/>
                </a:solidFill>
                <a:latin typeface="Arial"/>
              </a:rPr>
              <a:t>см</a:t>
            </a:r>
            <a:r>
              <a:rPr b="1" lang="ru-RU" sz="4000" spc="-1" strike="noStrike" baseline="30000">
                <a:solidFill>
                  <a:srgbClr val="00ff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1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6" name="Group 8"/>
          <p:cNvGrpSpPr/>
          <p:nvPr/>
        </p:nvGrpSpPr>
        <p:grpSpPr>
          <a:xfrm>
            <a:off x="1908000" y="620640"/>
            <a:ext cx="4751640" cy="4752720"/>
            <a:chOff x="1908000" y="620640"/>
            <a:chExt cx="4751640" cy="4752720"/>
          </a:xfrm>
        </p:grpSpPr>
        <p:sp>
          <p:nvSpPr>
            <p:cNvPr id="887" name="AutoShape 4"/>
            <p:cNvSpPr/>
            <p:nvPr/>
          </p:nvSpPr>
          <p:spPr>
            <a:xfrm>
              <a:off x="4282920" y="620640"/>
              <a:ext cx="2376720" cy="2376720"/>
            </a:xfrm>
            <a:prstGeom prst="rtTriangl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AutoShape 5"/>
            <p:cNvSpPr/>
            <p:nvPr/>
          </p:nvSpPr>
          <p:spPr>
            <a:xfrm flipH="1">
              <a:off x="1908000" y="620640"/>
              <a:ext cx="2376720" cy="2376720"/>
            </a:xfrm>
            <a:prstGeom prst="rtTriangl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AutoShape 6"/>
            <p:cNvSpPr/>
            <p:nvPr/>
          </p:nvSpPr>
          <p:spPr>
            <a:xfrm flipV="1">
              <a:off x="4282920" y="2996640"/>
              <a:ext cx="2376720" cy="2376360"/>
            </a:xfrm>
            <a:prstGeom prst="rtTriangl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AutoShape 7"/>
            <p:cNvSpPr/>
            <p:nvPr/>
          </p:nvSpPr>
          <p:spPr>
            <a:xfrm flipH="1" flipV="1">
              <a:off x="1908000" y="2996640"/>
              <a:ext cx="2376720" cy="2376360"/>
            </a:xfrm>
            <a:prstGeom prst="rtTriangl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1" name="Rectangle 9"/>
          <p:cNvSpPr/>
          <p:nvPr/>
        </p:nvSpPr>
        <p:spPr>
          <a:xfrm>
            <a:off x="539640" y="544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Arial"/>
              </a:rPr>
              <a:t>Ромб – с площадью 32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ff00"/>
                </a:solidFill>
                <a:latin typeface="Arial"/>
              </a:rPr>
              <a:t>см</a:t>
            </a:r>
            <a:r>
              <a:rPr b="1" lang="ru-RU" sz="4000" spc="-1" strike="noStrike" baseline="30000">
                <a:solidFill>
                  <a:srgbClr val="00ff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2" name="Group 9"/>
          <p:cNvGrpSpPr/>
          <p:nvPr/>
        </p:nvGrpSpPr>
        <p:grpSpPr>
          <a:xfrm>
            <a:off x="2195280" y="1844280"/>
            <a:ext cx="4753080" cy="2376720"/>
            <a:chOff x="2195280" y="1844280"/>
            <a:chExt cx="4753080" cy="2376720"/>
          </a:xfrm>
        </p:grpSpPr>
        <p:sp>
          <p:nvSpPr>
            <p:cNvPr id="893" name="AutoShape 4"/>
            <p:cNvSpPr/>
            <p:nvPr/>
          </p:nvSpPr>
          <p:spPr>
            <a:xfrm>
              <a:off x="4572000" y="1844640"/>
              <a:ext cx="2376360" cy="2376360"/>
            </a:xfrm>
            <a:prstGeom prst="rtTriangl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AutoShape 5"/>
            <p:cNvSpPr/>
            <p:nvPr/>
          </p:nvSpPr>
          <p:spPr>
            <a:xfrm flipH="1">
              <a:off x="2194920" y="1844640"/>
              <a:ext cx="2376360" cy="2376360"/>
            </a:xfrm>
            <a:prstGeom prst="rtTriangl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AutoShape 6"/>
            <p:cNvSpPr/>
            <p:nvPr/>
          </p:nvSpPr>
          <p:spPr>
            <a:xfrm flipH="1" flipV="1">
              <a:off x="4571280" y="1843920"/>
              <a:ext cx="2376360" cy="2376360"/>
            </a:xfrm>
            <a:prstGeom prst="rtTriangl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AutoShape 7"/>
            <p:cNvSpPr/>
            <p:nvPr/>
          </p:nvSpPr>
          <p:spPr>
            <a:xfrm flipV="1">
              <a:off x="2195640" y="1843920"/>
              <a:ext cx="2376360" cy="2376360"/>
            </a:xfrm>
            <a:prstGeom prst="rtTriangl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7" name="Rectangle 8"/>
          <p:cNvSpPr/>
          <p:nvPr/>
        </p:nvSpPr>
        <p:spPr>
          <a:xfrm>
            <a:off x="539640" y="508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Arial"/>
              </a:rPr>
              <a:t>Прямоугольник – с площадью 32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ff00"/>
                </a:solidFill>
                <a:latin typeface="Arial"/>
              </a:rPr>
              <a:t>см</a:t>
            </a:r>
            <a:r>
              <a:rPr b="1" lang="ru-RU" sz="4000" spc="-1" strike="noStrike" baseline="30000">
                <a:solidFill>
                  <a:srgbClr val="00ff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2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12"/>
          <p:cNvGrpSpPr/>
          <p:nvPr/>
        </p:nvGrpSpPr>
        <p:grpSpPr>
          <a:xfrm>
            <a:off x="1978920" y="259920"/>
            <a:ext cx="4753800" cy="4753440"/>
            <a:chOff x="1978920" y="259920"/>
            <a:chExt cx="4753800" cy="4753440"/>
          </a:xfrm>
        </p:grpSpPr>
        <p:sp>
          <p:nvSpPr>
            <p:cNvPr id="899" name="AutoShape 4"/>
            <p:cNvSpPr/>
            <p:nvPr/>
          </p:nvSpPr>
          <p:spPr>
            <a:xfrm>
              <a:off x="4356000" y="260280"/>
              <a:ext cx="2376720" cy="2376360"/>
            </a:xfrm>
            <a:prstGeom prst="rtTriangl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AutoShape 5"/>
            <p:cNvSpPr/>
            <p:nvPr/>
          </p:nvSpPr>
          <p:spPr>
            <a:xfrm flipH="1">
              <a:off x="1981080" y="260280"/>
              <a:ext cx="2376720" cy="2376360"/>
            </a:xfrm>
            <a:prstGeom prst="rtTriangl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AutoShape 6"/>
            <p:cNvSpPr/>
            <p:nvPr/>
          </p:nvSpPr>
          <p:spPr>
            <a:xfrm flipV="1">
              <a:off x="4356000" y="2636640"/>
              <a:ext cx="2376720" cy="2376720"/>
            </a:xfrm>
            <a:prstGeom prst="rtTriangl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AutoShape 7"/>
            <p:cNvSpPr/>
            <p:nvPr/>
          </p:nvSpPr>
          <p:spPr>
            <a:xfrm flipH="1" flipV="1">
              <a:off x="1978920" y="2636640"/>
              <a:ext cx="2376360" cy="2376720"/>
            </a:xfrm>
            <a:prstGeom prst="rtTriangl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AutoShape 8"/>
            <p:cNvSpPr/>
            <p:nvPr/>
          </p:nvSpPr>
          <p:spPr>
            <a:xfrm flipH="1">
              <a:off x="4356000" y="2636640"/>
              <a:ext cx="2376720" cy="2376720"/>
            </a:xfrm>
            <a:prstGeom prst="rtTriangl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AutoShape 9"/>
            <p:cNvSpPr/>
            <p:nvPr/>
          </p:nvSpPr>
          <p:spPr>
            <a:xfrm>
              <a:off x="1979640" y="2636640"/>
              <a:ext cx="2376360" cy="2376720"/>
            </a:xfrm>
            <a:prstGeom prst="rtTriangl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AutoShape 10"/>
            <p:cNvSpPr/>
            <p:nvPr/>
          </p:nvSpPr>
          <p:spPr>
            <a:xfrm flipH="1" flipV="1">
              <a:off x="4356000" y="259560"/>
              <a:ext cx="2376720" cy="2376360"/>
            </a:xfrm>
            <a:prstGeom prst="rtTriangl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AutoShape 11"/>
            <p:cNvSpPr/>
            <p:nvPr/>
          </p:nvSpPr>
          <p:spPr>
            <a:xfrm flipH="1" rot="10800000">
              <a:off x="1978560" y="259920"/>
              <a:ext cx="2376360" cy="2376360"/>
            </a:xfrm>
            <a:prstGeom prst="rtTriangl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7" name="Rectangle 13"/>
          <p:cNvSpPr/>
          <p:nvPr/>
        </p:nvSpPr>
        <p:spPr>
          <a:xfrm>
            <a:off x="468360" y="5300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Arial"/>
              </a:rPr>
              <a:t>Квадрат – с площадью 64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ff00"/>
                </a:solidFill>
                <a:latin typeface="Arial"/>
              </a:rPr>
              <a:t>см</a:t>
            </a:r>
            <a:r>
              <a:rPr b="1" lang="ru-RU" sz="4000" spc="-1" strike="noStrike" baseline="30000">
                <a:solidFill>
                  <a:srgbClr val="00ff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8" name="Group 11"/>
          <p:cNvGrpSpPr/>
          <p:nvPr/>
        </p:nvGrpSpPr>
        <p:grpSpPr>
          <a:xfrm>
            <a:off x="263520" y="-1348200"/>
            <a:ext cx="8402040" cy="8402040"/>
            <a:chOff x="263520" y="-1348200"/>
            <a:chExt cx="8402040" cy="8402040"/>
          </a:xfrm>
        </p:grpSpPr>
        <p:sp>
          <p:nvSpPr>
            <p:cNvPr id="909" name="AutoShape 4"/>
            <p:cNvSpPr/>
            <p:nvPr/>
          </p:nvSpPr>
          <p:spPr>
            <a:xfrm rot="8100000">
              <a:off x="5796720" y="4185000"/>
              <a:ext cx="2376360" cy="2376360"/>
            </a:xfrm>
            <a:prstGeom prst="rtTriangl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AutoShape 5"/>
            <p:cNvSpPr/>
            <p:nvPr/>
          </p:nvSpPr>
          <p:spPr>
            <a:xfrm flipH="1" rot="2700000">
              <a:off x="2435760" y="824040"/>
              <a:ext cx="2376360" cy="2376360"/>
            </a:xfrm>
            <a:prstGeom prst="rtTriangl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AutoShape 6"/>
            <p:cNvSpPr/>
            <p:nvPr/>
          </p:nvSpPr>
          <p:spPr>
            <a:xfrm flipH="1" flipV="1" rot="18900000">
              <a:off x="2436120" y="822600"/>
              <a:ext cx="2376360" cy="2376360"/>
            </a:xfrm>
            <a:prstGeom prst="rtTriangl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AutoShape 7"/>
            <p:cNvSpPr/>
            <p:nvPr/>
          </p:nvSpPr>
          <p:spPr>
            <a:xfrm flipH="1" rot="2700000">
              <a:off x="755640" y="-855720"/>
              <a:ext cx="2376360" cy="2376360"/>
            </a:xfrm>
            <a:prstGeom prst="rtTriangl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AutoShape 9"/>
            <p:cNvSpPr/>
            <p:nvPr/>
          </p:nvSpPr>
          <p:spPr>
            <a:xfrm flipH="1" rot="2700000">
              <a:off x="4115880" y="2504880"/>
              <a:ext cx="2376720" cy="2376360"/>
            </a:xfrm>
            <a:prstGeom prst="rtTriangl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AutoShape 10"/>
            <p:cNvSpPr/>
            <p:nvPr/>
          </p:nvSpPr>
          <p:spPr>
            <a:xfrm flipH="1" flipV="1" rot="18900000">
              <a:off x="4116960" y="2503440"/>
              <a:ext cx="2376360" cy="2376720"/>
            </a:xfrm>
            <a:prstGeom prst="rtTriangl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5" name="Rectangle 12"/>
          <p:cNvSpPr/>
          <p:nvPr/>
        </p:nvSpPr>
        <p:spPr>
          <a:xfrm>
            <a:off x="395280" y="5445000"/>
            <a:ext cx="87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Arial"/>
              </a:rPr>
              <a:t>Параллелограмм – с площадью 48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ff00"/>
                </a:solidFill>
                <a:latin typeface="Arial"/>
              </a:rPr>
              <a:t>см</a:t>
            </a:r>
            <a:r>
              <a:rPr b="1" lang="ru-RU" sz="4000" spc="-1" strike="noStrike" baseline="30000">
                <a:solidFill>
                  <a:srgbClr val="00ff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2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6" name="Group 10"/>
          <p:cNvGrpSpPr/>
          <p:nvPr/>
        </p:nvGrpSpPr>
        <p:grpSpPr>
          <a:xfrm>
            <a:off x="-809640" y="-1028520"/>
            <a:ext cx="9467640" cy="6683760"/>
            <a:chOff x="-809640" y="-1028520"/>
            <a:chExt cx="9467640" cy="6683760"/>
          </a:xfrm>
        </p:grpSpPr>
        <p:sp>
          <p:nvSpPr>
            <p:cNvPr id="917" name="AutoShape 4"/>
            <p:cNvSpPr/>
            <p:nvPr/>
          </p:nvSpPr>
          <p:spPr>
            <a:xfrm flipH="1" rot="3661800">
              <a:off x="5854320" y="-601560"/>
              <a:ext cx="2376360" cy="2376720"/>
            </a:xfrm>
            <a:prstGeom prst="rtTriangl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AutoShape 5"/>
            <p:cNvSpPr/>
            <p:nvPr/>
          </p:nvSpPr>
          <p:spPr>
            <a:xfrm flipH="1" rot="19861800">
              <a:off x="3774960" y="550080"/>
              <a:ext cx="2376360" cy="2376360"/>
            </a:xfrm>
            <a:prstGeom prst="rtTriangl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AutoShape 6"/>
            <p:cNvSpPr/>
            <p:nvPr/>
          </p:nvSpPr>
          <p:spPr>
            <a:xfrm flipH="1" flipV="1" rot="14461800">
              <a:off x="3774600" y="549360"/>
              <a:ext cx="2376360" cy="2376360"/>
            </a:xfrm>
            <a:prstGeom prst="rtTriangl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AutoShape 7"/>
            <p:cNvSpPr/>
            <p:nvPr/>
          </p:nvSpPr>
          <p:spPr>
            <a:xfrm flipH="1" rot="19861800">
              <a:off x="-383040" y="2851560"/>
              <a:ext cx="2376720" cy="2376360"/>
            </a:xfrm>
            <a:prstGeom prst="rtTriangl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AutoShape 8"/>
            <p:cNvSpPr/>
            <p:nvPr/>
          </p:nvSpPr>
          <p:spPr>
            <a:xfrm flipH="1" rot="19861800">
              <a:off x="1695960" y="1701000"/>
              <a:ext cx="2376360" cy="2376360"/>
            </a:xfrm>
            <a:prstGeom prst="rtTriangl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AutoShape 9"/>
            <p:cNvSpPr/>
            <p:nvPr/>
          </p:nvSpPr>
          <p:spPr>
            <a:xfrm flipH="1" flipV="1" rot="14461800">
              <a:off x="1695600" y="1700280"/>
              <a:ext cx="2376360" cy="2376360"/>
            </a:xfrm>
            <a:prstGeom prst="rtTriangl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3" name="Rectangle 11"/>
          <p:cNvSpPr/>
          <p:nvPr/>
        </p:nvSpPr>
        <p:spPr>
          <a:xfrm>
            <a:off x="914400" y="5157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Arial"/>
              </a:rPr>
              <a:t>Трапеция – с площадью 48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ff00"/>
                </a:solidFill>
                <a:latin typeface="Arial"/>
              </a:rPr>
              <a:t>см</a:t>
            </a:r>
            <a:r>
              <a:rPr b="1" lang="ru-RU" sz="4000" spc="-1" strike="noStrike" baseline="30000">
                <a:solidFill>
                  <a:srgbClr val="00ff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AutoShape 12"/>
          <p:cNvSpPr/>
          <p:nvPr/>
        </p:nvSpPr>
        <p:spPr>
          <a:xfrm>
            <a:off x="8532720" y="6308640"/>
            <a:ext cx="611280" cy="549360"/>
          </a:xfrm>
          <a:custGeom>
            <a:avLst/>
            <a:gdLst>
              <a:gd name="textAreaLeft" fmla="*/ 35280 w 611280"/>
              <a:gd name="textAreaRight" fmla="*/ 576000 w 611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4033" h="21600">
                <a:moveTo>
                  <a:pt x="0" y="0"/>
                </a:moveTo>
                <a:lnTo>
                  <a:pt x="24033" y="0"/>
                </a:lnTo>
                <a:lnTo>
                  <a:pt x="24033" y="21600"/>
                </a:lnTo>
                <a:lnTo>
                  <a:pt x="0" y="21600"/>
                </a:lnTo>
                <a:close/>
              </a:path>
              <a:path fill="lightenLess" w="24033" h="21600">
                <a:moveTo>
                  <a:pt x="0" y="0"/>
                </a:moveTo>
                <a:lnTo>
                  <a:pt x="24033" y="0"/>
                </a:lnTo>
                <a:lnTo>
                  <a:pt x="22633" y="1400"/>
                </a:lnTo>
                <a:lnTo>
                  <a:pt x="1400" y="1400"/>
                </a:lnTo>
                <a:close/>
              </a:path>
              <a:path fill="darken" w="24033" h="21600">
                <a:moveTo>
                  <a:pt x="24033" y="0"/>
                </a:moveTo>
                <a:lnTo>
                  <a:pt x="24033" y="21600"/>
                </a:lnTo>
                <a:lnTo>
                  <a:pt x="22633" y="20200"/>
                </a:lnTo>
                <a:lnTo>
                  <a:pt x="22633" y="1400"/>
                </a:lnTo>
                <a:close/>
              </a:path>
              <a:path fill="darkenLess" w="24033" h="21600">
                <a:moveTo>
                  <a:pt x="24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3" y="20200"/>
                </a:lnTo>
                <a:close/>
              </a:path>
              <a:path fill="lighten" w="24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3" h="21600">
                <a:moveTo>
                  <a:pt x="12017" y="3837"/>
                </a:moveTo>
                <a:lnTo>
                  <a:pt x="14593" y="6448"/>
                </a:lnTo>
                <a:lnTo>
                  <a:pt x="14593" y="4707"/>
                </a:lnTo>
                <a:lnTo>
                  <a:pt x="16368" y="4707"/>
                </a:lnTo>
                <a:lnTo>
                  <a:pt x="16368" y="8224"/>
                </a:lnTo>
                <a:lnTo>
                  <a:pt x="18979" y="10800"/>
                </a:lnTo>
                <a:lnTo>
                  <a:pt x="17326" y="10800"/>
                </a:lnTo>
                <a:lnTo>
                  <a:pt x="17326" y="17989"/>
                </a:lnTo>
                <a:lnTo>
                  <a:pt x="6707" y="17989"/>
                </a:lnTo>
                <a:lnTo>
                  <a:pt x="6707" y="10800"/>
                </a:lnTo>
                <a:lnTo>
                  <a:pt x="5054" y="10800"/>
                </a:lnTo>
                <a:close/>
              </a:path>
              <a:path fill="darkenLess" w="24033" h="21600">
                <a:moveTo>
                  <a:pt x="14593" y="6448"/>
                </a:moveTo>
                <a:lnTo>
                  <a:pt x="14593" y="4707"/>
                </a:lnTo>
                <a:lnTo>
                  <a:pt x="16368" y="4707"/>
                </a:lnTo>
                <a:lnTo>
                  <a:pt x="16368" y="8224"/>
                </a:lnTo>
                <a:close/>
              </a:path>
              <a:path fill="darkenLess" w="24033" h="21600">
                <a:moveTo>
                  <a:pt x="11094" y="14299"/>
                </a:moveTo>
                <a:lnTo>
                  <a:pt x="12939" y="14299"/>
                </a:lnTo>
                <a:lnTo>
                  <a:pt x="12939" y="17989"/>
                </a:lnTo>
                <a:lnTo>
                  <a:pt x="17326" y="17989"/>
                </a:lnTo>
                <a:lnTo>
                  <a:pt x="17326" y="10800"/>
                </a:lnTo>
                <a:lnTo>
                  <a:pt x="6707" y="10800"/>
                </a:lnTo>
                <a:lnTo>
                  <a:pt x="6707" y="17989"/>
                </a:lnTo>
                <a:lnTo>
                  <a:pt x="11094" y="17989"/>
                </a:lnTo>
                <a:close/>
              </a:path>
            </a:pathLst>
          </a:custGeom>
          <a:solidFill>
            <a:srgbClr val="990099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AutoShape 13"/>
          <p:cNvSpPr/>
          <p:nvPr/>
        </p:nvSpPr>
        <p:spPr>
          <a:xfrm>
            <a:off x="1332000" y="6308640"/>
            <a:ext cx="468360" cy="549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49360"/>
              <a:gd name="textAreaBottom" fmla="*/ 519120 h 549360"/>
            </a:gdLst>
            <a:ahLst/>
            <a:rect l="textAreaLeft" t="textAreaTop" r="textAreaRight" b="textAreaBottom"/>
            <a:pathLst>
              <a:path w="21600" h="25333">
                <a:moveTo>
                  <a:pt x="0" y="0"/>
                </a:moveTo>
                <a:lnTo>
                  <a:pt x="21600" y="0"/>
                </a:lnTo>
                <a:lnTo>
                  <a:pt x="21600" y="25333"/>
                </a:lnTo>
                <a:lnTo>
                  <a:pt x="0" y="25333"/>
                </a:lnTo>
                <a:close/>
              </a:path>
              <a:path fill="lightenLess" w="21600" h="253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333">
                <a:moveTo>
                  <a:pt x="21600" y="0"/>
                </a:moveTo>
                <a:lnTo>
                  <a:pt x="21600" y="25333"/>
                </a:lnTo>
                <a:lnTo>
                  <a:pt x="20200" y="23933"/>
                </a:lnTo>
                <a:lnTo>
                  <a:pt x="20200" y="1400"/>
                </a:lnTo>
                <a:close/>
              </a:path>
              <a:path fill="darkenLess" w="21600" h="25333">
                <a:moveTo>
                  <a:pt x="21600" y="25333"/>
                </a:moveTo>
                <a:lnTo>
                  <a:pt x="0" y="25333"/>
                </a:lnTo>
                <a:lnTo>
                  <a:pt x="1400" y="23933"/>
                </a:lnTo>
                <a:lnTo>
                  <a:pt x="20200" y="23933"/>
                </a:lnTo>
                <a:close/>
              </a:path>
              <a:path fill="lighten" w="21600" h="25333">
                <a:moveTo>
                  <a:pt x="0" y="253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933"/>
                </a:lnTo>
                <a:close/>
              </a:path>
              <a:path fill="darken" w="21600" h="25333">
                <a:moveTo>
                  <a:pt x="3794" y="5660"/>
                </a:moveTo>
                <a:lnTo>
                  <a:pt x="17806" y="12666"/>
                </a:lnTo>
                <a:lnTo>
                  <a:pt x="3794" y="19673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6" dur="2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 Black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 Black"/>
              </a:rPr>
              <a:t>п. 48,49, вопросы 1, 2 на стр. 133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 Black"/>
              </a:rPr>
              <a:t>№ </a:t>
            </a:r>
            <a:r>
              <a:rPr b="0" lang="ru-RU" sz="4000" spc="-1" strike="noStrike">
                <a:solidFill>
                  <a:srgbClr val="ffcc00"/>
                </a:solidFill>
                <a:latin typeface="Arial Black"/>
              </a:rPr>
              <a:t>446, 451, 447.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8" name="AutoShape 4"/>
          <p:cNvSpPr/>
          <p:nvPr/>
        </p:nvSpPr>
        <p:spPr>
          <a:xfrm>
            <a:off x="8675640" y="6318360"/>
            <a:ext cx="468360" cy="53964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39640"/>
              <a:gd name="textAreaBottom" fmla="*/ 509400 h 539640"/>
            </a:gdLst>
            <a:ahLst/>
            <a:rect l="textAreaLeft" t="textAreaTop" r="textAreaRight" b="textAreaBottom"/>
            <a:pathLst>
              <a:path w="21600" h="24885">
                <a:moveTo>
                  <a:pt x="0" y="0"/>
                </a:moveTo>
                <a:lnTo>
                  <a:pt x="21600" y="0"/>
                </a:lnTo>
                <a:lnTo>
                  <a:pt x="21600" y="24885"/>
                </a:lnTo>
                <a:lnTo>
                  <a:pt x="0" y="24885"/>
                </a:lnTo>
                <a:close/>
              </a:path>
              <a:path fill="lightenLess" w="21600" h="2488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85">
                <a:moveTo>
                  <a:pt x="21600" y="0"/>
                </a:moveTo>
                <a:lnTo>
                  <a:pt x="21600" y="24885"/>
                </a:lnTo>
                <a:lnTo>
                  <a:pt x="20200" y="23485"/>
                </a:lnTo>
                <a:lnTo>
                  <a:pt x="20200" y="1400"/>
                </a:lnTo>
                <a:close/>
              </a:path>
              <a:path fill="darkenLess" w="21600" h="24885">
                <a:moveTo>
                  <a:pt x="21600" y="24885"/>
                </a:moveTo>
                <a:lnTo>
                  <a:pt x="0" y="24885"/>
                </a:lnTo>
                <a:lnTo>
                  <a:pt x="1400" y="23485"/>
                </a:lnTo>
                <a:lnTo>
                  <a:pt x="20200" y="23485"/>
                </a:lnTo>
                <a:close/>
              </a:path>
              <a:path fill="lighten" w="21600" h="24885">
                <a:moveTo>
                  <a:pt x="0" y="24885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85"/>
                </a:lnTo>
                <a:close/>
              </a:path>
              <a:path fill="darken" w="21600" h="24885">
                <a:moveTo>
                  <a:pt x="10800" y="1644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885">
                <a:moveTo>
                  <a:pt x="11905" y="15924"/>
                </a:moveTo>
                <a:lnTo>
                  <a:pt x="11905" y="13966"/>
                </a:lnTo>
                <a:cubicBezTo>
                  <a:pt x="11905" y="13139"/>
                  <a:pt x="12236" y="12442"/>
                  <a:pt x="12837" y="12442"/>
                </a:cubicBezTo>
                <a:cubicBezTo>
                  <a:pt x="13968" y="12442"/>
                  <a:pt x="14865" y="11076"/>
                  <a:pt x="14865" y="9492"/>
                </a:cubicBezTo>
                <a:cubicBezTo>
                  <a:pt x="14865" y="7177"/>
                  <a:pt x="13011" y="5436"/>
                  <a:pt x="10800" y="5436"/>
                </a:cubicBezTo>
                <a:cubicBezTo>
                  <a:pt x="8589" y="5436"/>
                  <a:pt x="6918" y="7177"/>
                  <a:pt x="6918" y="9492"/>
                </a:cubicBezTo>
                <a:lnTo>
                  <a:pt x="8772" y="9492"/>
                </a:lnTo>
                <a:cubicBezTo>
                  <a:pt x="8772" y="8352"/>
                  <a:pt x="9695" y="7464"/>
                  <a:pt x="10800" y="7464"/>
                </a:cubicBezTo>
                <a:cubicBezTo>
                  <a:pt x="11905" y="7464"/>
                  <a:pt x="12837" y="8352"/>
                  <a:pt x="12837" y="9492"/>
                </a:cubicBezTo>
                <a:cubicBezTo>
                  <a:pt x="12837" y="10232"/>
                  <a:pt x="12367" y="10963"/>
                  <a:pt x="11905" y="10963"/>
                </a:cubicBezTo>
                <a:cubicBezTo>
                  <a:pt x="10800" y="10963"/>
                  <a:pt x="9695" y="12442"/>
                  <a:pt x="9695" y="13966"/>
                </a:cubicBezTo>
                <a:lnTo>
                  <a:pt x="9695" y="15924"/>
                </a:lnTo>
                <a:close/>
              </a:path>
            </a:pathLst>
          </a:custGeom>
          <a:solidFill>
            <a:srgbClr val="9900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3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3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3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3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9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9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WordArt 4"/>
          <p:cNvSpPr txBox="1"/>
          <p:nvPr/>
        </p:nvSpPr>
        <p:spPr>
          <a:xfrm>
            <a:off x="539640" y="2997360"/>
            <a:ext cx="7777440" cy="330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 ЗА  УРОК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0" name="AutoShape 5">
            <a:hlinkClick r:id="" action="ppaction://hlinkshowjump?jump=endshow"/>
          </p:cNvPr>
          <p:cNvSpPr/>
          <p:nvPr/>
        </p:nvSpPr>
        <p:spPr>
          <a:xfrm>
            <a:off x="8388360" y="6093000"/>
            <a:ext cx="755640" cy="76500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765000"/>
              <a:gd name="textAreaBottom" fmla="*/ 716040 h 765000"/>
            </a:gdLst>
            <a:ahLst/>
            <a:rect l="textAreaLeft" t="textAreaTop" r="textAreaRight" b="textAreaBottom"/>
            <a:pathLst>
              <a:path w="21600" h="21867">
                <a:moveTo>
                  <a:pt x="0" y="0"/>
                </a:moveTo>
                <a:lnTo>
                  <a:pt x="21600" y="0"/>
                </a:lnTo>
                <a:lnTo>
                  <a:pt x="21600" y="21867"/>
                </a:lnTo>
                <a:lnTo>
                  <a:pt x="0" y="21867"/>
                </a:lnTo>
                <a:close/>
              </a:path>
              <a:path fill="lightenLess" w="21600" h="2186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67">
                <a:moveTo>
                  <a:pt x="21600" y="0"/>
                </a:moveTo>
                <a:lnTo>
                  <a:pt x="21600" y="21867"/>
                </a:lnTo>
                <a:lnTo>
                  <a:pt x="20200" y="20467"/>
                </a:lnTo>
                <a:lnTo>
                  <a:pt x="20200" y="1400"/>
                </a:lnTo>
                <a:close/>
              </a:path>
              <a:path fill="darkenLess" w="21600" h="21867">
                <a:moveTo>
                  <a:pt x="21600" y="21867"/>
                </a:moveTo>
                <a:lnTo>
                  <a:pt x="0" y="21867"/>
                </a:lnTo>
                <a:lnTo>
                  <a:pt x="1400" y="20467"/>
                </a:lnTo>
                <a:lnTo>
                  <a:pt x="20200" y="20467"/>
                </a:lnTo>
                <a:close/>
              </a:path>
              <a:path fill="lighten" w="21600" h="21867">
                <a:moveTo>
                  <a:pt x="0" y="2186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67"/>
                </a:lnTo>
                <a:close/>
              </a:path>
              <a:path fill="darken" w="21600" h="21867">
                <a:moveTo>
                  <a:pt x="10800" y="3971"/>
                </a:moveTo>
                <a:lnTo>
                  <a:pt x="13376" y="6582"/>
                </a:lnTo>
                <a:lnTo>
                  <a:pt x="13376" y="4841"/>
                </a:lnTo>
                <a:lnTo>
                  <a:pt x="15152" y="4841"/>
                </a:lnTo>
                <a:lnTo>
                  <a:pt x="15152" y="8357"/>
                </a:lnTo>
                <a:lnTo>
                  <a:pt x="17763" y="10934"/>
                </a:lnTo>
                <a:lnTo>
                  <a:pt x="16109" y="10934"/>
                </a:lnTo>
                <a:lnTo>
                  <a:pt x="16109" y="18123"/>
                </a:lnTo>
                <a:lnTo>
                  <a:pt x="5491" y="18123"/>
                </a:lnTo>
                <a:lnTo>
                  <a:pt x="5491" y="10934"/>
                </a:lnTo>
                <a:lnTo>
                  <a:pt x="3837" y="10934"/>
                </a:lnTo>
                <a:close/>
              </a:path>
              <a:path fill="darkenLess" w="21600" h="21867">
                <a:moveTo>
                  <a:pt x="13376" y="6582"/>
                </a:moveTo>
                <a:lnTo>
                  <a:pt x="13376" y="4841"/>
                </a:lnTo>
                <a:lnTo>
                  <a:pt x="15152" y="4841"/>
                </a:lnTo>
                <a:lnTo>
                  <a:pt x="15152" y="8357"/>
                </a:lnTo>
                <a:close/>
              </a:path>
              <a:path fill="darkenLess" w="21600" h="21867">
                <a:moveTo>
                  <a:pt x="9877" y="14433"/>
                </a:moveTo>
                <a:lnTo>
                  <a:pt x="11723" y="14433"/>
                </a:lnTo>
                <a:lnTo>
                  <a:pt x="11723" y="18123"/>
                </a:lnTo>
                <a:lnTo>
                  <a:pt x="16109" y="18123"/>
                </a:lnTo>
                <a:lnTo>
                  <a:pt x="16109" y="10934"/>
                </a:lnTo>
                <a:lnTo>
                  <a:pt x="5491" y="10934"/>
                </a:lnTo>
                <a:lnTo>
                  <a:pt x="5491" y="18123"/>
                </a:lnTo>
                <a:lnTo>
                  <a:pt x="9877" y="18123"/>
                </a:lnTo>
                <a:close/>
              </a:path>
            </a:pathLst>
          </a:custGeom>
          <a:solidFill>
            <a:srgbClr val="99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3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30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30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30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ЛОЩАДЬ ПРЯМОУГОЛЬНИ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292360" y="2338560"/>
            <a:ext cx="3568680" cy="45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ДАНО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ямоугольник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стороны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S –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лощад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ДОКАЗАТЬ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i="1" lang="ru-RU" sz="4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41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i="1" lang="ru-RU" sz="4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4100" spc="-1" strike="noStrike">
                <a:solidFill>
                  <a:srgbClr val="ffffff"/>
                </a:solidFill>
                <a:latin typeface="Arial"/>
              </a:rPr>
              <a:t>ab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Text Box 5"/>
          <p:cNvSpPr/>
          <p:nvPr/>
        </p:nvSpPr>
        <p:spPr>
          <a:xfrm>
            <a:off x="1763640" y="522936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Times New Roman"/>
              </a:rPr>
              <a:t>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Rectangle 4"/>
          <p:cNvSpPr/>
          <p:nvPr/>
        </p:nvSpPr>
        <p:spPr>
          <a:xfrm>
            <a:off x="684360" y="5229360"/>
            <a:ext cx="2663640" cy="1079280"/>
          </a:xfrm>
          <a:prstGeom prst="rect">
            <a:avLst/>
          </a:prstGeom>
          <a:solidFill>
            <a:srgbClr val="7b46d0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Rectangle 6"/>
          <p:cNvSpPr/>
          <p:nvPr/>
        </p:nvSpPr>
        <p:spPr>
          <a:xfrm>
            <a:off x="684360" y="2708280"/>
            <a:ext cx="2663640" cy="2521080"/>
          </a:xfrm>
          <a:prstGeom prst="rect">
            <a:avLst/>
          </a:prstGeom>
          <a:solidFill>
            <a:srgbClr val="3366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Rectangle 7"/>
          <p:cNvSpPr/>
          <p:nvPr/>
        </p:nvSpPr>
        <p:spPr>
          <a:xfrm>
            <a:off x="3348000" y="5229360"/>
            <a:ext cx="1079640" cy="1079280"/>
          </a:xfrm>
          <a:prstGeom prst="rect">
            <a:avLst/>
          </a:prstGeom>
          <a:solidFill>
            <a:srgbClr val="3366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Rectangle 8"/>
          <p:cNvSpPr/>
          <p:nvPr/>
        </p:nvSpPr>
        <p:spPr>
          <a:xfrm>
            <a:off x="3348000" y="2708280"/>
            <a:ext cx="1079640" cy="2521080"/>
          </a:xfrm>
          <a:prstGeom prst="rect">
            <a:avLst/>
          </a:prstGeom>
          <a:solidFill>
            <a:srgbClr val="3366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Text Box 9"/>
          <p:cNvSpPr/>
          <p:nvPr/>
        </p:nvSpPr>
        <p:spPr>
          <a:xfrm>
            <a:off x="252000" y="5516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Text Box 10"/>
          <p:cNvSpPr/>
          <p:nvPr/>
        </p:nvSpPr>
        <p:spPr>
          <a:xfrm>
            <a:off x="1763280" y="6272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Text Box 11"/>
          <p:cNvSpPr/>
          <p:nvPr/>
        </p:nvSpPr>
        <p:spPr>
          <a:xfrm>
            <a:off x="250920" y="38606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Text Box 12"/>
          <p:cNvSpPr/>
          <p:nvPr/>
        </p:nvSpPr>
        <p:spPr>
          <a:xfrm>
            <a:off x="1906560" y="220500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Text Box 13"/>
          <p:cNvSpPr/>
          <p:nvPr/>
        </p:nvSpPr>
        <p:spPr>
          <a:xfrm>
            <a:off x="3851280" y="220500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Text Box 14"/>
          <p:cNvSpPr/>
          <p:nvPr/>
        </p:nvSpPr>
        <p:spPr>
          <a:xfrm>
            <a:off x="4428720" y="3789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Text Box 15"/>
          <p:cNvSpPr/>
          <p:nvPr/>
        </p:nvSpPr>
        <p:spPr>
          <a:xfrm>
            <a:off x="4501800" y="5445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Text Box 16"/>
          <p:cNvSpPr/>
          <p:nvPr/>
        </p:nvSpPr>
        <p:spPr>
          <a:xfrm>
            <a:off x="3635280" y="627840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Line 17"/>
          <p:cNvSpPr/>
          <p:nvPr/>
        </p:nvSpPr>
        <p:spPr>
          <a:xfrm>
            <a:off x="5219640" y="2349360"/>
            <a:ext cx="0" cy="3816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Line 18"/>
          <p:cNvSpPr/>
          <p:nvPr/>
        </p:nvSpPr>
        <p:spPr>
          <a:xfrm>
            <a:off x="5219640" y="4724280"/>
            <a:ext cx="3311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Rectangle 20"/>
          <p:cNvSpPr/>
          <p:nvPr/>
        </p:nvSpPr>
        <p:spPr>
          <a:xfrm>
            <a:off x="324000" y="981000"/>
            <a:ext cx="829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лощадь прямоугольника равна произведению его смежных сторо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2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4000"/>
                            </p:stCondLst>
                            <p:childTnLst>
                              <p:par>
                                <p:cTn id="400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2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7000"/>
                            </p:stCondLst>
                            <p:childTnLst>
                              <p:par>
                                <p:cTn id="414" nodeType="after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6" dur="2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ЛОЩАДЬ ПРЯМОУГОЛЬНИ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859280" y="1557000"/>
            <a:ext cx="4284720" cy="504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Доказательств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 3-му свойству: площадь получившегося квадрата со сторон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а +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равн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 =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а +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 2-му свойству имеем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b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 + S +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+ 2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b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S +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 = 2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сюда получаем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=a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Rectangle 4"/>
          <p:cNvSpPr/>
          <p:nvPr/>
        </p:nvSpPr>
        <p:spPr>
          <a:xfrm>
            <a:off x="684360" y="5013360"/>
            <a:ext cx="2663640" cy="1079640"/>
          </a:xfrm>
          <a:prstGeom prst="rect">
            <a:avLst/>
          </a:prstGeom>
          <a:solidFill>
            <a:srgbClr val="7b46d0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Text Box 5"/>
          <p:cNvSpPr/>
          <p:nvPr/>
        </p:nvSpPr>
        <p:spPr>
          <a:xfrm>
            <a:off x="1763640" y="522936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Rectangle 6"/>
          <p:cNvSpPr/>
          <p:nvPr/>
        </p:nvSpPr>
        <p:spPr>
          <a:xfrm>
            <a:off x="684360" y="2492280"/>
            <a:ext cx="2663640" cy="2521080"/>
          </a:xfrm>
          <a:prstGeom prst="rect">
            <a:avLst/>
          </a:prstGeom>
          <a:solidFill>
            <a:srgbClr val="3366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Rectangle 7"/>
          <p:cNvSpPr/>
          <p:nvPr/>
        </p:nvSpPr>
        <p:spPr>
          <a:xfrm>
            <a:off x="3348000" y="5013360"/>
            <a:ext cx="1079640" cy="1079640"/>
          </a:xfrm>
          <a:prstGeom prst="rect">
            <a:avLst/>
          </a:prstGeom>
          <a:solidFill>
            <a:srgbClr val="3366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Rectangle 8"/>
          <p:cNvSpPr/>
          <p:nvPr/>
        </p:nvSpPr>
        <p:spPr>
          <a:xfrm>
            <a:off x="3348000" y="2492280"/>
            <a:ext cx="1079640" cy="2521080"/>
          </a:xfrm>
          <a:prstGeom prst="rect">
            <a:avLst/>
          </a:prstGeom>
          <a:solidFill>
            <a:srgbClr val="3366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Text Box 9"/>
          <p:cNvSpPr/>
          <p:nvPr/>
        </p:nvSpPr>
        <p:spPr>
          <a:xfrm>
            <a:off x="304200" y="52959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Text Box 10"/>
          <p:cNvSpPr/>
          <p:nvPr/>
        </p:nvSpPr>
        <p:spPr>
          <a:xfrm>
            <a:off x="1764720" y="6093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Text Box 11"/>
          <p:cNvSpPr/>
          <p:nvPr/>
        </p:nvSpPr>
        <p:spPr>
          <a:xfrm>
            <a:off x="250920" y="33577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Text Box 12"/>
          <p:cNvSpPr/>
          <p:nvPr/>
        </p:nvSpPr>
        <p:spPr>
          <a:xfrm>
            <a:off x="1887480" y="198900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Text Box 13"/>
          <p:cNvSpPr/>
          <p:nvPr/>
        </p:nvSpPr>
        <p:spPr>
          <a:xfrm>
            <a:off x="3832200" y="198900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Text Box 14"/>
          <p:cNvSpPr/>
          <p:nvPr/>
        </p:nvSpPr>
        <p:spPr>
          <a:xfrm>
            <a:off x="4409640" y="32781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Text Box 15"/>
          <p:cNvSpPr/>
          <p:nvPr/>
        </p:nvSpPr>
        <p:spPr>
          <a:xfrm>
            <a:off x="4480920" y="5222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Text Box 16"/>
          <p:cNvSpPr/>
          <p:nvPr/>
        </p:nvSpPr>
        <p:spPr>
          <a:xfrm>
            <a:off x="3616200" y="602136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Text Box 17"/>
          <p:cNvSpPr/>
          <p:nvPr/>
        </p:nvSpPr>
        <p:spPr>
          <a:xfrm>
            <a:off x="1835280" y="335772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Text Box 18"/>
          <p:cNvSpPr/>
          <p:nvPr/>
        </p:nvSpPr>
        <p:spPr>
          <a:xfrm>
            <a:off x="3635280" y="522936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Text Box 19"/>
          <p:cNvSpPr/>
          <p:nvPr/>
        </p:nvSpPr>
        <p:spPr>
          <a:xfrm>
            <a:off x="3635280" y="3429000"/>
            <a:ext cx="5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AutoShape 20"/>
          <p:cNvSpPr/>
          <p:nvPr/>
        </p:nvSpPr>
        <p:spPr>
          <a:xfrm>
            <a:off x="1116000" y="6381720"/>
            <a:ext cx="466560" cy="476280"/>
          </a:xfrm>
          <a:custGeom>
            <a:avLst/>
            <a:gdLst>
              <a:gd name="textAreaLeft" fmla="*/ 30240 w 466560"/>
              <a:gd name="textAreaRight" fmla="*/ 436320 w 4665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2050">
                <a:moveTo>
                  <a:pt x="0" y="0"/>
                </a:moveTo>
                <a:lnTo>
                  <a:pt x="21600" y="0"/>
                </a:lnTo>
                <a:lnTo>
                  <a:pt x="21600" y="22050"/>
                </a:lnTo>
                <a:lnTo>
                  <a:pt x="0" y="22050"/>
                </a:lnTo>
                <a:close/>
              </a:path>
              <a:path fill="lightenLess" w="21600" h="220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50">
                <a:moveTo>
                  <a:pt x="21600" y="0"/>
                </a:moveTo>
                <a:lnTo>
                  <a:pt x="21600" y="22050"/>
                </a:lnTo>
                <a:lnTo>
                  <a:pt x="20200" y="20650"/>
                </a:lnTo>
                <a:lnTo>
                  <a:pt x="20200" y="1400"/>
                </a:lnTo>
                <a:close/>
              </a:path>
              <a:path fill="darkenLess" w="21600" h="22050">
                <a:moveTo>
                  <a:pt x="21600" y="22050"/>
                </a:moveTo>
                <a:lnTo>
                  <a:pt x="0" y="22050"/>
                </a:lnTo>
                <a:lnTo>
                  <a:pt x="1400" y="20650"/>
                </a:lnTo>
                <a:lnTo>
                  <a:pt x="20200" y="20650"/>
                </a:lnTo>
                <a:close/>
              </a:path>
              <a:path fill="lighten" w="21600" h="22050">
                <a:moveTo>
                  <a:pt x="0" y="220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50"/>
                </a:lnTo>
                <a:close/>
              </a:path>
              <a:path fill="darken" w="21600" h="22050">
                <a:moveTo>
                  <a:pt x="3794" y="11025"/>
                </a:moveTo>
                <a:lnTo>
                  <a:pt x="17806" y="4018"/>
                </a:lnTo>
                <a:lnTo>
                  <a:pt x="17806" y="18031"/>
                </a:lnTo>
                <a:close/>
              </a:path>
            </a:pathLst>
          </a:custGeom>
          <a:solidFill>
            <a:srgbClr val="990099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8" presetSubtype="16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3" dur="2000"/>
                                        <p:tgtEl>
                                          <p:spTgt spid="9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8" presetSubtype="16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6" dur="2000"/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8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9" dur="2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6000"/>
                            </p:stCondLst>
                            <p:childTnLst>
                              <p:par>
                                <p:cTn id="44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3" dur="2000"/>
                                        <p:tgtEl>
                                          <p:spTgt spid="9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8000"/>
                            </p:stCondLst>
                            <p:childTnLst>
                              <p:par>
                                <p:cTn id="44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7" dur="2000"/>
                                        <p:tgtEl>
                                          <p:spTgt spid="9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1" dur="2000"/>
                                        <p:tgtEl>
                                          <p:spTgt spid="9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5" dur="2000"/>
                                        <p:tgtEl>
                                          <p:spTgt spid="9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4000"/>
                            </p:stCondLst>
                            <p:childTnLst>
                              <p:par>
                                <p:cTn id="45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9" dur="2000"/>
                                        <p:tgtEl>
                                          <p:spTgt spid="9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6000"/>
                            </p:stCondLst>
                            <p:childTnLst>
                              <p:par>
                                <p:cTn id="46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3" dur="2000"/>
                                        <p:tgtEl>
                                          <p:spTgt spid="9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8000"/>
                            </p:stCondLst>
                            <p:childTnLst>
                              <p:par>
                                <p:cTn id="46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7" dur="2000"/>
                                        <p:tgtEl>
                                          <p:spTgt spid="9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20000"/>
                            </p:stCondLst>
                            <p:childTnLst>
                              <p:par>
                                <p:cTn id="46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1" dur="2000"/>
                                        <p:tgtEl>
                                          <p:spTgt spid="9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22000"/>
                            </p:stCondLst>
                            <p:childTnLst>
                              <p:par>
                                <p:cTn id="47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5" dur="2000"/>
                                        <p:tgtEl>
                                          <p:spTgt spid="9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ЭПИГРАФ  УРОКА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ДОХНОВЕНИЕ НУЖНО В ГЕОМЕТРИ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Е МЕНЬШЕ, ЧЕМ В ПОЭЗ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. С. ПУШК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AutoShape 4">
            <a:hlinkClick r:id="rId1" action="ppaction://hlinksldjump"/>
          </p:cNvPr>
          <p:cNvSpPr/>
          <p:nvPr/>
        </p:nvSpPr>
        <p:spPr>
          <a:xfrm>
            <a:off x="8675640" y="6308640"/>
            <a:ext cx="468360" cy="549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49360"/>
              <a:gd name="textAreaBottom" fmla="*/ 519120 h 549360"/>
            </a:gdLst>
            <a:ahLst/>
            <a:rect l="textAreaLeft" t="textAreaTop" r="textAreaRight" b="textAreaBottom"/>
            <a:pathLst>
              <a:path w="21600" h="25333">
                <a:moveTo>
                  <a:pt x="0" y="0"/>
                </a:moveTo>
                <a:lnTo>
                  <a:pt x="21600" y="0"/>
                </a:lnTo>
                <a:lnTo>
                  <a:pt x="21600" y="25333"/>
                </a:lnTo>
                <a:lnTo>
                  <a:pt x="0" y="25333"/>
                </a:lnTo>
                <a:close/>
              </a:path>
              <a:path fill="lightenLess" w="21600" h="253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333">
                <a:moveTo>
                  <a:pt x="21600" y="0"/>
                </a:moveTo>
                <a:lnTo>
                  <a:pt x="21600" y="25333"/>
                </a:lnTo>
                <a:lnTo>
                  <a:pt x="20200" y="23933"/>
                </a:lnTo>
                <a:lnTo>
                  <a:pt x="20200" y="1400"/>
                </a:lnTo>
                <a:close/>
              </a:path>
              <a:path fill="darkenLess" w="21600" h="25333">
                <a:moveTo>
                  <a:pt x="21600" y="25333"/>
                </a:moveTo>
                <a:lnTo>
                  <a:pt x="0" y="25333"/>
                </a:lnTo>
                <a:lnTo>
                  <a:pt x="1400" y="23933"/>
                </a:lnTo>
                <a:lnTo>
                  <a:pt x="20200" y="23933"/>
                </a:lnTo>
                <a:close/>
              </a:path>
              <a:path fill="lighten" w="21600" h="25333">
                <a:moveTo>
                  <a:pt x="0" y="253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933"/>
                </a:lnTo>
                <a:close/>
              </a:path>
              <a:path fill="darken" w="21600" h="25333">
                <a:moveTo>
                  <a:pt x="3794" y="9359"/>
                </a:moveTo>
                <a:lnTo>
                  <a:pt x="7301" y="9359"/>
                </a:lnTo>
                <a:lnTo>
                  <a:pt x="7301" y="14694"/>
                </a:lnTo>
                <a:cubicBezTo>
                  <a:pt x="7301" y="15617"/>
                  <a:pt x="8102" y="16348"/>
                  <a:pt x="9138" y="16348"/>
                </a:cubicBezTo>
                <a:lnTo>
                  <a:pt x="10800" y="16348"/>
                </a:lnTo>
                <a:cubicBezTo>
                  <a:pt x="11836" y="16348"/>
                  <a:pt x="12636" y="15617"/>
                  <a:pt x="12636" y="14694"/>
                </a:cubicBezTo>
                <a:lnTo>
                  <a:pt x="12636" y="9359"/>
                </a:lnTo>
                <a:lnTo>
                  <a:pt x="10800" y="9359"/>
                </a:lnTo>
                <a:lnTo>
                  <a:pt x="14308" y="5851"/>
                </a:lnTo>
                <a:lnTo>
                  <a:pt x="17981" y="9359"/>
                </a:lnTo>
                <a:lnTo>
                  <a:pt x="16144" y="9359"/>
                </a:lnTo>
                <a:lnTo>
                  <a:pt x="16144" y="14694"/>
                </a:lnTo>
                <a:cubicBezTo>
                  <a:pt x="16144" y="17462"/>
                  <a:pt x="13568" y="20021"/>
                  <a:pt x="10800" y="20021"/>
                </a:cubicBezTo>
                <a:lnTo>
                  <a:pt x="9138" y="20021"/>
                </a:lnTo>
                <a:cubicBezTo>
                  <a:pt x="6370" y="20021"/>
                  <a:pt x="3794" y="17462"/>
                  <a:pt x="3794" y="14694"/>
                </a:cubicBezTo>
                <a:close/>
              </a:path>
            </a:pathLst>
          </a:custGeom>
          <a:solidFill>
            <a:srgbClr val="9900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ffff"/>
                </a:solidFill>
                <a:latin typeface="comic"/>
              </a:rPr>
              <a:t>Задача 1</a:t>
            </a:r>
            <a:r>
              <a:rPr b="1" lang="ru-RU" sz="4400" spc="-1" strike="noStrike">
                <a:solidFill>
                  <a:srgbClr val="00ffff"/>
                </a:solidFill>
                <a:latin typeface="comic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ерез точку во внутренней области равностороннего треугольника проведены две прямые, параллельные двум сторонам треугольника. На какие фигуры разбивается этими прямыми данный треугольни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AutoShape 4">
            <a:hlinkClick r:id="" action="ppaction://hlinkshowjump?jump=nextslide"/>
          </p:cNvPr>
          <p:cNvSpPr/>
          <p:nvPr/>
        </p:nvSpPr>
        <p:spPr>
          <a:xfrm>
            <a:off x="8532720" y="6237360"/>
            <a:ext cx="611280" cy="620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0640"/>
              <a:gd name="textAreaBottom" fmla="*/ 58104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00" y="20531"/>
                </a:lnTo>
                <a:lnTo>
                  <a:pt x="20200" y="140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400" y="20531"/>
                </a:lnTo>
                <a:lnTo>
                  <a:pt x="20200" y="2053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31"/>
                </a:lnTo>
                <a:close/>
              </a:path>
              <a:path fill="darken" w="21600" h="21931">
                <a:moveTo>
                  <a:pt x="3794" y="3959"/>
                </a:moveTo>
                <a:lnTo>
                  <a:pt x="17806" y="10965"/>
                </a:lnTo>
                <a:lnTo>
                  <a:pt x="3794" y="17972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8" name="Group 21"/>
          <p:cNvGrpSpPr/>
          <p:nvPr/>
        </p:nvGrpSpPr>
        <p:grpSpPr>
          <a:xfrm>
            <a:off x="826920" y="189000"/>
            <a:ext cx="7418520" cy="6479640"/>
            <a:chOff x="826920" y="189000"/>
            <a:chExt cx="7418520" cy="6479640"/>
          </a:xfrm>
        </p:grpSpPr>
        <p:grpSp>
          <p:nvGrpSpPr>
            <p:cNvPr id="779" name="Group 11"/>
            <p:cNvGrpSpPr/>
            <p:nvPr/>
          </p:nvGrpSpPr>
          <p:grpSpPr>
            <a:xfrm>
              <a:off x="826920" y="907920"/>
              <a:ext cx="7417080" cy="5760720"/>
              <a:chOff x="826920" y="907920"/>
              <a:chExt cx="7417080" cy="5760720"/>
            </a:xfrm>
          </p:grpSpPr>
          <p:sp>
            <p:nvSpPr>
              <p:cNvPr id="780" name="AutoShape 4"/>
              <p:cNvSpPr/>
              <p:nvPr/>
            </p:nvSpPr>
            <p:spPr>
              <a:xfrm>
                <a:off x="1501560" y="907920"/>
                <a:ext cx="6001560" cy="500256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81" name="Group 8"/>
              <p:cNvGrpSpPr/>
              <p:nvPr/>
            </p:nvGrpSpPr>
            <p:grpSpPr>
              <a:xfrm>
                <a:off x="826920" y="1363320"/>
                <a:ext cx="7417080" cy="5305320"/>
                <a:chOff x="826920" y="1363320"/>
                <a:chExt cx="7417080" cy="5305320"/>
              </a:xfrm>
            </p:grpSpPr>
            <p:sp>
              <p:nvSpPr>
                <p:cNvPr id="782" name="Line 6"/>
                <p:cNvSpPr/>
                <p:nvPr/>
              </p:nvSpPr>
              <p:spPr>
                <a:xfrm>
                  <a:off x="826920" y="4028760"/>
                  <a:ext cx="7417080" cy="0"/>
                </a:xfrm>
                <a:prstGeom prst="line">
                  <a:avLst/>
                </a:prstGeom>
                <a:ln w="76320">
                  <a:solidFill>
                    <a:srgbClr val="99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3" name="Line 7"/>
                <p:cNvSpPr/>
                <p:nvPr/>
              </p:nvSpPr>
              <p:spPr>
                <a:xfrm flipH="1">
                  <a:off x="2512800" y="1363320"/>
                  <a:ext cx="3127680" cy="5305320"/>
                </a:xfrm>
                <a:prstGeom prst="line">
                  <a:avLst/>
                </a:prstGeom>
                <a:ln w="76320">
                  <a:solidFill>
                    <a:srgbClr val="99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4" name="Oval 5"/>
              <p:cNvSpPr/>
              <p:nvPr/>
            </p:nvSpPr>
            <p:spPr>
              <a:xfrm>
                <a:off x="3927960" y="3962880"/>
                <a:ext cx="201600" cy="194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5" name="Text Box 12"/>
            <p:cNvSpPr/>
            <p:nvPr/>
          </p:nvSpPr>
          <p:spPr>
            <a:xfrm>
              <a:off x="826920" y="5589720"/>
              <a:ext cx="503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33ccff"/>
                  </a:solidFill>
                  <a:latin typeface="Times New Roman"/>
                </a:rPr>
                <a:t>С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Text Box 13"/>
            <p:cNvSpPr/>
            <p:nvPr/>
          </p:nvSpPr>
          <p:spPr>
            <a:xfrm>
              <a:off x="7524720" y="5589720"/>
              <a:ext cx="72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33ccff"/>
                  </a:solidFill>
                  <a:latin typeface="Times New Roman"/>
                </a:rPr>
                <a:t>В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Text Box 15"/>
            <p:cNvSpPr/>
            <p:nvPr/>
          </p:nvSpPr>
          <p:spPr>
            <a:xfrm>
              <a:off x="4211640" y="18900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33ccff"/>
                  </a:solidFill>
                  <a:latin typeface="Times New Roman"/>
                </a:rPr>
                <a:t>А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Text Box 16"/>
            <p:cNvSpPr/>
            <p:nvPr/>
          </p:nvSpPr>
          <p:spPr>
            <a:xfrm>
              <a:off x="2124000" y="3357720"/>
              <a:ext cx="505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33ccff"/>
                  </a:solidFill>
                  <a:latin typeface="Times New Roman"/>
                </a:rPr>
                <a:t>К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Text Box 17"/>
            <p:cNvSpPr/>
            <p:nvPr/>
          </p:nvSpPr>
          <p:spPr>
            <a:xfrm>
              <a:off x="2843280" y="5877000"/>
              <a:ext cx="649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33ccff"/>
                  </a:solidFill>
                  <a:latin typeface="Times New Roman"/>
                </a:rPr>
                <a:t>М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Text Box 18"/>
            <p:cNvSpPr/>
            <p:nvPr/>
          </p:nvSpPr>
          <p:spPr>
            <a:xfrm>
              <a:off x="6372360" y="321300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ccff"/>
                  </a:solidFill>
                  <a:latin typeface="Times New Roman"/>
                </a:rPr>
                <a:t>D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Text Box 19"/>
            <p:cNvSpPr/>
            <p:nvPr/>
          </p:nvSpPr>
          <p:spPr>
            <a:xfrm>
              <a:off x="5364000" y="1773360"/>
              <a:ext cx="505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ccff"/>
                  </a:solidFill>
                  <a:latin typeface="Times New Roman"/>
                </a:rPr>
                <a:t>F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Text Box 20"/>
            <p:cNvSpPr/>
            <p:nvPr/>
          </p:nvSpPr>
          <p:spPr>
            <a:xfrm>
              <a:off x="3635280" y="3284640"/>
              <a:ext cx="505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80"/>
                  </a:solidFill>
                  <a:latin typeface="Times New Roman"/>
                </a:rPr>
                <a:t>O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3" name="Group 10"/>
          <p:cNvGrpSpPr/>
          <p:nvPr/>
        </p:nvGrpSpPr>
        <p:grpSpPr>
          <a:xfrm>
            <a:off x="1187280" y="2491920"/>
            <a:ext cx="7343640" cy="3389760"/>
            <a:chOff x="1187280" y="2491920"/>
            <a:chExt cx="7343640" cy="3389760"/>
          </a:xfrm>
        </p:grpSpPr>
        <p:sp>
          <p:nvSpPr>
            <p:cNvPr id="794" name="AutoShape 4"/>
            <p:cNvSpPr/>
            <p:nvPr/>
          </p:nvSpPr>
          <p:spPr>
            <a:xfrm>
              <a:off x="1187280" y="4292640"/>
              <a:ext cx="5543640" cy="1589040"/>
            </a:xfrm>
            <a:prstGeom prst="parallelogram">
              <a:avLst>
                <a:gd name="adj" fmla="val 87217"/>
              </a:avLst>
            </a:prstGeom>
            <a:solidFill>
              <a:srgbClr val="3366ff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Line 6"/>
            <p:cNvSpPr/>
            <p:nvPr/>
          </p:nvSpPr>
          <p:spPr>
            <a:xfrm flipV="1">
              <a:off x="1258560" y="2491920"/>
              <a:ext cx="7272360" cy="33577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Line 8"/>
            <p:cNvSpPr/>
            <p:nvPr/>
          </p:nvSpPr>
          <p:spPr>
            <a:xfrm flipV="1">
              <a:off x="6730920" y="2491920"/>
              <a:ext cx="1800000" cy="18003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9152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400" spc="-1" strike="noStrike">
                <a:solidFill>
                  <a:srgbClr val="00ffff"/>
                </a:solidFill>
                <a:latin typeface="Arial"/>
              </a:rPr>
              <a:t>Задача 2.</a:t>
            </a:r>
            <a:br>
              <a:rPr sz="4000"/>
            </a:br>
            <a:r>
              <a:rPr b="1" i="1" lang="ru-RU" sz="4000" spc="-1" strike="noStrike">
                <a:solidFill>
                  <a:srgbClr val="00ffff"/>
                </a:solidFill>
                <a:latin typeface="Arial"/>
              </a:rPr>
              <a:t>Дано: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BCD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 параллелограмм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 = 2AB, AM –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иссектриса угла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D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1" i="1" lang="ru-RU" sz="4000" spc="-1" strike="noStrike">
                <a:solidFill>
                  <a:srgbClr val="00ffff"/>
                </a:solidFill>
                <a:latin typeface="Arial"/>
              </a:rPr>
              <a:t>Доказать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 = N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11280" y="2133360"/>
            <a:ext cx="853272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</a:t>
            </a: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cc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Arial"/>
              </a:rPr>
              <a:t>               </a:t>
            </a: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B            </a:t>
            </a:r>
            <a:r>
              <a:rPr b="1" lang="ru-RU" sz="3200" spc="-1" strike="noStrike">
                <a:solidFill>
                  <a:srgbClr val="ccff66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   N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ff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                                                      </a:t>
            </a: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A                                 </a:t>
            </a:r>
            <a:r>
              <a:rPr b="1" lang="ru-RU" sz="3200" spc="-1" strike="noStrike">
                <a:solidFill>
                  <a:srgbClr val="ccff66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ccff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2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7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7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7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7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900" fill="hold"/>
                                        <p:tgtEl>
                                          <p:spTgt spid="7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7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900" fill="hold"/>
                                        <p:tgtEl>
                                          <p:spTgt spid="7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ОНЯТИЕ ПЛОЩАДИ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9152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то понимают под площадью многоугольник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то принимают за единицу измерения площад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ем выражается площадь многоугольника, что показывает это число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каких единицах измеряется площад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1" name="Шопен 4.mp3" descr=""/>
          <p:cNvPicPr/>
          <p:nvPr/>
        </p:nvPicPr>
        <p:blipFill>
          <a:blip r:embed="rId5"/>
          <a:stretch/>
        </p:blipFill>
        <p:spPr>
          <a:xfrm>
            <a:off x="766764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8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1000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1000"/>
                                        <p:tgtEl>
                                          <p:spTgt spid="8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500"/>
                            </p:stCondLst>
                            <p:childTnLst>
                              <p:par>
                                <p:cTn id="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1000"/>
                                        <p:tgtEl>
                                          <p:spTgt spid="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5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1000"/>
                                        <p:tgtEl>
                                          <p:spTgt spid="8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ЕДИНИЦЫ ИЗМЕРЕНИЯ ПЛОЩАДЕ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395280" y="2421000"/>
            <a:ext cx="8507520" cy="3240000"/>
          </a:xfrm>
          <a:prstGeom prst="rect">
            <a:avLst/>
          </a:prstGeom>
          <a:noFill/>
          <a:ln w="76320">
            <a:solidFill>
              <a:srgbClr val="99009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ff"/>
                </a:solidFill>
                <a:latin typeface="Arial"/>
              </a:rPr>
              <a:t>1 мм</a:t>
            </a:r>
            <a:r>
              <a:rPr b="1" lang="ru-RU" sz="4400" spc="-1" strike="noStrike" baseline="30000">
                <a:solidFill>
                  <a:srgbClr val="ff99ff"/>
                </a:solidFill>
                <a:latin typeface="Arial"/>
              </a:rPr>
              <a:t>2           </a:t>
            </a:r>
            <a:r>
              <a:rPr b="1" lang="ru-RU" sz="4400" spc="-1" strike="noStrike">
                <a:solidFill>
                  <a:srgbClr val="ff99ff"/>
                </a:solidFill>
                <a:latin typeface="Arial"/>
              </a:rPr>
              <a:t>1 см</a:t>
            </a:r>
            <a:r>
              <a:rPr b="1" lang="ru-RU" sz="4400" spc="-1" strike="noStrike" baseline="30000">
                <a:solidFill>
                  <a:srgbClr val="ff99ff"/>
                </a:solidFill>
                <a:latin typeface="Arial"/>
              </a:rPr>
              <a:t>2          </a:t>
            </a:r>
            <a:r>
              <a:rPr b="1" lang="ru-RU" sz="4400" spc="-1" strike="noStrike">
                <a:solidFill>
                  <a:srgbClr val="ff99ff"/>
                </a:solidFill>
                <a:latin typeface="Arial"/>
              </a:rPr>
              <a:t>1 дм</a:t>
            </a:r>
            <a:r>
              <a:rPr b="1" lang="ru-RU" sz="4400" spc="-1" strike="noStrike" baseline="30000">
                <a:solidFill>
                  <a:srgbClr val="ff99ff"/>
                </a:solidFill>
                <a:latin typeface="Arial"/>
              </a:rPr>
              <a:t>2  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ff"/>
                </a:solidFill>
                <a:latin typeface="Arial"/>
              </a:rPr>
              <a:t>      </a:t>
            </a:r>
            <a:r>
              <a:rPr b="1" lang="ru-RU" sz="4400" spc="-1" strike="noStrike">
                <a:solidFill>
                  <a:srgbClr val="ff99ff"/>
                </a:solidFill>
                <a:latin typeface="Arial"/>
              </a:rPr>
              <a:t>1 м</a:t>
            </a:r>
            <a:r>
              <a:rPr b="1" lang="ru-RU" sz="4400" spc="-1" strike="noStrike" baseline="30000">
                <a:solidFill>
                  <a:srgbClr val="ff99ff"/>
                </a:solidFill>
                <a:latin typeface="Arial"/>
              </a:rPr>
              <a:t>2         </a:t>
            </a:r>
            <a:r>
              <a:rPr b="1" lang="ru-RU" sz="4400" spc="-1" strike="noStrike">
                <a:solidFill>
                  <a:srgbClr val="ff99ff"/>
                </a:solidFill>
                <a:latin typeface="Arial"/>
              </a:rPr>
              <a:t>1 ар      1 га     1 км</a:t>
            </a:r>
            <a:r>
              <a:rPr b="1" lang="ru-RU" sz="4400" spc="-1" strike="noStrike" baseline="30000">
                <a:solidFill>
                  <a:srgbClr val="ff99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4" name="Group 13"/>
          <p:cNvGrpSpPr/>
          <p:nvPr/>
        </p:nvGrpSpPr>
        <p:grpSpPr>
          <a:xfrm>
            <a:off x="684360" y="3573360"/>
            <a:ext cx="7272360" cy="792000"/>
            <a:chOff x="684360" y="3573360"/>
            <a:chExt cx="7272360" cy="792000"/>
          </a:xfrm>
        </p:grpSpPr>
        <p:sp>
          <p:nvSpPr>
            <p:cNvPr id="805" name="Line 4"/>
            <p:cNvSpPr/>
            <p:nvPr/>
          </p:nvSpPr>
          <p:spPr>
            <a:xfrm>
              <a:off x="2268360" y="3573360"/>
              <a:ext cx="576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Line 5"/>
            <p:cNvSpPr/>
            <p:nvPr/>
          </p:nvSpPr>
          <p:spPr>
            <a:xfrm>
              <a:off x="4859280" y="3573360"/>
              <a:ext cx="576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Line 6"/>
            <p:cNvSpPr/>
            <p:nvPr/>
          </p:nvSpPr>
          <p:spPr>
            <a:xfrm>
              <a:off x="7380360" y="3573360"/>
              <a:ext cx="576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Line 8"/>
            <p:cNvSpPr/>
            <p:nvPr/>
          </p:nvSpPr>
          <p:spPr>
            <a:xfrm>
              <a:off x="684360" y="4365360"/>
              <a:ext cx="576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Line 9"/>
            <p:cNvSpPr/>
            <p:nvPr/>
          </p:nvSpPr>
          <p:spPr>
            <a:xfrm>
              <a:off x="2771640" y="4365360"/>
              <a:ext cx="576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Line 11"/>
            <p:cNvSpPr/>
            <p:nvPr/>
          </p:nvSpPr>
          <p:spPr>
            <a:xfrm>
              <a:off x="4932360" y="4365360"/>
              <a:ext cx="576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Line 12"/>
            <p:cNvSpPr/>
            <p:nvPr/>
          </p:nvSpPr>
          <p:spPr>
            <a:xfrm>
              <a:off x="6732720" y="4365360"/>
              <a:ext cx="576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2" name="Text Box 14"/>
          <p:cNvSpPr/>
          <p:nvPr/>
        </p:nvSpPr>
        <p:spPr>
          <a:xfrm>
            <a:off x="2195640" y="2781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9900"/>
                </a:solidFill>
                <a:latin typeface="Times New Roman"/>
              </a:rPr>
              <a:t>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Text Box 15"/>
          <p:cNvSpPr/>
          <p:nvPr/>
        </p:nvSpPr>
        <p:spPr>
          <a:xfrm>
            <a:off x="4716360" y="285264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9900"/>
                </a:solidFill>
                <a:latin typeface="Times New Roman"/>
              </a:rPr>
              <a:t>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Text Box 16"/>
          <p:cNvSpPr/>
          <p:nvPr/>
        </p:nvSpPr>
        <p:spPr>
          <a:xfrm>
            <a:off x="7308720" y="285264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9900"/>
                </a:solidFill>
                <a:latin typeface="Times New Roman"/>
              </a:rPr>
              <a:t>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Text Box 17"/>
          <p:cNvSpPr/>
          <p:nvPr/>
        </p:nvSpPr>
        <p:spPr>
          <a:xfrm>
            <a:off x="2627280" y="371628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9900"/>
                </a:solidFill>
                <a:latin typeface="Times New Roman"/>
              </a:rPr>
              <a:t>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Text Box 18"/>
          <p:cNvSpPr/>
          <p:nvPr/>
        </p:nvSpPr>
        <p:spPr>
          <a:xfrm>
            <a:off x="4788000" y="371628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9900"/>
                </a:solidFill>
                <a:latin typeface="Times New Roman"/>
              </a:rPr>
              <a:t>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Text Box 19"/>
          <p:cNvSpPr/>
          <p:nvPr/>
        </p:nvSpPr>
        <p:spPr>
          <a:xfrm>
            <a:off x="6588000" y="371628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9900"/>
                </a:solidFill>
                <a:latin typeface="Times New Roman"/>
              </a:rPr>
              <a:t>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Rectangle 20"/>
          <p:cNvSpPr/>
          <p:nvPr/>
        </p:nvSpPr>
        <p:spPr>
          <a:xfrm>
            <a:off x="395280" y="2421000"/>
            <a:ext cx="8507520" cy="3240000"/>
          </a:xfrm>
          <a:prstGeom prst="rect">
            <a:avLst/>
          </a:prstGeom>
          <a:noFill/>
          <a:ln w="7632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ff"/>
                </a:solidFill>
                <a:latin typeface="Arial"/>
              </a:rPr>
              <a:t>1 мм</a:t>
            </a:r>
            <a:r>
              <a:rPr b="1" lang="ru-RU" sz="4400" spc="-1" strike="noStrike" baseline="30000">
                <a:solidFill>
                  <a:srgbClr val="ff99ff"/>
                </a:solidFill>
                <a:latin typeface="Arial"/>
              </a:rPr>
              <a:t>2           </a:t>
            </a:r>
            <a:r>
              <a:rPr b="1" lang="ru-RU" sz="4400" spc="-1" strike="noStrike">
                <a:solidFill>
                  <a:srgbClr val="ff99ff"/>
                </a:solidFill>
                <a:latin typeface="Arial"/>
              </a:rPr>
              <a:t>1 см</a:t>
            </a:r>
            <a:r>
              <a:rPr b="1" lang="ru-RU" sz="4400" spc="-1" strike="noStrike" baseline="30000">
                <a:solidFill>
                  <a:srgbClr val="ff99ff"/>
                </a:solidFill>
                <a:latin typeface="Arial"/>
              </a:rPr>
              <a:t>2          </a:t>
            </a:r>
            <a:r>
              <a:rPr b="1" lang="ru-RU" sz="4400" spc="-1" strike="noStrike">
                <a:solidFill>
                  <a:srgbClr val="ff99ff"/>
                </a:solidFill>
                <a:latin typeface="Arial"/>
              </a:rPr>
              <a:t>1 дм</a:t>
            </a:r>
            <a:r>
              <a:rPr b="1" lang="ru-RU" sz="4400" spc="-1" strike="noStrike" baseline="30000">
                <a:solidFill>
                  <a:srgbClr val="ff99ff"/>
                </a:solidFill>
                <a:latin typeface="Arial"/>
              </a:rPr>
              <a:t>2  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ff"/>
                </a:solidFill>
                <a:latin typeface="Arial"/>
              </a:rPr>
              <a:t>      </a:t>
            </a:r>
            <a:r>
              <a:rPr b="1" lang="ru-RU" sz="4400" spc="-1" strike="noStrike">
                <a:solidFill>
                  <a:srgbClr val="ff99ff"/>
                </a:solidFill>
                <a:latin typeface="Arial"/>
              </a:rPr>
              <a:t>1 м</a:t>
            </a:r>
            <a:r>
              <a:rPr b="1" lang="ru-RU" sz="4400" spc="-1" strike="noStrike" baseline="30000">
                <a:solidFill>
                  <a:srgbClr val="ff99ff"/>
                </a:solidFill>
                <a:latin typeface="Arial"/>
              </a:rPr>
              <a:t>2         </a:t>
            </a:r>
            <a:r>
              <a:rPr b="1" lang="ru-RU" sz="4400" spc="-1" strike="noStrike">
                <a:solidFill>
                  <a:srgbClr val="ff99ff"/>
                </a:solidFill>
                <a:latin typeface="Arial"/>
              </a:rPr>
              <a:t>1 ар      1 га     1 км</a:t>
            </a:r>
            <a:r>
              <a:rPr b="1" lang="ru-RU" sz="4400" spc="-1" strike="noStrike" baseline="30000">
                <a:solidFill>
                  <a:srgbClr val="ff99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3000"/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3000"/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2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2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2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2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2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2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1000"/>
                                        <p:tgtEl>
                                          <p:spTgt spid="8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600"/>
                            </p:stCondLst>
                            <p:childTnLst>
                              <p:par>
                                <p:cTn id="1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1000"/>
                                        <p:tgtEl>
                                          <p:spTgt spid="8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Как измерить площадь данной фигуры квадратных сантиметрах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20" name=""/>
          <p:cNvGraphicFramePr/>
          <p:nvPr/>
        </p:nvGraphicFramePr>
        <p:xfrm>
          <a:off x="971640" y="1989000"/>
          <a:ext cx="7202520" cy="4294440"/>
        </p:xfrm>
        <a:graphic>
          <a:graphicData uri="http://schemas.openxmlformats.org/drawingml/2006/table">
            <a:tbl>
              <a:tblPr/>
              <a:tblGrid>
                <a:gridCol w="720720"/>
                <a:gridCol w="718920"/>
                <a:gridCol w="720720"/>
                <a:gridCol w="720720"/>
                <a:gridCol w="719280"/>
                <a:gridCol w="720720"/>
                <a:gridCol w="720720"/>
                <a:gridCol w="719280"/>
                <a:gridCol w="720720"/>
                <a:gridCol w="720720"/>
              </a:tblGrid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1" name="Text Box 14"/>
          <p:cNvSpPr/>
          <p:nvPr/>
        </p:nvSpPr>
        <p:spPr>
          <a:xfrm>
            <a:off x="1188720" y="5445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Text Box 11"/>
          <p:cNvSpPr/>
          <p:nvPr/>
        </p:nvSpPr>
        <p:spPr>
          <a:xfrm>
            <a:off x="1116000" y="256536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23" name=""/>
          <p:cNvGraphicFramePr/>
          <p:nvPr/>
        </p:nvGraphicFramePr>
        <p:xfrm>
          <a:off x="1692360" y="1989000"/>
          <a:ext cx="5040360" cy="1440000"/>
        </p:xfrm>
        <a:graphic>
          <a:graphicData uri="http://schemas.openxmlformats.org/drawingml/2006/table">
            <a:tbl>
              <a:tblPr/>
              <a:tblGrid>
                <a:gridCol w="718920"/>
                <a:gridCol w="720720"/>
                <a:gridCol w="719280"/>
                <a:gridCol w="720720"/>
                <a:gridCol w="720720"/>
                <a:gridCol w="719280"/>
                <a:gridCol w="72072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4" name="Text Box 12"/>
          <p:cNvSpPr/>
          <p:nvPr/>
        </p:nvSpPr>
        <p:spPr>
          <a:xfrm>
            <a:off x="6746760" y="191628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Text Box 13"/>
          <p:cNvSpPr/>
          <p:nvPr/>
        </p:nvSpPr>
        <p:spPr>
          <a:xfrm>
            <a:off x="6674040" y="551664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26" name=""/>
          <p:cNvGraphicFramePr/>
          <p:nvPr/>
        </p:nvGraphicFramePr>
        <p:xfrm>
          <a:off x="1692360" y="2708280"/>
          <a:ext cx="5040360" cy="2881440"/>
        </p:xfrm>
        <a:graphic>
          <a:graphicData uri="http://schemas.openxmlformats.org/drawingml/2006/table">
            <a:tbl>
              <a:tblPr/>
              <a:tblGrid>
                <a:gridCol w="718920"/>
                <a:gridCol w="720720"/>
                <a:gridCol w="719280"/>
                <a:gridCol w="720720"/>
                <a:gridCol w="720720"/>
                <a:gridCol w="719280"/>
                <a:gridCol w="72072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ff"/>
                    </a:solidFill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ff"/>
                    </a:solidFill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ff"/>
                    </a:solidFill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3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3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3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3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3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3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33ff"/>
                    </a:solidFill>
                  </a:tcPr>
                </a:tc>
              </a:tr>
            </a:tbl>
          </a:graphicData>
        </a:graphic>
      </p:graphicFrame>
      <p:sp>
        <p:nvSpPr>
          <p:cNvPr id="827" name="AutoShape 400"/>
          <p:cNvSpPr/>
          <p:nvPr/>
        </p:nvSpPr>
        <p:spPr>
          <a:xfrm>
            <a:off x="1692360" y="2349360"/>
            <a:ext cx="5040360" cy="3240360"/>
          </a:xfrm>
          <a:prstGeom prst="flowChartManualInput">
            <a:avLst/>
          </a:prstGeom>
          <a:noFill/>
          <a:ln w="572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" dur="2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6T13:36:34Z</dcterms:created>
  <dc:creator>Admin</dc:creator>
  <dc:description/>
  <dc:language>en-US</dc:language>
  <cp:lastModifiedBy>Любовь</cp:lastModifiedBy>
  <dcterms:modified xsi:type="dcterms:W3CDTF">2014-10-13T14:48:10Z</dcterms:modified>
  <cp:revision>24</cp:revision>
  <dc:subject/>
  <dc:title>ПЛОЩАДЬ МНОГОУГОЛЬНИКА</dc:title>
</cp:coreProperties>
</file>