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EAB-FFC1-4DC9-9236-8188C9DD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A5C-56FB-487B-9A69-C7BF822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71D-E3B2-4EAC-A860-8243DB3A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EBF-646D-48E4-85E3-194E6EF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729-17E2-419E-9A24-F6C8460B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3D3D-F56B-4982-80AD-F66FBB6B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217B-5CB4-4E39-9BB7-BF6B7E87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67A-A91E-42AC-B4DC-82234C0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396B-C1D0-4305-A870-B84C0FD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0CB2-1CD0-4835-A28A-909BD6C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070-E4A2-46A3-A028-7032CB9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3A1-0D6F-4F3B-94D5-1BDF8EFF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5A8-227E-4FB9-9788-8CCD11E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3050-D637-4AB4-AFFF-5714D6E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8E3-2034-4702-AFD4-DAAF794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1DC3-F33B-4815-A40F-370E3055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89C-651E-4C4A-98EF-84771B67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AB8-4404-490A-ADB2-5ACDE719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3FC-B7FD-494C-814A-4ABF95F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CDB-D9EC-4188-9034-F3484B7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D11-BFEE-4C8C-A86F-FB38A49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7ED-69F2-405D-B9F3-A71862D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19D-96B2-442E-8BFC-C5A5000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E9F-E192-4ABD-AE5F-71C528E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7F7C-E1CD-408C-BC08-76692D7F22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14BC-2319-4720-BC54-E07639808B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Л.Н.Толстой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«После бала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9. Действие в произведении происходит в годы правл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Александр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Никола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иколая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0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. Образ полковника,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тца Вареньк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 типичен для России начала 19 в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типичен для своего време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комиче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1. Полковник, увидев Ивана Васильевича после бал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риветливо улыбнулся новому знакомо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гневно прикрикнул на не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сделал вид, что не знает ег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12. Случай, произошедший с Иваном Ивановичем, повлиял на его дальнейшую жизнь, а именно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он стал военны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н нигде не стал больше служи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во всех своих неудачах он винил полковн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тветы и оцен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  2   3   4   5   6   7   8   9   10   11  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 А  В   А  А  Б  А   В  Б   Б    В    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 – 12 б = «5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 – 10 б = «4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 – 8 б = «3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 б и меньше = «2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Жанр произвед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ове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чер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ссказ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2. Художественный приём,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 которому прибег автор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антитез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гипербо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мочн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Композиция произведе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последователь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ретроспективна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амочна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4. Тема разговора, который происходил между Иваном Васильевичем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и молодыми людьми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бовь  в жизни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изменение условий жизни ради личного самосовершенствов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проблемы в отношениях отцов и отцов и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.Состояние, в котором находился Иван Васильевич на балу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он был весел, бесконечно счастлив и влюблён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он был растерян, обману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ему было грустно и одинок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6. Чувства, которые испытывал Иван Васильевич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 отцу Вареньки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 балу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уважение к его заслугам перед отечеств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восторг и неж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робость и ува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7. Внешне Варенька была похожа на отца, но особенно Иван Васильевич выделял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асковую улыбк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статную фигур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гра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8. «А между тем на сердце была почти физическая, доходившая до тошноты тоска…» - вспоминал Иван Васильевич об ощущениях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а бал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еред бал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) после б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2T08:06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