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E7E9-E052-4C11-8B58-13FA901B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D832-44E7-4CCB-A042-0C37398E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E9DE-DD15-497E-952D-ADCE6C71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7C40-F184-4A2B-9A7A-C0078C85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7836-4740-4CF3-9175-CBB5FBDE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7B7E-0631-444F-BD69-4CD4ADCA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CDAD-38CA-4DE5-B65E-4E560388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303B-76A8-421B-B2A4-470BE9E2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65C7-2883-4C04-9E6F-428B3426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7D4F-4C0F-4615-BBD3-AD0D48B0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590E-702B-4428-B6C9-3EF7D090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073D-08E1-453C-972D-08348821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1A2F-DA6D-482E-B922-87A623A9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88AF-C94C-417D-B24E-5FEAB0B3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651F-93CD-4663-8BF9-A0F07958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A6C6-37BC-422C-AFA3-79897B22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DDD3-23E9-48F9-AFBE-69709F2B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4F4C-7940-4EE5-BE17-918F1F17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CA57-DAE2-4158-978B-CD85EF7E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7473-63EE-40D1-ABD2-C8D24C6D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AE20-2681-4032-B88D-A7FED2C0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B22E-6C93-4821-BEC7-EA60A300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4966-BF3D-4D29-BA78-9E54D966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07A3-480B-4C19-9E9A-A5DE613F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9A1B-C0E6-4B7D-BE1F-9A5A02B5920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B0E2-F831-46A8-83D9-8E324F117EF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Л.Н.Толстой</a:t>
            </a:r>
            <a:br>
              <a:rPr sz="5400"/>
            </a:b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 «После бала»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итератур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 клас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лексеева Н.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9. Действие в произведении происходит в годы правления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Александра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Николая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Николая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10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. Образ полковника, </a:t>
            </a:r>
            <a:br>
              <a:rPr sz="4000"/>
            </a:b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отца Вареньки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не типичен для России начала 19 в.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типичен для своего времен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) комичен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11. Полковник, увидев Ивана Васильевича после бала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приветливо улыбнулся новому знакомому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гневно прикрикнул на него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) сделал вид, что не знает ег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12. Случай, произошедший с Иваном Ивановичем, повлиял на его дальнейшую жизнь, а именно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он стал военным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он нигде не стал больше служить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) во всех своих неудачах он винил полковни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Ответы и оценк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   2   3   4   5   6   7   8   9   10   11   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 А  В   А  А  Б  А   В  Б   Б    В     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ценк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1 – 12 б = «5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9 – 10 б = «4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6 – 8 б = «3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5 б и меньше = «2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1. Жанр произведения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повесть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очерк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) рассказ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2. Художественный приём, 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к которому прибег автор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антитез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гипербол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) рамочна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3. Композиция произведения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последовательна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ретроспективна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) рамочна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4. Тема разговора, который происходил между Иваном Васильевичем </a:t>
            </a:r>
            <a:br>
              <a:rPr sz="3600"/>
            </a:b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и молодыми людьми: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любовь  в жизни человек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изменение условий жизни ради личного самосовершенствован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) проблемы в отношениях отцов и отцов и де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5.Состояние, в котором находился Иван Васильевич на балу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он был весел, бесконечно счастлив и влюблён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он был растерян, обманут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) ему было грустно и одинок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6. Чувства, которые испытывал Иван Васильевич 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к отцу Вареньки 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на балу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уважение к его заслугам перед отечеством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восторг и нежность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) робость и уваже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7. Внешне Варенька была похожа на отца, но особенно Иван Васильевич выделял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ласковую улыбку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статную фигуру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) грацию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8. «А между тем на сердце была почти физическая, доходившая до тошноты тоска…» - вспоминал Иван Васильевич об ощущениях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на балу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перед балом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) после бал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2-02T08:06:4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