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3B9E-C493-4590-84F3-F4BB644C9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F7FF-0778-4799-83A1-5315B5AB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DF02-9517-43F6-B536-2F275F325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1F11-8C33-433D-93D8-F268C70A8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AAB7-4902-42E3-B522-562976B22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DC14-5514-492E-B511-36DA391B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153C-46E5-46E5-8FCE-20775B30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8BC3-EFF4-4E5A-9AF8-6E2B0104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AE5E-C575-4421-972B-E6972164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6C62-0FCC-4654-87B4-08BDCAD3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B968-2341-4961-BC24-3914496C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A956-A0C7-4860-9436-5855E360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4776-7C33-4A5A-97A9-5D93FFD7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CBD4-E00C-4B15-A475-8EAF13EB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989B-2937-4739-97C8-1C7F278C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0774-4E6C-43AD-AB91-D099BC017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3F7B-6999-4951-91D5-C2B3FCB22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723B-EC0C-41C4-8E70-C61A5FE4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6BE7-E947-40DC-9364-D9D93D86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5E04-3039-4394-9837-F4F4F2BC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F3C7-0FF9-4730-A111-731C193F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7D5A-7AF2-4275-AF5F-23AAA7B6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B952-126F-4053-8796-516199EB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6E4B-299D-4E8B-B8CF-D660CE2B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7688-F194-4B82-83D5-6811A50F91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127B-336F-4777-B748-01BBE7B95C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99128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7164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184464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Развитие связной речи у детей младшего школьного возраста с интеллектуальной недостаточность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Становление связной речи детей с интеллектуальной недостаточностью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Эти дети долго задерживаются на этапе вопросно-ответной и ситуативной реч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Несформированность диалога, так как диалог предшествует монологической речи и подготавливает ее появл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В высказываниях центральное место занимает описание второстепенных детале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В характере связных высказываний большую роль играет мотивац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.Связные высказывания определяются их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ормой. Самостоятельный рассказ вызывает определённые труд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.В связных высказываниях все нарушения лексико-грамматического строя устной реч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7. Не могут расположить выделенные смысловые элементы в определённой последовательности, что выражается  в пропуске смысловых частей и их взаимозаме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язная речь детей с интеллектуальной недостаточностью не соответствует возрастной норме. Основными причинами нарушений формирования связной речи этих детей являются нарушения мотивации, быстрая истощаемость речевой деятель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2.1. Исследование связной речи у младших школьников с интеллектуальной недостаточностью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рамках работы были изучены методики: О.Е. Грибовой, О.С. Ушаковой и Е.М. Струниной,  В.П. Глухо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Методика О.Е. Грибово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направлена на обследование состояния связной речи по следующим параметрам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ид задания: составление связного рассказа по серии картинок, по картинке, с опорой на реальный предмет или ситуацию, по плану, по опорным словам, по впечатлению; на данную тему; по жанру: повествование, описа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амостоятельность выполнения задания (составил самостоятельно; требовалась стимуляции (в виде поощрения, другая); составил по вопросам; не смог составить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епень развернутости (примерное количество предложений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матичность (рассказ соответствует избранной или предложенной теме; тема раскрыта полностью; наличие неоправданных отступлений от темы; тема раскрыта не полностью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вязность (в рассказе все предложения связаны между собой; используются разнообразные средства связи — союзы, местоимения, синонимы, лексические повторы и др.; в рассказе имеются «провалы», отсутствуют связи между предложениями; однообразная связь между предложениями — присоединительные союзы и, и вот, потом и т. п.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следовательность и логичность (рассказ имеет четкую внутреннюю структуру, соблюдается временная и логическая последовательность; части рассказа или предложения расположены не по порядку; рассказывает по теме, но все время «скачет»; рассказ состоит из отдельных предложений, не связанных между собо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2.2.Анализ результатов констатирующего эксперимента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базе КОУ «Нефтеюганская школа-интернат для обучающихся с ограниченными возможностями здоровья» был проведен констатирующий эксперимент по выявлению уровня развития связной речи у младших школьников с интеллектуальной недостаточностью. В эксперименте участвовало 10 обучающихся с интеллектуальной недостаточностью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учающимся с интеллектуальной недостаточностью в индивидуальном режиме были предложены 6 заданий на выявление уровня развития связной реч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ервое задание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ыло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правлено на определение способности ребенка составлять адекватное законченное высказывание на уровне фразы (по изображенному на картинке действию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 показе каждой картинки ребёнку задавался вопрос-инструкция: "Скажи, что здесь нарисовано?". В результате выясняется, способен ли ребёнок самостоятельно установить смысловые предикативные отношения и передать их в виде соответствующей по структуре фраз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 первому заданию из группы 70% получили по 2 балла и имеют средний уровень, а 30% - по 1 баллу и имеют низкий уровень, в силу того, что долго искали подходящие слов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торое задани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составление предложения по трём картинкам направлено на выявление способности ребенка устанавливать логико-смысловые отношения между предметами и передавать их в виде законченной фразы-высказывания. Ребенку предлагалось назвать картинки, а затем составить предложение так, чтобы в нем говорилось о всех трех предмета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о вторым заданием справились все обучающиеся: 80% получили по 2 балла и имеют средний уровень, 20% - по 1 баллу и имеют низкий уровень. Обучающиеся составляли фразы только с помощью наводящих вопросов. Дети получили по 1 баллу, что соответствует низкому уровн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Третье задани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имеет целью выявление возможностей ребенка с интеллектуальной недостаточностью воспроизводить небольшой по объему и простой по структуре литературный текст. Для этого могут быть использованы знакомые ребенку сказки, короткие реалистические рассказы. Текст произведения прочитывается дважды, перед повторным чтением дается установка на составление пересказ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ретье задание 40% детей выполнили на 2 балла (средний уровень), а 60% - 1 баллу, что соответствует низкому уровню, потому что отмечались отдельные нарушения связного воспроизведения текста, составляли рассказ при помощи педагога с наводящими вопрос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а четверто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задание 50% детей получили по 2 балла, а 50% - по 1 баллу. Дети, которые смогли справиться с этим заданием только, потому что  они составили связный сюжетный рассказ на основе наглядности с помощью педагога (использовались вспомогательные вопросы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42472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выявить особенности связной речи и подобрать содержание коррекционно-педагогической работы по развитию связной речи с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интеллектуальной недостаточностью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11280" y="476280"/>
            <a:ext cx="7510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Цель исследования</a:t>
            </a: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76720" y="549360"/>
            <a:ext cx="225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ятое задани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– составление рассказа на основе личного опыта – имеет цель выявить индивидуальный уровень и особенности владения связной фразовой и монологической речью при передаче своих жизненных впечатлений. Ребенку предлагалось составить рассказ на близкую ему тему, связанную с повседневным пребыванием в школе и давался план из нескольких вопросов-зада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 этим заданием 50% справились на 2 балла, а 50% - на 1 балл (потому что переспрашивали задание: Про что рассказать? Про кого рассказать?, рассказ представляет просто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речисление предметов и действий без детализации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395280" y="691920"/>
            <a:ext cx="822960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Для шестого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задания – составления описательного рассказа – ребенку были предложены как модели предметов (игрушки). Ребенку предлагалось в течение нескольких минут внимательно рассмотреть предмет, а затем составить о нем рассказ по данному план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 последним шестым заданием 50% детей справились на 2 балла, 50% - на 1 балл, потому что описание предмета не отображает многих его существенных признаков и свойств, ребенок не в состоянии был составить рассказ-описание самостоятельно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Вывод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аким образом, суммировав все баллы можно сделать вывод о том, ч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80%  обучающихся  с интеллектуальной недостаточностью имеют средний уровень сформированности связной реч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0% обучающихся имеют низкий уровень сформированности связной реч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2.3.Содержание работы по развитию связной речи у младших школьников с интеллектуальной недостаточностью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владение монологической речью — рассказыванием - особенно важно для школьника. Для обучения детей рассказыванию всегда широко используются карти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 обучении школьников рассказыванию по картине используются разнообразные приемы: вопросы педагога и детей, беседа, образец  рассказа,  частичный  образец,  разбор  образца  рассказа,   план рассказа, воспроизведение  плана  детьми,  коллективный  разбор  плана, коллективное   составление   рассказа,   составление   рассказа   по  частям, окончание  детьми  начатого учителем рассказа.  (2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еред рассказыванием по картине, почти всегда обязательно проведение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едварительной беседы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оторая создаст необходимый эмоциональный настрой, оживит воспоминания, позволит им использовать свой личный опыт. Эмоциональное восприятие помогает детям глубже понять, осмыслить содержание картины, а также активизирует их речевую деятель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ожно активно использоваться прием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овместных речевых действий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пример, педагог начинает описание, а дети заканчивают ег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тем педагог предлагает уже самим детям задавать вопросы, что вносит в  их деятельность элементы поиска. На вопросы, которые задают дети, могут отвечать и дети, и педагог. Педагог должен внимательно слушать вопросы детей, вовремя уточнять их, помогать, если школьник затрудняется в формулировках, активизировать речевую и мыслительную деятельность воспитанников поощряющими репликами, мимикой, жест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формировании умений описывать картины и составлять рассказы-повествования используются специально разработанные серии дидактических картин разных типов.(3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дметные картин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на них изображены один или несколько предметов без какого-либо сюжетного взаимодействия между ни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южетные картин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картины, где предметы и персонажи находятся в сюжетном взаимодействии друг с друг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ерия или набор картин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связанных единым сюжетным содержанием (рассказ в картинках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отборе картин для рассказывания к ним предъявляется ряд требований: (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содержание картины должно быть интересным, понятным, воспитывающим положительное отношение к окружающем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картина должна быть высокохудожественно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изображения персонажей, животных и других объектов должны быть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еалистическим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; условное формалистическое изображение не всегда воспринимается деть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следует обращать внимание на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доступност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не только содержания, но и изображения; не должно быть картин с чрезмерным нагромождением деталей, иначе дети отвлекаются от главног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целях формирования  связной речи школьников с отклонениями в развитии рекомендуется проведение следующих видов занятий  с  картинным  материало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Составление рассказов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 сюжетным многофигурным картинам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 изображением нескольких групп действующих лиц или нескольких  сценок  в  пределах  общего,  хорошо  знакомого  детям  сюжета ("Семья",  "Игры  на  детской  площадке",  "Зимние  развлечения" и др.). Такие картины дают возможность составления коротких рассказов первоначального по отдельным фрагментам, что облегчает детям последующее   составление   связного  рассказа-сообщения  по  всей  карти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Объект и предмет исследования:</a:t>
            </a:r>
            <a:r>
              <a:rPr b="0" lang="en-US" sz="8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бъект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особенности связной монологической речи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тей младшего школьного возраста с интеллектуальной недостаточност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едмет исследования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процесс развития связной речи у детей младшего школьного возраста с интеллектуальной недостаточност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8360" y="260280"/>
            <a:ext cx="82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Объект и предмет исследования:</a:t>
            </a:r>
            <a:r>
              <a:rPr b="0" lang="en-US" sz="8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Гипотеза исследования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озможно целенаправленная, последовательная и систематическая коррекционно-развивающая работа, которая включает дидактические игры, моделирование текста, может способствовать развитию связной речи у младших школьников с интеллектуальной недостаточност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622440"/>
            <a:ext cx="81471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Задачи данного исследования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теоретически изучить и проанализировать психолого-педагогическую литературу по проблеме исследов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выявить особенности связной речи у детей младшего школьного возраста с интеллектуальной недостаточност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подобрать содержание коррекционно-педагогической работы по развитию связной речи у детей младшего школьного возраста с интеллектуальной недостаточност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етодологической основ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следования явились: положения общей и специальной психологии о единстве общих закономерностей развития нормальных и аномальных детей (Выготский Л.С, Лурия А.Р.), о системном подходе к анализу речевых нарушений (Левина Р.Е., Лубовский В.И.), положение о коррекционной направленности учебно-воспитательного процесса в специальных коррекционных учреждениях (Певзнер М.С., Рубинштейн С.Я. и др.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Методы исследования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теоретические (анализ, синтез, обобщение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эмпирические (наблюдение, беседа, изучение документации и продуктов деятельности, эксперимент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Практическая значимость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анного исследования заключается в том, что предложенная методика коррекционно-развивающей работы может быть использована в практике учителей-логопедов, учителей начальных классов при развитии связной речи у младших школьников с интеллектуальной недостаточност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9152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язная речь является наиболее сложной формой речевой деятельности и проявляется в разных формах: в рассказах об увиденном и пережитом, в описаниях предметов, явлений и процессов, в пересказах прочитанного, рассказах по картинкам и т. 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норме связная речь характеризуется развернутостью, произвольностью, логичностью, непрерывностью, программированностью каждого высказывания и текста в целом (определяется замысел, объем, характер, подбирается языковой материал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3T18:38:37Z</dcterms:created>
  <dc:creator>User</dc:creator>
  <dc:description/>
  <dc:language>en-US</dc:language>
  <cp:lastModifiedBy>User</cp:lastModifiedBy>
  <dcterms:modified xsi:type="dcterms:W3CDTF">2015-03-29T19:27:03Z</dcterms:modified>
  <cp:revision>28</cp:revision>
  <dc:subject/>
  <dc:title>Слайд 1</dc:title>
</cp:coreProperties>
</file>