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F79-E854-4942-BBCA-BB4B9E78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C12-02B7-4A11-9889-C338351E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800-6F96-402D-A8A9-D13461D7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1D8-2EAD-4ECF-9744-E07E06A1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1F3A-BCD7-4AFF-96D2-69561180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D514-C665-42B4-ACCA-1B088E6B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BF6E-2BCD-4447-8195-87F5017E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F78E-B0C7-4727-85EE-8B92B372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B463-7CE6-4BF8-B179-00A0907F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69EC-44C8-4942-A95E-E431CCA8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9A0F-6723-486E-8E82-034088F3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652-364D-44AD-A4C2-92371E61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B69D-681B-4572-BA1D-72846D51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370B-7259-4282-88A1-C4C5BA15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01E4-9919-402B-A8EC-96BF987A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2C1D-630B-4800-B54A-1D152691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6D15-C560-441E-9333-35EAE0BA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896-41C5-4C8B-ADF2-ADB34422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1C8-36BE-4529-97C6-D95D9CFA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81C-ED89-4AFD-B81C-FFC0884E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127-F82A-43C0-9793-C8B79B71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A8D-2498-4B99-BCF0-F8532008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024-4DB1-4580-B98B-FC86BBE3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489-18DE-495F-902B-36CFF820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A3E0-CFAD-4B0D-96EF-1D01A3513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7A42-87BB-4E19-B9EE-0E107D5AD0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9912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1844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Развитие связной речи у детей младшего школьного возраста с интеллектуальной недостаточность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Становление связной речи детей с интеллектуальной недостаточностью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Эти дети долго задерживаются на этапе вопросно-ответной и ситуативной ре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Несформированность диалога, так как диалог предшествует монологической речи и подготавливает ее появл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В высказываниях центральное место занимает описание второстепенных детал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В характере связных высказываний большую роль играет мотивац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Связные высказывания определяются их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ой. Самостоятельный рассказ вызывает определённые труд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В связных высказываниях все нарушения лексико-грамматического строя устной ре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. Не могут расположить выделенные смысловые элементы в определённой последовательности, что выражается  в пропуске смысловых частей и их взаимозаме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язная речь детей с интеллектуальной недостаточностью не соответствует возрастной норме. Основными причинами нарушений формирования связной речи этих детей являются нарушения мотивации, быстрая истощаемость речевой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2.1. Исследование связной речи у младших школьников с интеллектуальной недостаточностью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рамках работы были изучены методики: О.Е. Грибовой, О.С. Ушаковой и Е.М. Струниной,  В.П. Глух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етодика О.Е. Грибово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правлена на обследование состояния связной речи по следующим параметра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д задания: составление связного рассказа по серии картинок, по картинке, с опорой на реальный предмет или ситуацию, по плану, по опорным словам, по впечатлению; на данную тему; по жанру: повествование, опис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остоятельность выполнения задания (составил самостоятельно; требовалась стимуляции (в виде поощрения, другая); составил по вопросам; не смог состави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пень развернутости (примерное количество предложени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атичность (рассказ соответствует избранной или предложенной теме; тема раскрыта полностью; наличие неоправданных отступлений от темы; тема раскрыта не полностью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вязность (в рассказе все предложения связаны между собой; используются разнообразные средства связи — союзы, местоимения, синонимы, лексические повторы и др.; в рассказе имеются «провалы», отсутствуют связи между предложениями; однообразная связь между предложениями — присоединительные союзы и, и вот, потом и т. п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ледовательность и логичность (рассказ имеет четкую внутреннюю структуру, соблюдается временная и логическая последовательность; части рассказа или предложения расположены не по порядку; рассказывает по теме, но все время «скачет»; рассказ состоит из отдельных предложений, не связанных между собо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2.2.Анализ результатов констатирующего эксперимента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базе КОУ «Нефтеюганская школа-интернат для обучающихся с ограниченными возможностями здоровья» был проведен констатирующий эксперимент по выявлению уровня развития связной речи у младших школьников с интеллектуальной недостаточностью. В эксперименте участвовало 10 обучающихся с интеллектуальной недостаточность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учающимся с интеллектуальной недостаточностью в индивидуальном режиме были предложены 6 заданий на выявление уровня развития связной ре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ервое задани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ыл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правлено на определение способности ребенка составлять адекватное законченное высказывание на уровне фразы (по изображенному на картинке действию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показе каждой картинки ребёнку задавался вопрос-инструкция: "Скажи, что здесь нарисовано?". В результате выясняется, способен ли ребёнок самостоятельно установить смысловые предикативные отношения и передать их в виде соответствующей по структуре фраз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 первому заданию из группы 70% получили по 2 балла и имеют средний уровень, а 30% - по 1 баллу и имеют низкий уровень, в силу того, что долго искали подходящие сло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торое задан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составление предложения по трём картинкам направлено на выявление способности ребенка устанавливать логико-смысловые отношения между предметами и передавать их в виде законченной фразы-высказывания. Ребенку предлагалось назвать картинки, а затем составить предложение так, чтобы в нем говорилось о всех трех предмет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 вторым заданием справились все обучающиеся: 80% получили по 2 балла и имеют средний уровень, 20% - по 1 баллу и имеют низкий уровень. Обучающиеся составляли фразы только с помощью наводящих вопросов. Дети получили по 1 баллу, что соответствует низкому уровн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ретье задан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имеет целью выявление возможностей ребенка с интеллектуальной недостаточностью воспроизводить небольшой по объему и простой по структуре литературный текст. Для этого могут быть использованы знакомые ребенку сказки, короткие реалистические рассказы. Текст произведения прочитывается дважды, перед повторным чтением дается установка на составление переска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етье задание 40% детей выполнили на 2 балла (средний уровень), а 60% - 1 баллу, что соответствует низкому уровню, потому что отмечались отдельные нарушения связного воспроизведения текста, составляли рассказ при помощи педагога с наводящими вопрос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 четверт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адание 50% детей получили по 2 балла, а 50% - по 1 баллу. Дети, которые смогли справиться с этим заданием только, потому что  они составили связный сюжетный рассказ на основе наглядности с помощью педагога (использовались вспомогательные вопрос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4247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ыявить особенности связной речи и подобрать содержание коррекционно-педагогической работы по развитию связной речи с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интеллектуальной недостаточностью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476280"/>
            <a:ext cx="751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Цель исследования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549360"/>
            <a:ext cx="22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ятое зада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составление рассказа на основе личного опыта – имеет цель выявить индивидуальный уровень и особенности владения связной фразовой и монологической речью при передаче своих жизненных впечатлений. Ребенку предлагалось составить рассказ на близкую ему тему, связанную с повседневным пребыванием в школе и давался план из нескольких вопросов-зад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этим заданием 50% справились на 2 балла, а 50% - на 1 балл (потому что переспрашивали задание: Про что рассказать? Про кого рассказать?, рассказ представляет просто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ечисление предметов и действий без детализаци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ля шестог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задания – составления описательного рассказа – ребенку были предложены как модели предметов (игрушки). Ребенку предлагалось в течение нескольких минут внимательно рассмотреть предмет, а затем составить о нем рассказ по данному пла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 последним шестым заданием 50% детей справились на 2 балла, 50% - на 1 балл, потому что описание предмета не отображает многих его существенных признаков и свойств, ребенок не в состоянии был составить рассказ-описание самостоятельн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ывод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ким образом, суммировав все баллы можно сделать вывод о том, ч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0%  обучающихся  с интеллектуальной недостаточностью имеют средний уровень сформированности связной реч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0% обучающихся имеют низкий уровень сформированности связной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2.3.Содержание работы по развитию связной речи у младших школьников с интеллектуальной недостаточностью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владение монологической речью — рассказыванием - особенно важно для школьника. Для обучения детей рассказыванию всегда широко используются карти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обучении школьников рассказыванию по картине используются разнообразные приемы: вопросы педагога и детей, беседа, образец  рассказа,  частичный  образец,  разбор  образца  рассказа,   план рассказа, воспроизведение  плана  детьми,  коллективный  разбор  плана, коллективное   составление   рассказа,   составление   рассказа   по  частям, окончание  детьми  начатого учителем рассказа.  (2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ед рассказыванием по картине, почти всегда обязательно проведени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едварительной беседы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торая создаст необходимый эмоциональный настрой, оживит воспоминания, позволит им использовать свой личный опыт. Эмоциональное восприятие помогает детям глубже понять, осмыслить содержание картины, а также активизирует их речевую дея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ожно активно использоваться прием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овместных речевых действий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пример, педагог начинает описание, а дети заканчивают е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тем педагог предлагает уже самим детям задавать вопросы, что вносит в  их деятельность элементы поиска. На вопросы, которые задают дети, могут отвечать и дети, и педагог. Педагог должен внимательно слушать вопросы детей, вовремя уточнять их, помогать, если школьник затрудняется в формулировках, активизировать речевую и мыслительную деятельность воспитанников поощряющими репликами, мимикой, жест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формировании умений описывать картины и составлять рассказы-повествования используются специально разработанные серии дидактических картин разных типов.(3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метные карти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на них изображены один или несколько предметов без какого-либо сюжетного взаимодействия между н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южетные карти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картины, где предметы и персонажи находятся в сюжетном взаимодействии друг с друг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рия или набор картин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связанных единым сюжетным содержанием (рассказ в картинка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отборе картин для рассказывания к ним предъявляется ряд требований: (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содержание картины должно быть интересным, понятным, воспитывающим положительное отношение к окружающе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артина должна быть высокохудожествен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изображения персонажей, животных и других объектов должны быть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алистическим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условное формалистическое изображение не всегда воспринимается деть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следует обращать внимание на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оступност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не только содержания, но и изображения; не должно быть картин с чрезмерным нагромождением деталей, иначе дети отвлекаются от главно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целях формирования  связной речи школьников с отклонениями в развитии рекомендуется проведение следующих видов занятий  с  картинным  материал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Составление рассказо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 сюжетным многофигурным картина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изображением нескольких групп действующих лиц или нескольких  сценок  в  пределах  общего,  хорошо  знакомого  детям  сюжета ("Семья",  "Игры  на  детской  площадке",  "Зимние  развлечения" и др.). Такие картины дают возможность составления коротких рассказов первоначального по отдельным фрагментам, что облегчает детям последующее   составление   связного  рассказа-сообщения  по  всей  карти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Объект и предмет исследования:</a:t>
            </a: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ъект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собенности связной монологической реч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тей младшего школьного возраста с интеллектуальной недостаточ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дмет исследования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роцесс развития связной речи у детей младшего школьного возраста с интеллектуальной недостаточ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260280"/>
            <a:ext cx="82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Объект и предмет исследования:</a:t>
            </a: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Гипотеза исследован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зможно целенаправленная, последовательная и систематическая коррекционно-развивающая работа, которая включает дидактические игры, моделирование текста, может способствовать развитию связной речи у младших школьников с интеллектуальной недостаточ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622440"/>
            <a:ext cx="81471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Задачи данного исследован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теоретически изучить и проанализировать психолого-педагогическую литературу по проблеме исслед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выявить особенности связной речи у детей младшего школьного возраста с интеллектуальной недостаточ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подобрать содержание коррекционно-педагогической работы по развитию связной речи у детей младшего школьного возраста с интеллектуальной недостаточ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тодологической осн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следования явились: положения общей и специальной психологии о единстве общих закономерностей развития нормальных и аномальных детей (Выготский Л.С, Лурия А.Р.), о системном подходе к анализу речевых нарушений (Левина Р.Е., Лубовский В.И.), положение о коррекционной направленности учебно-воспитательного процесса в специальных коррекционных учреждениях (Певзнер М.С., Рубинштейн С.Я. и др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Методы исследования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теоретические (анализ, синтез, обобщение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эмпирические (наблюдение, беседа, изучение документации и продуктов деятельности, эксперимент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Практическая значим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нного исследования заключается в том, что предложенная методика коррекционно-развивающей работы может быть использована в практике учителей-логопедов, учителей начальных классов при развитии связной речи у младших школьников с интеллектуальной недостаточ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язная речь является наиболее сложной формой речевой деятельности и проявляется в разных формах: в рассказах об увиденном и пережитом, в описаниях предметов, явлений и процессов, в пересказах прочитанного, рассказах по картинкам и т. 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норме связная речь характеризуется развернутостью, произвольностью, логичностью, непрерывностью, программированностью каждого высказывания и текста в целом (определяется замысел, объем, характер, подбирается языковой материал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18:38:37Z</dcterms:created>
  <dc:creator>User</dc:creator>
  <dc:description/>
  <dc:language>en-US</dc:language>
  <cp:lastModifiedBy>User</cp:lastModifiedBy>
  <dcterms:modified xsi:type="dcterms:W3CDTF">2015-03-29T19:27:03Z</dcterms:modified>
  <cp:revision>28</cp:revision>
  <dc:subject/>
  <dc:title>Слайд 1</dc:title>
</cp:coreProperties>
</file>